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764B-716A-47BC-800C-07A5B6A132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AA02-FA7D-4287-841F-3F9E82A37E01}" type="slidenum">
              <a:rPr b="0" lang="ru-RU" sz="1200" spc="-1" strike="noStrike">
                <a:solidFill>
                  <a:srgbClr val="eaeae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3C4-0003-4CFF-883B-57CCF71A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6D4-573C-48F8-9928-6C03951B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C7E-B969-4139-8645-C33E6DC6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5A7-26B9-44B7-9804-DD7DF03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44E0-A627-413D-8179-E753AFC9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4BB7-CDA6-4017-BBFA-AD8FD854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9EA8-9865-4C17-9030-3618838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EFC-D5C8-4501-84FC-BB08886F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97BD-70BD-4FF8-BEC2-C6842B31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70F0-C69F-485F-8EC4-9D64C0D1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FC16-E968-4683-B261-1A872467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8FE-EDF6-43BB-BE25-104329C3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1199-4F41-4626-B199-1EDBD8C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461D-60A8-44D4-BE13-3EC19C0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720-7CEC-4760-B387-5B5F6FAA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2C7-E39F-454B-917B-F9041FFA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876-5A0F-43B6-8455-91AA9FCB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046-D61E-4F53-9532-C2628D22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088-D83B-49F9-A64C-111253C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D71-F596-43C1-9F65-B0EA554E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43D-609A-4B44-9EC2-6910F26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30B-76F1-49D8-BB1C-C37FF4D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B84-A947-4DD5-8C09-149C31AD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923-5A46-4501-AEF1-3F88BFE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DF08-F07F-42EA-BBCC-131D5A0C5B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3B4-55C3-49B0-8FE5-161DF11E9D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Формирование универсальных учебных действий в процессе изучения биолог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411280" y="393336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Стома Елена Иванов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учитель биологии высшей квалификационной катего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ГБОУ СОШ№233 Санкт-Петербург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134520" y="616500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По материалам сайта  http://www.standart.edu.ru/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480600"/>
            <a:ext cx="7634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f5fb"/>
                </a:solidFill>
                <a:latin typeface="Arial"/>
              </a:rPr>
              <a:t>Универсальные</a:t>
            </a:r>
            <a:br>
              <a:rPr sz="4000"/>
            </a:br>
            <a:r>
              <a:rPr b="1" lang="en-US" sz="4000" spc="-1" strike="noStrike">
                <a:solidFill>
                  <a:srgbClr val="c5f5fb"/>
                </a:solidFill>
                <a:latin typeface="Arial"/>
              </a:rPr>
              <a:t> учебные действ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способность субъекта к </a:t>
            </a:r>
            <a:r>
              <a:rPr b="1" lang="en-US" sz="3000" spc="-1" strike="noStrike">
                <a:solidFill>
                  <a:srgbClr val="eaeaea"/>
                </a:solidFill>
                <a:latin typeface="Verdana"/>
              </a:rPr>
              <a:t>само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развитию и </a:t>
            </a:r>
            <a:r>
              <a:rPr b="1" lang="en-US" sz="3000" spc="-1" strike="noStrike">
                <a:solidFill>
                  <a:srgbClr val="eaeaea"/>
                </a:solidFill>
                <a:latin typeface="Verdana"/>
              </a:rPr>
              <a:t>само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совершенствованию путем </a:t>
            </a:r>
            <a:r>
              <a:rPr b="1" lang="en-US" sz="3000" spc="-1" strike="noStrike">
                <a:solidFill>
                  <a:srgbClr val="eaeaea"/>
                </a:solidFill>
                <a:latin typeface="Verdana"/>
              </a:rPr>
              <a:t>сознательного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и </a:t>
            </a:r>
            <a:r>
              <a:rPr b="1" lang="en-US" sz="3000" spc="-1" strike="noStrike">
                <a:solidFill>
                  <a:srgbClr val="eaeaea"/>
                </a:solidFill>
                <a:latin typeface="Verdana"/>
              </a:rPr>
              <a:t>активного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присвоения нового социального опыта;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совокупность действий учащегося, обеспечивающих его культурную идентичность, социальную компетентность, толерантность, способность к самостоятельному усвоению новых знаний и умений, включая организацию этого процесса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f5fb"/>
                </a:solidFill>
                <a:latin typeface="Arial"/>
              </a:rPr>
              <a:t>Функции универсальных учебных действий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беспечение возможностей учащегося самостоятельно осуществлять деятельность учения, ставить учебные задачи, использовать необходимые средства и способы для их достижения, контролировать и оценивать процесс и результаты деятель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здание условий для развития личности и ее самореализации на основе компетентности  и «умения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учиться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»,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толерантности жизни в  поликультурном обществе, социальной мобиль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 обеспечение успешного усвоения знаний, умений и навыков и формирование картины мира и  компетентностей в любой предметной области познани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353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f5fb"/>
                </a:solidFill>
                <a:latin typeface="Verdana"/>
              </a:rPr>
              <a:t>Формирование универсальных учебных действий происходит в контексте усвоения разных предметных дисципли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f5fb"/>
                </a:solidFill>
                <a:latin typeface="Verdana"/>
              </a:rPr>
              <a:t>От стихийности – к целенаправленному и планомерному формированию универсальных учебных дейст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5f5fb"/>
                </a:solidFill>
                <a:latin typeface="Arial"/>
              </a:rPr>
              <a:t>ВИДЫ </a:t>
            </a:r>
            <a:br>
              <a:rPr sz="7000"/>
            </a:br>
            <a:r>
              <a:rPr b="1" lang="en-US" sz="7000" spc="-1" strike="noStrike">
                <a:solidFill>
                  <a:srgbClr val="c5f5fb"/>
                </a:solidFill>
                <a:latin typeface="Arial"/>
              </a:rPr>
              <a:t>универсальных учебных действий</a:t>
            </a:r>
            <a:endParaRPr b="0" lang="en-US" sz="7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5fb"/>
                </a:solidFill>
                <a:latin typeface="Arial"/>
              </a:rPr>
              <a:t>ВИДЫ  УУ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ичност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егулятивные, включая действия саморегуляци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знавательные, включая общеучебные, логические и знаково-символическ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ммуникативны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Личностные УУ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ействие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мыслообразовани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ействие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равственно-этического оценива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536400"/>
            <a:ext cx="7958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5fb"/>
                </a:solidFill>
                <a:latin typeface="Arial"/>
              </a:rPr>
              <a:t>Регулятивные действ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целеполагание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планирование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прогнозировани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контро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коррекц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оценк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волевая саморегуляц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f5fb"/>
                </a:solidFill>
                <a:latin typeface="Arial"/>
              </a:rPr>
              <a:t>Познавательные УУД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щеучебные У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мостоятельное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делени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формулирование познавательной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цел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;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оиск и выделени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необходимой информации; применение методов информационного поиска, в том числе с помощью компьютерных средст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уктурирование знани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бор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иболее эффективных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способов решения задач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 зависимости от конкретных условий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флекси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способов  и условий действия,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онтроль и оцен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процесса и результатов деятельности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856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Общеучебные УД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смысловое чтени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как осмысление цели чтения и выбор вида чтения в зависимости от цели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мение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декватно, осознанно и произвольно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строить речевое высказывани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 устной и письменной речи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остановка и формулирование проблем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самостоятельное создание алгоритмов деятельности при решении проблем творческого и поискового характера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Логические УД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бор оснований, критериев для сравнения, оценки и классификации объектов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нтез как составление целого из частей, в том числе самостоятельно достраивая, восполняя недостающие компоненты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ведение под понятия, распознавание объектов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тановление причинно-следственных связей,  построение логической цепи рассуждений, доказательство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явление родо-видовых и ситуативно существенных признак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движение гипотез и их доказательств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Умеющий учиться, осознающий 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важность образования</a:t>
            </a:r>
            <a:r>
              <a:rPr b="0" i="1" lang="en-US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 и самообразования для жизни и деятельности, способный применять полученные знания на практике.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(Портрет выпускника)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Знаково-символические УД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Знаково-символические универсальные действия обеспечивают конкретные способы 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преобразования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учебного материала, представляют действия  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моделирования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выполняющие функции отображения учебного материала, выделения существенного, отрыва от конкретных ситуативных значений, формирования обобщенных знаний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f5fb"/>
                </a:solidFill>
                <a:latin typeface="Arial"/>
              </a:rPr>
              <a:t>Коммуникативные УД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88567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ланирование учебного сотрудничества с учителем и сверстниками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становка вопросов – инициативное сотрудничество в поиске и сборе информации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зрешение конфликтов - поиск и оценка альтернативных способов разрешения конфликта, принятие решения и его реализация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управление поведением (своего и партнера) – контроль, коррекция, оценка действий (своих и партнера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умение с достаточно полнотой и точностью выражать свои мысли в соответствии с задачами и  условиями коммуникации; владение монологической и диалогической формами речи в соответствии с грамматическими и синтаксическими нормами родного язы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3"/>
          <p:cNvSpPr/>
          <p:nvPr/>
        </p:nvSpPr>
        <p:spPr>
          <a:xfrm>
            <a:off x="1447920" y="96840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68440" y="1812960"/>
            <a:ext cx="8177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1430280" y="22536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7040" y="1033560"/>
            <a:ext cx="83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Заголовок 2"/>
          <p:cNvSpPr/>
          <p:nvPr/>
        </p:nvSpPr>
        <p:spPr>
          <a:xfrm>
            <a:off x="878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Задание для проверки сформированности УУ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19040" y="1270800"/>
            <a:ext cx="16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БЕЛЫЙ  МЕДВЕД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Рисунок 0" descr="Bear_Hug-1600x1200.jpg"/>
          <p:cNvPicPr/>
          <p:nvPr/>
        </p:nvPicPr>
        <p:blipFill>
          <a:blip r:embed="rId1"/>
          <a:stretch/>
        </p:blipFill>
        <p:spPr>
          <a:xfrm>
            <a:off x="5272200" y="1420920"/>
            <a:ext cx="3633840" cy="2733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163440" y="1216800"/>
            <a:ext cx="49482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</a:t>
            </a:r>
            <a:r>
              <a:rPr b="1" lang="en-US" sz="1300" spc="-1" strike="noStrike">
                <a:solidFill>
                  <a:srgbClr val="eaeaea"/>
                </a:solidFill>
                <a:latin typeface="Arial"/>
                <a:ea typeface="Times New Roman"/>
              </a:rPr>
              <a:t>Кто не видел белого медведя? В зоопарках он – обычный гость. Нет нужды описывать, каков он на вид. Напомним лишь, что у него только нос черный, сам медведь белый и зимой, и летом (а не как, скажем, песец или заяц-беляк – те лишь зимой белые). Подошвы лап у белого медведя густой шерстью поросли, а пальцы примерно на половину своей длины соединены плавательными перепонками. 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aeaea"/>
                </a:solidFill>
                <a:latin typeface="Arial"/>
                <a:ea typeface="Times New Roman"/>
              </a:rPr>
              <a:t>Плавают и ныряют белые медведи отлично. Две минуты могут пробыть под водой, но погружаются в нее редко глубже двух метров. Далеко в открытом море не раз видели белых медведей, даже медведиц с медвежатами. Плывут со скоростью 5 километров в час, не беспокоясь, что ни земли, ни льдов нигде вблизи не видно. 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76040" y="4105440"/>
            <a:ext cx="878076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aeaea"/>
                </a:solidFill>
                <a:latin typeface="Arial"/>
                <a:ea typeface="Times New Roman"/>
              </a:rPr>
              <a:t>Белый медведь и тюленей ловит не только на льду, украдкой к ним подползая. Обычный его прием, так сказать, атаки с моря такой: поблизости от лежбищ тюленей медведь осторожно, без плеска и шума, сползает в воду, плывет туда, где заметил тюленей. Затем он бесшумно ныряет и выныривает уже у самого лежбища, быстро карабкается на лед, отрезая тем самым тюленям путь к спасительной воде. По отвесным ледяным стенам медведь может  прямо из воды выпрыгнуть на льдину, даже если высота ее над водой два метра.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aeaea"/>
                </a:solidFill>
                <a:latin typeface="Arial"/>
                <a:ea typeface="Times New Roman"/>
              </a:rPr>
              <a:t>Тюлени – главная охотничья добыча белого медведя весной. За год ловит и съедает он примерно 50 тюленей. Летом меню его более разнообразно. Ловит он рыбу на мелкой воде, на берегу – леммингов, песцов, лакомится яйцами птиц.  Когда голоден, ест ягоды, водоросли, мхи, лишайник, грибы.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aeaea"/>
                </a:solidFill>
                <a:latin typeface="Arial"/>
                <a:ea typeface="Times New Roman"/>
              </a:rPr>
              <a:t>Белый медведь – самый могучий из сухопутных хищных зверей. Лев и тигр в сравнении с ним легковесы: средний вес медведиц 310 килограммов, медведей-самцов – 420 килограммов. Если медведь матерый и хорошо упитанный, то он может весить целую тонну!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3"/>
          <p:cNvSpPr/>
          <p:nvPr/>
        </p:nvSpPr>
        <p:spPr>
          <a:xfrm>
            <a:off x="1517760" y="96840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500120" y="22536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TextBox 95"/>
          <p:cNvSpPr/>
          <p:nvPr/>
        </p:nvSpPr>
        <p:spPr>
          <a:xfrm>
            <a:off x="395280" y="1125360"/>
            <a:ext cx="8424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ru-RU" sz="1400" spc="-1" strike="noStrike" u="sng">
                <a:solidFill>
                  <a:srgbClr val="eaeaea"/>
                </a:solidFill>
                <a:uFillTx/>
                <a:latin typeface="Arial"/>
              </a:rPr>
              <a:t>Тест по литературному чтению и развитию реч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1. Белый медведь летом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меняет цвет шерсти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не меняет цвет шерст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2. Подошвы лап у белого медведя покрыт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густой шерстью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утолщенной коже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3. Пальцы лап у белого медведя на половину своей длин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соединены плавательными перепонками; 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срастаются между собо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4. Белый медведь может плыть со скоростью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2 километра в час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  5 километров в час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5. Меню белого медведя более разнообразно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зимой;              б) весной;                    в) лето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6. Средний вес медведиц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310 кг;              б) 420 кг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7. Матерый и хорошо упитанный медведь может весить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420 кг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б) тонну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8. В тексте 5 абзацев. В каком абзаце рассказывается о том, чем питается белый медведь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 в 1-ом;          б) во  2-ом; 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в 3-ем;       г) в   4-ом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д) в 5-о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Заголовок 2"/>
          <p:cNvSpPr/>
          <p:nvPr/>
        </p:nvSpPr>
        <p:spPr>
          <a:xfrm>
            <a:off x="878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Задание для проверки сформированности УУ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1517760" y="96840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1500120" y="22536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TextBox 95"/>
          <p:cNvSpPr/>
          <p:nvPr/>
        </p:nvSpPr>
        <p:spPr>
          <a:xfrm>
            <a:off x="395280" y="981000"/>
            <a:ext cx="79596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II</a:t>
            </a:r>
            <a:r>
              <a:rPr b="1" lang="ru-RU" sz="1400" spc="-1" strike="noStrike" u="sng">
                <a:solidFill>
                  <a:srgbClr val="eaeaea"/>
                </a:solidFill>
                <a:uFillTx/>
                <a:latin typeface="Arial"/>
              </a:rPr>
              <a:t>. Тест по математик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1. Сколько времени потребуется белому медведю, чтобы доплыть с берега до льдины?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3 ч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10 ч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20 ч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75 ч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При решении задачи можешь использовать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рисунок:  серый четырехугольник – земля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елый четырехугольник – льдина; медведь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плывет по прямой, изображенной пунктиром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2. Сможет ли белый медведь выпрыгнуть на льдину из воды, если ее высота 180 см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да, так как 1 м 8 см &lt; 2 м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 да, так как 1 м 8 дм &lt; 2 м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нет, так как 1 м 8 см &gt; 2 м;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нет, так как 1 м 8 дм &gt; 2 м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3. Какую часть часа может пробыть белый медведь под водой, не выныривая из неё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 тридцатую часть часа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десятую часть часа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третью часть часа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вторую часть час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4. Кто тяжелее: медведица или медведь-самец? На сколько килограмм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медведица тяжелее медведя-самца на 110 кг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медведица легче медведя-самца на 110 кг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медведь-самец тяжелее медведицы на 730 кг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медведь-самец легче медведицы на 730 кг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Заголовок 2"/>
          <p:cNvSpPr/>
          <p:nvPr/>
        </p:nvSpPr>
        <p:spPr>
          <a:xfrm>
            <a:off x="878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Задание для проверки сформированности УУ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3" name="Рисунок 7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788000" y="2133720"/>
            <a:ext cx="34830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3"/>
          <p:cNvSpPr/>
          <p:nvPr/>
        </p:nvSpPr>
        <p:spPr>
          <a:xfrm>
            <a:off x="1517760" y="96840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00120" y="22536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TextBox 95"/>
          <p:cNvSpPr/>
          <p:nvPr/>
        </p:nvSpPr>
        <p:spPr>
          <a:xfrm>
            <a:off x="422280" y="1101600"/>
            <a:ext cx="8397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III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ru-RU" sz="1400" spc="-1" strike="noStrike" u="sng">
                <a:solidFill>
                  <a:srgbClr val="eaeaea"/>
                </a:solidFill>
                <a:uFillTx/>
                <a:latin typeface="Arial"/>
              </a:rPr>
              <a:t>Тест по окружающему миру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1. В какой природной зоне обитают белые медведи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 в арктической пустыне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 в  Северном Ледовитом океане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на острове Врангеля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в тундр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2. В какой природной зоне расположен город Воркут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в тундре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в лесной зоне;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в ледяной зоне;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в степ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3. Какие группы животных упоминаются в статье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белый медведь, тюлень, заяц-беляк, песец, лемминг, птицы, рыбы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звери, заяц-беляк, птицы, рыбы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млекопитающие, птицы, рыбы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звери, птицы, рыб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4. К какой группе животных можно отнести белого медведя по способу питания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хищник; 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всеядный;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растительноядный;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 насекомоядны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5. Из упомянутых в статье растений выбери группу травянистых растений,  которые никогда не цветут и не имеют семян (при необходимости воспользуйся словарем учебника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мхи, водоросли, лишайники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мхи, водоросл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мхи, водоросли, грибы;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г) мхи, водоросли, грибы, лишайник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Заголовок 2"/>
          <p:cNvSpPr/>
          <p:nvPr/>
        </p:nvSpPr>
        <p:spPr>
          <a:xfrm>
            <a:off x="878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Задание для проверки сформированности УУ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3"/>
          <p:cNvSpPr/>
          <p:nvPr/>
        </p:nvSpPr>
        <p:spPr>
          <a:xfrm>
            <a:off x="1517760" y="96840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500120" y="225360"/>
            <a:ext cx="650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TextBox 95"/>
          <p:cNvSpPr/>
          <p:nvPr/>
        </p:nvSpPr>
        <p:spPr>
          <a:xfrm>
            <a:off x="422280" y="1101600"/>
            <a:ext cx="839772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IV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ru-RU" sz="1400" spc="-1" strike="noStrike" u="sng">
                <a:solidFill>
                  <a:srgbClr val="eaeaea"/>
                </a:solidFill>
                <a:uFillTx/>
                <a:latin typeface="Arial"/>
              </a:rPr>
              <a:t>Тест по русскому языку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1. В тексте про белых медведей больше всего предложений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повествовательных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вопросительных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2. Восклицательное предложение находится: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в начале текста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в конце текст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3. Вопросительное предложение находится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в начале текста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в конце текст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4. Выпиши из второй части текста (из второго абзаца) </a:t>
            </a:r>
            <a:r>
              <a:rPr b="1" lang="ru-RU" sz="1400" spc="-1" strike="noStrike" u="sng">
                <a:solidFill>
                  <a:srgbClr val="eaeaea"/>
                </a:solidFill>
                <a:uFillTx/>
                <a:latin typeface="Arial"/>
              </a:rPr>
              <a:t>первое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предложение. Разбери его по членам предложения. Что ты можешь сказать о сказуемых? Они являютс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родственными словами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однородными членами предложения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5. Что можно сказать о глаголах, которыми выражены сказуемые? Эти глаголы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спряжения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спряжени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6. Эти глаголы стоят в форм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настоящего времени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будущего времени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в) прошедшего времен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7. Эти глаголы стоят в форм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а) единственного числа;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б) множественного числ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Заголовок 2"/>
          <p:cNvSpPr/>
          <p:nvPr/>
        </p:nvSpPr>
        <p:spPr>
          <a:xfrm>
            <a:off x="878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Задание для проверки сформированности УУ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276640"/>
            <a:ext cx="4103640" cy="1655640"/>
          </a:xfrm>
          <a:prstGeom prst="rect">
            <a:avLst/>
          </a:prstGeom>
          <a:gradFill rotWithShape="0">
            <a:gsLst>
              <a:gs pos="0">
                <a:srgbClr val="e1f2f3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6600"/>
            </a:solidFill>
            <a:miter/>
          </a:ln>
          <a:effectLst>
            <a:outerShdw dist="127008" dir="13016092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тод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ахождени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хем к задачам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по А.Н. Рябинкиной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3720" y="333360"/>
            <a:ext cx="87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Методики диагностики сформированности УУД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907920"/>
            <a:ext cx="5185080" cy="1943280"/>
          </a:xfrm>
          <a:prstGeom prst="rect">
            <a:avLst/>
          </a:prstGeom>
          <a:gradFill rotWithShape="0">
            <a:gsLst>
              <a:gs pos="0">
                <a:srgbClr val="e1f2f3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6600"/>
            </a:solidFill>
            <a:miter/>
          </a:ln>
          <a:effectLst>
            <a:outerShdw dist="148236" dir="12659258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.Пиаже, А. Шеминь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остроение числов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квивалента и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аимооднозначног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ия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933720"/>
            <a:ext cx="4248000" cy="2016360"/>
          </a:xfrm>
          <a:prstGeom prst="rect">
            <a:avLst/>
          </a:prstGeom>
          <a:gradFill rotWithShape="0">
            <a:gsLst>
              <a:gs pos="0">
                <a:srgbClr val="e1f2f3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6600"/>
            </a:solidFill>
            <a:miter/>
          </a:ln>
          <a:effectLst>
            <a:outerShdw dist="137587" dir="12821405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Беседы о школе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модифицированны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риан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.А. Нежновой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03640" y="3068640"/>
            <a:ext cx="3816360" cy="1800360"/>
          </a:xfrm>
          <a:prstGeom prst="rect">
            <a:avLst/>
          </a:prstGeom>
          <a:gradFill rotWithShape="0">
            <a:gsLst>
              <a:gs pos="0">
                <a:srgbClr val="e1f2f3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6600"/>
            </a:solidFill>
            <a:miter/>
          </a:ln>
          <a:effectLst>
            <a:outerShdw dist="137587" dir="19578596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ик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.А. Цукерма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то прав?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авичк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5202360"/>
            <a:ext cx="4752720" cy="1655640"/>
          </a:xfrm>
          <a:prstGeom prst="rect">
            <a:avLst/>
          </a:prstGeom>
          <a:gradFill rotWithShape="0">
            <a:gsLst>
              <a:gs pos="0">
                <a:srgbClr val="e1f2f3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ик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дирование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1 субтест теста  Д.Вексле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версии А.Ю.Панасю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            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УРОК ФОРМИРОВАНИЯ УУД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             (ШАБЛОН структуры урока):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1. Тема урока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2. Цель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3. Задачи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4. Формируемые в рамках урока универсальные учебные действия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5. Основные методы и технологии развития УУД, используемые в рамках урока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6. Ход урока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7. Описание возможных сложностей, с которыми могут столкнуться педагоги (психологи) при проведении урока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8. Памятки, задания, которые предлагаются детям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9. Как осуществляется оценивание на урок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:\Users\DNA User\Desktop\анимашки\compedu.jpg"/>
          <p:cNvPicPr/>
          <p:nvPr/>
        </p:nvPicPr>
        <p:blipFill>
          <a:blip r:embed="rId1"/>
          <a:stretch/>
        </p:blipFill>
        <p:spPr>
          <a:xfrm>
            <a:off x="395280" y="3141720"/>
            <a:ext cx="4361040" cy="1754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87280" y="69228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Мало знать, надо и применять. Мало хотеть, надо и делать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Гёт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333360"/>
            <a:ext cx="8496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«Сведений науки не следует сообщать учащемуся готовыми, но его надо привести к тому, чтобы он сам их находил, сам ими овладевал. Такой метод обучения наилучший, самый трудный, самый редкий …»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  <a:ea typeface="Tahoma"/>
              </a:rPr>
              <a:t>А. Дистерве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f5fb"/>
                </a:solidFill>
                <a:latin typeface="Arial"/>
              </a:rPr>
              <a:t>Основные требования общества к образовательной системе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928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 формирование культурной идентичности учащихся как граждан России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сохранение единства образовательного пространства, преемственности  ступеней  образовательной системы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обеспечение равенства и доступности образования при различных стартовых возможностях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формирование  универсальных учебных действий, порождающих образ мира и определяющих способность личности к обучению, познанию, сотрудничеству, освоению и преобразованию  окружающего мир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5fb"/>
                </a:solidFill>
                <a:latin typeface="Arial"/>
              </a:rPr>
              <a:t>Цели   образ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овые социальные запросы определяют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цели образования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как общекультурное, личностное и познавательное развитие учащихся, обеспечивающие такую ключевую компетенцию образования как            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«научить учиться»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ажнейшей задачей современной системы образования является формирование совокупности </a:t>
            </a: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«универсальных учебных действий» ( УУД ),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обеспечивающих компетенцию «научить учиться», а не только освоение учащимися конкретных предметных знаний и навыков в рамках отдельных дисциплин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f5fb"/>
                </a:solidFill>
                <a:latin typeface="Arial"/>
              </a:rPr>
              <a:t>Теоретико-методологическая основа развития УУД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712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Системно-деятельностный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культурно-исторический подход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(Л.С.Выготский, А.Н.Леонтьев, 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Д.Б.Эльконин, П.Я.Гальперин, В.В.Давыдов),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интегрирующий достижения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педагогической науки и практики, в том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числе компетентностной и ЗУНовской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парадигм образования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5fb"/>
                </a:solidFill>
                <a:latin typeface="Arial"/>
              </a:rPr>
              <a:t>Характеристика универсальных учебных действий </a:t>
            </a:r>
            <a:br>
              <a:rPr sz="4400"/>
            </a:br>
            <a:r>
              <a:rPr b="1" lang="en-US" sz="4400" spc="-1" strike="noStrike">
                <a:solidFill>
                  <a:srgbClr val="c5f5fb"/>
                </a:solidFill>
                <a:latin typeface="Arial"/>
              </a:rPr>
              <a:t>и</a:t>
            </a:r>
            <a:br>
              <a:rPr sz="4400"/>
            </a:br>
            <a:r>
              <a:rPr b="1" lang="en-US" sz="4400" spc="-1" strike="noStrike">
                <a:solidFill>
                  <a:srgbClr val="c5f5fb"/>
                </a:solidFill>
                <a:latin typeface="Arial"/>
              </a:rPr>
              <a:t> способы их формирования </a:t>
            </a:r>
            <a:br>
              <a:rPr sz="4400"/>
            </a:br>
            <a:r>
              <a:rPr b="1" lang="en-US" sz="4400" spc="-1" strike="noStrike">
                <a:solidFill>
                  <a:srgbClr val="c5f5fb"/>
                </a:solidFill>
                <a:latin typeface="Arial"/>
              </a:rPr>
              <a:t>в образовательном процесс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4:18:24Z</dcterms:created>
  <dc:creator>Лена</dc:creator>
  <dc:description/>
  <dc:language>en-US</dc:language>
  <cp:lastModifiedBy>Stoma</cp:lastModifiedBy>
  <dcterms:modified xsi:type="dcterms:W3CDTF">2013-10-18T19:32:49Z</dcterms:modified>
  <cp:revision>11</cp:revision>
  <dc:subject/>
  <dc:title>Формирование универсальных учебных действий в процессе изучения биологии</dc:title>
</cp:coreProperties>
</file>