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584-481A-41D6-9DF7-CE35A28B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F2F-52F7-40A3-904A-1DCE5CE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C8E-5AB8-4D3D-AEAA-15AAA751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B17-661A-49BC-9B7C-E19A22BC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121-89E5-4520-81EF-1D9962C6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2BF1-687A-4064-A8AB-1FF7BE3C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8637-8C28-4228-9065-84140A3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4023-5107-45E4-9C6C-6DD6611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ABFE-C891-4EC0-9BE7-4F8B93F9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A216-9758-4B09-B6C3-1F11E135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1FB9-5191-4D47-9A64-1EB41319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1DA-F8EF-426C-995F-1E676C9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178D-6790-4DF0-B838-55602F9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456A-586A-4726-B771-1569373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49DD-B6D1-4C9E-BCC0-2A8EAE0C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EE27-5BB0-4CF0-87DB-307A1649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A451-BCA3-4974-AC67-58231A72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14BF-3BCA-44C6-B692-727524D4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EDAE-9128-4927-8A03-8317997C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48E0-9F40-4827-9430-3A73A746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8FAB-50CA-4BAC-B9B2-78807F18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5061-D793-4082-96A7-5748CED4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846-F02E-491B-A084-B363E43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EE65-5339-46FC-915C-0EF998C9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4EE5-FB6E-4064-B3AE-52B9832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B360-149C-4606-B37F-B52EB52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AB41-596D-46C4-8AB9-AECD4CE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01A9-672B-4D32-8FBD-D243DDD3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6BB0-66C6-45FF-AD96-419E0922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9CE2-C523-4E8A-B5C3-84DD89F4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E53C-472B-4375-A688-F5BE2B5B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029E-C239-49CF-8635-32DC3217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DEC2-25EF-4F7B-809E-BFA15B94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105-9560-4F2B-923A-39C62680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C51C-0231-4FE5-8917-60E9DF35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67EC-EF78-4EDB-8FF7-08CFF383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0837-3BD8-451B-AE5A-17AE077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2D83-DFCA-403A-9682-12FA8E4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3C8A-6204-48FB-ACBF-11410F5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2B99-9DFE-43F4-BF74-B1BE91F0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95EE-ABDD-4F9F-B5BA-5808784A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1B42-4C30-496A-BBD1-E56D19A4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EC70-E2D9-4153-B391-7124E00D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9266-9B6D-4FC6-844F-05D36626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782-5BA2-467F-A747-1D850E85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789A-0047-4E97-A405-2622AF4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74C6-C75E-4271-8A56-617D1722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284C3-FB65-4683-AD37-40A9975F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D6F4-86B6-4DF2-9086-4EACE0D7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38CC2-0069-4B9A-AB1C-1D71B9F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6D04-FAF2-4B59-943D-D8CA5AF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1D42-7F14-424B-A1FB-478660C6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4DAD-7015-42F0-BC93-B26C8931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5C0F-0564-4DF6-8C99-04BC39A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860CA-76F1-4F9B-AFBF-179B52DA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A5E-B153-4D33-A4E6-5783CB7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CEB04-6F4D-4628-B3E0-18840F58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A0A-A8D2-4B56-9816-20EDE1B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04D-81DE-4135-8E28-86E997D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1E8-11FC-45DB-9B16-9D4805D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99C-0FAA-4AC4-9CDB-3BB8B00D9BC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84CF-525D-4140-AF0C-4A497F1B88A7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129-8EAB-4DE7-A225-AA65AA2D62C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FB5-3925-49EB-B2A1-CED33AF7065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634C-81C9-4334-BCB9-584F180F968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c66bb"/>
                </a:solidFill>
                <a:latin typeface="Trebuchet MS"/>
              </a:rPr>
              <a:t>«</a:t>
            </a: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Чехов неисчерпаем» (по анализу статьи К.С.Станиславского о Чехове А.П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c66bb"/>
                </a:solidFill>
                <a:latin typeface="Trebuchet MS"/>
              </a:rPr>
              <a:t>Автор работы: Мурылев Серг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1000080" y="3571920"/>
            <a:ext cx="1928880" cy="270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тог творческого пути писателя (1903 г.). Предчувствие революции в России вызывает у писателя потребность разобраться в историческом пути развития своей страны, понять настоящее и заглянуть в будущее. Паразитизм дворянства – это прошлое, хваткая предприимчивая буржуазия – настоящее, а умная молодёжь, презирающая деньги, титулы – будущее Росс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214200" y="242280"/>
            <a:ext cx="8358480" cy="11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воем тексте выдающийся деятель культуры                  К.С. Станиславский поднимает проблему восприятия и понимания пьес Чехова, как очень глубоких и тонких произведений классической русск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Нередко первое знакомство с его произведениями разочаровывает», - сетует он. Также автор добавляет, что как раз по этой причине большинство актеров чеховским пьесам предпочитает пьесы других авторов с более выигрышными ролями. Но, будучи убежденным на своем личном опыте. Станиславский утверждает, что понимание его пьес приходит со временем, и впоследствии своей глубиной и эмоциональностью они полностью окупают затраченное на них время. «Чехов - неисчерпаем … и мечта его о будущей жизни на земле – не маленькая, не мещанская, не узкая, а напротив –широкая, большая, идеальная…» - считает 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642960" y="357120"/>
            <a:ext cx="785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нению автора, масштаб мышления Чехова в своих произведениях удивительно велик, несмотря на то, что зачастую он изображает «обыденщину» жизни в своем небольшом круге лиц, описывая лишь её маленькую часть, по сравнению с масштабом всей затрачиваемой им проблемы. Скрываясь за этой узостью повествования, раскрывается тот спрятанный Чеховым громадный смысл, та идея идеального мира, которого невозможно достичь, но к которому так необходимо стрем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214200" y="332280"/>
            <a:ext cx="8429760" cy="10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лностью согласен с мнением автора. Чеховские пьесы гениальны и признаны во всем мире. Возможно, я еще слишком молод, чтобы осознать эту гениальность классика в полной мере, но уже сейчас я многое открываю для себя в его произведениях. Я думаю, именно из-за своей сложности для понимания для многих его гениальность остается нераскрытой. В младших классах после прочтения одной из его пьес мой друг постоянно говорил мне о том, какие странные и непонятные произведения писал Чехов. Это было настолько убедительно, что мнение своё я изменил только совсем недавно. Эти пьесы – не для детей. По – настоящему осознать их красоту и точность бывает не под силу даже взрослому. Его произведения – путь самосовершенствования, и пройти это путь можно только со временем, он не терпит спе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357120" y="326880"/>
            <a:ext cx="8286840" cy="9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а понимания Чехова в современном обществе предельно актуальна. Как не хватает сейчас человеку подлинной, истинной красоты вокруг и внутри себя, как не хватает ему понимания насущных проблем, когда-то так ясно и точно поставленных еще самим Чеховым, какой нравственный потенциал теряется, оставшись неиспользованным. Теряется из-за бескультурья и отсутствия стремления к самосовершенствованию. Но, к счастью, мы знаем, что классики бессмертны, так что у нас есть еще шанс опомниться и вернуться к чеховским истин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52320" y="1547640"/>
            <a:ext cx="7955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714760" y="1856880"/>
            <a:ext cx="611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Чехов – неисчерпаем, потому что, несмотря на обыденщину, которую он будто бы всегда изображает, он говорит всегда, в своем основном, духовном лейтмотиве, не о случайном, не о частном, а о человеческом с большой букв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К.С.Станиславск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285840" y="1071720"/>
            <a:ext cx="237312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136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ель исследования:анализ стать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дачи: 1. Какие  проблемы ставит  Станиславск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 Определите  позицию авто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Согласны ли вы  с точкой зрения автора. Объясните. Аргументируйте, опираясь на жизненный опыт или читательск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57120" y="2571840"/>
            <a:ext cx="4214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«….оригинальность автора сидит не только в стиле, но и в способе мышления, в убеждениях и проч…» - утверждал А.П.Чех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4857840" y="1785960"/>
            <a:ext cx="2381040" cy="3714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ьесы Чехова не обнаруживают сразу своей поэтической значительности. Прочтя их, говоришь себе: «Хорошо, но … ничего особенного, ничего ошеломляющего. Всё как надо. Знакомо… правдиво… не ново…»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ередко первое знакомство с его произведениями разочаровывает. (6)Кажется, что нечего рассказывать о них по прочтении. (7)Фабула, сюжет?.. (8)Их можно изложить в двух словах. (9)Роли? (10)Много хороших, но нет выигрышных, за которыми погонится актёр на амплуа хороших ролей (есть и такой). (11)Большинство из них маленькие роли, «без ниточки» (т.е. в один лист, не требующий ниток для сшивания). (12)Вспоминаются отдельные слова пьесы, сцены…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(13)Но странно: чем больше даёшь волю памяти, тем более хочется думать о пьесе. (14)Одни места её заставляют, по внутренней связи, вспоминать о других, ещё лучших местах и наконец-то всём произведении. (15) Ещё и ещё перечитываешь его – и чувствуешь внутри глубокие залежи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(16)Мне пришлось играть в пьесах Чехова одну роль по несколько сот раз, но я не помню спектакля, во время которого не вскрылись бы в моей душе новые ощущения, а в самом произведении – новые глубины или тонкости, которые не были мною раньше замечены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(17)Чехов – неисчерпаем, потому что, несмотря на обыденщину, которую он будто бы всегда изображает, он говорит всегда, в своём основном духовном лейтмотиве, не о случайном, не о частном, а о Человеческом с большой буквы. (18)Вот почему и мечта его о будущей жизни на земле – не маленькая, не мещанская, не узкая, а напротив – широкая, большая, идеальная, которая, вероятно, так и останется несбыточной, к которой надо стремиться, но осуществления которой нельзя достигнуть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(19)Чеховские мечты о будущей жизни говорят о высокой культуре духа, о Мировой Душе, о том Человеке, которому нужны не «три аршина земли», а весь земной шар, о новой прекрасной жизни, для создания которой нам надо ещё двести, триста, тысячу лет работать, трудиться, страдать. (20)Всё это из области вечного, к которому нельзя относиться без волнения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15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642600" y="1643040"/>
            <a:ext cx="66675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Неисчерпаемость –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безграничность, обильность, неограниченность, неиссякаемость,неистощимость, беспредельность, бесконечность  ( сл. Ожегова С.И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Актуальность-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ажность, значительность чего-либо в настоящее время, современность, злободневность  ( БСЭ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871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999720"/>
            <a:ext cx="7238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 Жизнь в этой пьесе показана как сложное переплетение человеческих судеб. Основную сюжетную канву пьесы составляет неразделённая, отвергнутая любовь, но для Чехова важна не сама сложная ситуация, а то, как ведут себя люди с разными характерами. Если отвергнутый Треппев в отчаянии кончает жизнь самоубийством, то стойкая и мужественная Нина Заречная, пережив измену Тригорина и смерть ребёнка не сломилась, а нашла своё призвание, свою дорогу в жизн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хов в драме переходит от личных проблем к общественным – к вопросу об ответственности человека перед обществ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158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642960" y="114264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мпатии автора на стороне сестёр Прозоровых, и в то же время чувствуется его скептическое отношение к мечтам о личном счастье: Ольга мечтает выйти замуж, Маша не любит мужа и мечтает «начать жизнь снова», а Ирина решает посвятить свою жизнь школьникам: «Завтра я поеду одна, буду учить в школе и всю свою жизнь отдам тем, кому она, быть может, нужнее.., я буду работать, буду работать…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новная мысль которой выражена в словах Астрова: «В человеке должно быть всё прекрасно; и лицо, и одежда, и душа, и мысли». Астров – прекрасный человек; он лечит людей, делает сложнейшие операции, сажает леса. Именно он задаёт вопрос «Те, которые будут жить через сто – двести лет после нас..., помянут ли нас добрым словом?»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3:15:50Z</dcterms:created>
  <dc:creator>user</dc:creator>
  <dc:description/>
  <dc:language>en-US</dc:language>
  <cp:lastModifiedBy>user</cp:lastModifiedBy>
  <cp:lastPrinted>2011-10-04T01:14:54Z</cp:lastPrinted>
  <dcterms:modified xsi:type="dcterms:W3CDTF">2013-10-20T09:18:05Z</dcterms:modified>
  <cp:revision>41</cp:revision>
  <dc:subject/>
  <dc:title>Гармония и дисгармония в слове и в мире («Студент» А.П.Чехова).</dc:title>
</cp:coreProperties>
</file>