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70D-17BD-429B-96F7-E25A8F1C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E567-C3E1-4B49-B301-54CF4859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F0B5-3A3E-481A-997E-2707A2DE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3B35-B16C-445B-A3D6-37296CF3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C73D-9FFD-4BF5-9A43-3A074D59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653-DB06-4254-9B9F-7D0793BA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772-FE1F-4B52-A844-F720233F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C0D-CBC0-4427-BFA8-0B913084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F52-6213-4848-88ED-E210C23E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526-5ABB-496E-932C-A8935906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C85-BF06-4044-BD17-D2391787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3B18-FECA-4400-8116-C2772FBC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80AD-0C3E-45D2-A7C0-BF1CC2346E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пр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050920" y="3757680"/>
            <a:ext cx="58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е 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3914640" y="4797360"/>
            <a:ext cx="415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улина Надежда Иван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СОШ № 9 г. Елаб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пр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132000" y="33336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О  т  в  е  т  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525680" y="1143000"/>
            <a:ext cx="331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сами излуч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анимированные (166)"/>
          <p:cNvPicPr/>
          <p:nvPr/>
        </p:nvPicPr>
        <p:blipFill>
          <a:blip r:embed="rId2"/>
          <a:stretch/>
        </p:blipFill>
        <p:spPr>
          <a:xfrm>
            <a:off x="5219640" y="2708280"/>
            <a:ext cx="3529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пр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63400" y="351000"/>
            <a:ext cx="83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1d5d"/>
                </a:solidFill>
                <a:latin typeface="Arial"/>
              </a:rPr>
              <a:t>1.Какой спектр дают тела, состоящие из невзаимодействующ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1d5d"/>
                </a:solidFill>
                <a:latin typeface="Arial"/>
              </a:rPr>
              <a:t>между собой возбужденных молеку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полосатый     Б) линейчатый  В)  сплош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все перечислен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анимированные (48)"/>
          <p:cNvPicPr/>
          <p:nvPr/>
        </p:nvPicPr>
        <p:blipFill>
          <a:blip r:embed="rId2"/>
          <a:stretch/>
        </p:blipFill>
        <p:spPr>
          <a:xfrm>
            <a:off x="3708360" y="4149720"/>
            <a:ext cx="44640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пр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611280" y="566640"/>
            <a:ext cx="85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2.Чем отличаются линейчатые спектры излучения различ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химических элемен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количеством, расположением и цветом ли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цветом линий   В) количеством   Г) расположением л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анимированные (48)"/>
          <p:cNvPicPr/>
          <p:nvPr/>
        </p:nvPicPr>
        <p:blipFill>
          <a:blip r:embed="rId2"/>
          <a:stretch/>
        </p:blipFill>
        <p:spPr>
          <a:xfrm>
            <a:off x="5003640" y="3860640"/>
            <a:ext cx="360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пр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869040" y="423720"/>
            <a:ext cx="8311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3.Для определения химического состава вещества необходимо с помощ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спектрометра исследовать спектр излучения и сравнить его с катало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спектров излучения химических элементов. Что для этого ну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сделать с небольшой частью веще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Расплавить  Б) испарить   В) нагреть  Г) нагреть, расплавить и испа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анимированные (48)"/>
          <p:cNvPicPr/>
          <p:nvPr/>
        </p:nvPicPr>
        <p:blipFill>
          <a:blip r:embed="rId2"/>
          <a:stretch/>
        </p:blipFill>
        <p:spPr>
          <a:xfrm>
            <a:off x="4643280" y="3789360"/>
            <a:ext cx="3961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пр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255680" y="568440"/>
            <a:ext cx="749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31d5d"/>
                </a:solidFill>
                <a:latin typeface="Arial"/>
              </a:rPr>
              <a:t>4.Продолжите предложение: « По спектральному закону Кирхго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31d5d"/>
                </a:solidFill>
                <a:latin typeface="Arial"/>
              </a:rPr>
              <a:t>атомы каждого химического элемента поглощают только 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31d5d"/>
                </a:solidFill>
                <a:latin typeface="Arial"/>
              </a:rPr>
              <a:t>лучи спектра, которые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анимированные (48)"/>
          <p:cNvPicPr/>
          <p:nvPr/>
        </p:nvPicPr>
        <p:blipFill>
          <a:blip r:embed="rId2"/>
          <a:stretch/>
        </p:blipFill>
        <p:spPr>
          <a:xfrm>
            <a:off x="4140360" y="3213000"/>
            <a:ext cx="44640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пр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166760" y="496800"/>
            <a:ext cx="79772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5.Чем отличаются спектры излучения меди и стали, нагретые до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градусов Цельс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не отличаются друг от друга  Б) у меди-сплошной, а у стали-линейчатый В) у меди- линейчатый,  а у стали – сплош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у меди- полосатый, а у стали- линейчатый  Д) не хватает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твета на поставленный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анимированные (48)"/>
          <p:cNvPicPr/>
          <p:nvPr/>
        </p:nvPicPr>
        <p:blipFill>
          <a:blip r:embed="rId2"/>
          <a:stretch/>
        </p:blipFill>
        <p:spPr>
          <a:xfrm>
            <a:off x="4500720" y="3716280"/>
            <a:ext cx="41749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пр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900000" y="639720"/>
            <a:ext cx="8310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31d5d"/>
                </a:solidFill>
                <a:latin typeface="Arial"/>
              </a:rPr>
              <a:t>6.По каким спектрам можно проводить спектральный анализ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) по любым  Б) по линейчатым  В) по непрерыв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Г) по полосат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анимированные (48)"/>
          <p:cNvPicPr/>
          <p:nvPr/>
        </p:nvPicPr>
        <p:blipFill>
          <a:blip r:embed="rId2"/>
          <a:stretch/>
        </p:blipFill>
        <p:spPr>
          <a:xfrm>
            <a:off x="4427640" y="2852640"/>
            <a:ext cx="3889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пр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1239840" y="639720"/>
            <a:ext cx="77961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31d5d"/>
                </a:solidFill>
                <a:latin typeface="Arial"/>
              </a:rPr>
              <a:t>7.Какой химический элемент был открыт благодаря спектраль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31d5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b31d5d"/>
                </a:solidFill>
                <a:latin typeface="Arial"/>
              </a:rPr>
              <a:t>анализ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золото  Б) гелий  В) неон  Г) алюми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анимированные (48)"/>
          <p:cNvPicPr/>
          <p:nvPr/>
        </p:nvPicPr>
        <p:blipFill>
          <a:blip r:embed="rId2"/>
          <a:stretch/>
        </p:blipFill>
        <p:spPr>
          <a:xfrm>
            <a:off x="4859280" y="3789360"/>
            <a:ext cx="3889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пр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1027440" y="712800"/>
            <a:ext cx="77810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31d5d"/>
                </a:solidFill>
                <a:latin typeface="Arial"/>
              </a:rPr>
              <a:t>8.Что определяют, измеряя интенсивность спектральных ли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31d5d"/>
                </a:solidFill>
                <a:latin typeface="Arial"/>
              </a:rPr>
              <a:t>элемен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Цвета химических элеме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физические св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ческих элеме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количество данного элемент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уемой проб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наличие деф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анимированные (48)"/>
          <p:cNvPicPr/>
          <p:nvPr/>
        </p:nvPicPr>
        <p:blipFill>
          <a:blip r:embed="rId2"/>
          <a:stretch/>
        </p:blipFill>
        <p:spPr>
          <a:xfrm>
            <a:off x="4427640" y="4005360"/>
            <a:ext cx="4032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9T18:07:19Z</dcterms:created>
  <dc:creator>Дом</dc:creator>
  <dc:description/>
  <dc:language>en-US</dc:language>
  <cp:lastModifiedBy>Надежда</cp:lastModifiedBy>
  <dcterms:modified xsi:type="dcterms:W3CDTF">2013-10-20T17:46:18Z</dcterms:modified>
  <cp:revision>31</cp:revision>
  <dc:subject/>
  <dc:title>Слайд 1</dc:title>
</cp:coreProperties>
</file>