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6DA1-D405-4B8F-AAAF-51D465C7E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4B79-B86B-4EEA-9103-2071F11A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ADC8-5D8C-4708-A2ED-7AEA8138F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DE4B-FF47-4552-AC73-3EBFDEBCC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EF60-71C5-4F00-A668-A1CFFC5FE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4F92-DBEB-4F30-A214-3FE83346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82E9-7B47-4534-9AE6-5C3196BC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8D95-AB30-4F7A-ADE8-B873295C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31F1-07F0-4D95-80E3-C323EC88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B2AF-F09C-4C4F-97E2-0141EB03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D313-255A-4436-829B-659B840E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FF7E-FC2F-4A24-A00D-EB55B559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1D6C-6F17-430A-BD8D-40AA2138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B6F2-AD0C-4FCF-84CB-02F28644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7301-4AF0-417D-A0B5-448285AA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B1B6-58F1-4D56-A3CE-852718B1C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BF6C-DBE3-487D-AF38-ACF94DF7F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8164-88B6-4386-8450-BD3756B0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C777-E6E4-4DFD-88E3-0432C0BA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FD2C-8BA0-482E-AC55-47FBE4A4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16B2-D322-4ED0-8268-123956E1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B8E6-EE1B-4DB4-90A8-13F6A6D8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01E1-E572-4F19-B101-D3F9C791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023F-4373-47BB-9F51-06210278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2F0B-1953-4590-B071-29AC1E2721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BC8F-0384-4DB7-A56B-1D27BC0E64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hyperlink" Target="http://ru.wikipedia.org/wiki/25_&#1084;&#1072;&#1088;&#1090;&#1072;" TargetMode="External"/><Relationship Id="rId4" Type="http://schemas.openxmlformats.org/officeDocument/2006/relationships/hyperlink" Target="http://ru.wikipedia.org/wiki/2010_&#1075;&#1086;&#1076;" TargetMode="External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p:transition advTm="4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В краю больших озёр и полноводных рек,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Где полумесяцем, сияет грань,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В сердцах хранимая,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Неповторимая,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Стоит красавица, моя Казань.</a:t>
            </a: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3000"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rcRect l="0" t="3786" r="0" b="0"/>
          <a:stretch/>
        </p:blipFill>
        <p:spPr>
          <a:xfrm>
            <a:off x="1523880" y="2286000"/>
            <a:ext cx="6324840" cy="40258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572000" y="3290760"/>
            <a:ext cx="360" cy="274680"/>
          </a:xfrm>
          <a:prstGeom prst="rect">
            <a:avLst/>
          </a:prstGeom>
          <a:solidFill>
            <a:srgbClr val="f4f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Первая, по всей вероятности самая древняя, легенда гласит: когда выбирали место для города, обратились за советом к колдуну. Он сказал: "Постройте город там, где сам собой закипит врытый в землю котел с водой". Долго искали такое место. Наконец там, где в Казанку впадала Булак-речка, котел закипел сам собою, без огня. Здесь и основали город. Отсюда и пошло название Казань ("казан" по-татарски значит "котел"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9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334120" y="4038480"/>
            <a:ext cx="3504960" cy="24256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09480" y="228600"/>
            <a:ext cx="3200400" cy="295416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723920" y="914400"/>
            <a:ext cx="403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99"/>
                </a:solidFill>
                <a:uFillTx/>
                <a:latin typeface="Times New Roman"/>
                <a:hlinkClick r:id="rId3"/>
              </a:rPr>
              <a:t>25 марта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1800" spc="-1" strike="noStrike" u="sng">
                <a:solidFill>
                  <a:srgbClr val="99ff99"/>
                </a:solidFill>
                <a:uFillTx/>
                <a:latin typeface="Times New Roman"/>
                <a:hlinkClick r:id="rId4"/>
              </a:rPr>
              <a:t>2010 года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президентом нашей республики Татарстан стал Рустам Нургалиевич Минниханов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-360" y="3657600"/>
            <a:ext cx="4267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По легенде, функции, которые по древним поверьям выполнял дракон, сводились к трем задачам: охрана границ, сбор урожая, покровительство народа во всех делах. Подобных легенд известно немало, и в каждой рассказывается об этом колоритном существе, чем-то напоминающего ископаемого летающего ящер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wedg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68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68" fill="hold"/>
                                        <p:tgtEl>
                                          <p:spTgt spid="2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68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68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ecff"/>
                </a:solidFill>
                <a:latin typeface="Monotype Corsiva"/>
              </a:rPr>
              <a:t>Достопримечательности нашего города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638520" cy="47242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952880" y="1371600"/>
            <a:ext cx="3600720" cy="4800600"/>
          </a:xfrm>
          <a:prstGeom prst="rect">
            <a:avLst/>
          </a:prstGeom>
          <a:ln w="0">
            <a:noFill/>
          </a:ln>
        </p:spPr>
      </p:pic>
    </p:spTree>
  </p:cSld>
  <p:transition advTm="11000">
    <p:wedg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68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68" fill="hold"/>
                                        <p:tgtEl>
                                          <p:spTgt spid="2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68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3429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3733920"/>
            <a:ext cx="4267080" cy="31240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4724280" y="3733920"/>
            <a:ext cx="4419720" cy="31240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267080" cy="3429000"/>
          </a:xfrm>
          <a:prstGeom prst="rect">
            <a:avLst/>
          </a:prstGeom>
          <a:ln w="0">
            <a:noFill/>
          </a:ln>
        </p:spPr>
      </p:pic>
    </p:spTree>
  </p:cSld>
  <p:transition advTm="7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Также в нашем городе много памятников…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2133360" cy="39625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rcRect l="0" t="0" r="0" b="4922"/>
          <a:stretch/>
        </p:blipFill>
        <p:spPr>
          <a:xfrm>
            <a:off x="6477120" y="1219320"/>
            <a:ext cx="2214360" cy="40384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3333600" y="1847880"/>
            <a:ext cx="2476800" cy="316224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68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68" fill="hold"/>
                                        <p:tgtEl>
                                          <p:spTgt spid="2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68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68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09480" y="3733920"/>
            <a:ext cx="3429000" cy="27302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4724280" y="304920"/>
            <a:ext cx="3810240" cy="27064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4724280" y="3733920"/>
            <a:ext cx="3886200" cy="2701800"/>
          </a:xfrm>
          <a:prstGeom prst="rect">
            <a:avLst/>
          </a:prstGeom>
          <a:ln w="0">
            <a:noFill/>
          </a:ln>
        </p:spPr>
      </p:pic>
    </p:spTree>
  </p:cSld>
  <p:transition advTm="13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4572000" cy="26672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114800" y="3809880"/>
            <a:ext cx="4495680" cy="2514600"/>
          </a:xfrm>
          <a:prstGeom prst="rect">
            <a:avLst/>
          </a:prstGeom>
          <a:ln w="0">
            <a:noFill/>
          </a:ln>
        </p:spPr>
      </p:pic>
    </p:spTree>
  </p:cSld>
  <p:transition advTm="7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rcRect l="0" t="1945" r="0" b="2918"/>
          <a:stretch/>
        </p:blipFill>
        <p:spPr>
          <a:xfrm>
            <a:off x="4648320" y="3124080"/>
            <a:ext cx="4114800" cy="31244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915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XXVII Всемирная Летняя Универсиада — всемирные студенческо-молодёжные спортивные соревнования 2013 года прошла в нашем городе с 6 по 17 июля. На самой масштабной Летней Универсиаде-2013 были разыграны более 350 комплектов медалей по 27 видам спорта среди представителей более 170 стран, что стало рекордом Универсиад. Впервые среди Универсиад параллельно проводилась «Культурная Универсиада» с приуроченным самым масштабным в республике и стране главным татарским национальным праздником Сабантуй, международными фестивалями и другими мероприятиями в области культуры и искусства: театра, кино, классической и современной музыки, балета, изобразительного искусства, национальных танца, песни, ремесёл и т.п.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advTm="9000"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68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68" fill="hold"/>
                                        <p:tgtEl>
                                          <p:spTgt spid="2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68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68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6T16:19:45Z</dcterms:created>
  <dc:creator>пользователь</dc:creator>
  <dc:description/>
  <dc:language>en-US</dc:language>
  <cp:lastModifiedBy>пользователь</cp:lastModifiedBy>
  <dcterms:modified xsi:type="dcterms:W3CDTF">2013-10-20T13:50:45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