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630-D80B-4346-A76A-3B4DBFA7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EB6-B77A-432C-9FF8-A64A22C1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7E7EA-AE24-4FCA-B543-F668A5B1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9E874-B5AB-46E5-8B1D-FD5F2223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3FCF0-B646-467F-B834-92EDB916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5B4FA-323B-4EC4-A2AD-D0CE5A28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96148-EE7C-426B-AE3B-523DB4DB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F9E63-D25E-4CFA-B7E7-099277B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DC976-BCB8-42DC-A97D-B44F9ADD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65E0E-4D61-4882-A13F-E058F735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3B8CA-9997-4D67-976A-9DCC4F9E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A8E8E-5AA9-4E65-B16A-30928970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9E5-C538-4B60-ACF5-D9B8B23F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C3C12-8B66-4CA6-A0D0-4EC23F77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115D8-87F4-4ECD-A4F2-74ADE19F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03214-9E78-45B5-B527-3750D72A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A6353-8CC1-42A7-B727-8D82997F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79333-93F3-4D91-B08D-6501F96E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190D6-EEF4-42DB-AD18-93BE367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4ECF3-33EF-4D42-B99E-0DBE54F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5E4C7-E1A3-44FC-A91C-A22A0FD4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75EAC-B788-4DE9-A2E1-6564276D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855F4-D8E7-4E78-A0E8-52B1FB8C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BB4-9759-4438-80B8-03075F85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CD703-1969-4174-B3E8-E3C536DF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55AFF-469B-4732-BABC-AAEF5462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F1215-9329-40DF-85C7-D4A49E2F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8C3E1-6366-48C9-99E4-167400F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05160-DE7F-4603-8759-013968B8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32B4A-656E-4D13-9D77-427C7BC9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20805-6B74-4A0D-B22B-A1BE903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0CB50-AEBE-4EFF-A3AE-958C461E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77690-9584-4B53-B656-8CBD9FA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EA802-E413-41EA-BB9E-81F36FD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3DD-9D0C-4CCA-B88E-DCC98B5B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77C60-555A-4F4F-94D6-51FAFCCA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12433-1C73-440C-8F31-859493BE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57F4B-06A4-4AE2-BA48-133C8A70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97554-D186-4765-B45F-E85C3B11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8A95F-8E83-4399-846C-835CCBB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8F6F7-6B00-4DCB-9DDE-E41034D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41F9E-3B69-4458-B8EB-7BD5F1D1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7154D-B08E-40B3-A9CF-ECAD0034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AD753-58D5-4EBD-9219-D54A4126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A3F2D-3FB5-4616-8E5A-43B735E4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4E8B-2AB6-42AF-9D48-93D60067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206B0-A5F6-45FD-B025-8B287A8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502A6-6DB1-4F78-AC53-7E6AB34A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737CC-0CA9-480B-88EF-45690874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BF7A5-4E9D-4719-9E3D-B5E56868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87266-217E-4038-9F51-B80412B1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C12FCD-6C7B-4D30-9AF8-53CF529A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57447E-F82B-4056-A0C7-7DB6A021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A039F3-BA04-48CF-8DA7-15C2241B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AA0FBC-9FCA-405C-A1C7-B086CEB1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DD8B7A-95E2-4E90-9EA8-9582EB2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5045-4296-4DCF-9AAA-6485F952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6D33EC-440C-4745-B616-54CAE2DC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434166-5B18-45E5-8A66-B3BC3E66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F9B7A3-C114-4221-AE0E-AE75BFE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0D765F-7983-4DD3-8E47-F2F4297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6CE307-216F-44E4-B679-415B4D69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8FA497-A5CD-4028-925F-CE9B4767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53CAD8-E1A8-4D6C-9E88-41BD68B9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DAD5B-2402-4B81-956B-7C41B8C2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C08D0-D772-4439-8E4D-79E4355A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DBDAB-8D3E-4416-AC21-D60CFFFE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FE93-9A79-4857-A876-29574183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AFD4D-5535-4A66-9A94-305F1F89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C26C1-011C-4787-A9A7-86F7D314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0D4C3-7BA7-4F0A-9482-0221DC81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4B916-481B-48C9-844C-2847B54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5FE8A-5EE5-4481-9BA6-D58A0004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5D873-9509-4E9A-8488-F6E071D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01A1D-D784-47A3-83D0-ACFDB32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5D379-044D-4F5D-BDBF-07A4449F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776CE-05DB-4A63-B9E9-F5FFA51E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62AE9-3378-4C9C-A446-129B902E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B323-F184-4D13-8E71-8EBF325D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CCCA3-BBB9-4F6B-9062-9CC2886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70A44-EFCF-4AAE-AFDC-50B3BA50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70318-DF28-44B8-B1A8-71545683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A0554-0A9A-4640-BF1C-9C1903AB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4883E-B5A0-4B22-B41D-E8A6CB01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8C447-38F1-42FE-96F5-B089746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84359-F0F3-4A62-A1C9-EBE44955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3A925-CFB4-4322-BBF5-81A24C7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EC097-A3AB-4354-9E9A-019AFB30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72AB8-36C3-44C9-8290-39339715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0569-3859-4BB2-BF9A-798BAAC6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4791C-9034-4635-9B13-DB792256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9F6CE-10FB-49A9-AF3A-8363A8C1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234EC-CBEF-4B96-B9F2-38908421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527DF-0EB5-4935-914D-E02ACC28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54F89-4174-4D43-B0EA-0E266735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5944C-A79A-4477-B058-146F600C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74481-FA1B-4CB2-BD9F-68B8C310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28173-03E9-4129-8521-8B0B65D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48560-23F1-4A30-9DCD-2788708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E3051-58AF-48D8-B0C7-F7C65B2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C656-0C38-4B00-B999-8DC6BCE2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E113A-9B53-4D9D-BC55-31F4091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368EA-7882-4D74-AA47-17FB6E6F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97339-5002-4250-B370-10E3931F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43795-6DBD-4DD8-ACC9-15D3E89F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54F5E-A439-44B3-A935-4FD822BD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1C5B2-4374-44B8-A516-B5F5CFBA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B8AD4-7995-4641-8E86-5A56E2A6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0D622-471F-43F3-8229-8A277764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D5ACF-2BF9-4B48-BBF7-10639F12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51C7A-7288-490F-A11A-9E47669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65F-0C11-4752-84C8-40D442D0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5968-E823-4E41-A318-B64646B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1A267-E8BF-4D95-82E5-0E14CDEE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72473-3A70-443C-AB8C-CAEA7DC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E73A9-7AE9-4639-B578-0BB2639A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E5C1C-4A52-4EC4-99DB-B641E5AA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AFC36-6986-4B66-94C2-A88B539C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753D8-2864-4C74-9CB2-0F42F247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88807-B3A4-4D8A-A511-FB76CB1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04093-6DF0-4AB6-BA8E-ECAFB042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CCA16-201C-4E98-96C7-A7FAAB8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3E8A5-77A5-4412-B7F0-C2434361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310B-65E4-4954-8782-4EE1B8C5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64FF3-4AC7-45D2-9EE1-00989E74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0A208-C481-441F-81F6-E77EF02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CA93C-2CB4-4C97-A382-28D9CD3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D1D91-F2B8-4B11-8A5A-E599DD73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9B1DD-5068-4956-A0A4-89671DE0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06AF0-2ED2-4F28-B938-7195AF9F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9D613-3BFE-4916-83FB-F74F5E7F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2F707-BB77-47F7-B1E4-2E8BB8D2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CCEF2-BD27-4AD3-B77C-AB7ED1DC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0C5FC-DDFB-4D23-85F2-B4C33579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F781-FBCB-4B28-9B99-9BB476A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84C51E-0116-49A6-B7E6-A2FD1024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4BA3C-09D1-402F-9958-61A028E1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D4548-5FD4-4D00-95E7-1D14DEB0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33518-FFCA-4871-B393-71EE6E95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F92FF-B692-4074-BF40-E8C33ED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0A5AF-E3F9-4E5F-95F9-06FB063D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9C707-199D-41D3-8163-88EF86D8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7C609-C1FE-4858-8285-545EFA47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B1D8E-06A4-4A7D-84C0-53E539D4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9E5C63-A008-450C-A7A1-68281419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5F2A-E2F0-4FDA-96C8-2793A19A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7799A-98FF-4ED4-BBA4-B04DB250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31210-BCF5-481B-9640-F725076D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B788B-8BCA-413A-95C3-A66A914C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54D11-E68A-41B1-ADF1-62057FC4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5B891-D061-4C03-8E14-EA9CA36B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C5217-ED21-4EFC-8E73-4AA8B3A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6AEE3-7F72-4914-8D7B-82B618BF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7D9D5-ECEB-455F-A839-768FB01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063A9-DC8E-4A70-9282-B12D345E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CBAFD-FD31-4E87-AF19-7564AE5A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0CF0-2071-4B22-AF79-60ECFDC9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CB84BB-0777-4D42-B719-19AB583E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1BE33-A45E-4BB1-BFD8-86AA0D2A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94E98A-F4A2-416D-928F-7353B059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BBC23F-86B6-46FC-A6E3-40FA3590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8365E-9F49-424F-BEB1-DEBF9ED6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E4DA3-08EB-4A3B-9270-DEDAB5C7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7D7E9-B3D3-4780-B1FE-9CDE3FDD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5A37E-534F-4B93-B112-B6A9FA3E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46FC0-180A-4907-B9D1-5C0A7DC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7FE8A3-1343-479A-AFCE-CB1B496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8DDA-FA0E-467D-8972-F231AA6A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BCA6D-1893-4CC6-9695-7F913971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D6435-81D6-476A-B187-B8F8A886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86C4C-C801-4B22-8FB7-4A5432AE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21FA02-6231-47E6-ADED-A3E51B5B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97DE05-07A5-44A6-AF8F-125DC042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F7CAA-A83A-46B8-A1DC-86861A3D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82A984-98BB-436F-B646-F18DBD63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4C8CA9-D1A8-42CA-AA0E-9D4A22B7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4F2B20-0CFB-4BDB-861D-BE5EF9C3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00A5AF-97E2-4DF0-950C-3614D1D9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61FB-F5B5-4848-ACD4-81CD8D1D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C1AA2E-5FA1-487F-A338-E367154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826A2D-9A50-41C6-8DA1-F568F7D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AE2253-17DA-4A6B-9632-F4878400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27945B-0BAB-464F-8E44-CECCB6F7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28349-2F51-4D68-AD0B-737F2334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A317-5831-4640-86DD-33711546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DD0C-9B27-4923-8DD5-A9E549CC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BC90-C606-42FA-BDAA-F9F2D518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E50-0EA0-4B2D-A0C0-83FC3D11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0AE6-B8CB-4CD8-B682-8A148D0B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B227-1A26-46E8-815A-FB5E8C89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DFAA-4CD2-4533-9E52-F8B1227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4A66-721E-4F74-BC7B-08EB7E4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999CC-8F4E-4093-9C86-94B7F78D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CBE1-33BC-4861-8B53-5CF9AF0A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D28C-7277-4844-9752-22186852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6819-9D24-4F39-AC7F-8C04C88F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0843-0D4A-46D4-9C2C-32B93297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CA66-94E3-41CA-8E33-83FBBBBF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B49-2FFC-47DA-8803-AD44DDE4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84CA-DCF5-4408-8ED1-0E4E08CE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ECDA-962E-49B5-A4DC-C995EC03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B260-D3C2-4B37-AAC0-AC598057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B446-B8C4-4393-91FB-1870E6E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F892-DA9E-4C4C-9A7D-8014E5D0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936B-321C-4C6D-9908-CC0009F2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04B3-47ED-400E-971F-22EFF02F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B5DB-7E67-4248-A10D-7709EC5B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92F4-8C13-410C-B6ED-C3061B0D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DCC27-C569-4570-90D6-1E024BE7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F4C-61BC-4E7C-BA29-A2C69769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4CECF-7B54-427D-B257-90B6755F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A1B89-B605-4DFC-9493-8530577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79F95-993C-4A24-B698-5FCC2AD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E6CD1-5BCA-4303-93F0-400DAB73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148C6-25D4-4CB5-8D53-88F9E79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1D5F2-FA6C-4936-B389-A30946E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DBA49-E8C5-4CA7-945E-AF38EC50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2F83F-2B35-4E90-873F-AABD1FE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EB224-5D06-4E8C-8069-B4A5D618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489D5-1E84-4877-8809-9DF9C283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227-6624-46FC-8A34-8591D0C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A4461-A695-4C32-8347-4AA06B56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AD05-B1CC-4640-8718-32B1FE99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C25F-0199-464D-8264-B21B93F7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FF23-A5E5-440C-A47E-7AED8C14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F767-BC44-418A-8AB3-1CDC85D7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8D021-0C86-4EAC-8BF6-81C4B23A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13D20-FE91-4F62-A6F4-1B0C0F1E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3762-9A5A-4D09-8E0B-E3C073B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C6A23-4EA4-4675-A5CB-3C6FD9B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F4BF7-8AC7-41A2-9477-2C805EA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00C-70F2-4B59-8254-F9723E9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6F7B7-8DD1-4DDD-A80A-3BCF31E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B6A78-7C67-4EEC-8327-77FAB071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CD6FA-5A05-471A-859D-15DBDD17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2CD7F-2FC2-40BC-BBC1-B2F9B53F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FC2BE-D74B-4893-B4DE-2DDC1B4B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48E6-C9D1-4B95-AC1A-BA0E0215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BF58-3201-4A7C-955C-4E78AD2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BC34-5AC2-47E5-BD3A-22321904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76494-5BC2-48C7-918F-3546BB8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0B6B9-EA82-4FE5-971B-DC1C9A5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9DF-391B-4178-BC05-CE12E88F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AF777-5760-4584-A036-088490C1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0E2B-79A6-49EF-B856-ABD075A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622AE-97EF-4831-90A9-6223B1ED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3812C-C38E-4C61-BE0E-3B1AD3FB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BC99-D678-4D28-95C6-27AD5958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C5671-0E45-4B8E-B59C-789C2FD9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01FED-D401-4C73-8C68-0A067400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69EB2-CD82-4303-9478-CFC3A337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1EFF-119E-41FA-ACC1-15FF8144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B9147-17C1-492E-85D5-D925B872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A68-D6F5-4D7D-8241-C1121CB8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B2505-D4FD-4BDD-BA62-BC067A76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1A970-03EC-4F68-BB9D-79B4645E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5A8E5-F266-4EB8-8F2F-47F59ED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C52EE-6007-4D1D-885D-D045136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803DD-6E1B-4B45-BEB0-6B0934DE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E0F21-A064-4436-BF69-FF3D791A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60770-DF7E-4DCB-BC2A-11347D1F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DA65F-3CAB-404E-90D1-B5F353E8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2E04B-A3E7-4DA1-9654-A1AC9596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A5E0E-CABB-47AD-A120-E791E10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754D-805B-47A8-A5B8-8AED01A3D0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E155-9131-4A8E-8EDB-008F47BE81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9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0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2A9F-0CD0-4D75-AAC5-099D24614B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92EA-CF52-4A61-8EE3-5F864E2A24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2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2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3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3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2813-FB1B-4CD1-9F02-35F69801ED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88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9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890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891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892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893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5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0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1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5264-EC56-446C-BAD5-F2AA7FAC44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8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8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8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4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CFC9-415A-41B3-A897-8961DAE5AA9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3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DBEF-8568-463D-9140-0C3BBF485FE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0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679F-A3BF-4F2E-A7A8-6B9FDC53F4F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7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B517-CC62-4AA8-9AF0-A309BD2B2C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2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4D1E-EEC4-49E6-B11A-C19236B4EC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F475-3459-4A64-B8F1-4EA99E568A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6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D032-6C79-4D23-B0B7-1620542EB0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2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6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6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7BE4-8813-4EDB-A1C7-43599FD6D3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7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7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38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6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D92-3930-47AE-83D4-60DA1962912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5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8C8E-7337-47C5-9269-D039FA3C69B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C74E-3251-4FCC-B2A3-4AAAF2D714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3728-5216-48E9-A2D4-A55AB6D7098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1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62DC-C5F9-4FB1-8DC4-54A09DDEFD9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4176-EF44-4903-A0C4-B9EA719FEA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54D0-134E-4D4E-99EB-961C1BBE33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8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AFE-EF66-43FD-AC90-1542CD4802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9f408"/>
                </a:solidFill>
                <a:latin typeface="Comic Sans MS"/>
              </a:rPr>
              <a:t>Конкурс знатоков.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Игра «Что? Где? Когда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очень часто пользуемся словом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иломет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ет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переводе с французского языка означает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е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означает в переводе с французского слово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ил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ло - тысяча. Действительно, 1 км – 1000 м, 1 кг - 1000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стно, что масса монеты                    в 1 коп. - 1 г, а масса монеты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2 коп. - 2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дороже: килограмм 1-копеечных монет или килограмм 2-копеечных мон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аково. 1 кг = 1000 г, 1 кг 1-копеечных монет сто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00 коп. = 10 руб. 1 кг 2-копеечных монет стоит тоже 10 руб., так как в 1 кг содержится 1000 : 2 = 500 ( 2-копеечных монет), и они стоя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500 = 1000 коп. = 10 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известной сказке «Поди туда - не знаю куда, принеси то - не знаю что» царь послал стрелка Андрея «за тридевять земел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девять - скольк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девять - это 27. Дело в том, что в Древней Руси считали по девяткам: тридевять - это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 =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каком месяце может быть 28 дне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люб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самое любимое число в сказках?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древних греков оно считалось счастливым, его считали магическим. Ну, а в далёкие - далёкие времена, когда люди с трудом учились считать, это число обозначало «всё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число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915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6341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Древней Руси деньгами служили серебряные бруски - их называли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гривнами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Если вещь стоила меньше, чем весь брусок, то отрубали половину. Тоже деньги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называлась отрубленная часть серебряного бруск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ратино шёл в школу. Чем ближе он подходил к школе, там громче неподалёку, на берегу Средиземного моря, играла весёлая музыка. Буратино решил: школа никуда не уйдёт, я только взгляну, послушаю и бегом в школу. У входа кассирша продавала билеты. Денег у Буратино не было, и он продал свою красочную Азбу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сколько сольд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4 соль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языке древней Индии это число «сунья». Арабы перевели это слово на свой язык, и стало оно называться «сифр». Не правда ли, напоминает что-то. «Сифр» - цифра. А какое это числ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ифр», то есть цифра обозначает число 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у часть серебряного бруска называли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рублём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 Отсюда и пошло название денежной единицы -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рубл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ремя грозы мы нередко видим вспышку молнии, а затем через несколько секунд - раскаты гром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раскаты грома мы слышим позже, чем видим вспышку мол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света во много раз больше скорости зву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царе Иван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и выпущены монеты, на которых изображался всадник с копьём в ру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назывались эти монет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е монеты называлис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пейка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тсюда и пошло название современной денежной единицы -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пей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естно, что 10 единиц составляют десяток, 10 десятков - сотню, 10 сотен – тысячу. Мы видим, что число 10 играет большую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именно число 10, а не друго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у что на наших руках 10 пальцев. Дело в том, что одним из первых «аппаратов» для счёта, который наиболее часто использовал древний человек, были р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20:27:52Z</dcterms:created>
  <dc:creator>Дрюшка и Киска</dc:creator>
  <dc:description/>
  <dc:language>en-US</dc:language>
  <cp:lastModifiedBy>VeloYarik</cp:lastModifiedBy>
  <dcterms:modified xsi:type="dcterms:W3CDTF">2013-10-20T19:28:57Z</dcterms:modified>
  <cp:revision>6</cp:revision>
  <dc:subject/>
  <dc:title>Конкурс знаток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