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5B9B-668D-4DF6-9DEF-AAE640D03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54DC-6CAB-45A7-99EF-65E7ED7B6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B68D-5D18-4718-B6E6-D9A854A89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0059-2C0F-45E6-A358-C7D3A32DE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F62EF-6CFD-4E8F-8391-4EAFFC0A0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11186-1270-4FED-A4C9-E90A04EC4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E6C0B-0064-43B5-8117-9B4E1CA5F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E212B-1E25-48AB-B0FA-966D661C0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4BCE4-7173-45EB-A668-23E259808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60586-505D-47FA-BD1D-3DD35C43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2D4B4-0FDE-424E-9CEE-84E789DE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2369-EC3B-4340-9264-1BCADB69C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1231F-DEF0-49B9-8B3A-487550D5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C3E87-945B-44DF-92C7-FB44A32A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B8A97-C4E5-4B7E-86F2-22F4CAED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5C7F2-5411-4751-B338-E6A6458C6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36891-7B42-4BDE-99CF-8B15C1EF2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BBFCE-F7E2-440F-BFBB-6C30CAF88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627D0-1B0F-44E5-9499-CAA20FE2A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08A12-D9EE-46E2-9E80-DA1F4B2F9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45806-8B2D-43FD-A02F-3158EE9DE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58C46-D6F0-4876-B46D-894BFC936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2E4D-E74A-4BE6-B4C1-9920AFD10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D172A-43A2-4FCE-B20D-08A98B9C0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6D94D-CFEB-492B-A9E8-C52B0337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F3BA2-054A-4845-9417-FDA4C402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FF983-E5B8-4528-A360-9B3BA391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B4AF4-C595-4325-BED6-262B01B4A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8C6BF-F592-4D8B-9B35-589B273F9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3EB35-EC4F-4925-A563-9639445E3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5D29B-48CB-4F33-B6FE-699AF599B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454BF-593B-4884-A24E-0FA7599DA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70985-CD2D-4865-8B57-48E4A19B4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27CA-B833-47A3-9572-46E2CC536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8E478-7EE6-4D95-876E-832F4103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5F24D-4ABC-480E-B268-FDFF2D87E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D4555-7F1F-4F3A-86C5-2EAC62086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F969F-30F6-4588-8901-B0CA65B0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EB98A-5549-4EE7-8EC6-DBD5C110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29207-425B-4F3A-AAC2-1E1B88D8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2CE34-6464-49D0-B7F5-A64AF592A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D1414-264A-4DA3-85B5-5BE7B7601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2B54B-8941-4DFF-8EE5-C4FB44D9C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F9B7-5DE7-4F4B-A9A9-B4A76CFF9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9B0B-8058-4F6E-B458-10C605CED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AD46-090D-47CD-B64D-BD19BB51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A183-EA0D-4040-BA19-A8CF7556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E273-CEA8-469D-B158-F39A395A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7C061-25B4-4C0C-8C60-D0B89D0C370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445D3-7193-4A95-BDBC-2E267C578D2C}" type="slidenum">
              <a:rPr b="0" lang="ru-RU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53668-3A33-4AD4-BD89-C83ECEC6AA2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8FAA7-DE14-4AF6-8F6B-940DC56988BE}" type="slidenum">
              <a:rPr b="0" lang="ru-RU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Координатная плоскость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295280" y="30477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Управление исполнителем Чертежник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1" descr=""/>
          <p:cNvPicPr/>
          <p:nvPr/>
        </p:nvPicPr>
        <p:blipFill>
          <a:blip r:embed="rId1"/>
          <a:srcRect l="3929" t="0" r="0" b="0"/>
          <a:stretch/>
        </p:blipFill>
        <p:spPr>
          <a:xfrm>
            <a:off x="5219640" y="2060640"/>
            <a:ext cx="3529080" cy="335592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Координатная плоскость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TextBox 5"/>
          <p:cNvSpPr/>
          <p:nvPr/>
        </p:nvSpPr>
        <p:spPr>
          <a:xfrm>
            <a:off x="395280" y="1712880"/>
            <a:ext cx="4824360" cy="42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Чтобы обозначить положение точки на плоскости, на ней проводят две перпендикулярные координатные прямые –  </a:t>
            </a: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х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, которые пересекаются в начале отсчета – точке 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Эти прямые называются системой координат на плоскости, а точку О – началом координ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" descr=""/>
          <p:cNvPicPr/>
          <p:nvPr/>
        </p:nvPicPr>
        <p:blipFill>
          <a:blip r:embed="rId1"/>
          <a:srcRect l="3929" t="0" r="0" b="0"/>
          <a:stretch/>
        </p:blipFill>
        <p:spPr>
          <a:xfrm>
            <a:off x="5003640" y="1268280"/>
            <a:ext cx="3529080" cy="33562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Координатная плоскость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TextBox 5"/>
          <p:cNvSpPr/>
          <p:nvPr/>
        </p:nvSpPr>
        <p:spPr>
          <a:xfrm>
            <a:off x="395280" y="4575240"/>
            <a:ext cx="835344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Точка А имеет координату 6, а точка В – координату -5, положение точки М определяется парой чисел (6; -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Эту пару чисел называют координатами точки 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Число 6 – абсцисса точки М, число -5 – ордин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395280" y="1268280"/>
            <a:ext cx="4321080" cy="35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пределим координаты точки 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роведем через неё прямую МА, перпендикулярную координатной прямой х, и прямую МВ, перпендикулярную координатной прямой 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Координатная плоскость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TextBox 5"/>
          <p:cNvSpPr/>
          <p:nvPr/>
        </p:nvSpPr>
        <p:spPr>
          <a:xfrm>
            <a:off x="468360" y="1628640"/>
            <a:ext cx="468000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Задача 1399. (Н.Виленкин. Математика. 6 клас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остройте треугольник ОВС, где О (0; 0), В (4; 6) и С (1; 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5003640" y="1484280"/>
          <a:ext cx="3600720" cy="3708360"/>
        </p:xfrm>
        <a:graphic>
          <a:graphicData uri="http://schemas.openxmlformats.org/drawingml/2006/table">
            <a:tbl>
              <a:tblPr/>
              <a:tblGrid>
                <a:gridCol w="400320"/>
                <a:gridCol w="399960"/>
                <a:gridCol w="399960"/>
                <a:gridCol w="399960"/>
                <a:gridCol w="400320"/>
                <a:gridCol w="399960"/>
                <a:gridCol w="399960"/>
                <a:gridCol w="399960"/>
                <a:gridCol w="4003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cxnSp>
        <p:nvCxnSpPr>
          <p:cNvPr id="176" name="Прямая со стрелкой 8"/>
          <p:cNvCxnSpPr/>
          <p:nvPr/>
        </p:nvCxnSpPr>
        <p:spPr>
          <a:xfrm flipV="1">
            <a:off x="5795640" y="1556640"/>
            <a:ext cx="1080" cy="38883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7" name="Прямая со стрелкой 11"/>
          <p:cNvCxnSpPr/>
          <p:nvPr/>
        </p:nvCxnSpPr>
        <p:spPr>
          <a:xfrm>
            <a:off x="4355640" y="4436640"/>
            <a:ext cx="42490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8" name="Овал 16"/>
          <p:cNvSpPr/>
          <p:nvPr/>
        </p:nvSpPr>
        <p:spPr>
          <a:xfrm>
            <a:off x="7380360" y="2205000"/>
            <a:ext cx="71280" cy="7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Овал 17"/>
          <p:cNvSpPr/>
          <p:nvPr/>
        </p:nvSpPr>
        <p:spPr>
          <a:xfrm>
            <a:off x="5772240" y="4406760"/>
            <a:ext cx="71280" cy="7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Овал 18"/>
          <p:cNvSpPr/>
          <p:nvPr/>
        </p:nvSpPr>
        <p:spPr>
          <a:xfrm>
            <a:off x="6156360" y="2565360"/>
            <a:ext cx="71280" cy="7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ая соединительная линия 20"/>
          <p:cNvSpPr/>
          <p:nvPr/>
        </p:nvSpPr>
        <p:spPr>
          <a:xfrm flipV="1">
            <a:off x="6227640" y="2265120"/>
            <a:ext cx="116388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ая соединительная линия 22"/>
          <p:cNvSpPr/>
          <p:nvPr/>
        </p:nvSpPr>
        <p:spPr>
          <a:xfrm flipV="1">
            <a:off x="5843520" y="2265480"/>
            <a:ext cx="1548000" cy="217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ая соединительная линия 27"/>
          <p:cNvSpPr/>
          <p:nvPr/>
        </p:nvSpPr>
        <p:spPr>
          <a:xfrm flipV="1">
            <a:off x="5806440" y="2637000"/>
            <a:ext cx="384120" cy="1769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0"/>
          <p:cNvSpPr/>
          <p:nvPr/>
        </p:nvSpPr>
        <p:spPr>
          <a:xfrm>
            <a:off x="468360" y="3848040"/>
            <a:ext cx="437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Выполним это задание в среде КуМир с помощью исполнителя Чертеж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Среда программирования КуМир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1593720" y="1460520"/>
            <a:ext cx="6864480" cy="47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КуМир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 (Комплект Учебных МИРов) – система программирования, предназначенная для поддержки начальных курсов информатики и программирования в школе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уществует множество языков, понятных тому или иному  исполнител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Знакомство с правилами составления и записи алгоритмов начнем с управления исполнителем Чертежник на школьном алгоритмическом языке в среде программирования КуМи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6" descr="http://www.dalkom.ru/images/stories/freesoft/kumir.jpg"/>
          <p:cNvPicPr/>
          <p:nvPr/>
        </p:nvPicPr>
        <p:blipFill>
          <a:blip r:embed="rId1"/>
          <a:stretch/>
        </p:blipFill>
        <p:spPr>
          <a:xfrm>
            <a:off x="357120" y="1571760"/>
            <a:ext cx="8571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Исполнитель Чертежник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TextBox 5"/>
          <p:cNvSpPr/>
          <p:nvPr/>
        </p:nvSpPr>
        <p:spPr>
          <a:xfrm>
            <a:off x="468360" y="1403280"/>
            <a:ext cx="8280360" cy="48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сполнитель Чертежник предназначен для построения рисунков на координатной плоск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ри задании точек координатной плоскости координаты х и у (в отличие от того, как это принято в математике) разделяются запят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Чертежник имеет перо, которое можно поднимать, опускать и перемещать с помощью коман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поднять пе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опустить пе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сместиться в точку (</a:t>
            </a: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a</a:t>
            </a: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 b</a:t>
            </a: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ри перемещении опущенного пера за ним остается след – отрез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Задача 1399.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1" name="Picture 1" descr=""/>
          <p:cNvPicPr/>
          <p:nvPr/>
        </p:nvPicPr>
        <p:blipFill>
          <a:blip r:embed="rId1"/>
          <a:stretch/>
        </p:blipFill>
        <p:spPr>
          <a:xfrm>
            <a:off x="4281480" y="1673280"/>
            <a:ext cx="4476600" cy="2800440"/>
          </a:xfrm>
          <a:prstGeom prst="rect">
            <a:avLst/>
          </a:prstGeom>
          <a:ln w="0">
            <a:noFill/>
          </a:ln>
        </p:spPr>
      </p:pic>
      <p:sp>
        <p:nvSpPr>
          <p:cNvPr id="192" name="Прямоугольник 5"/>
          <p:cNvSpPr/>
          <p:nvPr/>
        </p:nvSpPr>
        <p:spPr>
          <a:xfrm>
            <a:off x="476280" y="1673280"/>
            <a:ext cx="4572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использовать Чертеж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ал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опустить пер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сместиться в точку (4,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сместиться в точку (1,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сместиться в точку (0,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Задача 1418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4325760" y="1673280"/>
            <a:ext cx="4476960" cy="2800440"/>
          </a:xfrm>
          <a:prstGeom prst="rect">
            <a:avLst/>
          </a:prstGeom>
          <a:ln w="0">
            <a:noFill/>
          </a:ln>
        </p:spPr>
      </p:pic>
      <p:sp>
        <p:nvSpPr>
          <p:cNvPr id="195" name="Прямоугольник 5"/>
          <p:cNvSpPr/>
          <p:nvPr/>
        </p:nvSpPr>
        <p:spPr>
          <a:xfrm>
            <a:off x="385920" y="1292400"/>
            <a:ext cx="4572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использовать Чертеж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ал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сместиться в точку (-8,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опустить пер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сместиться в точку (6,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сместиться в точку (1,-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сместиться в точку (-7,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сместиться в точку (-8,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сместиться в точку (1,-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поднять пер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сместиться в точку (6,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опустить пер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сместиться в точку (-7,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2T17:55:42Z</dcterms:created>
  <dc:creator>Serg</dc:creator>
  <dc:description/>
  <dc:language>en-US</dc:language>
  <cp:lastModifiedBy>Serg</cp:lastModifiedBy>
  <dcterms:modified xsi:type="dcterms:W3CDTF">2013-08-23T06:13:19Z</dcterms:modified>
  <cp:revision>27</cp:revision>
  <dc:subject/>
  <dc:title>Координатная плоскость</dc:title>
</cp:coreProperties>
</file>