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DA0-BE9C-42B3-AE8F-4CB0BDF9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EBD-9A3A-44C3-9B8B-4561A70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5B2-3C4C-4C1D-B6CC-D696D6F8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394-6DB9-4D54-A3D6-E73DA9A3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731-E409-4167-ACD5-BD9C9902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0A8E-03A9-466D-A930-A92063A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1D62-BBEB-4C10-ADB6-AA4879E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6766-1B16-4843-A213-353A5822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B26-082E-4842-9870-286ED10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6AC-AF05-4CA8-8660-11649C9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29D2-3AAA-4176-8CB7-31C5081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D55-416E-4AE8-AAA9-3409B25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56C3-EF7E-4BE1-AFFD-288E403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AE72-0AFA-4283-9CD0-FD35A0E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8EC-F490-4858-9A5B-66C1621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43E0-0980-456F-8C50-9D357AB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BBC4-EEC4-483E-AF5D-1667DB07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01-4452-4C76-8C10-219F6A9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09B-ACF4-4D51-A62E-BF05FE5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F35-84B7-46EB-8B02-1EA0D5D6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1AD-008C-40D0-A2C9-E1C3DFAA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720-6A3D-4B7D-BBA4-9D24237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B7C-9171-41D4-89BA-FF1CC33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A15-7070-4208-BEF1-50F4A06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CB3-24F7-4E3B-92E2-24B6F511BF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E942-D9E7-4873-8C40-D4AA02F86F6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b68c"/>
                </a:solidFill>
                <a:latin typeface="Verdana"/>
              </a:rPr>
              <a:t>Любовь – это сердце</a:t>
            </a:r>
            <a:r>
              <a:rPr b="1" lang="en-US" sz="44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72b68c"/>
                </a:solidFill>
                <a:latin typeface="Verdana"/>
              </a:rPr>
              <a:t>всего</a:t>
            </a:r>
            <a:r>
              <a:rPr b="1" lang="en-US" sz="4400" spc="-1" strike="noStrike">
                <a:solidFill>
                  <a:srgbClr val="ebf7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.В. Маяковск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66"/>
                </a:solidFill>
                <a:latin typeface="Verdana"/>
              </a:rPr>
              <a:t>Heinrich Hei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Хотел бы в единое слов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 слить свою грусть и печал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бросить то слово на ветер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Чтоб ветер унёс его вда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пусть бы то слово печа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 ветру к тебе донеслос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пусть бы всегда и повсюд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но тебе в сердце лилось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если б усталые оч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мкнулись под грёзой ночно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, пусть бы то слово печа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вучало во сне над тоб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ост Мираб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д мостом Мирабо тихо катится С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уносит любов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ишь одно неизмен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след за горем веселье идет непремен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бил час наступает ноч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Я стою дни уходят проч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в ладони ладонь мы замрем над волна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под мост наших ру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удут плыть перед на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внодушные волны мерцая огня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ереведите на русский язык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Keine Liebe ohne Lei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Die Liebe ist nichts anders als ein Kampf, in dem beide gewinn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Verdana"/>
              </a:rPr>
              <a:t>Il n’y a pas d’amour heureux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Verdana"/>
              </a:rPr>
              <a:t>L’amour est une catastrophe magnifiqu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ловицы и поговорк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On revient toujours a ses premieres amours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тарая любовь долго помнится = Старая любовь не ржавеет.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L`amour est de tous les ages. = L`amour n`a pas d`age. Любви всe возрасты покорны.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L`amour ne se commande pas. Насильно мил не будешь; сердцу не прикажешь.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mour et mort, rien n`est plus fort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юбовь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мерть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еград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е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наю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L`amour est aveugle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юбовь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лепа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L`amour fait perdre le repas et le repos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юбви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болезни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еряю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н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ппети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форизмы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: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imer, ce n`est pas se regarder l`un l`autre, c`est regarder ensemble dans la meme direction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A. de Saint-Exupery)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юбить - это не смотреть друг на друга, это вместе смотреть в одном направлении. 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ент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Экзюпери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)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L`absence diminue les mediocres passions et augmente les grandes, comme le vent eteint les bougies et allume le feu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F. de La Rochefoucauld)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лука уменьшает слабую любовь и усиливает большую, как ветер тушит свечу и раздувает костёр. 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Ф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арашфуко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)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La symptome de l`amour vrai chez un jeune homme c`est la timidite, chez une jeune fille c`est la hardiesse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V. Hugo)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 юноши признаком настоящей любви бывает робость, у девушки – смелость. 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Гюго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) </a:t>
            </a:r>
            <a:br>
              <a:rPr sz="1400"/>
            </a:b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Nous devenons responsables pour toujours de ce que nous avons apprivoise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A. de Saint-Exupery) 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ы навсегда в ответе за всех, кого приручили. (А. де Сент-Экзюпери)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6666"/>
                </a:solidFill>
                <a:latin typeface="Verdana"/>
              </a:rPr>
              <a:t>Traduisez en russ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85832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PASSION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Poème de Claire Bes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Le matin, je n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е</a:t>
            </a: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 mange pas,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Je pense à toi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A midi, je ne mange pas,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Je pense à toi.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Le soir, je ne mange pas,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Je pense à toi.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La nuit, je ne dors pas, </a:t>
            </a:r>
            <a:br>
              <a:rPr sz="2400"/>
            </a:br>
            <a:r>
              <a:rPr b="0" lang="fr-FR" sz="2400" spc="-1" strike="noStrike">
                <a:solidFill>
                  <a:srgbClr val="006699"/>
                </a:solidFill>
                <a:latin typeface="Arial"/>
              </a:rPr>
              <a:t>Je meurs de faim.</a:t>
            </a: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Любовные страдан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873800"/>
            <a:ext cx="839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Любить тебя безумно 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Не есть, не пить, не быть. 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За ужином подумал я: 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«Начну всё это… 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с ЗАВТРАШНЕГО ДНЯ!»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Я тебя люблю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рабский –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a Hebbek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тский –   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Jeg elsker dig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глийски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I love yo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мецки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 Ich liebe dic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ранцузски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 Je t’aim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реческий –       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ayapo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тальянский –   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Ti amo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льский –          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Kocham cie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овакский – 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Lubim ta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анский  -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Yo te quiero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сперанто – </a:t>
            </a:r>
            <a:r>
              <a:rPr b="0" lang="fr-FR" sz="2400" spc="-1" strike="noStrike">
                <a:solidFill>
                  <a:srgbClr val="006699"/>
                </a:solidFill>
                <a:latin typeface="Verdana"/>
              </a:rPr>
              <a:t>Mi amas vin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Жак Превер.Для тебя, любовь мо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 пошел на птичий рын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купил птиц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тебя, Любовь мо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 пошел на рынок цве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купил цвет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тебя, Любовь мо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 пошел на рынок цеп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я купил цепи. Тяжелые цеп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тебя, Любовь мо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. Ахмат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400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айская песн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Скорее, друг мой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 грудь мою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О, как ты любишь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Как я люблю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ходит ланды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Тенистый лес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Стремится птиц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простор небес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А мне любовь лишь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Твоя нужна,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Даёт мне радость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И жизнь он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Мой друг, для счастья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Любя живи,-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йдешь ты счасть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своей любв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4680" y="-23760"/>
            <a:ext cx="5715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5600" y="552600"/>
            <a:ext cx="575280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90920" y="809640"/>
            <a:ext cx="39621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18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8002" t="2520" r="18002" b="2520"/>
          <a:stretch/>
        </p:blipFill>
        <p:spPr>
          <a:xfrm>
            <a:off x="1619280" y="620640"/>
            <a:ext cx="626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3:26:45Z</dcterms:created>
  <dc:creator>Наталья</dc:creator>
  <dc:description/>
  <dc:language>en-US</dc:language>
  <cp:lastModifiedBy>Наталья</cp:lastModifiedBy>
  <dcterms:modified xsi:type="dcterms:W3CDTF">2013-10-20T03:32:09Z</dcterms:modified>
  <cp:revision>6</cp:revision>
  <dc:subject/>
  <dc:title>Любовь – это сердце всего.</dc:title>
</cp:coreProperties>
</file>