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15.gif" ContentType="image/gif"/>
  <Override PartName="/ppt/media/image7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C9223-B581-41A4-9EAF-FAA97812A8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8E0FD-9756-4F6C-9E8C-F1C2277ADA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F70FC-CE77-4AFF-92E5-2D8D05612C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E47A8-E62F-4E59-8D89-B26CAEC21F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C8B-50CB-4BFB-89EA-1B2B1A83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D4D-6AB6-4C88-A4C5-736F1952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F1D-D51C-439E-9BC9-E7F68F9B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07F-CBEB-4D1E-8486-0300C9B5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918-5F91-4CE4-ABA5-27B34260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2A9-05AF-40A1-97AA-E6224C71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9DA-4896-4BE3-924D-2DB75634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B2F2-0EA8-475A-BE04-8E4D3497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F3B-718C-4E86-8927-DCD47DC0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6BF-60EE-4BF8-BCDA-66216C2E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30D6-672E-4B26-A979-1E1A959D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757-C589-4256-9E60-8F950643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356E2E-B3FD-46A7-A9B5-E1C96CB7B2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1"/>
          <p:cNvSpPr txBox="1"/>
          <p:nvPr/>
        </p:nvSpPr>
        <p:spPr>
          <a:xfrm>
            <a:off x="647640" y="971640"/>
            <a:ext cx="287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4"/>
          <a:stretch/>
        </p:blipFill>
        <p:spPr>
          <a:xfrm>
            <a:off x="1341360" y="3090960"/>
            <a:ext cx="8388360" cy="1950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1871640" y="5148360"/>
            <a:ext cx="511344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кружающий 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1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УМК « Школа Росси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   Викторенко И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«СОШ № 17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&amp;Kcy;&amp;acy;&amp;rcy;&amp;tcy;&amp;icy;&amp;ncy;&amp;kcy;&amp;acy; 44 &amp;icy;&amp;zcy; 7170"/>
          <p:cNvPicPr/>
          <p:nvPr/>
        </p:nvPicPr>
        <p:blipFill>
          <a:blip r:embed="rId1"/>
          <a:stretch/>
        </p:blipFill>
        <p:spPr>
          <a:xfrm>
            <a:off x="0" y="-41400"/>
            <a:ext cx="10080720" cy="76010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936720" y="471600"/>
            <a:ext cx="8207280" cy="69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авила поведения в шко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В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е школьные вещи должны быть в порядке , аккуратно уложены в портфел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В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школу приходим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ВСЕГДА ВОВРЕМЯ, БЕЗ ОПОЗДА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К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гда входишь в  школу, не толкайся. Перед входом тщательно вытри ног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К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гда входишь в школу , в класс, нужно поздороваться сначала с учителем , потом с товарищам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5.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и ты опоздал на урок и заходишь в класс после звонка , необходимо спросить разрешение у учите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6.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и в класс входит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ВЗРОСЛЫ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 учитель, директор, родитель..)дружно, но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ТИХО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СПОКОЙНО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встать ,приветствуя вошедшего. Сесть можно только после разрешения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7.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и учитель задаёт вопрос классу, и ты хочешь ответить, не выкрикивай , а ПОДНИМИ РУКУ. Руку надо поднимать и тогда , когда хочешь что-то  спросить что-либо у учител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719280" y="548280"/>
            <a:ext cx="936144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8. Обращаясь с просьбой к учителю или товарищами, нужно употреблять «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ВЕЖЛИВЫ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» слова : пожалуйста, спасиб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9. Каждый школьник должен беречь свою ПАРТУ, не ломать , не писать , не царапать острым предмет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0. Выходить на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ЕМЕНУ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но только после разрешения учите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1.В коридоре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НЕЛЬЗЯ БЕГАТЬ и КРИЧАТЬ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2. Со всеми взрослыми , которых встречаешь в школе  первый раз за день нужно здоровать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3.Если в дверях встретился взрослый , нужно уступить ему мест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4.Если рядом с мальчиком идёт девочка, он должен пропустить её вперё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6. Бумажки , огрызки , весь мусор нужно бросать в специальную корзину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Рисунок 2" descr="1864763-b029bb41016bad03.jpg"/>
          <p:cNvPicPr/>
          <p:nvPr/>
        </p:nvPicPr>
        <p:blipFill>
          <a:blip r:embed="rId1"/>
          <a:stretch/>
        </p:blipFill>
        <p:spPr>
          <a:xfrm>
            <a:off x="2448000" y="179280"/>
            <a:ext cx="6048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gymnasium152.edu.kh.ua/files2/images/novosti/dobro_pogalovat.gif?size=10"/>
          <p:cNvPicPr/>
          <p:nvPr/>
        </p:nvPicPr>
        <p:blipFill>
          <a:blip r:embed="rId1"/>
          <a:stretch/>
        </p:blipFill>
        <p:spPr>
          <a:xfrm>
            <a:off x="0" y="-900000"/>
            <a:ext cx="11233080" cy="84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&amp;Kcy;&amp;acy;&amp;rcy;&amp;tcy;&amp;icy;&amp;ncy;&amp;kcy;&amp;acy; 93 &amp;icy;&amp;zcy; 156610"/>
          <p:cNvPicPr/>
          <p:nvPr/>
        </p:nvPicPr>
        <p:blipFill>
          <a:blip r:embed="rId1"/>
          <a:stretch/>
        </p:blipFill>
        <p:spPr>
          <a:xfrm>
            <a:off x="-184320" y="0"/>
            <a:ext cx="1026504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216000" y="826920"/>
            <a:ext cx="33112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Arial"/>
              </a:rPr>
              <a:t>Правила поведения в раздевал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535640" y="883440"/>
            <a:ext cx="33843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Arial"/>
                <a:ea typeface="Times New Roman"/>
              </a:rPr>
              <a:t>Правила поведения в  столовой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576360" y="4788000"/>
            <a:ext cx="309564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800" spc="-1" strike="noStrike">
                <a:solidFill>
                  <a:srgbClr val="00b050"/>
                </a:solidFill>
                <a:latin typeface="Arial"/>
              </a:rPr>
              <a:t>Правила поведения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800" spc="-1" strike="noStrike">
                <a:solidFill>
                  <a:srgbClr val="00b050"/>
                </a:solidFill>
                <a:latin typeface="Arial"/>
              </a:rPr>
              <a:t>в библиотеке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464000" y="4068360"/>
            <a:ext cx="331308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Правила поведения в актовом зале и на спортивной площад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2214634-e9dad4e33ef8b946.png"/>
          <p:cNvPicPr/>
          <p:nvPr/>
        </p:nvPicPr>
        <p:blipFill>
          <a:blip r:embed="rId1"/>
          <a:stretch/>
        </p:blipFill>
        <p:spPr>
          <a:xfrm>
            <a:off x="0" y="-306360"/>
            <a:ext cx="10080720" cy="7866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504720"/>
            <a:ext cx="7201080" cy="66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авила поведения в раздевалк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П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идя в школу , обязательно переобуйся, сними головной убо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 В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ешай свою обувь и одежду  на определенное (своё) мест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В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арежки, перчатки положи в карман , головной убор – в рука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жду вешай аккуратн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5 .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К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огда раздеваешься не разговаривай , раздевайся быстро, не мешай други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6 .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У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видел упавшую одежду- подни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7.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Б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удь вежлив с товарищами, помогай други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8.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СВОИ ВЕЩИ НЕ ЗАБЫВАЙ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76360" y="6948360"/>
            <a:ext cx="5832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ааап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russianshanghai.com/wp-content/uploads/2010/08/smeshariki21.jpg"/>
          <p:cNvPicPr/>
          <p:nvPr/>
        </p:nvPicPr>
        <p:blipFill>
          <a:blip r:embed="rId1"/>
          <a:stretch/>
        </p:blipFill>
        <p:spPr>
          <a:xfrm>
            <a:off x="0" y="-1424160"/>
            <a:ext cx="10080720" cy="89838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0" y="0"/>
            <a:ext cx="8712360" cy="71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авила поведения в библиотеке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иблиотеке соблюдай порядок, веди себя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ТИХ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омко не разговаривай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йдя , поздоровайся с библиотекарем ( Еленой Степановной), а получив книгу ,обязательно скаж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СПАСИБ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игу бери только чистыми ру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.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книге не загибай углы , не пиши ручкой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ьзуйся только заклад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и книга повреждена , « ПОДЛЕЧИ ЕЁ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блиотечные книги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БЕРЕГИ ОСОБЕННО!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Й , что  они  предназначены  не только для тебя , а для  многих  других    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431640" y="324000"/>
            <a:ext cx="8280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авила поведения в  столов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ходить в соловую надо организованн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толкайся , не кричи .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СОБЛЮДАЙ ПОРЯД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 едой всегда  мой  ру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разговаривай во время ед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столом не балуйся  хлебом, не крутись ,не мешай сосед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СТАРАЙСЯ ВСЁ СЪЕСТЬ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выноси из столовой  булочки ,конфеты , йогурт , фрукты. Всё съедай за столом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отодвигай свою грязную тарелку в сторону сосе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 еды задвинь свой стул под сто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Убирай  со стола , если ты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 ДЕЖУРНЫ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Уходя , скажи спасибо тем , кто тебя накорми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E:\Ира документы\Мои рисунки 2\школа\37ec80e7cd8f[1].jpg"/>
          <p:cNvPicPr/>
          <p:nvPr/>
        </p:nvPicPr>
        <p:blipFill>
          <a:blip r:embed="rId1"/>
          <a:stretch/>
        </p:blipFill>
        <p:spPr>
          <a:xfrm>
            <a:off x="2952720" y="5364000"/>
            <a:ext cx="2735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pedsovet.su/_ld/145/81502489.pn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2879640" y="324000"/>
            <a:ext cx="7559640" cy="67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авила поведения в актовом зал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На праздник приходи  в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АЗДНИЧН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ежде, подтянутым,       причёсанным , в начищенной обуви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Спокойно , не мешая окружающим , займи своё мес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В зале не кричи, не бегай , не толкайся, не старайся опередить сосе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В ожидании начала праздника  или концерта проявляй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ТЕРП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Как только объявят о начале представления , прекрати разговоры ,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ВНИМАТЕЛЬНО СМОТРИ и СЛУША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 Не переходи с места на место до окончания мероприя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7.Не смейся , если на сцене что-то не ладится , возникла  какая-то неловкость (например , если выступающий забыл текст, упал во время танц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8.Не забудь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ОАПЛОДИРОВА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После окончания , не толкайся , выйди из з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СПОКОЙНО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&amp;Kcy;&amp;acy;&amp;rcy;&amp;tcy;&amp;icy;&amp;ncy;&amp;kcy;&amp;acy; 296 &amp;icy;&amp;zcy; 5519"/>
          <p:cNvPicPr/>
          <p:nvPr/>
        </p:nvPicPr>
        <p:blipFill>
          <a:blip r:embed="rId1"/>
          <a:stretch/>
        </p:blipFill>
        <p:spPr>
          <a:xfrm>
            <a:off x="0" y="0"/>
            <a:ext cx="10080720" cy="7532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431640" y="971640"/>
            <a:ext cx="6624720" cy="61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авила поведения  на школьном дво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мотри , нет ли занятий на школьном дворе во время твоей прогулки, не будешь ли ты мешать своим присутствием ребят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спортивной площадке будь внимателен: качели , спортивные снаряды ( лестницы , турник…) могут быть опасны в случае неправильного  обра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 подходи к  опасным  сооружениям ( трансформаторным будкам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й с друзьями в безопасные игры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. НЕ ЗАЛЕЗА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рыши , деревья , забо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друзьями будь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 ДРУЖЕЛЮБЕ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Вместе играть веселе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лёные насаждения украшают школьный двор.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НЕ РВИ ЦВЕТЫ, НЕ ЛОМАЙ ДЕРЕВЬ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7.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ли побежал играть в другой двор ,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НЕ ЗАБУДЬ ПРЕДУПРЕДИТЬ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&amp;Kcy;&amp;acy;&amp;rcy;&amp;tcy;&amp;icy;&amp;ncy;&amp;kcy;&amp;acy; 405 &amp;icy;&amp;zcy; 5519"/>
          <p:cNvPicPr/>
          <p:nvPr/>
        </p:nvPicPr>
        <p:blipFill>
          <a:blip r:embed="rId1"/>
          <a:stretch/>
        </p:blipFill>
        <p:spPr>
          <a:xfrm>
            <a:off x="-289080" y="0"/>
            <a:ext cx="11593800" cy="75596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" descr=""/>
          <p:cNvPicPr/>
          <p:nvPr/>
        </p:nvPicPr>
        <p:blipFill>
          <a:blip r:embed="rId2"/>
          <a:stretch/>
        </p:blipFill>
        <p:spPr>
          <a:xfrm>
            <a:off x="2328840" y="1579680"/>
            <a:ext cx="54244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7:53:53Z</dcterms:created>
  <dc:creator>Ирина Владимировна</dc:creator>
  <dc:description/>
  <dc:language>en-US</dc:language>
  <cp:lastModifiedBy>Викторенко</cp:lastModifiedBy>
  <dcterms:modified xsi:type="dcterms:W3CDTF">2013-10-19T22:10:52Z</dcterms:modified>
  <cp:revision>13</cp:revision>
  <dc:subject/>
  <dc:title>Слайд 1</dc:title>
</cp:coreProperties>
</file>