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1FDD-11B8-469A-AFFB-E3A2D842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E66-7045-4169-A5AE-8DE81E32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0213-0B08-44AB-8099-EA7D8CCC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628F-05BD-463D-B69F-32C71535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AC05-FAB1-4509-816E-C223FABF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23D3-BDF6-4F46-B11D-952168FB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16E4-C181-4A13-848E-DBC275D8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DB2B-98E4-4036-815B-2E32F666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84F1-1F3C-45F7-A90A-6B57E155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02CF-A558-4168-AC50-33E06572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6F4F-F482-465D-9CCB-5DEF10C1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BD5D-9D0D-4D0E-AD99-D31A67F8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1AB6-F1F0-4386-912B-9E54F4EC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A326-A85A-4192-952E-6439FD15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E9BE-EB8B-41CA-BDD5-FD8AA4C4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CCEB-CBB2-4E1B-8CCD-7B7D8840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1F00-F6C0-474A-8507-E2863554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83B2-B4E4-4C23-B10B-B687D232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B3AA-08CA-41BA-9F86-B0B23645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E9C-FE51-401C-B3EF-0E239E3D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516-3DF8-435A-B6DD-E18B602F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18B-ED6B-4880-A5D2-C9073809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DAB8-E31F-407D-BA6E-2C3F5344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C73A-1B46-4940-8EA6-A03EEB9D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6610-44E7-42A1-90FE-98388ED64A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046E-15DD-4BBA-A69A-D778B1E9A6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692000" y="-360"/>
            <a:ext cx="6264360" cy="21337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Обвалы, снежные лавин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7 клас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3746520" cy="265608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364000" y="2276640"/>
            <a:ext cx="3454560" cy="2590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8197920" y="5486400"/>
            <a:ext cx="946080" cy="1371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286000" y="5084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полни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читель ОБЖ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КОУ «Нарышкинская СОШ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ёпло-Огарёвского райо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ульской обла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зырь Юрий Дмитриеви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сточни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чебник для общеобразовательных учреждений, 7 кл. – С.Н.Вангородский, М.И.Кузнецов, В.Н.Латчук, В.В.Марков «Основы безопасности жизнедеятельности». Дрофа. Москва – 2013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</a:t>
            </a:r>
            <a:r>
              <a:rPr b="0" lang="ru-RU" sz="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://</a:t>
            </a:r>
            <a:r>
              <a:rPr b="0" lang="ru-RU" sz="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images.yandex.ru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700360" y="2852640"/>
            <a:ext cx="3732120" cy="37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Общее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условие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возникновения этих опасных природных явлений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Times New Roman"/>
              </a:rPr>
              <a:t>Начало 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смещения</a:t>
            </a:r>
            <a:r>
              <a:rPr b="1" i="1" lang="en-US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грунта, скальных пород или снега вниз по склону</a:t>
            </a:r>
            <a:r>
              <a:rPr b="1" i="1" lang="en-US" sz="36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Территории нашей страны, где часто происходят обвалы, снежные лавин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Times New Roman"/>
              </a:rPr>
              <a:t>Северный Кавказ, Урал, Саяны, Приморье, Камчатка, Сахалин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300720" y="2541600"/>
            <a:ext cx="2843280" cy="1895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2581200"/>
            <a:ext cx="234000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3959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Times New Roman"/>
              </a:rPr>
              <a:t>Обвал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отрыв и падение больших масс горных пород на крутых и обрывистых склонах гор, речных долин и морских побережий, происходящие главным образом за счёт ослабления связности горных пород под давлением процессов выветривания, деятельности поверхностных и подземных в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436572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новидности обва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Камнепа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Обвалы гру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Обрушение лед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300720" y="4726080"/>
            <a:ext cx="2843280" cy="21319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Причины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обвал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Times New Roman"/>
              </a:rPr>
              <a:t>В основном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антропогенные</a:t>
            </a:r>
            <a:r>
              <a:rPr b="1" i="1" lang="en-US" sz="3600" spc="-1" strike="noStrike">
                <a:solidFill>
                  <a:srgbClr val="ffcc00"/>
                </a:solidFill>
                <a:latin typeface="Times New Roman"/>
              </a:rPr>
              <a:t> (до 80 %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неправильное проведение работ при строительстве и горных разработках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Природные</a:t>
            </a:r>
            <a:r>
              <a:rPr b="1" i="1" lang="en-US" sz="3600" spc="-1" strike="noStrike">
                <a:solidFill>
                  <a:srgbClr val="ffcc00"/>
                </a:solidFill>
                <a:latin typeface="Times New Roman"/>
              </a:rPr>
              <a:t> причи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сильные дожд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3478320"/>
            <a:ext cx="2195640" cy="1523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43720" y="5429160"/>
            <a:ext cx="2600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2303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imes New Roman"/>
              </a:rPr>
              <a:t>Лавина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быстрое, внезапно возникающее движение снега и (или) льда вниз по крутым склонам гор, представляющее угрозу жизни и здоровью людей, наносящее ущерб объектам экономики и  окружающей природной сре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292428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Лавины возникают в гор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ход лавины сопровождается  образованием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оздушной предударной волн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оизводящей наибольшие разру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300720" y="4962600"/>
            <a:ext cx="2843280" cy="1895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4727520"/>
            <a:ext cx="262728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Факторы, влияющие на возникновение л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Много сне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Склон, угол наклона которого превышает 14 градусов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если угол склона 30 – 40 градусов, то лавина неизбежна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Наличие открытого склона длиной 100 – 500 мет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843280" y="4419720"/>
            <a:ext cx="3673440" cy="2438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132000" y="836640"/>
            <a:ext cx="1544760" cy="1158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643280" y="2852640"/>
            <a:ext cx="1225800" cy="10303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893080" cy="6669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«Еще в прошлом веке в Альпах людей, засыпанных снегом, помогали обнаруживать большие сильные собаки </a:t>
            </a:r>
            <a:r>
              <a:rPr b="1" i="1" lang="ru-RU" sz="3600" spc="-1" strike="noStrike">
                <a:solidFill>
                  <a:srgbClr val="ffcc00"/>
                </a:solidFill>
                <a:latin typeface="Times New Roman"/>
              </a:rPr>
              <a:t>сенбернары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, названные так в честь высокогорного монастыря Святого Бернара, где их разводили. Близ Парижа на специальном собачьем кладбище установлен памятник сенбернару Барри, спасшему 40 человек. Эти добродушные крупные собаки отыскали в горах более 2000 человек. Сейчас на смену сенбернарам пришли </a:t>
            </a:r>
            <a:r>
              <a:rPr b="1" i="1" lang="ru-RU" sz="3600" spc="-1" strike="noStrike">
                <a:solidFill>
                  <a:srgbClr val="ffcc00"/>
                </a:solidFill>
                <a:latin typeface="Times New Roman"/>
              </a:rPr>
              <a:t>восточноевропейские овчарки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»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61560"/>
            <a:ext cx="2890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43280" y="5300640"/>
            <a:ext cx="576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 flipH="1" rot="21543000">
            <a:off x="0" y="0"/>
            <a:ext cx="3914640" cy="2303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3713040"/>
            <a:ext cx="4716360" cy="3144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035680" y="620640"/>
            <a:ext cx="41083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В России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первая опытная поисковая кинологическая служба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для поиска людей при чрезвычайных ситуациях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была </a:t>
            </a:r>
            <a:r>
              <a:rPr b="0" lang="en-US" sz="3200" spc="-1" strike="noStrike">
                <a:solidFill>
                  <a:srgbClr val="000808"/>
                </a:solidFill>
                <a:latin typeface="Tahoma"/>
              </a:rPr>
              <a:t>создана в 1996 году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её счету не один спасённый человек. В этой службе готовят и тренируют собак разных пород, но больше всего среди них овчарок и лабрадо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03640" y="2205000"/>
            <a:ext cx="2133360" cy="1428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542916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093080" y="5575320"/>
            <a:ext cx="2050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8:19:16Z</dcterms:created>
  <dc:creator>жилин олег юрьевич</dc:creator>
  <dc:description/>
  <dc:language>en-US</dc:language>
  <cp:lastModifiedBy>а</cp:lastModifiedBy>
  <dcterms:modified xsi:type="dcterms:W3CDTF">2013-10-20T11:36:04Z</dcterms:modified>
  <cp:revision>11</cp:revision>
  <dc:subject/>
  <dc:title>Слайд 1</dc:title>
</cp:coreProperties>
</file>