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E53-BAE4-4BBD-86C0-91299FB3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44F-7010-4043-933A-914DCF29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44C-D148-4524-A004-E2702451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01D-576E-4283-B29A-E01D2156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66F-0B3B-4434-B85D-464AF5F8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C32-A53C-4D0B-9C14-936A5F07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138-9089-43AB-AAB0-073E1D54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609-81BE-4BE8-87F5-6B6A98E8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22A-9D70-492C-81A0-55F5EA31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6B0-4873-4AF4-A88B-5769395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188-4701-4DB5-BCE6-B3FF133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13C-0C2F-4D5C-8593-943DDA18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2735-2B6A-48D8-91A3-D6309C3D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Татьяна</cp:lastModifiedBy>
  <dcterms:modified xsi:type="dcterms:W3CDTF">2013-10-18T04:08:32Z</dcterms:modified>
  <cp:revision>30</cp:revision>
  <dc:subject/>
  <dc:title>Present Tenses</dc:title>
</cp:coreProperties>
</file>