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3.png" ContentType="image/png"/>
  <Override PartName="/ppt/media/image18.gif" ContentType="image/gif"/>
  <Override PartName="/ppt/media/image16.gif" ContentType="image/gif"/>
  <Override PartName="/ppt/media/image15.png" ContentType="image/png"/>
  <Override PartName="/ppt/media/image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2.gif" ContentType="image/gif"/>
  <Override PartName="/ppt/media/image11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F049-BBAF-4557-8F9F-B235A96AEF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121-9E98-4AE7-9513-0D0173AEB1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D2BE-6CC0-4579-952D-32506A1A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7C75-34B3-4257-A59F-A5B1C81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9F7B-27FB-40B3-BB63-75534ACC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22F5-B99D-4DAE-8FB5-48EFF9AB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F370-9E2F-466F-A136-12ECB8EE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49DE-E0E9-486B-9F13-EAACF7D9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FD4B-FD1A-4862-8F1D-76A9071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F813-E5DC-41A4-BD63-C7C6D5F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F4DE-AD69-4687-A969-FEC40F5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3ABE-08B1-48A0-8638-B8B8310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AEE-ECAD-4A41-97AB-4F9EFEC0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8EEF-3530-4C7A-9CDB-80D5D77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F486-3932-49FB-8FF2-CD3B812C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D238-9696-451C-9142-011449B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DBD-8659-4DEC-8D0F-9FD74D6E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3716-0ADE-469C-8AD7-31AB8D64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AE2-B165-4793-8278-BB7A9D3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88EF-23EC-451E-9CEA-FE6D4697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C192-CBBA-4788-A101-ACACB3EA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38C0-46BB-483F-BCC0-001E828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92F5-518D-4220-9BCA-C4DEF9D2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F863-855C-41CF-BA00-7F2FA63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6B54-BC63-4421-9AFF-AE9CE66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B86C-2C9B-4B70-AC99-00470CF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беле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B95-6D0B-4CF4-BA24-7D399382FA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беле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472B-E489-466E-A63D-CB88A8B268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155736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Важнейшие события истории средневекового Казахста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40000" y="4508280"/>
            <a:ext cx="289548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вторение д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851280" y="5157720"/>
            <a:ext cx="187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2"/>
          <p:cNvPicPr/>
          <p:nvPr/>
        </p:nvPicPr>
        <p:blipFill>
          <a:blip r:embed="rId1"/>
          <a:stretch/>
        </p:blipFill>
        <p:spPr>
          <a:xfrm>
            <a:off x="7429680" y="2786040"/>
            <a:ext cx="136836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:\гулина\Анимационные картинки для презентаций. Часть 2\Космос\7f94e84a034f.gif"/>
          <p:cNvPicPr/>
          <p:nvPr/>
        </p:nvPicPr>
        <p:blipFill>
          <a:blip r:embed="rId2"/>
          <a:stretch/>
        </p:blipFill>
        <p:spPr>
          <a:xfrm>
            <a:off x="142920" y="4000680"/>
            <a:ext cx="28573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авильный ответ изменит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цвет д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4786200"/>
            <a:ext cx="9329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ие Джунгарской имп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>
            <a:hlinkClick r:id="rId2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>
            <a:hlinkClick r:id="rId3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8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6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0">
            <a:hlinkClick r:id="" action="ppaction://hlinkshowjump?jump=nextslide"/>
          </p:cNvPr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8" descr=""/>
          <p:cNvPicPr/>
          <p:nvPr/>
        </p:nvPicPr>
        <p:blipFill>
          <a:blip r:embed="rId4"/>
          <a:stretch/>
        </p:blipFill>
        <p:spPr>
          <a:xfrm>
            <a:off x="6500880" y="571680"/>
            <a:ext cx="209556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4857840"/>
            <a:ext cx="9901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да Темучин был провозглашён верховным правителем -Чингис-ха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0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8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Рисунок 8" descr=""/>
          <p:cNvPicPr/>
          <p:nvPr/>
        </p:nvPicPr>
        <p:blipFill>
          <a:blip r:embed="rId2"/>
          <a:stretch/>
        </p:blipFill>
        <p:spPr>
          <a:xfrm>
            <a:off x="6000840" y="500040"/>
            <a:ext cx="278604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5000400"/>
            <a:ext cx="99010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да образовался Тюркский каган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8">
            <a:hlinkClick r:id="" action="ppaction://hlinkshowjump?jump=next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8" descr=""/>
          <p:cNvPicPr/>
          <p:nvPr/>
        </p:nvPicPr>
        <p:blipFill>
          <a:blip r:embed="rId1"/>
          <a:stretch/>
        </p:blipFill>
        <p:spPr>
          <a:xfrm>
            <a:off x="6715080" y="428760"/>
            <a:ext cx="192888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равильный ответ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изменит цвет д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4786200"/>
            <a:ext cx="94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торжение монголов на территорию Казахстана началось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8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45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8">
            <a:hlinkClick r:id="" action="ppaction://hlinkshowjump?jump=nextslide"/>
          </p:cNvPr>
          <p:cNvSpPr/>
          <p:nvPr/>
        </p:nvSpPr>
        <p:spPr>
          <a:xfrm>
            <a:off x="7812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8" descr=""/>
          <p:cNvPicPr/>
          <p:nvPr/>
        </p:nvPicPr>
        <p:blipFill>
          <a:blip r:embed="rId1"/>
          <a:stretch/>
        </p:blipFill>
        <p:spPr>
          <a:xfrm>
            <a:off x="6072120" y="50004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изменит 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360" y="4929120"/>
            <a:ext cx="8028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лахское сражение произошл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4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5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8">
            <a:hlinkClick r:id="" action="ppaction://hlinkshowjump?jump=nextslide"/>
          </p:cNvPr>
          <p:cNvSpPr/>
          <p:nvPr/>
        </p:nvSpPr>
        <p:spPr>
          <a:xfrm>
            <a:off x="7667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8" descr=""/>
          <p:cNvPicPr/>
          <p:nvPr/>
        </p:nvPicPr>
        <p:blipFill>
          <a:blip r:embed="rId1"/>
          <a:stretch/>
        </p:blipFill>
        <p:spPr>
          <a:xfrm>
            <a:off x="6357960" y="214200"/>
            <a:ext cx="21891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50920" y="1700280"/>
            <a:ext cx="80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хорошую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Picture 4" descr="D:\гулина\Анимационные картинки для презентаций. Часть 2\Оценки\32.gif"/>
          <p:cNvPicPr/>
          <p:nvPr/>
        </p:nvPicPr>
        <p:blipFill>
          <a:blip r:embed="rId1"/>
          <a:stretch/>
        </p:blipFill>
        <p:spPr>
          <a:xfrm>
            <a:off x="2000160" y="3000240"/>
            <a:ext cx="3786120" cy="32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79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ОШИБКА!!!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17040" y="5013360"/>
            <a:ext cx="73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пробуй ответить еще раз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>
            <a:hlinkClick r:id="" action="ppaction://hlinkshowjump?jump=previousslide"/>
          </p:cNvPr>
          <p:cNvSpPr/>
          <p:nvPr/>
        </p:nvSpPr>
        <p:spPr>
          <a:xfrm>
            <a:off x="8101080" y="51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8" descr="KNIGH003"/>
          <p:cNvPicPr/>
          <p:nvPr/>
        </p:nvPicPr>
        <p:blipFill>
          <a:blip r:embed="rId1"/>
          <a:stretch/>
        </p:blipFill>
        <p:spPr>
          <a:xfrm>
            <a:off x="3181320" y="1484280"/>
            <a:ext cx="2484360" cy="345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flaim-64"/>
          <p:cNvPicPr/>
          <p:nvPr/>
        </p:nvPicPr>
        <p:blipFill>
          <a:blip r:embed="rId2"/>
          <a:stretch/>
        </p:blipFill>
        <p:spPr>
          <a:xfrm>
            <a:off x="2124000" y="3645000"/>
            <a:ext cx="1589040" cy="13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авильный ответ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зменит цвет д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4928760"/>
            <a:ext cx="8218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ие Казахского х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4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5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>
            <a:hlinkClick r:id="rId2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>
            <a:hlinkClick r:id="rId3" action="ppaction://hlinksldjump"/>
          </p:cNvPr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5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">
            <a:hlinkClick r:id="" action="ppaction://hlinkshowjump?jump=next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8" descr=""/>
          <p:cNvPicPr/>
          <p:nvPr/>
        </p:nvPicPr>
        <p:blipFill>
          <a:blip r:embed="rId4"/>
          <a:stretch/>
        </p:blipFill>
        <p:spPr>
          <a:xfrm>
            <a:off x="5961240" y="500040"/>
            <a:ext cx="28638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 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849636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аком году на Западный и Восточный каганаты распалось Тюркское государст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9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>
            <a:hlinkClick r:id="rId2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>
            <a:hlinkClick r:id="rId3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7" descr="KNIGH004"/>
          <p:cNvPicPr/>
          <p:nvPr/>
        </p:nvPicPr>
        <p:blipFill>
          <a:blip r:embed="rId4"/>
          <a:stretch/>
        </p:blipFill>
        <p:spPr>
          <a:xfrm>
            <a:off x="3780000" y="4437000"/>
            <a:ext cx="1690560" cy="16970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8">
            <a:hlinkClick r:id="" action="ppaction://hlinkshowjump?jump=nextslide"/>
          </p:cNvPr>
          <p:cNvSpPr/>
          <p:nvPr/>
        </p:nvSpPr>
        <p:spPr>
          <a:xfrm>
            <a:off x="7885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 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47858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 образования Золотой Ор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6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>
            <a:hlinkClick r:id="rId2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>
            <a:hlinkClick r:id="rId3" action="ppaction://hlinksldjump"/>
          </p:cNvPr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5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1">
            <a:hlinkClick r:id="" action="ppaction://hlinkshowjump?jump=nextslide"/>
          </p:cNvPr>
          <p:cNvSpPr/>
          <p:nvPr/>
        </p:nvSpPr>
        <p:spPr>
          <a:xfrm>
            <a:off x="7885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9" descr=""/>
          <p:cNvPicPr/>
          <p:nvPr/>
        </p:nvPicPr>
        <p:blipFill>
          <a:blip r:embed="rId4"/>
          <a:stretch/>
        </p:blipFill>
        <p:spPr>
          <a:xfrm>
            <a:off x="6929280" y="357120"/>
            <a:ext cx="163836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 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4714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целью покарать султанов Жанибека и Керея Абулхаир хан отправился в поход на Могулистан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4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46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>
            <a:hlinkClick r:id="rId2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47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7">
            <a:hlinkClick r:id="rId3" action="ppaction://hlinksldjump"/>
          </p:cNvPr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4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Рисунок 9" descr=""/>
          <p:cNvPicPr/>
          <p:nvPr/>
        </p:nvPicPr>
        <p:blipFill>
          <a:blip r:embed="rId4"/>
          <a:stretch/>
        </p:blipFill>
        <p:spPr>
          <a:xfrm>
            <a:off x="6286680" y="500040"/>
            <a:ext cx="2571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авильный ответ изменит цвет д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лам объявляется государственной религией в Караханидском государстве 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>
            <a:hlinkClick r:id="rId2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9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>
            <a:hlinkClick r:id="rId3" action="ppaction://hlinksldjump"/>
          </p:cNvPr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0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9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8" descr=""/>
          <p:cNvPicPr/>
          <p:nvPr/>
        </p:nvPicPr>
        <p:blipFill>
          <a:blip r:embed="rId4"/>
          <a:stretch/>
        </p:blipFill>
        <p:spPr>
          <a:xfrm>
            <a:off x="3643200" y="4786200"/>
            <a:ext cx="18576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 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49287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ающая битва между Тамерланом и Тохтамышем произош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>
            <a:hlinkClick r:id="rId2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6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7">
            <a:hlinkClick r:id="rId3" action="ppaction://hlinksldjump"/>
          </p:cNvPr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0">
            <a:hlinkClick r:id="" action="ppaction://hlinkshowjump?jump=nextslide"/>
          </p:cNvPr>
          <p:cNvSpPr/>
          <p:nvPr/>
        </p:nvSpPr>
        <p:spPr>
          <a:xfrm>
            <a:off x="7956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8" descr=""/>
          <p:cNvPicPr/>
          <p:nvPr/>
        </p:nvPicPr>
        <p:blipFill>
          <a:blip r:embed="rId4"/>
          <a:stretch/>
        </p:blipFill>
        <p:spPr>
          <a:xfrm>
            <a:off x="5715000" y="500040"/>
            <a:ext cx="30002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авильный ответ изменит цвет д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857240"/>
            <a:ext cx="821844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збек- хан объявил ислам государственной религией Золотой Орды 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6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3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>
            <a:hlinkClick r:id="rId3" action="ppaction://hlinksldjump"/>
          </p:cNvPr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9">
            <a:hlinkClick r:id="" action="ppaction://hlinkshowjump?jump=nextslide"/>
          </p:cNvPr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8" descr=""/>
          <p:cNvPicPr/>
          <p:nvPr/>
        </p:nvPicPr>
        <p:blipFill>
          <a:blip r:embed="rId4"/>
          <a:stretch/>
        </p:blipFill>
        <p:spPr>
          <a:xfrm>
            <a:off x="3357720" y="4786200"/>
            <a:ext cx="238104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овите дату: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равильный ответ изменит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цвет д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1360" y="4714920"/>
            <a:ext cx="77151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лемена найман потерпели поражение от войск Чингисха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4">
            <a:hlinkClick r:id="rId1" action="ppaction://hlinksldjump"/>
          </p:cNvPr>
          <p:cNvSpPr/>
          <p:nvPr/>
        </p:nvSpPr>
        <p:spPr>
          <a:xfrm>
            <a:off x="75564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">
            <a:hlinkClick r:id="rId2" action="ppaction://hlinksldjump"/>
          </p:cNvPr>
          <p:cNvSpPr/>
          <p:nvPr/>
        </p:nvSpPr>
        <p:spPr>
          <a:xfrm>
            <a:off x="291636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6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6">
            <a:hlinkClick r:id="rId3" action="ppaction://hlinksldjump"/>
          </p:cNvPr>
          <p:cNvSpPr/>
          <p:nvPr/>
        </p:nvSpPr>
        <p:spPr>
          <a:xfrm>
            <a:off x="5003640" y="2997360"/>
            <a:ext cx="151164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9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7020000" y="2997360"/>
            <a:ext cx="1511280" cy="1618920"/>
          </a:xfrm>
          <a:prstGeom prst="beve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2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9">
            <a:hlinkClick r:id="" action="ppaction://hlinkshowjump?jump=nextslide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9" descr=""/>
          <p:cNvPicPr/>
          <p:nvPr/>
        </p:nvPicPr>
        <p:blipFill>
          <a:blip r:embed="rId4"/>
          <a:stretch/>
        </p:blipFill>
        <p:spPr>
          <a:xfrm>
            <a:off x="6858000" y="428760"/>
            <a:ext cx="1949400" cy="23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4:56Z</dcterms:created>
  <dc:creator>Гульжахан</dc:creator>
  <dc:description/>
  <dc:language>en-US</dc:language>
  <cp:lastModifiedBy>Коштаева</cp:lastModifiedBy>
  <dcterms:modified xsi:type="dcterms:W3CDTF">2006-06-11T18:34:43Z</dcterms:modified>
  <cp:revision>35</cp:revision>
  <dc:subject/>
  <dc:title>Слайды - даты</dc:title>
</cp:coreProperties>
</file>