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E9C-B03B-4939-99A1-C8D9FD14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2BE-C7DE-49AF-811B-08C569B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8BB-7A71-4968-BA5A-2D252E01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08A-5796-4FD2-87EB-3842861A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DF9-22EC-4DAC-B009-506DFD61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E62-E215-4AD7-9F16-551B0C9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7574-4569-47EA-BBAA-1D34B7F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9C2A-EB0F-4432-8E3A-ECE675FA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2984-FFBB-47B2-923C-3ED8411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378C-4F34-45D6-AF6A-779D855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871-EAAC-4810-972D-E7A59EB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888-9654-41DB-BD0D-1DC3DBAE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0789-E7CF-4B64-BBAC-A7D89DA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75F-2D6B-477D-89FD-D2435830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35E2-B916-49A9-8169-E99CFB57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049B-6E39-42C9-AB58-5E39A1F4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B50-A978-4662-9999-6F3BE18B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370-F21E-4697-AE45-C79B4282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DAA-DBBA-4BEE-B8FA-1FF9C60F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9B8-CAB4-4A1B-967E-88B0050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BF2-24FD-4FE1-A282-28E9D168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C53-5A99-473D-96DF-EC71348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970-6BC5-4D51-B6B8-AAF81E16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533-142B-450F-AFAB-498A7C2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46D-5FC9-4CB0-89A7-B3A0B0B12A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55C9-FA52-413D-8C4D-F276AB83FF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b7"/>
                </a:solidFill>
                <a:latin typeface="Arial Black"/>
              </a:rPr>
              <a:t>Экологическое воспитание в ДОУ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4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экологического воспитания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формировать у детей осознанное понимание взаимосвязей всего живого и неживого в природе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  формировать умения и навыки по уходу за растениями и животными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   воспитывать чувственно-эмоциональные реакции детей на окружающую среду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   воспитывать у детей заботливое отношение к природе путем целенаправленного общения их с окружающей средой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   средствами природы воспитывать эстетические и патриотические чувств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работы с детьм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826920" y="2133720"/>
            <a:ext cx="1922760" cy="1726920"/>
          </a:xfrm>
          <a:prstGeom prst="wedgeRoundRectCallout">
            <a:avLst>
              <a:gd name="adj1" fmla="val 5407"/>
              <a:gd name="adj2" fmla="val -7629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1258560" y="26827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3276720" y="2133720"/>
            <a:ext cx="2158920" cy="1726920"/>
          </a:xfrm>
          <a:prstGeom prst="wedgeRoundRectCallout">
            <a:avLst>
              <a:gd name="adj1" fmla="val -24189"/>
              <a:gd name="adj2" fmla="val 48990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3491280" y="2637000"/>
            <a:ext cx="19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30"/>
          <p:cNvSpPr/>
          <p:nvPr/>
        </p:nvSpPr>
        <p:spPr>
          <a:xfrm>
            <a:off x="6227640" y="2205000"/>
            <a:ext cx="2160720" cy="1655640"/>
          </a:xfrm>
          <a:prstGeom prst="wedgeRoundRectCallout">
            <a:avLst>
              <a:gd name="adj1" fmla="val -27587"/>
              <a:gd name="adj2" fmla="val 50574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6732720" y="27558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у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2"/>
          <p:cNvSpPr/>
          <p:nvPr/>
        </p:nvSpPr>
        <p:spPr>
          <a:xfrm>
            <a:off x="826920" y="4581360"/>
            <a:ext cx="2016360" cy="1800360"/>
          </a:xfrm>
          <a:prstGeom prst="wedgeRoundRectCallout">
            <a:avLst>
              <a:gd name="adj1" fmla="val -16930"/>
              <a:gd name="adj2" fmla="val 50087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971640" y="5203800"/>
            <a:ext cx="18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здни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ле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4"/>
          <p:cNvSpPr/>
          <p:nvPr/>
        </p:nvSpPr>
        <p:spPr>
          <a:xfrm>
            <a:off x="3419640" y="4653000"/>
            <a:ext cx="2016000" cy="1800360"/>
          </a:xfrm>
          <a:prstGeom prst="wedgeRoundRectCallout">
            <a:avLst>
              <a:gd name="adj1" fmla="val -28425"/>
              <a:gd name="adj2" fmla="val 50703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3635640" y="520380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ктор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оссвор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36"/>
          <p:cNvSpPr/>
          <p:nvPr/>
        </p:nvSpPr>
        <p:spPr>
          <a:xfrm>
            <a:off x="6372360" y="4724280"/>
            <a:ext cx="2232000" cy="1800360"/>
          </a:xfrm>
          <a:prstGeom prst="wedgeRoundRectCallout">
            <a:avLst>
              <a:gd name="adj1" fmla="val -26884"/>
              <a:gd name="adj2" fmla="val 50263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6658560" y="5203800"/>
            <a:ext cx="19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843280" y="2924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>
            <a:off x="5508720" y="292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>
            <a:off x="284328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5508720" y="5589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стема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755640" y="1628640"/>
            <a:ext cx="2376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ендар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сп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635280" y="1557360"/>
            <a:ext cx="223200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вающ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6443640" y="1557360"/>
            <a:ext cx="223200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лог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826920" y="4005360"/>
            <a:ext cx="324036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имент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4572000" y="4005360"/>
            <a:ext cx="2232000" cy="1511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3132000" y="220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5940360" y="2205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414036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050920" y="3068640"/>
            <a:ext cx="2952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5866920" y="2997360"/>
            <a:ext cx="79236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5148360" y="3068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 flipH="1">
            <a:off x="1979640" y="3141720"/>
            <a:ext cx="71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дметно-развивающая сред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21" descr="SANY2255"/>
          <p:cNvPicPr/>
          <p:nvPr/>
        </p:nvPicPr>
        <p:blipFill>
          <a:blip r:embed="rId1"/>
          <a:stretch/>
        </p:blipFill>
        <p:spPr>
          <a:xfrm>
            <a:off x="2340000" y="3573360"/>
            <a:ext cx="2087640" cy="2079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SANY2258"/>
          <p:cNvPicPr/>
          <p:nvPr/>
        </p:nvPicPr>
        <p:blipFill>
          <a:blip r:embed="rId2"/>
          <a:stretch/>
        </p:blipFill>
        <p:spPr>
          <a:xfrm>
            <a:off x="179280" y="4724280"/>
            <a:ext cx="1871640" cy="20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SANY2259"/>
          <p:cNvPicPr/>
          <p:nvPr/>
        </p:nvPicPr>
        <p:blipFill>
          <a:blip r:embed="rId3"/>
          <a:stretch/>
        </p:blipFill>
        <p:spPr>
          <a:xfrm>
            <a:off x="4643280" y="2349360"/>
            <a:ext cx="208944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SANY2303"/>
          <p:cNvPicPr/>
          <p:nvPr/>
        </p:nvPicPr>
        <p:blipFill>
          <a:blip r:embed="rId4"/>
          <a:stretch/>
        </p:blipFill>
        <p:spPr>
          <a:xfrm>
            <a:off x="6804000" y="1341360"/>
            <a:ext cx="20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родителям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12" descr="SANY2304"/>
          <p:cNvPicPr/>
          <p:nvPr/>
        </p:nvPicPr>
        <p:blipFill>
          <a:blip r:embed="rId1"/>
          <a:stretch/>
        </p:blipFill>
        <p:spPr>
          <a:xfrm>
            <a:off x="1452600" y="1905120"/>
            <a:ext cx="269856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SANY2306"/>
          <p:cNvPicPr/>
          <p:nvPr/>
        </p:nvPicPr>
        <p:blipFill>
          <a:blip r:embed="rId2"/>
          <a:stretch/>
        </p:blipFill>
        <p:spPr>
          <a:xfrm>
            <a:off x="5532480" y="1905120"/>
            <a:ext cx="269856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SANY2307"/>
          <p:cNvPicPr/>
          <p:nvPr/>
        </p:nvPicPr>
        <p:blipFill>
          <a:blip r:embed="rId3"/>
          <a:stretch/>
        </p:blipFill>
        <p:spPr>
          <a:xfrm>
            <a:off x="1452600" y="4076640"/>
            <a:ext cx="2698560" cy="20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SANY2309"/>
          <p:cNvPicPr/>
          <p:nvPr/>
        </p:nvPicPr>
        <p:blipFill>
          <a:blip r:embed="rId4"/>
          <a:stretch/>
        </p:blipFill>
        <p:spPr>
          <a:xfrm>
            <a:off x="5508720" y="4076640"/>
            <a:ext cx="2735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ё хорошее в людях - из детства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истоки добра пробудить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коснуться к природе всем сердцем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дивиться, узнать, полюбить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 хотим, чтоб земля расцветала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росли, как цветы, малыши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б для них экология стал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наукой, а частью души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5:09:31Z</dcterms:created>
  <dc:creator>Жданов</dc:creator>
  <dc:description/>
  <dc:language>en-US</dc:language>
  <cp:lastModifiedBy>user</cp:lastModifiedBy>
  <dcterms:modified xsi:type="dcterms:W3CDTF">2013-10-20T13:39:24Z</dcterms:modified>
  <cp:revision>10</cp:revision>
  <dc:subject/>
  <dc:title>Экологическое воспитание в подготовительной группе.</dc:title>
</cp:coreProperties>
</file>