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11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7.gif" ContentType="image/gif"/>
  <Override PartName="/ppt/media/image12.gif" ContentType="image/gif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gif" ContentType="image/gif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8E18-E7C3-4AC3-99B3-F8B81489E4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739A-EDA3-4FF2-8E7C-D2963AFC1D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B0A-CACF-448D-8EDD-603B9159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EFB-57E4-4EBB-AE76-7E4E742F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6F5-CD6B-4183-9778-733C1FA1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9E4-9A9E-4558-B3DD-B8F38B07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10E-A06E-465C-A6FA-15DEF7DE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11B-B7EF-4197-8D95-DDE0FA57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315-F1CF-4122-BF2F-9A220A20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3F9-2BBB-4359-AC14-9A194ADF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3AB-D0F0-48A7-9E8E-1530AFFB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394-0477-4AF0-B9D5-8286EDC2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70B-6480-4BF8-939B-19AD87DB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1701-8BD1-4FB3-8F23-C636F79B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604C-02F4-4016-BAFD-5809FC61A4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1727640" y="3357720"/>
            <a:ext cx="218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бр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4219920" y="171468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6006600" y="1857240"/>
            <a:ext cx="195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у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5079600" y="4357800"/>
            <a:ext cx="198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ш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786600" y="1000080"/>
            <a:ext cx="235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ж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717480" y="5357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C:\Documents and Settings\Новик\Рабочий стол\дети.jpg"/>
          <p:cNvPicPr/>
          <p:nvPr/>
        </p:nvPicPr>
        <p:blipFill>
          <a:blip r:embed="rId1"/>
          <a:stretch/>
        </p:blipFill>
        <p:spPr>
          <a:xfrm>
            <a:off x="6981840" y="4857840"/>
            <a:ext cx="193824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9 -0.07778 C 0.2724 0.03009 0.36424 0.13796 0.33906 0.18889 C 0.31389 0.23981 0.07882 0.29027 0.02934 0.22754 C -0.02014 0.16481 0.04028 -0.11551 0.04219 -0.1875 C 0.0441 -0.25949 0.04236 -0.23218 0.04063 -0.20463 E">
                                      <p:cBhvr>
                                        <p:cTn id="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26 -0.05996 C 0.26059 -0.15348 0.26892 -0.24676 0.21198 -0.29445 C 0.15504 -0.34213 -0.02639 -0.39769 -0.08976 -0.34607 C -0.15312 -0.29445 -0.16094 -0.13959 -0.16875 0.01527 E">
                                      <p:cBhvr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948 0.16597 C -0.17362 0.11111 -0.09775 0.05625 0.01025 0.03518 C 0.11823 0.01412 0.32448 -0.03125 0.39896 0.03935 C 0.47344 0.10995 0.49705 0.34838 0.45695 0.45879 C 0.41685 0.56921 0.21893 0.71967 0.15869 0.70185 C 0.09844 0.68402 0.10608 0.40995 0.09566 0.35115 E">
                                      <p:cBhvr>
                                        <p:cTn id="10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4.81481E-006 C -0.05608 -0.06134 -0.11216 -0.12269 -0.10973 -0.16551 C -0.1073 -0.2088 -0.0481 -0.24676 0.01458 -0.25787 C 0.07725 -0.26898 0.19982 -0.27361 0.26614 -0.23218 C 0.33246 -0.19074 0.39166 -0.09838 0.41284 -0.00857 C 0.43402 0.08102 0.42048 0.21944 0.39357 0.30532 C 0.36666 0.39167 0.30295 0.48032 0.25156 0.50741 C 0.20017 0.53472 0.12951 0.49977 0.08541 0.46875 C 0.04131 0.43796 -0.00191 0.35972 -0.01285 0.32268 C -0.02379 0.28518 -0.00226 0.26505 0.01944 0.24491 E">
                                      <p:cBhvr>
                                        <p:cTn id="12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42 0.19352 C -0.12882 0.05394 -0.12205 -0.08542 -0.18229 -0.15278 C -0.24254 -0.22014 -0.42743 -0.26898 -0.4967 -0.21088 C -0.56597 -0.15278 -0.6283 0.09213 -0.59844 0.1956 C -0.56858 0.29884 -0.4217 0.38935 -0.31771 0.41042 C -0.21372 0.43148 -0.03542 0.41389 0.02587 0.32222 C 0.08715 0.23079 0.046 -0.0625 0.05 -0.13981 E">
                                      <p:cBhvr>
                                        <p:cTn id="14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153 -0.07662 C 0.22864 -0.20023 0.57899 -0.32361 0.71875 -0.37338 E">
                                      <p:cBhvr>
                                        <p:cTn id="1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82e2e770529f22dd8819a308ea31493d.jpg"/>
          <p:cNvPicPr/>
          <p:nvPr/>
        </p:nvPicPr>
        <p:blipFill>
          <a:blip r:embed="rId1"/>
          <a:stretch/>
        </p:blipFill>
        <p:spPr>
          <a:xfrm>
            <a:off x="542880" y="428760"/>
            <a:ext cx="3243240" cy="3286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4f8880777b9f.png"/>
          <p:cNvPicPr/>
          <p:nvPr/>
        </p:nvPicPr>
        <p:blipFill>
          <a:blip r:embed="rId2"/>
          <a:stretch/>
        </p:blipFill>
        <p:spPr>
          <a:xfrm>
            <a:off x="642960" y="5214960"/>
            <a:ext cx="2008080" cy="1147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793480" y="500040"/>
            <a:ext cx="1025280" cy="100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7223400" y="500040"/>
            <a:ext cx="1221840" cy="10083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0" descr="ab8e8ad83115.jpg"/>
          <p:cNvPicPr/>
          <p:nvPr/>
        </p:nvPicPr>
        <p:blipFill>
          <a:blip r:embed="rId3"/>
          <a:stretch/>
        </p:blipFill>
        <p:spPr>
          <a:xfrm>
            <a:off x="5929200" y="2928960"/>
            <a:ext cx="2370240" cy="315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D:\Буквы\img038.jpg"/>
          <p:cNvPicPr/>
          <p:nvPr/>
        </p:nvPicPr>
        <p:blipFill>
          <a:blip r:embed="rId1"/>
          <a:srcRect l="23686" t="18397" r="23686" b="34848"/>
          <a:stretch/>
        </p:blipFill>
        <p:spPr>
          <a:xfrm>
            <a:off x="0" y="304920"/>
            <a:ext cx="2209680" cy="142704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11"/>
          <p:cNvGrpSpPr/>
          <p:nvPr/>
        </p:nvGrpSpPr>
        <p:grpSpPr>
          <a:xfrm>
            <a:off x="7128000" y="3429000"/>
            <a:ext cx="1288800" cy="948960"/>
            <a:chOff x="7128000" y="3429000"/>
            <a:chExt cx="1288800" cy="948960"/>
          </a:xfrm>
        </p:grpSpPr>
        <p:sp>
          <p:nvSpPr>
            <p:cNvPr id="69" name="Oval 12"/>
            <p:cNvSpPr/>
            <p:nvPr/>
          </p:nvSpPr>
          <p:spPr>
            <a:xfrm>
              <a:off x="7298280" y="3429000"/>
              <a:ext cx="96156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3"/>
            <p:cNvSpPr/>
            <p:nvPr/>
          </p:nvSpPr>
          <p:spPr>
            <a:xfrm rot="493200">
              <a:off x="7162920" y="3717360"/>
              <a:ext cx="1218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Oval 14"/>
          <p:cNvSpPr/>
          <p:nvPr/>
        </p:nvSpPr>
        <p:spPr>
          <a:xfrm rot="1937400">
            <a:off x="6705720" y="4648320"/>
            <a:ext cx="68580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 flipV="1" rot="12019800">
            <a:off x="653868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 rot="493200">
            <a:off x="7184880" y="3789000"/>
            <a:ext cx="1368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7"/>
          <p:cNvGrpSpPr/>
          <p:nvPr/>
        </p:nvGrpSpPr>
        <p:grpSpPr>
          <a:xfrm>
            <a:off x="8001000" y="3657600"/>
            <a:ext cx="431280" cy="360000"/>
            <a:chOff x="8001000" y="3657600"/>
            <a:chExt cx="431280" cy="360000"/>
          </a:xfrm>
        </p:grpSpPr>
        <p:sp>
          <p:nvSpPr>
            <p:cNvPr id="75" name="Line 18"/>
            <p:cNvSpPr/>
            <p:nvPr/>
          </p:nvSpPr>
          <p:spPr>
            <a:xfrm>
              <a:off x="8001000" y="365760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 flipH="1">
              <a:off x="8001000" y="365760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AutoShape 20"/>
          <p:cNvSpPr/>
          <p:nvPr/>
        </p:nvSpPr>
        <p:spPr>
          <a:xfrm>
            <a:off x="8153280" y="3733920"/>
            <a:ext cx="21600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6"/>
          <p:cNvSpPr/>
          <p:nvPr/>
        </p:nvSpPr>
        <p:spPr>
          <a:xfrm flipV="1" rot="12019800">
            <a:off x="2980440" y="4624560"/>
            <a:ext cx="132732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6"/>
          <p:cNvSpPr/>
          <p:nvPr/>
        </p:nvSpPr>
        <p:spPr>
          <a:xfrm flipH="1">
            <a:off x="7256160" y="4495680"/>
            <a:ext cx="973080" cy="8780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9"/>
          <p:cNvGrpSpPr/>
          <p:nvPr/>
        </p:nvGrpSpPr>
        <p:grpSpPr>
          <a:xfrm>
            <a:off x="6457680" y="3408120"/>
            <a:ext cx="911880" cy="787320"/>
            <a:chOff x="6457680" y="3408120"/>
            <a:chExt cx="911880" cy="787320"/>
          </a:xfrm>
        </p:grpSpPr>
        <p:sp>
          <p:nvSpPr>
            <p:cNvPr id="81" name="Oval 50"/>
            <p:cNvSpPr/>
            <p:nvPr/>
          </p:nvSpPr>
          <p:spPr>
            <a:xfrm rot="21385800">
              <a:off x="6563520" y="342864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51"/>
            <p:cNvSpPr/>
            <p:nvPr/>
          </p:nvSpPr>
          <p:spPr>
            <a:xfrm rot="279000">
              <a:off x="6476760" y="364428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Freeform 60"/>
          <p:cNvSpPr/>
          <p:nvPr/>
        </p:nvSpPr>
        <p:spPr>
          <a:xfrm>
            <a:off x="5410080" y="5029200"/>
            <a:ext cx="1067040" cy="546120"/>
          </a:xfrm>
          <a:prstGeom prst="pie">
            <a:avLst/>
          </a:prstGeom>
          <a:noFill/>
          <a:ln w="114480">
            <a:solidFill>
              <a:srgbClr val="66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5"/>
          <p:cNvSpPr/>
          <p:nvPr/>
        </p:nvSpPr>
        <p:spPr>
          <a:xfrm flipH="1">
            <a:off x="6477120" y="3657600"/>
            <a:ext cx="799920" cy="1752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6"/>
          <p:cNvSpPr/>
          <p:nvPr/>
        </p:nvSpPr>
        <p:spPr>
          <a:xfrm flipH="1">
            <a:off x="6172200" y="3505320"/>
            <a:ext cx="504720" cy="3045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67"/>
          <p:cNvGrpSpPr/>
          <p:nvPr/>
        </p:nvGrpSpPr>
        <p:grpSpPr>
          <a:xfrm>
            <a:off x="5866920" y="3657600"/>
            <a:ext cx="502920" cy="360000"/>
            <a:chOff x="5866920" y="3657600"/>
            <a:chExt cx="502920" cy="360000"/>
          </a:xfrm>
        </p:grpSpPr>
        <p:sp>
          <p:nvSpPr>
            <p:cNvPr id="87" name="Line 68"/>
            <p:cNvSpPr/>
            <p:nvPr/>
          </p:nvSpPr>
          <p:spPr>
            <a:xfrm>
              <a:off x="5867280" y="3657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69"/>
            <p:cNvSpPr/>
            <p:nvPr/>
          </p:nvSpPr>
          <p:spPr>
            <a:xfrm flipH="1">
              <a:off x="5866920" y="3657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Line 70"/>
          <p:cNvSpPr/>
          <p:nvPr/>
        </p:nvSpPr>
        <p:spPr>
          <a:xfrm flipH="1">
            <a:off x="6629040" y="3657600"/>
            <a:ext cx="755640" cy="160020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1"/>
          <p:cNvSpPr/>
          <p:nvPr/>
        </p:nvSpPr>
        <p:spPr>
          <a:xfrm>
            <a:off x="6019920" y="3733920"/>
            <a:ext cx="21564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3"/>
          <p:cNvSpPr/>
          <p:nvPr/>
        </p:nvSpPr>
        <p:spPr>
          <a:xfrm>
            <a:off x="1219320" y="4495680"/>
            <a:ext cx="533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95"/>
          <p:cNvGrpSpPr/>
          <p:nvPr/>
        </p:nvGrpSpPr>
        <p:grpSpPr>
          <a:xfrm>
            <a:off x="5181120" y="4876920"/>
            <a:ext cx="502920" cy="360000"/>
            <a:chOff x="5181120" y="4876920"/>
            <a:chExt cx="502920" cy="360000"/>
          </a:xfrm>
        </p:grpSpPr>
        <p:sp>
          <p:nvSpPr>
            <p:cNvPr id="93" name="Line 96"/>
            <p:cNvSpPr/>
            <p:nvPr/>
          </p:nvSpPr>
          <p:spPr>
            <a:xfrm>
              <a:off x="5181480" y="4876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97"/>
            <p:cNvSpPr/>
            <p:nvPr/>
          </p:nvSpPr>
          <p:spPr>
            <a:xfrm flipH="1">
              <a:off x="5181120" y="4876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1" descr="1-324"/>
          <p:cNvPicPr/>
          <p:nvPr/>
        </p:nvPicPr>
        <p:blipFill>
          <a:blip r:embed="rId2"/>
          <a:stretch/>
        </p:blipFill>
        <p:spPr>
          <a:xfrm>
            <a:off x="7086600" y="2971800"/>
            <a:ext cx="666720" cy="752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3" descr="30"/>
          <p:cNvPicPr/>
          <p:nvPr/>
        </p:nvPicPr>
        <p:blipFill>
          <a:blip r:embed="rId3"/>
          <a:stretch/>
        </p:blipFill>
        <p:spPr>
          <a:xfrm>
            <a:off x="6324480" y="5486400"/>
            <a:ext cx="457200" cy="25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1" descr="karanda16"/>
          <p:cNvPicPr/>
          <p:nvPr/>
        </p:nvPicPr>
        <p:blipFill>
          <a:blip r:embed="rId4"/>
          <a:stretch/>
        </p:blipFill>
        <p:spPr>
          <a:xfrm flipH="1" rot="18214200">
            <a:off x="5249160" y="1657800"/>
            <a:ext cx="4216320" cy="7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5842" t="0" r="4574" b="-1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2928960" y="1571760"/>
            <a:ext cx="4006800" cy="80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2497320" cy="2412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3" descr="de5f47ccb8027c7056a74d5a109564b7.gif"/>
          <p:cNvPicPr/>
          <p:nvPr/>
        </p:nvPicPr>
        <p:blipFill>
          <a:blip r:embed="rId4"/>
          <a:stretch/>
        </p:blipFill>
        <p:spPr>
          <a:xfrm>
            <a:off x="4071960" y="2357280"/>
            <a:ext cx="2928960" cy="25783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4" descr="de5f47ccb8027c7056a74d5a109564b7.gif"/>
          <p:cNvPicPr/>
          <p:nvPr/>
        </p:nvPicPr>
        <p:blipFill>
          <a:blip r:embed="rId5"/>
          <a:stretch/>
        </p:blipFill>
        <p:spPr>
          <a:xfrm flipH="1">
            <a:off x="1785960" y="2428920"/>
            <a:ext cx="292896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"/>
          <p:cNvSpPr/>
          <p:nvPr/>
        </p:nvSpPr>
        <p:spPr>
          <a:xfrm>
            <a:off x="1214280" y="2857680"/>
            <a:ext cx="692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mbria"/>
              </a:rPr>
              <a:t>Отгадать легко и быстр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mbria"/>
              </a:rPr>
              <a:t>Мягкий, пышный и душист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mbria"/>
              </a:rPr>
              <a:t>Он и черный, он и бел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mbria"/>
              </a:rPr>
              <a:t>А бывает подгорел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428920" y="1000080"/>
            <a:ext cx="40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fde"/>
                </a:solidFill>
                <a:latin typeface="Cambria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Documents and Settings\Новик\Рабочий стол\1288079926_120912364_1----D--1288079926.jpg"/>
          <p:cNvPicPr/>
          <p:nvPr/>
        </p:nvPicPr>
        <p:blipFill>
          <a:blip r:embed="rId1"/>
          <a:stretch/>
        </p:blipFill>
        <p:spPr>
          <a:xfrm>
            <a:off x="5857920" y="285840"/>
            <a:ext cx="28987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Новик\Рабочий стол\background_home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Новик\Рабочий стол\head3.jpg"/>
          <p:cNvPicPr/>
          <p:nvPr/>
        </p:nvPicPr>
        <p:blipFill>
          <a:blip r:embed="rId2"/>
          <a:stretch/>
        </p:blipFill>
        <p:spPr>
          <a:xfrm>
            <a:off x="500040" y="0"/>
            <a:ext cx="832500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Новик\Рабочий стол\63858932_1284147116_18.png"/>
          <p:cNvPicPr/>
          <p:nvPr/>
        </p:nvPicPr>
        <p:blipFill>
          <a:blip r:embed="rId1"/>
          <a:stretch/>
        </p:blipFill>
        <p:spPr>
          <a:xfrm>
            <a:off x="2428920" y="1428840"/>
            <a:ext cx="3591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2" descr=""/>
          <p:cNvPicPr/>
          <p:nvPr/>
        </p:nvPicPr>
        <p:blipFill>
          <a:blip r:embed="rId2"/>
          <a:stretch/>
        </p:blipFill>
        <p:spPr>
          <a:xfrm>
            <a:off x="1292400" y="212760"/>
            <a:ext cx="6784920" cy="982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:\Documents and Settings\All Users\Документы\Мои рисунки\школа\Анимашки\анимашки\butterfly46.gif"/>
          <p:cNvPicPr/>
          <p:nvPr/>
        </p:nvPicPr>
        <p:blipFill>
          <a:blip r:embed="rId3"/>
          <a:stretch/>
        </p:blipFill>
        <p:spPr>
          <a:xfrm>
            <a:off x="7072200" y="1214280"/>
            <a:ext cx="155268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500040" y="3214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143000" y="3214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643720" y="3786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714840" y="2643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071880" y="2071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071880" y="2643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071880" y="3786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714840" y="3214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071880" y="3214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428920" y="3214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785960" y="3214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5000760" y="3786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357800" y="3786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714840" y="3786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357800" y="3214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714840" y="1500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714840" y="2071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5643720" y="2643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5000760" y="2643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357800" y="2643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6286680" y="3786120"/>
            <a:ext cx="64260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071880" y="928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500040" y="2071800"/>
            <a:ext cx="642960" cy="57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143000" y="2071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785960" y="2071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428920" y="2071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5643720" y="928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5000760" y="928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357800" y="928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929280" y="1500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286680" y="1500120"/>
            <a:ext cx="64260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643720" y="1500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000760" y="1500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357800" y="2071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357800" y="1500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071880" y="1500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714840" y="928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Новик\Рабочий стол\1288079926_120912364_1----D--1288079926.jpg"/>
          <p:cNvPicPr/>
          <p:nvPr/>
        </p:nvPicPr>
        <p:blipFill>
          <a:blip r:embed="rId1"/>
          <a:stretch/>
        </p:blipFill>
        <p:spPr>
          <a:xfrm>
            <a:off x="5857920" y="4500720"/>
            <a:ext cx="289872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5:07:03Z</dcterms:created>
  <dc:creator>Phoenix</dc:creator>
  <dc:description/>
  <dc:language>en-US</dc:language>
  <cp:lastModifiedBy>Admin</cp:lastModifiedBy>
  <dcterms:modified xsi:type="dcterms:W3CDTF">2011-05-05T17:02:34Z</dcterms:modified>
  <cp:revision>77</cp:revision>
  <dc:subject/>
  <dc:title>Слайд 1</dc:title>
</cp:coreProperties>
</file>