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5F6F-FE01-455B-A654-C8491BA2C3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D913-3EB1-4454-A7E6-ABC3C2390FA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FE46-622B-40D8-A18B-461211490936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9D83-A6BD-4011-94DE-3101C06EC0ED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166C-7763-4A17-B3DD-A03DDCDE668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F711-4AAB-4A31-81BC-F7A5A5395C2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76D7-E83F-4626-82FA-796B4C67904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487C-6BAC-4811-981D-3EF79121622D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AA83-D62E-4DB2-9FEA-C2A6EABB8F4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28F5-4FFE-4DC8-83F2-A23030FE58A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0316-7C0F-4F50-8B64-B59A06078D2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B95-DEC5-4D71-86AE-9D8B885B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355-59C4-434E-A979-6057D5AB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8BE-0B60-4A55-873B-55AFE4B7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482-1290-4CF1-B7C7-7C6F1C23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B48B-FF23-4D8D-86D4-8C3C8A6A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421F-F9EC-4C76-B683-F3330537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7902-E267-49B2-821A-81FE3928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644A-DC87-4357-9E84-63F6EC36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7256-7BDB-4330-B6DD-0EC2AD37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9326-57FB-4499-8A27-EB9CFBC6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4EEE-D4F5-4C36-926F-B290AC9F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21D-DBBC-42DD-AA3C-0A2CC295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02F5-07E9-4D3A-AC59-DC9E7333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5F6F-22A9-4814-9668-4D7E272C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411B-6384-45C2-98AD-F74D0A5F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872B-8403-4170-93DE-EC3D61DC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244D-A68F-40E6-B0A6-55FC5781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5983-98DD-4902-936F-D42C3D10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1772F-D3C9-4537-B295-B08EBAB2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CD1C-8107-49D2-84A6-7AB2C0BC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E8F9-6E1D-41F8-92A3-C94BA060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529D0-F805-4C2B-8686-8D81DC7E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6D9-CF0C-425A-B127-F47E4462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F491C-1FE9-499F-B4D4-AB9F1E09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FD55-9C51-4009-A070-24193F3C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CE779-D6C3-4915-A9EB-DE423CB3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6DEE1-2639-4C7E-9942-61046F9E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9FEA6-0EC2-4487-815C-F9DA9347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5B9E-4E44-4922-8D52-55AA796B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5C01-43C4-4399-9E24-D0FDDBDA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1D9-7ACB-48CD-8470-FD2C3855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DF7-3A5D-447B-A572-7D17205A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600-D3A2-4079-90B2-12CC717E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ED1-D096-43DC-B099-3FBCF391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DBA-E0FC-4974-B1C7-AD153F9D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60D-8326-4401-89F9-D2FADC6D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cd"/>
            </a:gs>
            <a:gs pos="100000">
              <a:srgbClr val="ffe6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2998-2AB1-46D3-A358-AF7352BCA83D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f0"/>
            </a:gs>
            <a:gs pos="100000">
              <a:srgbClr val="ef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AD3E-A2A3-4262-A14D-F27B47C172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9080" y="9360"/>
            <a:ext cx="9144000" cy="6858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cd"/>
            </a:gs>
            <a:gs pos="100000">
              <a:srgbClr val="ffe6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21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2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1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2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4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2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7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22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3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233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234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237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40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43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46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249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252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255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258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261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264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267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270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73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76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279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82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85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288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291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294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299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302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305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308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311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314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317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320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323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326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329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1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2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4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5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0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1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2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354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55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6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358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359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360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Oval 10"/>
                  <p:cNvSpPr/>
                  <p:nvPr/>
                </p:nvSpPr>
                <p:spPr>
                  <a:xfrm>
                    <a:off x="5109480" y="22363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363" name="Group 12"/>
                  <p:cNvGrpSpPr/>
                  <p:nvPr/>
                </p:nvGrpSpPr>
                <p:grpSpPr>
                  <a:xfrm>
                    <a:off x="5760360" y="2323800"/>
                    <a:ext cx="2559600" cy="2739960"/>
                    <a:chOff x="5760360" y="2323800"/>
                    <a:chExt cx="2559600" cy="2739960"/>
                  </a:xfrm>
                </p:grpSpPr>
                <p:sp>
                  <p:nvSpPr>
                    <p:cNvPr id="364" name="Freeform 13"/>
                    <p:cNvSpPr/>
                    <p:nvPr/>
                  </p:nvSpPr>
                  <p:spPr>
                    <a:xfrm rot="2711400">
                      <a:off x="5582880" y="3021480"/>
                      <a:ext cx="21279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367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370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7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376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Group 27"/>
                  <p:cNvGrpSpPr/>
                  <p:nvPr/>
                </p:nvGrpSpPr>
                <p:grpSpPr>
                  <a:xfrm>
                    <a:off x="5851080" y="1815480"/>
                    <a:ext cx="2658960" cy="444960"/>
                    <a:chOff x="5851080" y="1815480"/>
                    <a:chExt cx="2658960" cy="444960"/>
                  </a:xfrm>
                </p:grpSpPr>
                <p:sp>
                  <p:nvSpPr>
                    <p:cNvPr id="379" name="Freeform 28"/>
                    <p:cNvSpPr/>
                    <p:nvPr/>
                  </p:nvSpPr>
                  <p:spPr>
                    <a:xfrm rot="21515400">
                      <a:off x="5853960" y="185256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38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85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Group 36"/>
                  <p:cNvGrpSpPr/>
                  <p:nvPr/>
                </p:nvGrpSpPr>
                <p:grpSpPr>
                  <a:xfrm>
                    <a:off x="2085120" y="2367000"/>
                    <a:ext cx="3039480" cy="2529720"/>
                    <a:chOff x="2085120" y="2367000"/>
                    <a:chExt cx="3039480" cy="2529720"/>
                  </a:xfrm>
                </p:grpSpPr>
                <p:sp>
                  <p:nvSpPr>
                    <p:cNvPr id="388" name="Freeform 37"/>
                    <p:cNvSpPr/>
                    <p:nvPr/>
                  </p:nvSpPr>
                  <p:spPr>
                    <a:xfrm flipH="1" rot="19496400">
                      <a:off x="2968920" y="2970000"/>
                      <a:ext cx="2234880" cy="42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Freeform 38"/>
                    <p:cNvSpPr/>
                    <p:nvPr/>
                  </p:nvSpPr>
                  <p:spPr>
                    <a:xfrm flipH="1" rot="19496400">
                      <a:off x="2168640" y="3939840"/>
                      <a:ext cx="120060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39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394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Group 45"/>
                  <p:cNvGrpSpPr/>
                  <p:nvPr/>
                </p:nvGrpSpPr>
                <p:grpSpPr>
                  <a:xfrm>
                    <a:off x="2167920" y="2098080"/>
                    <a:ext cx="2937960" cy="1000800"/>
                    <a:chOff x="2167920" y="2098080"/>
                    <a:chExt cx="2937960" cy="1000800"/>
                  </a:xfrm>
                </p:grpSpPr>
                <p:sp>
                  <p:nvSpPr>
                    <p:cNvPr id="397" name="Freeform 46"/>
                    <p:cNvSpPr/>
                    <p:nvPr/>
                  </p:nvSpPr>
                  <p:spPr>
                    <a:xfrm flipH="1" rot="21136800">
                      <a:off x="3184200" y="2223720"/>
                      <a:ext cx="1904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Freeform 47"/>
                    <p:cNvSpPr/>
                    <p:nvPr/>
                  </p:nvSpPr>
                  <p:spPr>
                    <a:xfrm flipH="1" rot="21136800">
                      <a:off x="2203560" y="242964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40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51"/>
                  <p:cNvGrpSpPr/>
                  <p:nvPr/>
                </p:nvGrpSpPr>
                <p:grpSpPr>
                  <a:xfrm>
                    <a:off x="2760480" y="1522440"/>
                    <a:ext cx="2364120" cy="787320"/>
                    <a:chOff x="2760480" y="1522440"/>
                    <a:chExt cx="2364120" cy="787320"/>
                  </a:xfrm>
                </p:grpSpPr>
                <p:sp>
                  <p:nvSpPr>
                    <p:cNvPr id="40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406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40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41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Group 63"/>
                  <p:cNvGrpSpPr/>
                  <p:nvPr/>
                </p:nvGrpSpPr>
                <p:grpSpPr>
                  <a:xfrm>
                    <a:off x="4027320" y="334080"/>
                    <a:ext cx="1460520" cy="1888200"/>
                    <a:chOff x="4027320" y="334080"/>
                    <a:chExt cx="1460520" cy="1888200"/>
                  </a:xfrm>
                </p:grpSpPr>
                <p:sp>
                  <p:nvSpPr>
                    <p:cNvPr id="415" name="Freeform 64"/>
                    <p:cNvSpPr/>
                    <p:nvPr/>
                  </p:nvSpPr>
                  <p:spPr>
                    <a:xfrm flipH="1" rot="3474000">
                      <a:off x="4337640" y="1445400"/>
                      <a:ext cx="13554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Freeform 65"/>
                    <p:cNvSpPr/>
                    <p:nvPr/>
                  </p:nvSpPr>
                  <p:spPr>
                    <a:xfrm flipH="1" rot="3474000">
                      <a:off x="4032720" y="54432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" name="Group 66"/>
                  <p:cNvGrpSpPr/>
                  <p:nvPr/>
                </p:nvGrpSpPr>
                <p:grpSpPr>
                  <a:xfrm>
                    <a:off x="4448520" y="245520"/>
                    <a:ext cx="1123560" cy="1947240"/>
                    <a:chOff x="4448520" y="245520"/>
                    <a:chExt cx="1123560" cy="1947240"/>
                  </a:xfrm>
                </p:grpSpPr>
                <p:sp>
                  <p:nvSpPr>
                    <p:cNvPr id="418" name="Freeform 67"/>
                    <p:cNvSpPr/>
                    <p:nvPr/>
                  </p:nvSpPr>
                  <p:spPr>
                    <a:xfrm flipH="1" rot="4126800">
                      <a:off x="4557240" y="140184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Freeform 68"/>
                    <p:cNvSpPr/>
                    <p:nvPr/>
                  </p:nvSpPr>
                  <p:spPr>
                    <a:xfrm flipH="1" rot="4126800">
                      <a:off x="4417920" y="439920"/>
                      <a:ext cx="70200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42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Group 72"/>
                  <p:cNvGrpSpPr/>
                  <p:nvPr/>
                </p:nvGrpSpPr>
                <p:grpSpPr>
                  <a:xfrm>
                    <a:off x="5529600" y="626040"/>
                    <a:ext cx="2200320" cy="1451160"/>
                    <a:chOff x="5529600" y="626040"/>
                    <a:chExt cx="2200320" cy="1451160"/>
                  </a:xfrm>
                </p:grpSpPr>
                <p:sp>
                  <p:nvSpPr>
                    <p:cNvPr id="424" name="Freeform 73"/>
                    <p:cNvSpPr/>
                    <p:nvPr/>
                  </p:nvSpPr>
                  <p:spPr>
                    <a:xfrm rot="19678800">
                      <a:off x="5484240" y="1429560"/>
                      <a:ext cx="1518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Freeform 74"/>
                    <p:cNvSpPr/>
                    <p:nvPr/>
                  </p:nvSpPr>
                  <p:spPr>
                    <a:xfrm rot="19678800">
                      <a:off x="6863760" y="81072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6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8" name="Group 77"/>
                  <p:cNvGrpSpPr/>
                  <p:nvPr/>
                </p:nvGrpSpPr>
                <p:grpSpPr>
                  <a:xfrm>
                    <a:off x="5355720" y="270360"/>
                    <a:ext cx="1195200" cy="1901160"/>
                    <a:chOff x="5355720" y="270360"/>
                    <a:chExt cx="1195200" cy="1901160"/>
                  </a:xfrm>
                </p:grpSpPr>
                <p:sp>
                  <p:nvSpPr>
                    <p:cNvPr id="429" name="Freeform 78"/>
                    <p:cNvSpPr/>
                    <p:nvPr/>
                  </p:nvSpPr>
                  <p:spPr>
                    <a:xfrm rot="17742000">
                      <a:off x="5087160" y="1417320"/>
                      <a:ext cx="1310400" cy="22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Freeform 79"/>
                    <p:cNvSpPr/>
                    <p:nvPr/>
                  </p:nvSpPr>
                  <p:spPr>
                    <a:xfrm rot="17742000">
                      <a:off x="5886720" y="486360"/>
                      <a:ext cx="70308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432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435" name="Freeform 84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Freeform 85"/>
                    <p:cNvSpPr/>
                    <p:nvPr/>
                  </p:nvSpPr>
                  <p:spPr>
                    <a:xfrm rot="16696200">
                      <a:off x="544104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Group 86"/>
                  <p:cNvGrpSpPr/>
                  <p:nvPr/>
                </p:nvGrpSpPr>
                <p:grpSpPr>
                  <a:xfrm>
                    <a:off x="3062880" y="2531160"/>
                    <a:ext cx="2194560" cy="3001680"/>
                    <a:chOff x="3062880" y="2531160"/>
                    <a:chExt cx="2194560" cy="3001680"/>
                  </a:xfrm>
                </p:grpSpPr>
                <p:sp>
                  <p:nvSpPr>
                    <p:cNvPr id="438" name="Freeform 87"/>
                    <p:cNvSpPr/>
                    <p:nvPr/>
                  </p:nvSpPr>
                  <p:spPr>
                    <a:xfrm flipH="1" rot="18336000">
                      <a:off x="3419640" y="3315240"/>
                      <a:ext cx="212616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Freeform 88"/>
                    <p:cNvSpPr/>
                    <p:nvPr/>
                  </p:nvSpPr>
                  <p:spPr>
                    <a:xfrm flipH="1" rot="18336000">
                      <a:off x="3070800" y="4591080"/>
                      <a:ext cx="11379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441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Group 92"/>
                  <p:cNvGrpSpPr/>
                  <p:nvPr/>
                </p:nvGrpSpPr>
                <p:grpSpPr>
                  <a:xfrm>
                    <a:off x="4507200" y="2701800"/>
                    <a:ext cx="876240" cy="2927160"/>
                    <a:chOff x="4507200" y="2701800"/>
                    <a:chExt cx="876240" cy="2927160"/>
                  </a:xfrm>
                </p:grpSpPr>
                <p:sp>
                  <p:nvSpPr>
                    <p:cNvPr id="444" name="Freeform 93"/>
                    <p:cNvSpPr/>
                    <p:nvPr/>
                  </p:nvSpPr>
                  <p:spPr>
                    <a:xfrm flipH="1" rot="16870800">
                      <a:off x="4086720" y="348732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Freeform 94"/>
                    <p:cNvSpPr/>
                    <p:nvPr/>
                  </p:nvSpPr>
                  <p:spPr>
                    <a:xfrm flipH="1" rot="16870800">
                      <a:off x="4366440" y="4806720"/>
                      <a:ext cx="101124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447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Group 98"/>
                  <p:cNvGrpSpPr/>
                  <p:nvPr/>
                </p:nvGrpSpPr>
                <p:grpSpPr>
                  <a:xfrm>
                    <a:off x="5648760" y="2594520"/>
                    <a:ext cx="1756080" cy="3030120"/>
                    <a:chOff x="5648760" y="2594520"/>
                    <a:chExt cx="1756080" cy="3030120"/>
                  </a:xfrm>
                </p:grpSpPr>
                <p:sp>
                  <p:nvSpPr>
                    <p:cNvPr id="450" name="Freeform 99"/>
                    <p:cNvSpPr/>
                    <p:nvPr/>
                  </p:nvSpPr>
                  <p:spPr>
                    <a:xfrm rot="3745200">
                      <a:off x="5265720" y="3396600"/>
                      <a:ext cx="20343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Freeform 100"/>
                    <p:cNvSpPr/>
                    <p:nvPr/>
                  </p:nvSpPr>
                  <p:spPr>
                    <a:xfrm rot="3745200">
                      <a:off x="6352200" y="4720320"/>
                      <a:ext cx="109044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Group 101"/>
                  <p:cNvGrpSpPr/>
                  <p:nvPr/>
                </p:nvGrpSpPr>
                <p:grpSpPr>
                  <a:xfrm>
                    <a:off x="5576040" y="2711880"/>
                    <a:ext cx="1226160" cy="2985120"/>
                    <a:chOff x="5576040" y="2711880"/>
                    <a:chExt cx="1226160" cy="2985120"/>
                  </a:xfrm>
                </p:grpSpPr>
                <p:sp>
                  <p:nvSpPr>
                    <p:cNvPr id="453" name="Freeform 102"/>
                    <p:cNvSpPr/>
                    <p:nvPr/>
                  </p:nvSpPr>
                  <p:spPr>
                    <a:xfrm rot="4286400">
                      <a:off x="5046480" y="3543840"/>
                      <a:ext cx="1972800" cy="30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Freeform 103"/>
                    <p:cNvSpPr/>
                    <p:nvPr/>
                  </p:nvSpPr>
                  <p:spPr>
                    <a:xfrm rot="4286400">
                      <a:off x="5879160" y="4882320"/>
                      <a:ext cx="1059120" cy="47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Group 104"/>
                  <p:cNvGrpSpPr/>
                  <p:nvPr/>
                </p:nvGrpSpPr>
                <p:grpSpPr>
                  <a:xfrm>
                    <a:off x="5521680" y="2839680"/>
                    <a:ext cx="696240" cy="2778840"/>
                    <a:chOff x="5521680" y="2839680"/>
                    <a:chExt cx="696240" cy="2778840"/>
                  </a:xfrm>
                </p:grpSpPr>
                <p:sp>
                  <p:nvSpPr>
                    <p:cNvPr id="456" name="Freeform 105"/>
                    <p:cNvSpPr/>
                    <p:nvPr/>
                  </p:nvSpPr>
                  <p:spPr>
                    <a:xfrm rot="4898400">
                      <a:off x="4897080" y="3606120"/>
                      <a:ext cx="1811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Freeform 106"/>
                    <p:cNvSpPr/>
                    <p:nvPr/>
                  </p:nvSpPr>
                  <p:spPr>
                    <a:xfrm rot="4898400">
                      <a:off x="5425920" y="4865040"/>
                      <a:ext cx="9730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Group 107"/>
                  <p:cNvGrpSpPr/>
                  <p:nvPr/>
                </p:nvGrpSpPr>
                <p:grpSpPr>
                  <a:xfrm>
                    <a:off x="4960800" y="2887560"/>
                    <a:ext cx="665280" cy="2717640"/>
                    <a:chOff x="4960800" y="2887560"/>
                    <a:chExt cx="665280" cy="2717640"/>
                  </a:xfrm>
                </p:grpSpPr>
                <p:sp>
                  <p:nvSpPr>
                    <p:cNvPr id="459" name="Freeform 108"/>
                    <p:cNvSpPr/>
                    <p:nvPr/>
                  </p:nvSpPr>
                  <p:spPr>
                    <a:xfrm rot="5755200">
                      <a:off x="4533840" y="3665160"/>
                      <a:ext cx="177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Freeform 109"/>
                    <p:cNvSpPr/>
                    <p:nvPr/>
                  </p:nvSpPr>
                  <p:spPr>
                    <a:xfrm rot="5755200">
                      <a:off x="4714200" y="4932720"/>
                      <a:ext cx="950760" cy="36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1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462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463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0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1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472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3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4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5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6" name="Arc 125"/>
              <p:cNvSpPr/>
              <p:nvPr/>
            </p:nvSpPr>
            <p:spPr>
              <a:xfrm>
                <a:off x="5588640" y="215532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7" name="Arc 126"/>
              <p:cNvSpPr/>
              <p:nvPr/>
            </p:nvSpPr>
            <p:spPr>
              <a:xfrm>
                <a:off x="5711760" y="214164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8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9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0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1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2" name="Freeform 131"/>
              <p:cNvSpPr/>
              <p:nvPr/>
            </p:nvSpPr>
            <p:spPr>
              <a:xfrm>
                <a:off x="7513920" y="3112560"/>
                <a:ext cx="1242000" cy="1972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3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4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5" name="Freeform 134"/>
              <p:cNvSpPr/>
              <p:nvPr/>
            </p:nvSpPr>
            <p:spPr>
              <a:xfrm flipH="1" rot="1347000">
                <a:off x="4183920" y="2158920"/>
                <a:ext cx="5428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4A27-091A-4FF5-9152-76D85EA0BB76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1" descr=""/>
          <p:cNvPicPr/>
          <p:nvPr/>
        </p:nvPicPr>
        <p:blipFill>
          <a:blip r:embed="rId1"/>
          <a:stretch/>
        </p:blipFill>
        <p:spPr>
          <a:xfrm>
            <a:off x="-139680" y="944640"/>
            <a:ext cx="8923320" cy="41274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"/>
          <p:cNvPicPr/>
          <p:nvPr/>
        </p:nvPicPr>
        <p:blipFill>
          <a:blip r:embed="rId2"/>
          <a:stretch/>
        </p:blipFill>
        <p:spPr>
          <a:xfrm>
            <a:off x="2214720" y="4292640"/>
            <a:ext cx="4500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D:\danye\syna\Рабочий стол\Мамочка\07-05-07.jpg"/>
          <p:cNvPicPr/>
          <p:nvPr/>
        </p:nvPicPr>
        <p:blipFill>
          <a:blip r:embed="rId1"/>
          <a:stretch/>
        </p:blipFill>
        <p:spPr>
          <a:xfrm>
            <a:off x="5643720" y="2428920"/>
            <a:ext cx="3066840" cy="442908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5286240" cy="655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канун празднования Дня Победы и дни проведения акции каждый участник надевает себе на лацкан одежды, руку, сумку или антенну автомобиля Георгиевскую ленточку в знак памяти о героическом прошлом, выражая уважение к ветеранам, отдавая дань памяти павшим на поле боя, благодарность людям, отдавшим всё для фронта в годы Великой отечественной войны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23600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еоргиевская лент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 это    лента от ордена св. Георгия, утверждённого в начале 18-ого века как орден за доблесть, проявленную в реальном бою. Со временем георгиевская лента стала употребляться и более широко  - появились Георгиевские петлицы, штандарты, трубы и т.д. Георгиевская лента и орден св. Георгия были вновь утверждены как символы воинской чести и доблести в 1992 году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D:\danye\syna\Рабочий стол\Мамочка\Georgiy.jpg"/>
          <p:cNvPicPr/>
          <p:nvPr/>
        </p:nvPicPr>
        <p:blipFill>
          <a:blip r:embed="rId1"/>
          <a:stretch/>
        </p:blipFill>
        <p:spPr>
          <a:xfrm>
            <a:off x="285840" y="584280"/>
            <a:ext cx="4448160" cy="55594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Герб России в середине XIX века"/>
          <p:cNvPicPr/>
          <p:nvPr/>
        </p:nvPicPr>
        <p:blipFill>
          <a:blip r:embed="rId2"/>
          <a:stretch/>
        </p:blipFill>
        <p:spPr>
          <a:xfrm>
            <a:off x="5000760" y="1428840"/>
            <a:ext cx="3857400" cy="435744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Прямоугольник 1"/>
          <p:cNvSpPr/>
          <p:nvPr/>
        </p:nvSpPr>
        <p:spPr>
          <a:xfrm>
            <a:off x="285840" y="426960"/>
            <a:ext cx="70228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им из самых известных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ертных чудес святого Георгия является убийство копьем змея (дракона), опустошавшего землю одного языческого царя в Бейруте. Как гласит предание, когда выпал жребий отдать на растерзание чудовищу царскую дочь, явился Георгий на коне и пронзил змея копьем, избавив царевну от смерти. Явление святого способствовало обращению местных жителей в христианство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14200" y="372600"/>
            <a:ext cx="7772400" cy="627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e103"/>
                </a:solidFill>
                <a:latin typeface="Arial"/>
                <a:ea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ео́ргиевская ле́н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— двухцветная лента к ордену Святого Георгия, Георгиевскому кресту, Георгиевской медали. Также георгиевские ленты на бескозырке носили матросы гвардейского экипажа корабля, награжденного Георгиевский флагом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D:\danye\syna\Рабочий стол\Мамочка\iCA69HK6C.jpg"/>
          <p:cNvPicPr/>
          <p:nvPr/>
        </p:nvPicPr>
        <p:blipFill>
          <a:blip r:embed="rId1"/>
          <a:stretch/>
        </p:blipFill>
        <p:spPr>
          <a:xfrm>
            <a:off x="2357280" y="1214280"/>
            <a:ext cx="3929400" cy="4307040"/>
          </a:xfrm>
          <a:prstGeom prst="rect">
            <a:avLst/>
          </a:prstGeom>
          <a:ln w="0">
            <a:noFill/>
          </a:ln>
        </p:spPr>
      </p:pic>
      <p:sp>
        <p:nvSpPr>
          <p:cNvPr id="542" name="TextBox 2"/>
          <p:cNvSpPr/>
          <p:nvPr/>
        </p:nvSpPr>
        <p:spPr>
          <a:xfrm>
            <a:off x="500040" y="57150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Георгиевские кресты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14200" y="214272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Георгиевские ленты занимают наиболее почетное место в ряду многочисленных коллективных наград (отличий) частей Российской армии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000520" cy="17445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" descr=""/>
          <p:cNvPicPr/>
          <p:nvPr/>
        </p:nvPicPr>
        <p:blipFill>
          <a:blip r:embed="rId2"/>
          <a:stretch/>
        </p:blipFill>
        <p:spPr>
          <a:xfrm>
            <a:off x="2214720" y="142920"/>
            <a:ext cx="2000160" cy="17445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"/>
          <p:cNvPicPr/>
          <p:nvPr/>
        </p:nvPicPr>
        <p:blipFill>
          <a:blip r:embed="rId3"/>
          <a:stretch/>
        </p:blipFill>
        <p:spPr>
          <a:xfrm>
            <a:off x="4214880" y="142920"/>
            <a:ext cx="2000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4200" y="301320"/>
            <a:ext cx="7772400" cy="612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Цвета ленты — чёрный и жёлто-оранжевый — означают «дым и пламя» и являются знаком личной доблести солдата на поле боя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7453440" cy="634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годы Великой Отечественной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йны, продолжая боевые традиции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усской армии, 8 ноября 1943 год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был учрежден орден Славы трех степеней. Его статут так же, как и желто-черная расцветка ленты, напоминали о Георгиевском кресте. Затем георгиевская лента, подтверждая традиционные цвета российской воинской доблести, украсила многие солдатские и современные российские наградные медали и знаки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3:48:35Z</dcterms:created>
  <dc:creator>ДАНКОВ</dc:creator>
  <dc:description/>
  <dc:language>en-US</dc:language>
  <cp:lastModifiedBy>Olga</cp:lastModifiedBy>
  <dcterms:modified xsi:type="dcterms:W3CDTF">2013-10-20T15:29:06Z</dcterms:modified>
  <cp:revision>10</cp:revision>
  <dc:subject/>
  <dc:title>Слайд 1</dc:title>
</cp:coreProperties>
</file>