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1.wmf" ContentType="image/x-wm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8.png" ContentType="image/png"/>
  <Override PartName="/ppt/media/image9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99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4984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008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99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4984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6061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399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4984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3008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399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4984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6061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800000"/>
              </a:gs>
              <a:gs pos="100000">
                <a:srgbClr val="eb61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6061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32040" y="539640"/>
            <a:ext cx="860868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Проект по теме:</a:t>
            </a:r>
            <a:br>
              <a:rPr sz="4700"/>
            </a:b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“Создание анимации с помощью программы  Power Point”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3160800"/>
            <a:ext cx="64594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Над проектом  работ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Учащиеся 5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Хегай Станисл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Дрюков Дани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Руководитель проекта: уч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информа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Донская А.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2012-2013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9720" y="611280"/>
            <a:ext cx="8801280" cy="63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801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30080" y="639720"/>
            <a:ext cx="8607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0080" y="2100240"/>
            <a:ext cx="8607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801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0080" y="639720"/>
            <a:ext cx="8607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080" y="2100240"/>
            <a:ext cx="8607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801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30080" y="639720"/>
            <a:ext cx="8607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080" y="2100240"/>
            <a:ext cx="8607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801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Готовые картинки перенесли в програ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Power Point, применили некоторые настрой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и мультфильм г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52360" y="1042920"/>
            <a:ext cx="86090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Героем нашего фильма ста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Колобок – Жёлтый бо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Визитка гер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Им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Колобок -  Жёлтый б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Внешност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симпати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Характе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хит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Отличительные особенност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круг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Предназнач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научить других выходить из сложных ситу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08000" y="2649600"/>
            <a:ext cx="86076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А вот готовый мультик про Колобка -  Жёлтый бок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440000"/>
            <a:ext cx="847728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ип проекта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ворческ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ип проекта по предметно-содержательной характеристике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межпредмет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Характеристика работы над проектом по количеству учащихся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парн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Характеристика работы над проектом по времени: средня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Характер контактов учащихся в ходе работы над проектом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межшкольн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11320" y="69048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9000" y="222408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Сформироват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предста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об анимации и способах её создания  в Power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9000" y="222408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расши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и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зна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об аним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раз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в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воображ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и творческ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мыш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формиров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ум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ставить цели, планировать собственную деятельность, оценивать результаты свое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32040" y="1800360"/>
            <a:ext cx="860868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АНИМА́Ц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вывод на экран последовательности слегка различающихся изображений, созданных средствами компьютерной техники. В результате создается иллюзия движения, эффект одушевления персонаж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574560"/>
            <a:ext cx="138132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79960" y="461880"/>
            <a:ext cx="1219320" cy="11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600360" y="5208480"/>
            <a:ext cx="341964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800360"/>
            <a:ext cx="8609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А что такое  мультфильм? … Это быстрая смена нарисованных картинок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5960"/>
            <a:ext cx="882000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-Первый мультфильм представлял собой диск, на котором была изображена скачущая лошадь, человек быстро вращал круг, и у зрителей создавалось впечатление, что лошадь движ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43040" y="287280"/>
            <a:ext cx="1417680" cy="151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64000" y="5435640"/>
            <a:ext cx="3635280" cy="1751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0080" y="393840"/>
            <a:ext cx="86090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Мы   умеем   на компьютере  рисовать, значит, не имея камеры для съёмки фильма, создадим аним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82720" y="251928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Что нужно для создания анимаци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Нужно нарисовать отдельные рисунки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программе Paint.  Что мы и сдел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70480" y="5219640"/>
            <a:ext cx="2009520" cy="14400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9720" y="611280"/>
            <a:ext cx="88012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9280" y="611280"/>
            <a:ext cx="878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8:01:44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анна</cp:lastModifiedBy>
  <dcterms:modified xsi:type="dcterms:W3CDTF">2013-05-22T07:09:34Z</dcterms:modified>
  <cp:revision>6</cp:revision>
  <dc:subject/>
  <dc:title>Предложение стратегии</dc:title>
</cp:coreProperties>
</file>