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DD69-E01C-4842-857E-BB8CE3602A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14CB-4BE7-47EF-9B72-AA8A92F831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D311-2B14-4974-9110-9464279394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29E-8896-4D0C-9142-DD63DC56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F62-75D3-4F0B-9C58-F8AAE5B1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B2D-40A4-41EA-99DF-E8846C71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302-6C4D-4F86-976D-7F0E1255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873F-B52D-4590-B2BB-612121B0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0825-05F0-477B-97CE-31D7C1C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6D5-C655-4EF0-8CBA-7D0B0FB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6E7D-0F38-4E48-ABC0-75EE84F0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E03C-B55D-4823-9C24-A318FF25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14B-6158-4282-89C9-FC7D04F5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EE53-B422-4672-8690-B0CFD594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51A-877E-482C-AC67-DDE6D4B5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2166-D240-45BB-A1AE-DB633A0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6F8E-070F-4DBF-BA11-1DF45DD5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5004-6272-44D6-B951-D986B85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10A9-1B96-4092-9C8F-3BB02160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9714-7EEF-46A8-A3F3-AB060686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777-B254-484E-95DD-9A066CC2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116-2899-455B-B725-BC608C0C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7B3-58CF-4161-9444-897DC32A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4C8-6DD6-467D-A792-FEA5BDF6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478-C965-494C-9A3C-A2FE2C3B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8A8-9926-4629-B302-0E1193E0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26C-366E-4128-AA0A-87997C9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EAAC-DAAA-4B26-82F8-ADBFE11BEF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596-40AA-42A4-B3CD-3CBE4F9846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7974000" cy="1950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428920" y="2356920"/>
            <a:ext cx="60436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onstantia"/>
              </a:rPr>
              <a:t>На тему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«Необычные способы умножения»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Constantia"/>
              </a:rPr>
              <a:t>Выполнил: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4e6d"/>
                </a:solidFill>
                <a:latin typeface="Constantia"/>
              </a:rPr>
              <a:t>Агафуров Макси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onstantia"/>
              </a:rPr>
              <a:t>7 «А» клас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Рисунок 57" descr="http://allforchildren.ru/pictures/school/school19-03.gif"/>
          <p:cNvPicPr/>
          <p:nvPr/>
        </p:nvPicPr>
        <p:blipFill>
          <a:blip r:embed="rId2"/>
          <a:stretch/>
        </p:blipFill>
        <p:spPr>
          <a:xfrm>
            <a:off x="133200" y="2066760"/>
            <a:ext cx="2208240" cy="447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3"/>
          <p:cNvSpPr/>
          <p:nvPr/>
        </p:nvSpPr>
        <p:spPr>
          <a:xfrm>
            <a:off x="714240" y="114300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Приёмы быстрого счета развивают память. Это касается не только математики, но и других предметов, которые изучаются в школе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b5395"/>
                </a:solidFill>
                <a:latin typeface="Calibri"/>
              </a:rPr>
              <a:t>Возведение в квадрат любого двузначного числ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запомнить квадраты всех чисел от 1 до 25, то легко найти и квадрат любого двузначного числа, превышающего 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того чтобы найти квадрат любого двузначного числа, надо разность между этим числом и 25 умножить на 100 и к получившемуся произведению прибавить квадрат дополнения данного числа до 50 или квадрат избытка его над 50-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(М-25)*100+(50-М)</a:t>
            </a:r>
            <a:r>
              <a:rPr b="1" lang="ru-RU" sz="26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=100М-2500+2500-100М+М</a:t>
            </a:r>
            <a:r>
              <a:rPr b="1" lang="ru-RU" sz="26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=М</a:t>
            </a:r>
            <a:r>
              <a:rPr b="1" lang="ru-RU" sz="26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2600" spc="-1" strike="noStrike" baseline="30000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 baseline="30000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7</a:t>
            </a:r>
            <a:r>
              <a:rPr b="1" lang="ru-RU" sz="3200" spc="-1" strike="noStrike" baseline="30000">
                <a:solidFill>
                  <a:srgbClr val="04617b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=12*100+ 13</a:t>
            </a:r>
            <a:r>
              <a:rPr b="1" lang="ru-RU" sz="3200" spc="-1" strike="noStrike" baseline="30000">
                <a:solidFill>
                  <a:srgbClr val="04617b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=1200+169=1369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301320"/>
            <a:ext cx="8472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9dd9"/>
                </a:solidFill>
                <a:latin typeface="Calibri"/>
              </a:rPr>
              <a:t>Квадрат числа, близкого к «круглому»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42560" y="4928760"/>
            <a:ext cx="90010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700" spc="-1" strike="noStrike">
                <a:solidFill>
                  <a:srgbClr val="0b5395"/>
                </a:solidFill>
                <a:latin typeface="Constantia"/>
              </a:rPr>
              <a:t>192² = (192+8)(192-8)+ 8² = 200*184 + 8² = =36864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b5395"/>
                </a:solidFill>
                <a:latin typeface="Constantia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571680" y="1643040"/>
            <a:ext cx="81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Вычисление квадратов в разобранных примерах основано на формул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а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²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 = 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(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а + в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) (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а 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– 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в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) + 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в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во-первых, один из сомножителей должен оказаться «круглым» числом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во-вторых, само число 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в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 должно легко возводиться в квадрат, т. е. должно быть небольшим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Эти условия реализуются как раз на числах </a:t>
            </a: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а</a:t>
            </a: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, близких к «круглым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b5395"/>
                </a:solidFill>
                <a:latin typeface="Calibri"/>
              </a:rPr>
              <a:t>Возведение в квадрат чисел от 40 до 50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возвести в квадрат число пятого десятка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(41,42,43,44,45,46,47,48,49),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о к числу единиц прибавить 15, затем к полученной сумме приписать квадрат дополнения числа единиц до 10 (если этот квадрат- однозначное число, то перед ним приписывается число 0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43*43=(3+15)*100+7*7=184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b5395"/>
                </a:solidFill>
                <a:latin typeface="Calibri"/>
              </a:rPr>
              <a:t>Возведение в квадрат чисел от 50 до 60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возвести в квадрат число шестого десятка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(51,52,53,54,55,56,57,58,59),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о к числу единиц прибавить 25 и к этой сумме приписать квадрат числа едини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54*54=(4+25)*100+4*4=2916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b5395"/>
                </a:solidFill>
                <a:latin typeface="Calibri"/>
              </a:rPr>
              <a:t>Квадрат числа, оканчивающегося на 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428480"/>
            <a:ext cx="86439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tt-RU" sz="2800" spc="-1" strike="noStrike">
                <a:solidFill>
                  <a:srgbClr val="002060"/>
                </a:solidFill>
                <a:latin typeface="Constantia"/>
              </a:rPr>
              <a:t>Число десятков умножаем на следующее число десятков и прибавляем 25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Любое такое число можно представить в виде 10а+5. И если его возвести в квадрат, то получится 100а²+10a*2*5+25 = 100a(a+1)+25. Умножение на 100 эквивалентно просто сдвигу на два разряда, там как раз освобождается место для 25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500" spc="-1" strike="noStrike">
                <a:solidFill>
                  <a:srgbClr val="0b5395"/>
                </a:solidFill>
                <a:latin typeface="Constantia"/>
              </a:rPr>
              <a:t>                </a:t>
            </a:r>
            <a:r>
              <a:rPr b="1" lang="tt-RU" sz="4400" spc="-1" strike="noStrike">
                <a:solidFill>
                  <a:srgbClr val="0b5395"/>
                </a:solidFill>
                <a:latin typeface="Constantia"/>
              </a:rPr>
              <a:t>65*65 = 60*70+25=4225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b5395"/>
                </a:solidFill>
                <a:latin typeface="Calibri"/>
              </a:rPr>
              <a:t>Квадрат числа, оканчивающегося на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ри возведении в квадрат числа, оканчивающегося на 1, нужно заменить эту единицу на 0, возвести новое число в квадрат и прибавить к этому квадрату исходное число и число, полученное заменой 1 на 0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                </a:t>
            </a: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71</a:t>
            </a:r>
            <a:r>
              <a:rPr b="1" lang="ru-RU" sz="44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 = 4900+71+70=504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-171720"/>
            <a:ext cx="857268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b5395"/>
                </a:solidFill>
                <a:latin typeface="Calibri"/>
              </a:rPr>
              <a:t>Квадрат числа, оканчивающегося на 6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2560" y="1928880"/>
            <a:ext cx="9001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ри возведении в квадрат числа, оканчивающегося на 6, нужно заменить  цифру 6 на 5, возвести новое число в квадрат (описанным ранее способом) и прибавить к этому квадрату исходное число и число, полученное заменой 6 на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ример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   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56</a:t>
            </a:r>
            <a:r>
              <a:rPr b="1" lang="ru-RU" sz="40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 = 55</a:t>
            </a:r>
            <a:r>
              <a:rPr b="1" lang="ru-RU" sz="40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+56+55 =3025+111= 313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6868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b5395"/>
                </a:solidFill>
                <a:latin typeface="Calibri"/>
              </a:rPr>
              <a:t>Квадрат числа, оканчивающегося на 9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20714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nstantia"/>
              </a:rPr>
              <a:t>При возведении в квадрат числа, оканчивающегося на 9, нужно заменить эту цифру 9 на 0 (получим следующее натуральное число), возвести новое число в квадрат и из этого квадрата вычесть исходное число и число, полученное заменой 9 на 0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Пример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           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59</a:t>
            </a:r>
            <a:r>
              <a:rPr b="1" lang="ru-RU" sz="40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 =3600 – 59 – 60 = 348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0096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b5395"/>
                </a:solidFill>
                <a:latin typeface="Calibri"/>
              </a:rPr>
              <a:t>Квадрат числа, оканчивающегося на 4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400" y="1571400"/>
            <a:ext cx="8329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ри возведении в квадрат числа, оканчивающегося на 4, нужно заменить  цифру 4 на 5, возвести новое число в квадрат и из этого квадрата вычесть исходное число и число, полученное заменой 4 на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Пример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    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84</a:t>
            </a:r>
            <a:r>
              <a:rPr b="1" lang="ru-RU" sz="40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=85</a:t>
            </a:r>
            <a:r>
              <a:rPr b="1" lang="ru-RU" sz="4000" spc="-1" strike="noStrike" baseline="30000">
                <a:solidFill>
                  <a:srgbClr val="0b5395"/>
                </a:solidFill>
                <a:latin typeface="Constantia"/>
              </a:rPr>
              <a:t>2</a:t>
            </a:r>
            <a:r>
              <a:rPr b="1" lang="ru-RU" sz="4000" spc="-1" strike="noStrike">
                <a:solidFill>
                  <a:srgbClr val="0b5395"/>
                </a:solidFill>
                <a:latin typeface="Constantia"/>
              </a:rPr>
              <a:t>-84-85=7225 – 84 – 85= 705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285840" y="714240"/>
            <a:ext cx="80722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«Покажи мне – и я запомню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Вовлеки меня – и я научусь».</a:t>
            </a: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 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b5395"/>
                </a:solidFill>
                <a:latin typeface="Constantia"/>
              </a:rPr>
              <a:t>Китайская пословиц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http://rudocs.exdat.com/pars_docs/tw_refs/199/198677/198677_html_m37bece50.jpg"/>
          <p:cNvPicPr/>
          <p:nvPr/>
        </p:nvPicPr>
        <p:blipFill>
          <a:blip r:embed="rId1"/>
          <a:stretch/>
        </p:blipFill>
        <p:spPr>
          <a:xfrm>
            <a:off x="6343560" y="3643200"/>
            <a:ext cx="28004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-357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Выводы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3568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 работе рассмотрено 3 способа умножения натуральных чисел, которые успешно могут применяться учащими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«Китайский способ умножения» дает быстрый результат когда цифры, входящие в числа мал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Умножение </a:t>
            </a:r>
            <a:r>
              <a:rPr b="1" lang="ru-RU" sz="2000" spc="-1" strike="noStrike">
                <a:solidFill>
                  <a:srgbClr val="083763"/>
                </a:solidFill>
                <a:latin typeface="Constantia"/>
              </a:rPr>
              <a:t>«Ревность, или решётчатое умножение»,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применимо к любым числам, но по трудозатратам сравнимы с умножением в столби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Constantia"/>
              </a:rPr>
              <a:t>«Русский крестьянский» способ умножения очень громозд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Для формирования  вычислительных навыков, навыков быстрого счета следует использовать тренинг как основную форму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Использовать устные приемы возведения чисел в квадрат на уроках и при сдаче экзамен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61" descr="http://allforchildren.ru/pictures/school/school19-09.gif"/>
          <p:cNvPicPr/>
          <p:nvPr/>
        </p:nvPicPr>
        <p:blipFill>
          <a:blip r:embed="rId1"/>
          <a:stretch/>
        </p:blipFill>
        <p:spPr>
          <a:xfrm>
            <a:off x="-115920" y="-73080"/>
            <a:ext cx="1908360" cy="1511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://rudocs.exdat.com/pars_docs/tw_refs/199/198677/198677_html_22f5b407.jpg"/>
          <p:cNvPicPr/>
          <p:nvPr/>
        </p:nvPicPr>
        <p:blipFill>
          <a:blip r:embed="rId2"/>
          <a:stretch/>
        </p:blipFill>
        <p:spPr>
          <a:xfrm>
            <a:off x="6580080" y="5357880"/>
            <a:ext cx="242100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944640"/>
            <a:ext cx="7583760" cy="9032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135.gif"/>
          <p:cNvPicPr/>
          <p:nvPr/>
        </p:nvPicPr>
        <p:blipFill>
          <a:blip r:embed="rId2"/>
          <a:stretch/>
        </p:blipFill>
        <p:spPr>
          <a:xfrm>
            <a:off x="1785960" y="3071880"/>
            <a:ext cx="4419720" cy="25718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3" descr="110.gif"/>
          <p:cNvPicPr/>
          <p:nvPr/>
        </p:nvPicPr>
        <p:blipFill>
          <a:blip r:embed="rId3"/>
          <a:stretch/>
        </p:blipFill>
        <p:spPr>
          <a:xfrm>
            <a:off x="6580080" y="571680"/>
            <a:ext cx="2421000" cy="2333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574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Цели исследования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2071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e6d"/>
                </a:solidFill>
                <a:latin typeface="Constantia"/>
              </a:rPr>
              <a:t>Найти как можно больше  необычных способов вычислен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e6d"/>
                </a:solidFill>
                <a:latin typeface="Constantia"/>
              </a:rPr>
              <a:t>Научиться их применя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e6d"/>
                </a:solidFill>
                <a:latin typeface="Constantia"/>
              </a:rPr>
              <a:t>Выбрать для себя самые интересные, чем те которые предлагаются в школе, и использовать их при счет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Задачи исслед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428480"/>
            <a:ext cx="85438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Познакомиться со старинными способами умножения, такими как: «Ревность, или решётчатое умножение», «Русский крестьянский», «Китайский способ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Исследовать различные приемы возведения чисел в квадрат и применять их на практик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96440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евность, или решетчатое умноже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214280"/>
            <a:ext cx="4500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им способом пользовались ещё в древности , в Средние века он широко распространился на Востоке, а в эпоху Возрождения — в Европе. Способ решётки именовали также индийским, мусульманским или "умножением в клеточку". А в Италии его называли "джелозия", или "решётчатое умножение" (gelosia в переводе с итальянского — "жалюзи", "решётчатые ставни"). Действительно, получавшиеся при умножении фигуры из чисел имели сходство со ставнями-жалюзи, которые закрывали от солнца окна венецианских дом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4" descr="Ревность"/>
          <p:cNvPicPr/>
          <p:nvPr/>
        </p:nvPicPr>
        <p:blipFill>
          <a:blip r:embed="rId1"/>
          <a:srcRect l="43937" t="0" r="0" b="0"/>
          <a:stretch/>
        </p:blipFill>
        <p:spPr>
          <a:xfrm>
            <a:off x="5214960" y="1197000"/>
            <a:ext cx="357192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Выполним умн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347 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x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29 =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79640" y="3219120"/>
          <a:ext cx="6238800" cy="1464120"/>
        </p:xfrm>
        <a:graphic>
          <a:graphicData uri="http://schemas.openxmlformats.org/drawingml/2006/table">
            <a:tbl>
              <a:tblPr/>
              <a:tblGrid>
                <a:gridCol w="2079360"/>
                <a:gridCol w="2079720"/>
                <a:gridCol w="207972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12"/>
          <p:cNvSpPr/>
          <p:nvPr/>
        </p:nvSpPr>
        <p:spPr>
          <a:xfrm>
            <a:off x="1828080" y="25416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3799080" y="25416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6043680" y="25416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7877160" y="3365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7877160" y="41497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796000" y="4773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3762360" y="4776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1603440" y="4776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179280" y="414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TextBox 20"/>
          <p:cNvSpPr/>
          <p:nvPr/>
        </p:nvSpPr>
        <p:spPr>
          <a:xfrm>
            <a:off x="179280" y="3365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2100240" y="5516640"/>
            <a:ext cx="61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Ответ: 1006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6240" y="1267920"/>
            <a:ext cx="4071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Однако  в России  среди  крестьян  некоторых  губерний  был  распространен  способ, который  не  требовал  знания  всей  таблицы  умножения, он  получил  название «русский  крестьянский  способ  умножения». Здесь  необходимо  было  лишь  умножать  и  делить  числа  на  2. Левое число делится на два, а правое – умножается и результат записывается в столбик. Если при делении возникает остаток, то он отбрасывается. Умножение и деление на 2 продолжается до тех пор, пока слева не останется 1. Затем вычёркиваются те строчки столбиков, в которых слева стоят чётные числа. Затем складываются оставшиеся числа в правом столбце – получается 1972026. Это и есть произведение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9" name="Picture 3" descr="Крестьянский способ"/>
          <p:cNvPicPr/>
          <p:nvPr/>
        </p:nvPicPr>
        <p:blipFill>
          <a:blip r:embed="rId1"/>
          <a:stretch/>
        </p:blipFill>
        <p:spPr>
          <a:xfrm>
            <a:off x="4500720" y="1484280"/>
            <a:ext cx="4500360" cy="4802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214200" y="26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усский крестьянский способ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Китайский способ умнож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2" name="Содержимое 3" descr=""/>
          <p:cNvPicPr/>
          <p:nvPr/>
        </p:nvPicPr>
        <p:blipFill>
          <a:blip r:embed="rId1"/>
          <a:stretch/>
        </p:blipFill>
        <p:spPr>
          <a:xfrm>
            <a:off x="0" y="1428840"/>
            <a:ext cx="3851280" cy="4464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3851280" y="1773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листе бумаги поочередно рисуем линии, количество которых определяется из данного приме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3851280" y="270828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начала 32: 3 красные линии и чуть ниже - 2 синие. Затем 21: перпендикулярно уже нарисованным, рисуем сначала 2 зеленые, затем - 1 малиновую.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АЖНО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линии первого числа рисуются в направлении из верхнего левого угла в нижний правый, второго числа - из нижнего левого, в верхний правый. Затем считаем количество точек пересечения в каждой из трех областей (на рисунке области обозначены в виде окружностей). Итак, в первой области ( область сотен) - 6 точек, во второй (область десятков) - 7 точек, в третьей (область единиц) - 2 точки. Следовательно ответ: 67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Выполним умн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12=              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Ответ: 38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Прямая соединительная линия 4"/>
          <p:cNvSpPr/>
          <p:nvPr/>
        </p:nvSpPr>
        <p:spPr>
          <a:xfrm flipV="1">
            <a:off x="1332000" y="2060280"/>
            <a:ext cx="4680000" cy="30970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Прямая соединительная линия 6"/>
          <p:cNvSpPr/>
          <p:nvPr/>
        </p:nvSpPr>
        <p:spPr>
          <a:xfrm flipV="1">
            <a:off x="1476360" y="2133360"/>
            <a:ext cx="4680000" cy="31669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рямая соединительная линия 8"/>
          <p:cNvSpPr/>
          <p:nvPr/>
        </p:nvSpPr>
        <p:spPr>
          <a:xfrm flipV="1">
            <a:off x="1619280" y="2349360"/>
            <a:ext cx="4608360" cy="31672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рямая соединительная линия 10"/>
          <p:cNvSpPr/>
          <p:nvPr/>
        </p:nvSpPr>
        <p:spPr>
          <a:xfrm flipV="1">
            <a:off x="3635280" y="3357720"/>
            <a:ext cx="3168720" cy="23032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Прямая соединительная линия 12"/>
          <p:cNvSpPr/>
          <p:nvPr/>
        </p:nvSpPr>
        <p:spPr>
          <a:xfrm flipV="1">
            <a:off x="3780000" y="3499920"/>
            <a:ext cx="3168360" cy="23050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Прямая соединительная линия 14"/>
          <p:cNvSpPr/>
          <p:nvPr/>
        </p:nvSpPr>
        <p:spPr>
          <a:xfrm>
            <a:off x="2987640" y="3357720"/>
            <a:ext cx="2736720" cy="21589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Прямая соединительная линия 16"/>
          <p:cNvSpPr/>
          <p:nvPr/>
        </p:nvSpPr>
        <p:spPr>
          <a:xfrm>
            <a:off x="4643280" y="2421000"/>
            <a:ext cx="2808360" cy="21603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Прямая соединительная линия 18"/>
          <p:cNvSpPr/>
          <p:nvPr/>
        </p:nvSpPr>
        <p:spPr>
          <a:xfrm>
            <a:off x="4788000" y="2349360"/>
            <a:ext cx="2736720" cy="20876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2268360" y="3429000"/>
            <a:ext cx="7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6505200" y="436572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4920840" y="4869000"/>
            <a:ext cx="49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8-конечная звезда 15"/>
          <p:cNvSpPr/>
          <p:nvPr/>
        </p:nvSpPr>
        <p:spPr>
          <a:xfrm>
            <a:off x="3357720" y="3643200"/>
            <a:ext cx="142560" cy="142920"/>
          </a:xfrm>
          <a:custGeom>
            <a:avLst/>
            <a:gdLst>
              <a:gd name="textAreaLeft" fmla="*/ 33480 w 142560"/>
              <a:gd name="textAreaRight" fmla="*/ 109080 w 14256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8-конечная звезда 17"/>
          <p:cNvSpPr/>
          <p:nvPr/>
        </p:nvSpPr>
        <p:spPr>
          <a:xfrm>
            <a:off x="3571920" y="378612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8-конечная звезда 20"/>
          <p:cNvSpPr/>
          <p:nvPr/>
        </p:nvSpPr>
        <p:spPr>
          <a:xfrm>
            <a:off x="3714840" y="392904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8-конечная звезда 23"/>
          <p:cNvSpPr/>
          <p:nvPr/>
        </p:nvSpPr>
        <p:spPr>
          <a:xfrm>
            <a:off x="5072040" y="250020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8-конечная звезда 24"/>
          <p:cNvSpPr/>
          <p:nvPr/>
        </p:nvSpPr>
        <p:spPr>
          <a:xfrm>
            <a:off x="4929120" y="264312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8-конечная звезда 25"/>
          <p:cNvSpPr/>
          <p:nvPr/>
        </p:nvSpPr>
        <p:spPr>
          <a:xfrm>
            <a:off x="6429240" y="350028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8-конечная звезда 26"/>
          <p:cNvSpPr/>
          <p:nvPr/>
        </p:nvSpPr>
        <p:spPr>
          <a:xfrm>
            <a:off x="5286240" y="292896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8-конечная звезда 27"/>
          <p:cNvSpPr/>
          <p:nvPr/>
        </p:nvSpPr>
        <p:spPr>
          <a:xfrm>
            <a:off x="6572160" y="364320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8-конечная звезда 28"/>
          <p:cNvSpPr/>
          <p:nvPr/>
        </p:nvSpPr>
        <p:spPr>
          <a:xfrm>
            <a:off x="6286680" y="3643200"/>
            <a:ext cx="142560" cy="142920"/>
          </a:xfrm>
          <a:custGeom>
            <a:avLst/>
            <a:gdLst>
              <a:gd name="textAreaLeft" fmla="*/ 33480 w 142560"/>
              <a:gd name="textAreaRight" fmla="*/ 109080 w 14256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8-конечная звезда 30"/>
          <p:cNvSpPr/>
          <p:nvPr/>
        </p:nvSpPr>
        <p:spPr>
          <a:xfrm>
            <a:off x="5429160" y="2786040"/>
            <a:ext cx="117720" cy="117360"/>
          </a:xfrm>
          <a:custGeom>
            <a:avLst/>
            <a:gdLst>
              <a:gd name="textAreaLeft" fmla="*/ 27720 w 117720"/>
              <a:gd name="textAreaRight" fmla="*/ 90000 w 117720"/>
              <a:gd name="textAreaTop" fmla="*/ 27360 h 117360"/>
              <a:gd name="textAreaBottom" fmla="*/ 90000 h 117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8-конечная звезда 31"/>
          <p:cNvSpPr/>
          <p:nvPr/>
        </p:nvSpPr>
        <p:spPr>
          <a:xfrm>
            <a:off x="4714920" y="471492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8-конечная звезда 32"/>
          <p:cNvSpPr/>
          <p:nvPr/>
        </p:nvSpPr>
        <p:spPr>
          <a:xfrm>
            <a:off x="4929120" y="485784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8-конечная звезда 34"/>
          <p:cNvSpPr/>
          <p:nvPr/>
        </p:nvSpPr>
        <p:spPr>
          <a:xfrm flipH="1">
            <a:off x="6428520" y="3786120"/>
            <a:ext cx="133560" cy="142920"/>
          </a:xfrm>
          <a:custGeom>
            <a:avLst/>
            <a:gdLst>
              <a:gd name="textAreaLeft" fmla="*/ 31320 w 133560"/>
              <a:gd name="textAreaRight" fmla="*/ 102240 w 13356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8-конечная звезда 35"/>
          <p:cNvSpPr/>
          <p:nvPr/>
        </p:nvSpPr>
        <p:spPr>
          <a:xfrm flipH="1">
            <a:off x="5214240" y="264312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8-конечная звезда 36"/>
          <p:cNvSpPr/>
          <p:nvPr/>
        </p:nvSpPr>
        <p:spPr>
          <a:xfrm flipH="1">
            <a:off x="5071320" y="2786040"/>
            <a:ext cx="142920" cy="142920"/>
          </a:xfrm>
          <a:custGeom>
            <a:avLst/>
            <a:gdLst>
              <a:gd name="textAreaLeft" fmla="*/ 33480 w 142920"/>
              <a:gd name="textAreaRight" fmla="*/ 109440 w 142920"/>
              <a:gd name="textAreaTop" fmla="*/ 33480 h 142920"/>
              <a:gd name="textAreaBottom" fmla="*/ 1094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20:24:27Z</dcterms:created>
  <dc:creator>Наталия</dc:creator>
  <dc:description/>
  <dc:language>en-US</dc:language>
  <cp:lastModifiedBy>админ</cp:lastModifiedBy>
  <dcterms:modified xsi:type="dcterms:W3CDTF">2013-04-23T17:36:42Z</dcterms:modified>
  <cp:revision>185</cp:revision>
  <dc:subject/>
  <dc:title>Слайд 1</dc:title>
</cp:coreProperties>
</file>