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79DD-0C02-4094-93E6-66BCBFB289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7A04-90A7-4C58-818C-6D563ACC47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99C-66F5-480A-8F24-691C538B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DE5E-8C5F-46DE-AF68-E9A0BDA9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635-387B-4159-9101-76205784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9B8-D273-4957-8E84-709AAA62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5A8-D961-4F5A-B286-D498F473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181-D4C2-406C-9FB3-CEA5E6A6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4B0A-E4CC-4010-A987-69CEA5A3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52F-C2C9-4771-A2DC-A4AD95DA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84E6-05A0-40B6-A245-0B6387BE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D54-3321-4123-9E54-5861A2CF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933C-888B-4844-BD48-4814939C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56E-6661-401C-B638-D67DAE32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A3E6-A068-4587-B58B-8731142108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571680"/>
            <a:ext cx="8358120" cy="59292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т и развитие растительного организ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00160" y="442908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Мокина Ирина Владимировна, учитель биологии МБОУ – гимназии № 39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г. Екатеринбур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зрел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8760" y="1143000"/>
            <a:ext cx="8229600" cy="5214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е способно цвести и давать плоды. В это время растение наиболее жизнеспособ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Documents and Settings\Admin\Мои документы\Мои рисунки\0_4d4a_3867b77_XL.jpg"/>
          <p:cNvPicPr/>
          <p:nvPr/>
        </p:nvPicPr>
        <p:blipFill>
          <a:blip r:embed="rId1"/>
          <a:stretch/>
        </p:blipFill>
        <p:spPr>
          <a:xfrm rot="21089400">
            <a:off x="571680" y="3214440"/>
            <a:ext cx="4252680" cy="3286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Documents and Settings\Admin\Мои документы\Мои рисунки\biol051.jpg"/>
          <p:cNvPicPr/>
          <p:nvPr/>
        </p:nvPicPr>
        <p:blipFill>
          <a:blip r:embed="rId2"/>
          <a:stretch/>
        </p:blipFill>
        <p:spPr>
          <a:xfrm rot="194400">
            <a:off x="4993920" y="2612880"/>
            <a:ext cx="4067280" cy="30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6226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ел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C:\Documents and Settings\Admin\Мои документы\Мои рисунки\d0b0d0b1d180d0b8d0bad0bed181.jpg"/>
          <p:cNvPicPr/>
          <p:nvPr/>
        </p:nvPicPr>
        <p:blipFill>
          <a:blip r:embed="rId1"/>
          <a:stretch/>
        </p:blipFill>
        <p:spPr>
          <a:xfrm>
            <a:off x="3714840" y="3000240"/>
            <a:ext cx="4620960" cy="3354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Documents and Settings\Admin\Мои документы\Мои рисунки\994b44d2f25e.jpg"/>
          <p:cNvPicPr/>
          <p:nvPr/>
        </p:nvPicPr>
        <p:blipFill>
          <a:blip r:embed="rId2"/>
          <a:stretch/>
        </p:blipFill>
        <p:spPr>
          <a:xfrm>
            <a:off x="428760" y="500040"/>
            <a:ext cx="4190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Заголовок 1"/>
          <p:cNvGrpSpPr/>
          <p:nvPr/>
        </p:nvGrpSpPr>
        <p:grpSpPr>
          <a:xfrm>
            <a:off x="396720" y="212760"/>
            <a:ext cx="7661520" cy="1073160"/>
            <a:chOff x="396720" y="212760"/>
            <a:chExt cx="7661520" cy="1073160"/>
          </a:xfrm>
        </p:grpSpPr>
        <p:pic>
          <p:nvPicPr>
            <p:cNvPr id="8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6720" y="212760"/>
              <a:ext cx="76615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57200" y="274680"/>
              <a:ext cx="754380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ериод старост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 txBox="1"/>
          <p:nvPr/>
        </p:nvSpPr>
        <p:spPr>
          <a:xfrm>
            <a:off x="356760" y="1214280"/>
            <a:ext cx="8643960" cy="55008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ий этап в жизни растения. Растение не способно к половому размножению, постепенно истощается и умир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C:\Documents and Settings\Admin\Мои документы\Мои рисунки\ena_1454.jpg"/>
          <p:cNvPicPr/>
          <p:nvPr/>
        </p:nvPicPr>
        <p:blipFill>
          <a:blip r:embed="rId2"/>
          <a:stretch/>
        </p:blipFill>
        <p:spPr>
          <a:xfrm rot="21408600">
            <a:off x="5238720" y="2214720"/>
            <a:ext cx="3000240" cy="450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:\Documents and Settings\Admin\Мои документы\Мои рисунки\ena_1647.jpg"/>
          <p:cNvPicPr/>
          <p:nvPr/>
        </p:nvPicPr>
        <p:blipFill>
          <a:blip r:embed="rId3"/>
          <a:stretch/>
        </p:blipFill>
        <p:spPr>
          <a:xfrm rot="238800">
            <a:off x="1595520" y="3060360"/>
            <a:ext cx="26431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857560" y="428760"/>
            <a:ext cx="285732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 старости у многих растений затухают все процессы, в том числе способность к вегетативному размнож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C:\Documents and Settings\Admin\Мои документы\Мои рисунки\РїРѕСЃР»Рµ-Р¶РёР·РЅРё.jpg"/>
          <p:cNvPicPr/>
          <p:nvPr/>
        </p:nvPicPr>
        <p:blipFill>
          <a:blip r:embed="rId1"/>
          <a:stretch/>
        </p:blipFill>
        <p:spPr>
          <a:xfrm>
            <a:off x="452520" y="146160"/>
            <a:ext cx="4910040" cy="328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Admin\Мои документы\Мои рисунки\17812bb8309a.jpg"/>
          <p:cNvPicPr/>
          <p:nvPr/>
        </p:nvPicPr>
        <p:blipFill>
          <a:blip r:embed="rId2"/>
          <a:stretch/>
        </p:blipFill>
        <p:spPr>
          <a:xfrm rot="185400">
            <a:off x="4656240" y="3511440"/>
            <a:ext cx="4309920" cy="323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Documents and Settings\Admin\Мои документы\Мои рисунки\1_________.jpg"/>
          <p:cNvPicPr/>
          <p:nvPr/>
        </p:nvPicPr>
        <p:blipFill>
          <a:blip r:embed="rId3"/>
          <a:stretch/>
        </p:blipFill>
        <p:spPr>
          <a:xfrm rot="21444600">
            <a:off x="297000" y="3327120"/>
            <a:ext cx="434016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28760" y="14256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и развитие в индивидуальной жизни растений протекают в тесной взаимосвязи между собой и окружающей средой. Количественное увеличение растения (рост) определяет его качественные изменения (развитие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C:\Documents and Settings\Admin\Мои документы\Мои рисунки\CACX63KD.jpg"/>
          <p:cNvPicPr/>
          <p:nvPr/>
        </p:nvPicPr>
        <p:blipFill>
          <a:blip r:embed="rId1"/>
          <a:stretch/>
        </p:blipFill>
        <p:spPr>
          <a:xfrm>
            <a:off x="1357200" y="4000680"/>
            <a:ext cx="2171880" cy="1928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Documents and Settings\Admin\Мои документы\Мои рисунки\grass2.jpg"/>
          <p:cNvPicPr/>
          <p:nvPr/>
        </p:nvPicPr>
        <p:blipFill>
          <a:blip r:embed="rId2"/>
          <a:stretch/>
        </p:blipFill>
        <p:spPr>
          <a:xfrm>
            <a:off x="3929040" y="3429000"/>
            <a:ext cx="476244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8760" y="213840"/>
            <a:ext cx="8229600" cy="27860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ндивидуальном развитии организма каждого растения выделяют четыре этапа. Они характеризуют возрастные особенности роста и развития растений на протяжении его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6" descr="C:\Documents and Settings\Admin\Мои документы\Мои рисунки\1211961658_39096.jpg"/>
          <p:cNvPicPr/>
          <p:nvPr/>
        </p:nvPicPr>
        <p:blipFill>
          <a:blip r:embed="rId1"/>
          <a:stretch/>
        </p:blipFill>
        <p:spPr>
          <a:xfrm rot="203400">
            <a:off x="5429160" y="235728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Documents and Settings\Admin\Мои документы\Мои рисунки\1260875028-45621-171172.jpg"/>
          <p:cNvPicPr/>
          <p:nvPr/>
        </p:nvPicPr>
        <p:blipFill>
          <a:blip r:embed="rId2"/>
          <a:stretch/>
        </p:blipFill>
        <p:spPr>
          <a:xfrm rot="21211200">
            <a:off x="689040" y="2966760"/>
            <a:ext cx="340020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3714840" cy="60724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цветкового растения начинается с зиготы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наступает состояние сем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:\Documents and Settings\Admin\Мои документы\Мои рисунки\919-3.jpg"/>
          <p:cNvPicPr/>
          <p:nvPr/>
        </p:nvPicPr>
        <p:blipFill>
          <a:blip r:embed="rId1"/>
          <a:stretch/>
        </p:blipFill>
        <p:spPr>
          <a:xfrm>
            <a:off x="3929040" y="214200"/>
            <a:ext cx="5030640" cy="291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Admin\Мои документы\Мои рисунки\Light_Speckled_Kidney_Bean.jpg"/>
          <p:cNvPicPr/>
          <p:nvPr/>
        </p:nvPicPr>
        <p:blipFill>
          <a:blip r:embed="rId2"/>
          <a:stretch/>
        </p:blipFill>
        <p:spPr>
          <a:xfrm rot="208200">
            <a:off x="5000760" y="3286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760" y="213840"/>
            <a:ext cx="3714480" cy="6286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вшись из семени, растение образует маленький проросток. Начинается рост и развитие раст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:\Documents and Settings\Admin\Мои документы\Мои рисунки\0_118bc_bc8b134e_L.jpg"/>
          <p:cNvPicPr/>
          <p:nvPr/>
        </p:nvPicPr>
        <p:blipFill>
          <a:blip r:embed="rId1"/>
          <a:stretch/>
        </p:blipFill>
        <p:spPr>
          <a:xfrm>
            <a:off x="4143240" y="482760"/>
            <a:ext cx="464364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58120" cy="157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растения- результат его жизнедеятельности. Вместе с тем это показатель общего состояния и развития растения. Растение увеличивается в размерах (растет). Рост – коли-чественное увеличение размеров и массы тела организм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Admin\Мои документы\Мои рисунки\30_05.jpg"/>
          <p:cNvPicPr/>
          <p:nvPr/>
        </p:nvPicPr>
        <p:blipFill>
          <a:blip r:embed="rId1"/>
          <a:stretch/>
        </p:blipFill>
        <p:spPr>
          <a:xfrm>
            <a:off x="571680" y="2000160"/>
            <a:ext cx="799776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71880" y="285840"/>
            <a:ext cx="5929200" cy="1714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с ростом растение меняет свои свойства, т.е. развивается. Развитие – качественные изменения организм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Admin\Мои документы\Мои рисунки\30_07.jpg"/>
          <p:cNvPicPr/>
          <p:nvPr/>
        </p:nvPicPr>
        <p:blipFill>
          <a:blip r:embed="rId1"/>
          <a:stretch/>
        </p:blipFill>
        <p:spPr>
          <a:xfrm rot="217200">
            <a:off x="345960" y="1871280"/>
            <a:ext cx="40849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ания организма от зарождения до конца его жизни называют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дивидуальным развит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5286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должительность жизни растени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о Шеллу, Бушу и др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доросль Macrocystis pyrifera- до 100 – 200 л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хи - до 10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поротники древовидные (Todea) -до 6000 лет 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монтово дерево - до 4000 л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ипарис - до 3000 лет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едр ливанский - до 2000 л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жевельник - до 2000 л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ль обыкновенная- до 1200 л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на кедровая -до 700 лет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аобаб -до 5000 лет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па крупнолистная -до 1000 лет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за, боярышник -до 400 л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поль, бук - до 300 л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реза, граб - до 100 – 150 лет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е развитие цветковых растени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родышевый пери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чинается с образования зиготы и завершается созревание с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Admin\Мои документы\Мои рисунки\1_d0613e.jpg"/>
          <p:cNvPicPr/>
          <p:nvPr/>
        </p:nvPicPr>
        <p:blipFill>
          <a:blip r:embed="rId1"/>
          <a:stretch/>
        </p:blipFill>
        <p:spPr>
          <a:xfrm>
            <a:off x="714240" y="328608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Documents and Settings\Admin\Мои документы\Мои рисунки\70091e4225c0.jpg"/>
          <p:cNvPicPr/>
          <p:nvPr/>
        </p:nvPicPr>
        <p:blipFill>
          <a:blip r:embed="rId2"/>
          <a:stretch/>
        </p:blipFill>
        <p:spPr>
          <a:xfrm>
            <a:off x="4714920" y="3086280"/>
            <a:ext cx="3929040" cy="33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молод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ся с момента прорастания семени и образования проростка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Admin\Мои документы\Мои рисунки\Безымянный.bmp"/>
          <p:cNvPicPr/>
          <p:nvPr/>
        </p:nvPicPr>
        <p:blipFill>
          <a:blip r:embed="rId1"/>
          <a:stretch/>
        </p:blipFill>
        <p:spPr>
          <a:xfrm>
            <a:off x="785880" y="3286080"/>
            <a:ext cx="476244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Admin\Мои документы\Мои рисунки\11270120.jpg"/>
          <p:cNvPicPr/>
          <p:nvPr/>
        </p:nvPicPr>
        <p:blipFill>
          <a:blip r:embed="rId2"/>
          <a:stretch/>
        </p:blipFill>
        <p:spPr>
          <a:xfrm>
            <a:off x="4643280" y="2857680"/>
            <a:ext cx="4189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0072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вершается началом цветения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Admin\Мои документы\Мои рисунки\магнолия яйцевидная.jpg"/>
          <p:cNvPicPr/>
          <p:nvPr/>
        </p:nvPicPr>
        <p:blipFill>
          <a:blip r:embed="rId1"/>
          <a:stretch/>
        </p:blipFill>
        <p:spPr>
          <a:xfrm>
            <a:off x="428760" y="1643040"/>
            <a:ext cx="4429080" cy="2948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Admin\Мои документы\Мои рисунки\9109942ca67cad01783973679d8fa184.jpg"/>
          <p:cNvPicPr/>
          <p:nvPr/>
        </p:nvPicPr>
        <p:blipFill>
          <a:blip r:embed="rId2"/>
          <a:stretch/>
        </p:blipFill>
        <p:spPr>
          <a:xfrm>
            <a:off x="6000840" y="357120"/>
            <a:ext cx="2751120" cy="3667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Admin\Мои документы\Мои рисунки\05557590.jpg"/>
          <p:cNvPicPr/>
          <p:nvPr/>
        </p:nvPicPr>
        <p:blipFill>
          <a:blip r:embed="rId3"/>
          <a:stretch/>
        </p:blipFill>
        <p:spPr>
          <a:xfrm>
            <a:off x="3786120" y="3857760"/>
            <a:ext cx="42213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21:18:41Z</dcterms:created>
  <dc:creator>User</dc:creator>
  <dc:description/>
  <dc:language>en-US</dc:language>
  <cp:lastModifiedBy>User</cp:lastModifiedBy>
  <dcterms:modified xsi:type="dcterms:W3CDTF">2013-10-20T16:18:09Z</dcterms:modified>
  <cp:revision>40</cp:revision>
  <dc:subject/>
  <dc:title>Рост и развитие растительного организма</dc:title>
</cp:coreProperties>
</file>