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wmf" ContentType="image/x-wmf"/>
  <Override PartName="/ppt/media/image14.png" ContentType="image/png"/>
  <Override PartName="/ppt/media/image1.gif" ContentType="image/gif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14DB-6304-4EAC-8FC2-26F9369F1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B4BC-FFDD-4B5D-BB0F-AD548DF38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ABDF-6477-4088-939E-B6E46AF56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0D31-2232-4AF9-A68E-BB38287B4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AB908-1D18-4352-92F7-AE9A0D022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BA0AB-CB60-4342-B193-738FD60B2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98E81-2213-4FA0-9D19-73D3322D0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DBE32-2A67-4B16-93E2-7EC4CCA6F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BF49F-0D95-4F38-B271-0D73EE068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F8465-67D5-4F7E-AE19-76B4CC307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71734-2D99-4941-A973-0F83A622C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7939-FF31-4C9A-9269-45F0CEF6B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821F9-61F3-4FF1-9A82-A06113474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8B636-7694-4D92-A594-8CD73010C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35E6B-CBCD-4759-B98C-F52D1CF29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B1896-AE45-4044-AB0B-50D632121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0F0AB-EB7E-4505-B1BA-6BB5A9C9A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0678B-8BE8-4C9C-895C-434DEDA4D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632A4-AB73-421E-BBB8-99F31411F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38723-50E0-4694-B145-BBB9F15FC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829C0-045E-4060-A233-95E3CBAB4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FBEE8-4543-4620-89B8-2DFF59BBC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F06E-8AD6-4E98-9940-A324347F1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0D598-336F-48DB-A433-8FAB16258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9A9F6-2F81-4765-8D76-866E5B296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FB715-F57C-4081-8882-DFE3F345D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465A0-9E28-4ACF-AB4F-970ADC272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B5C33-F35D-4843-9B8E-9EC756761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52A44-6203-461B-899F-3DCE610A9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B9EE1-6F82-48F3-B601-7A2C74049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84E41-9E06-4F1C-A732-EC838975E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B6B80-64B1-4552-B18C-5EA159FB9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AC625-CCDD-4F1F-ACA3-C3D68F69A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2E5F-A1DF-47A7-AB1F-3EF987A0E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437D3-7249-43C1-BD8E-0620BD73B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1C766-D960-466A-A0C7-EB5C91290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48A45-7658-40C9-B58E-38AC93132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1404F-992D-471C-8853-1A6512D97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0E78D-7A54-4E1A-A912-A983AC4B4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5C721-B46F-4C40-81C0-8E619BCD2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9D5CC-5CDA-45BA-98D9-6BCA67A78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348C2-AE16-47AF-AE51-6E076B9CA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79885-C77F-4026-AD6B-018DEF688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A297-26E3-4F88-999B-C8EEDDFF2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2EE7-6BD7-4449-9FAA-1ED25308B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D67C-44DC-45C9-AA88-C1FCF6D98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BE80-B72F-4752-AAFE-4CA8A4B47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E064-31B1-43E6-98D6-31B16AC0F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2BF29-1B04-4544-B242-3626A85100E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3E4AD-6240-4805-937B-3E4CA852659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9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CFA53-AF58-4423-8DD0-E9E116F881E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13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29C70-DBCB-4328-B5B3-D510A265E5E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ipanis.ru/media/20080303_183131.jpg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image.2sea.su/data/media/4/DSC00395.jpg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1676520" y="1219320"/>
            <a:ext cx="6386400" cy="33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тправляемся  на  экскурсию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419720" y="3946680"/>
            <a:ext cx="38862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6718320" cy="5038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4792680" y="2178000"/>
            <a:ext cx="4351320" cy="4680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331920"/>
            <a:ext cx="8964720" cy="652608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3429000" y="5942160"/>
            <a:ext cx="543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Таманский полуостров окружил себ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двумя морями и множеством лиман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79280" y="404640"/>
            <a:ext cx="741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</a:rPr>
              <a:t>Карта – схема  Темрюкского райо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788000" y="292428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ff"/>
                </a:solidFill>
                <a:latin typeface="Arial"/>
              </a:rPr>
              <a:t>Голубиц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7670880" y="404640"/>
            <a:ext cx="1222200" cy="15116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 flipH="1">
            <a:off x="5651640" y="2781360"/>
            <a:ext cx="72720" cy="71280"/>
          </a:xfrm>
          <a:prstGeom prst="irregularSeal2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651640" y="2781360"/>
            <a:ext cx="288720" cy="216000"/>
          </a:xfrm>
          <a:prstGeom prst="donut">
            <a:avLst>
              <a:gd name="adj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435640" y="2637000"/>
            <a:ext cx="216000" cy="2156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Грязевые вулканы Таманского полуострова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" descr="Картинка 11 из 128"/>
          <p:cNvPicPr/>
          <p:nvPr/>
        </p:nvPicPr>
        <p:blipFill>
          <a:blip r:embed="rId1"/>
          <a:stretch/>
        </p:blipFill>
        <p:spPr>
          <a:xfrm>
            <a:off x="152280" y="1676520"/>
            <a:ext cx="4695840" cy="3524040"/>
          </a:xfrm>
          <a:prstGeom prst="rect">
            <a:avLst/>
          </a:prstGeom>
          <a:ln w="57240">
            <a:solidFill>
              <a:srgbClr val="9999ff"/>
            </a:solidFill>
            <a:miter/>
          </a:ln>
        </p:spPr>
      </p:pic>
      <p:pic>
        <p:nvPicPr>
          <p:cNvPr id="191" name="" descr="Картинка 14 из 128"/>
          <p:cNvPicPr/>
          <p:nvPr/>
        </p:nvPicPr>
        <p:blipFill>
          <a:blip r:embed="rId2"/>
          <a:stretch/>
        </p:blipFill>
        <p:spPr>
          <a:xfrm>
            <a:off x="4114800" y="3505320"/>
            <a:ext cx="4848120" cy="3147840"/>
          </a:xfrm>
          <a:prstGeom prst="rect">
            <a:avLst/>
          </a:prstGeom>
          <a:ln w="57240">
            <a:solidFill>
              <a:srgbClr val="99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4800600" cy="3211560"/>
          </a:xfrm>
          <a:prstGeom prst="rect">
            <a:avLst/>
          </a:prstGeom>
          <a:ln w="38160">
            <a:solidFill>
              <a:srgbClr val="99cccc"/>
            </a:solidFill>
            <a:miter/>
          </a:ln>
        </p:spPr>
      </p:pic>
      <p:pic>
        <p:nvPicPr>
          <p:cNvPr id="193" name="" descr="Картинка 8 из 327"/>
          <p:cNvPicPr/>
          <p:nvPr/>
        </p:nvPicPr>
        <p:blipFill>
          <a:blip r:embed="rId2"/>
          <a:stretch/>
        </p:blipFill>
        <p:spPr>
          <a:xfrm>
            <a:off x="5638680" y="685800"/>
            <a:ext cx="3276720" cy="4525920"/>
          </a:xfrm>
          <a:prstGeom prst="rect">
            <a:avLst/>
          </a:prstGeom>
          <a:ln w="38160">
            <a:solidFill>
              <a:srgbClr val="99cccc"/>
            </a:solidFill>
            <a:miter/>
          </a:ln>
        </p:spPr>
      </p:pic>
      <p:sp>
        <p:nvSpPr>
          <p:cNvPr id="194" name=""/>
          <p:cNvSpPr/>
          <p:nvPr/>
        </p:nvSpPr>
        <p:spPr>
          <a:xfrm>
            <a:off x="1139760" y="4724280"/>
            <a:ext cx="413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римерно в 592 г. до н. э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древние греки основа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город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Гермонасс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565960" y="5413320"/>
            <a:ext cx="261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Тмутаракан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княжество,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10 – 11 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Памятник первым запорожцам </a:t>
            </a:r>
            <a:br>
              <a:rPr sz="3800"/>
            </a:b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на Тамани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Картинка 5 из 5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1600200"/>
            <a:ext cx="3425760" cy="48769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Картинка 1 из 5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00600" y="1600200"/>
            <a:ext cx="3432240" cy="50292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АТАМАНЬ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52280" y="1676520"/>
            <a:ext cx="5029200" cy="3771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5334120" y="4038480"/>
            <a:ext cx="3581280" cy="26863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5334120" y="1447920"/>
            <a:ext cx="3276360" cy="2457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Кубанские пословиц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э всэ золото, шо блэсты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. Там харашо, дэ нас нэм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. Очи боятся, а руки роблять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4" descr="Картинка 8 из 228"/>
          <p:cNvPicPr/>
          <p:nvPr/>
        </p:nvPicPr>
        <p:blipFill>
          <a:blip r:embed="rId1"/>
          <a:stretch/>
        </p:blipFill>
        <p:spPr>
          <a:xfrm>
            <a:off x="6248520" y="3494160"/>
            <a:ext cx="2319120" cy="33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Проверьте!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е всё зол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что бл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ти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ам х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шо, где нас не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Гл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а б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ятся, а руки делаю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700" spc="-1" strike="noStrike">
                <a:solidFill>
                  <a:srgbClr val="ff3300"/>
                </a:solidFill>
                <a:latin typeface="Arial"/>
              </a:rPr>
              <a:t>Итоги урока</a:t>
            </a:r>
            <a:endParaRPr b="0" lang="en-US" sz="5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346040" y="1599840"/>
            <a:ext cx="7188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Оцени свою работу на уро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На уроке мне всё было понятно, я доволен своей рабо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-  На уроке мне было всё понятно, но я ошибался; могу работать лучш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- Я  не всё понял и допустил много ошибок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3520" y="2362320"/>
            <a:ext cx="91440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33520" y="3657600"/>
            <a:ext cx="9144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33520" y="4800600"/>
            <a:ext cx="914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Treme</cp:lastModifiedBy>
  <dcterms:modified xsi:type="dcterms:W3CDTF">2010-08-07T18:50:27Z</dcterms:modified>
  <cp:revision>4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