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50ED-3FAD-40DB-B590-9AA69175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CFA9-FAD1-45F3-8C3E-FAB29FAA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1710-0608-4F6C-8D05-B11E9D5C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A4C6-FB92-456D-ABDE-CE394BC7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BEB-78DE-4894-BD76-E6C1FF2B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79B1-BB48-4BB9-A28A-FD7B9EF1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3F4B-3DA6-4C06-882D-3B8C93E5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40DE-AD19-4F51-98FF-BFDF49E6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0A93-684F-4DC4-AE6B-EFB141DB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2D95-3719-4A0F-B4AE-BCC959F8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4E33-40EC-48E2-802E-782A29D5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F315-1DB2-48B2-A59A-FD0459A3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565B4-587B-456C-9C53-36D0F759F3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559640" y="5549760"/>
            <a:ext cx="2340000" cy="1830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06440" y="314280"/>
            <a:ext cx="877248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23dc"/>
                </a:solidFill>
                <a:latin typeface="Constantia"/>
              </a:rPr>
              <a:t>Центр дистанционного образов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23dc"/>
                </a:solidFill>
                <a:latin typeface="Constantia"/>
              </a:rPr>
              <a:t>детей-инвалидов </a:t>
            </a:r>
            <a:br>
              <a:rPr sz="2200"/>
            </a:br>
            <a:r>
              <a:rPr b="1" lang="ru-RU" sz="2200" spc="-1" strike="noStrike">
                <a:solidFill>
                  <a:srgbClr val="2323dc"/>
                </a:solidFill>
                <a:latin typeface="Constantia"/>
              </a:rPr>
              <a:t>при ОГАОУ </a:t>
            </a:r>
            <a:br>
              <a:rPr sz="2200"/>
            </a:br>
            <a:r>
              <a:rPr b="1" lang="ru-RU" sz="2200" spc="-1" strike="noStrike">
                <a:solidFill>
                  <a:srgbClr val="2323dc"/>
                </a:solidFill>
                <a:latin typeface="Constantia"/>
              </a:rPr>
              <a:t>«Белгородский инженерный юношеский лицей-интернат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60720" y="1800360"/>
            <a:ext cx="6840360" cy="2068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Down">
              <a:avLst>
                <a:gd name="adj" fmla="val 38931"/>
              </a:avLst>
            </a:prstTxWarp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80"/>
                    </a:gs>
                  </a:gsLst>
                  <a:lin ang="27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СЕРНАЯ КИСЛОТА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80"/>
                  </a:gs>
                </a:gsLst>
                <a:lin ang="27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2879640" y="4813200"/>
            <a:ext cx="719928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23dc"/>
                </a:solidFill>
                <a:latin typeface="Constantia"/>
              </a:rPr>
              <a:t>Подготовила: учитель химии, Быкова О.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9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559640" y="5549760"/>
            <a:ext cx="2700360" cy="2009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12840" y="360360"/>
            <a:ext cx="868680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. Взаимодействие с о</a:t>
            </a:r>
            <a:r>
              <a:rPr b="1" lang="en-US" sz="36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c</a:t>
            </a:r>
            <a:r>
              <a:rPr b="1" lang="ru-RU" sz="36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новными и амфотерными оксид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0720" y="1440000"/>
            <a:ext cx="4821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O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Cu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0720" y="1969920"/>
            <a:ext cx="4140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O +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C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60720" y="2509920"/>
            <a:ext cx="4859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O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Zn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60720" y="3049560"/>
            <a:ext cx="4319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O +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Zn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840360" y="2852640"/>
            <a:ext cx="2880000" cy="20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9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559640" y="5549760"/>
            <a:ext cx="2340000" cy="1830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19280" y="360360"/>
            <a:ext cx="8339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4</a:t>
            </a:r>
            <a:r>
              <a:rPr b="1" lang="ru-RU" sz="36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. Взаимодействие с основаниями и амфотерными гидроксид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60720" y="1581120"/>
            <a:ext cx="7380000" cy="38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NaOH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ОН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N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слая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ь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др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ьфат нат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Zn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2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Zn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2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9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559640" y="5549760"/>
            <a:ext cx="2519280" cy="1830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800360" y="399960"/>
            <a:ext cx="684036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5</a:t>
            </a:r>
            <a:r>
              <a:rPr b="1" lang="ru-RU" sz="40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.Взаимодействие с сол</a:t>
            </a:r>
            <a:r>
              <a:rPr b="1" lang="ru-RU" sz="4000" spc="-1" strike="noStrike">
                <a:solidFill>
                  <a:srgbClr val="2323dc"/>
                </a:solidFill>
                <a:latin typeface="Arial"/>
              </a:rPr>
              <a:t>я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70000" y="1550880"/>
            <a:ext cx="675000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BaC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Ba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HC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Ba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↑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C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↑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rcRect l="30766" t="0" r="26926" b="0"/>
          <a:stretch/>
        </p:blipFill>
        <p:spPr>
          <a:xfrm>
            <a:off x="8099280" y="1490760"/>
            <a:ext cx="192420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9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559640" y="5549760"/>
            <a:ext cx="2519280" cy="2009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800440" y="587520"/>
            <a:ext cx="58388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323dc"/>
                </a:solidFill>
                <a:latin typeface="Arial"/>
              </a:rPr>
              <a:t>Качественная реак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9280" y="1440000"/>
            <a:ext cx="702000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BaC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Ba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H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2360" y="2347920"/>
            <a:ext cx="4608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Ba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rcRect l="30766" t="0" r="26926" b="0"/>
          <a:stretch/>
        </p:blipFill>
        <p:spPr>
          <a:xfrm>
            <a:off x="3600360" y="3780000"/>
            <a:ext cx="34196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559640" y="5549760"/>
            <a:ext cx="2700360" cy="2009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450800" y="142920"/>
            <a:ext cx="941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60720" y="406440"/>
            <a:ext cx="61992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323dc"/>
                </a:solidFill>
                <a:latin typeface="Arial"/>
              </a:rPr>
              <a:t>Серная кислота вытесняет более летучие кисл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66840" y="3240000"/>
            <a:ext cx="68328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CI +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NaHSO4 + H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9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559640" y="5549760"/>
            <a:ext cx="2519280" cy="2009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60360" y="412920"/>
            <a:ext cx="866304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323dc"/>
                </a:solidFill>
                <a:latin typeface="Arial"/>
              </a:rPr>
              <a:t>Свойства концентрированной серной кисл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00320" y="4194000"/>
            <a:ext cx="734040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80047"/>
                </a:solidFill>
                <a:latin typeface="Arial"/>
              </a:rPr>
              <a:t>Органические вещества обугливаются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00360" y="2301840"/>
            <a:ext cx="84596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6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C12H22O11 (сахароза)    →     12С   (уго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600360" y="5400720"/>
            <a:ext cx="395928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9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59640" y="5549760"/>
            <a:ext cx="2340000" cy="2009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00360" y="539640"/>
            <a:ext cx="828036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323dc"/>
                </a:solidFill>
                <a:latin typeface="Arial"/>
              </a:rPr>
              <a:t>концентрированная серная кислота окисляет неметал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9280" y="1619280"/>
            <a:ext cx="809928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6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Ме + H2SO4(конц.) = H2O + SO2 + кислородсодержащая кислота неМ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6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00360" y="2587680"/>
            <a:ext cx="864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0" bIns="45000" anchor="t">
            <a:noAutofit/>
          </a:bodyPr>
          <a:p>
            <a:pPr>
              <a:lnSpc>
                <a:spcPct val="96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 + 2H2SO4 = 2H2O + CO2 + 2S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S + 2H2SO4 = 3SO2 + 2H2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P + 5H2SO4 = 2H3PO4 + 5SO2 + 2H2O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9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559640" y="5549760"/>
            <a:ext cx="2340000" cy="1830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9640" y="593640"/>
            <a:ext cx="95076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323dc"/>
                </a:solidFill>
                <a:latin typeface="Arial"/>
              </a:rPr>
              <a:t>концентрированная серная кислота окисляет метал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40000" y="1670040"/>
            <a:ext cx="8820000" cy="35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6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центрированная H2+6SO4 – сильный окислитель; при взаимодействии с металлами (кроме Au, Pt) может восстанавливаться до S+4O2, S0 или H2S-2 (без нагревания не реагируют также Fe, Al, Cr - пассивируются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Ag + 2H2SO4 → Ag2SO4 + SO2+ 2H2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Na + 5H2SO4 → 4Na2SO4 + H2S + 4H2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9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260360" y="539640"/>
            <a:ext cx="8460000" cy="5940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280360" y="6300720"/>
            <a:ext cx="1619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2871720" y="1452600"/>
            <a:ext cx="6129360" cy="3227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Спасибо за внимание!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559640" y="5549760"/>
            <a:ext cx="2340000" cy="18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59640" y="5549760"/>
            <a:ext cx="2340000" cy="183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47720" y="539640"/>
            <a:ext cx="8070840" cy="56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>
            <a:noAutofit/>
          </a:bodyPr>
          <a:p>
            <a:pPr>
              <a:lnSpc>
                <a:spcPct val="96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323dc"/>
                </a:solidFill>
                <a:latin typeface="Arial"/>
              </a:rPr>
              <a:t>Серная кислота H2SO4 — сильная двухосновная кислота, отвечающая высшей степени окисления серы (+6). При обычных условиях концентрированная серная кислота — тяжёлая маслянистая жидкость без цвета и запаха, с кислым «медным» вкусом. В технике серной кислотой называют её смеси как с водой, так и с серным ангидридом SO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060720" y="3780000"/>
            <a:ext cx="3887640" cy="36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9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59640" y="5549760"/>
            <a:ext cx="2340000" cy="2009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800360" y="1428840"/>
            <a:ext cx="8099280" cy="3790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60360" y="360360"/>
            <a:ext cx="908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ы  и ионы серной кислоты имеют тетраэдрическое стро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9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559640" y="5549760"/>
            <a:ext cx="2340000" cy="2009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17720" y="1000080"/>
            <a:ext cx="11455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96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88800" y="1714680"/>
            <a:ext cx="462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96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17720" y="2428920"/>
            <a:ext cx="10051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96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00160" y="928800"/>
            <a:ext cx="357120" cy="214308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2143080"/>
              <a:gd name="textAreaBottom" fmla="*/ 213408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14400" y="1643040"/>
            <a:ext cx="47185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96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25000">
                <a:solidFill>
                  <a:srgbClr val="2323dc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 → SO</a:t>
            </a:r>
            <a:r>
              <a:rPr b="1" lang="en-US" sz="4000" spc="-1" strike="noStrike" baseline="-25000">
                <a:solidFill>
                  <a:srgbClr val="2323dc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 → H</a:t>
            </a:r>
            <a:r>
              <a:rPr b="1" lang="en-US" sz="4000" spc="-1" strike="noStrike" baseline="-25000">
                <a:solidFill>
                  <a:srgbClr val="2323dc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25000">
                <a:solidFill>
                  <a:srgbClr val="2323dc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4200" y="1285920"/>
            <a:ext cx="785880" cy="2928960"/>
          </a:xfrm>
          <a:custGeom>
            <a:avLst/>
            <a:gdLst>
              <a:gd name="textAreaLeft" fmla="*/ 105120 w 785880"/>
              <a:gd name="textAreaRight" fmla="*/ 680760 w 785880"/>
              <a:gd name="textAreaTop" fmla="*/ 658440 h 2928960"/>
              <a:gd name="textAreaBottom" fmla="*/ 2172240 h 292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14" stAng="-5400000" swAng="-5400000"/>
                <a:lnTo>
                  <a:pt x="0" y="11162"/>
                </a:lnTo>
                <a:arcTo wR="21600" hR="9714" stAng="10800000" swAng="-2465378"/>
                <a:lnTo>
                  <a:pt x="11700" y="20520"/>
                </a:lnTo>
                <a:lnTo>
                  <a:pt x="21600" y="20151"/>
                </a:lnTo>
                <a:lnTo>
                  <a:pt x="11700" y="17622"/>
                </a:lnTo>
                <a:lnTo>
                  <a:pt x="11700" y="18347"/>
                </a:lnTo>
                <a:arcTo wR="21600" hR="9714" stAng="8334622" swAng="2349872"/>
                <a:lnTo>
                  <a:pt x="60" y="10437"/>
                </a:lnTo>
                <a:arcTo wR="21600" hR="9714" stAng="-10684494" swAng="5284494"/>
                <a:close/>
              </a:path>
              <a:path fill="darkenLess" w="21600" h="21600">
                <a:moveTo>
                  <a:pt x="21600" y="0"/>
                </a:moveTo>
                <a:arcTo wR="21600" hR="9714" stAng="-5400000" swAng="-5400000"/>
                <a:lnTo>
                  <a:pt x="0" y="9714"/>
                </a:lnTo>
                <a:arcTo wR="21600" hR="9714" stAng="10800000" swAng="-115506"/>
                <a:lnTo>
                  <a:pt x="60" y="10437"/>
                </a:lnTo>
                <a:arcTo wR="21600" hR="9714" stAng="-10684494" swAng="5284494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60360" y="3780000"/>
            <a:ext cx="4000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Пи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Серный колчед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580000" y="3546360"/>
            <a:ext cx="2879640" cy="2033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35160" y="360360"/>
            <a:ext cx="65055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300dc"/>
                </a:solidFill>
                <a:latin typeface="Times New Roman"/>
                <a:ea typeface="Times New Roman"/>
              </a:rPr>
              <a:t>Получение серной кисл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9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559640" y="5549760"/>
            <a:ext cx="2340000" cy="1830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800360" y="179280"/>
            <a:ext cx="80992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9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559640" y="5549760"/>
            <a:ext cx="2340000" cy="1830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619280" y="360360"/>
            <a:ext cx="81313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Общие свойства растворов кисл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340000" y="1079640"/>
            <a:ext cx="630072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14480" y="477720"/>
            <a:ext cx="960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Разбавление серной кисл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19280" y="2336760"/>
            <a:ext cx="809928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9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59640" y="5549760"/>
            <a:ext cx="2340000" cy="1830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60360" y="539640"/>
            <a:ext cx="89474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I. </a:t>
            </a:r>
            <a:r>
              <a:rPr b="1" lang="ru-RU" sz="36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Химические свойства разбавленной серной кисл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00400" y="2068560"/>
            <a:ext cx="65196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Диссоциац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↔ H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rcRect l="14722" t="16722" r="16644" b="18967"/>
          <a:stretch/>
        </p:blipFill>
        <p:spPr>
          <a:xfrm>
            <a:off x="1619280" y="3060720"/>
            <a:ext cx="23940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9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559640" y="5549760"/>
            <a:ext cx="2340000" cy="1830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40000" y="463680"/>
            <a:ext cx="82803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2. Взаимодействие с металлами ( до Н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1440000"/>
            <a:ext cx="638172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 +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Zn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08240" y="2160720"/>
            <a:ext cx="661176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+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Mg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0000" y="2854440"/>
            <a:ext cx="35002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 +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505640" y="3060720"/>
            <a:ext cx="2214720" cy="2179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18:42:08Z</dcterms:created>
  <dc:creator/>
  <dc:description/>
  <dc:language>en-US</dc:language>
  <cp:lastModifiedBy/>
  <dcterms:modified xsi:type="dcterms:W3CDTF">2013-02-27T13:12:52Z</dcterms:modified>
  <cp:revision>3</cp:revision>
  <dc:subject/>
  <dc:title/>
</cp:coreProperties>
</file>