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EEF-5A09-436A-9525-A92E9074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289-912A-47EC-934C-7F8E26B4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4FE-C80B-41D2-943C-A8F01D71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68A-F0F1-4462-AECE-EA3D2F8F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D1BA-2D6B-498E-BC9F-C62B4B74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FC9A-76F5-4523-87B3-97D3D6E5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BCBF-0215-4E50-B7F8-D488FF37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4DEA-47E1-4B58-8A54-C2869267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B488-8214-454D-AD38-7E920DC3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F37A-DE57-4E79-AC87-7205C723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C0AD-55E0-4DE9-8B56-9E353518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4B4-12D2-438D-B5FF-72B95FFD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3177-336F-484E-B66F-27514207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80D0-0655-4335-A2C8-4D60085C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93FC-A8C3-4F95-BCCD-4E63ACD9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4D7F-FAA8-4FE2-B0DB-0FDB1979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7131-7416-4BEC-A6B6-B83FE7C2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E54-C3D6-4F80-864D-C1D2BF6F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39F-D68C-4A3A-BF46-9249998F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56C-3A33-41F2-ABFF-129BE632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D19-874D-49D7-9F6B-ADB42770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07F-889C-47DD-879B-5F5051A5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824-F238-4F14-858C-9795C9B8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10C-B3E5-4E6E-A4B9-A3E91CC0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982E-710D-41DB-9591-F6D98C5A60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EF29-D08D-4A2C-979E-54F0A863B7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56000" y="1905120"/>
            <a:ext cx="619272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Arial Black"/>
              </a:rPr>
              <a:t>Симметрия –  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 Black"/>
              </a:rPr>
              <a:t>         вокруг нас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метрия </a:t>
            </a:r>
            <a:br>
              <a:rPr sz="4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427280" y="4292280"/>
            <a:ext cx="3344760" cy="1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32"/>
          <p:cNvPicPr/>
          <p:nvPr/>
        </p:nvPicPr>
        <p:blipFill>
          <a:blip r:embed="rId1"/>
          <a:stretch/>
        </p:blipFill>
        <p:spPr>
          <a:xfrm>
            <a:off x="395280" y="692280"/>
            <a:ext cx="2736720" cy="2282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3851280" y="4365720"/>
            <a:ext cx="454176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втор: Тенчурина Викто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еница 8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мметрия в природ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36520" y="1844640"/>
            <a:ext cx="7180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мор зв"/>
          <p:cNvPicPr/>
          <p:nvPr/>
        </p:nvPicPr>
        <p:blipFill>
          <a:blip r:embed="rId1"/>
          <a:stretch/>
        </p:blipFill>
        <p:spPr>
          <a:xfrm>
            <a:off x="3708360" y="1989000"/>
            <a:ext cx="1162080" cy="1238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бабочка 2"/>
          <p:cNvPicPr/>
          <p:nvPr/>
        </p:nvPicPr>
        <p:blipFill>
          <a:blip r:embed="rId2"/>
          <a:stretch/>
        </p:blipFill>
        <p:spPr>
          <a:xfrm>
            <a:off x="2484360" y="3789360"/>
            <a:ext cx="2162160" cy="162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сим в жив природе"/>
          <p:cNvPicPr/>
          <p:nvPr/>
        </p:nvPicPr>
        <p:blipFill>
          <a:blip r:embed="rId3"/>
          <a:stretch/>
        </p:blipFill>
        <p:spPr>
          <a:xfrm>
            <a:off x="1692360" y="2492280"/>
            <a:ext cx="1123920" cy="885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S00024I"/>
          <p:cNvPicPr/>
          <p:nvPr/>
        </p:nvPicPr>
        <p:blipFill>
          <a:blip r:embed="rId4"/>
          <a:stretch/>
        </p:blipFill>
        <p:spPr>
          <a:xfrm>
            <a:off x="5508720" y="1989000"/>
            <a:ext cx="2681280" cy="1935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C_009I"/>
          <p:cNvPicPr/>
          <p:nvPr/>
        </p:nvPicPr>
        <p:blipFill>
          <a:blip r:embed="rId5"/>
          <a:stretch/>
        </p:blipFill>
        <p:spPr>
          <a:xfrm>
            <a:off x="5867280" y="4005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" dur="2000" fill="hold"/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мметрия в архитектур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2" name="Picture 7" descr="арх"/>
          <p:cNvPicPr/>
          <p:nvPr/>
        </p:nvPicPr>
        <p:blipFill>
          <a:blip r:embed="rId1"/>
          <a:stretch/>
        </p:blipFill>
        <p:spPr>
          <a:xfrm>
            <a:off x="3348000" y="386064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581560" cy="3238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Собор Св"/>
          <p:cNvPicPr/>
          <p:nvPr/>
        </p:nvPicPr>
        <p:blipFill>
          <a:blip r:embed="rId3"/>
          <a:stretch/>
        </p:blipFill>
        <p:spPr>
          <a:xfrm>
            <a:off x="684360" y="1773360"/>
            <a:ext cx="2412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мметрия в техник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6" name="Picture 4" descr="54742[1]"/>
          <p:cNvPicPr/>
          <p:nvPr/>
        </p:nvPicPr>
        <p:blipFill>
          <a:blip r:embed="rId1"/>
          <a:stretch/>
        </p:blipFill>
        <p:spPr>
          <a:xfrm>
            <a:off x="1116000" y="213372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машина"/>
          <p:cNvPicPr/>
          <p:nvPr/>
        </p:nvPicPr>
        <p:blipFill>
          <a:blip r:embed="rId2"/>
          <a:srcRect l="0" t="0" r="0" b="17561"/>
          <a:stretch/>
        </p:blipFill>
        <p:spPr>
          <a:xfrm>
            <a:off x="5724360" y="1989000"/>
            <a:ext cx="2160720" cy="165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ракета"/>
          <p:cNvPicPr/>
          <p:nvPr/>
        </p:nvPicPr>
        <p:blipFill>
          <a:blip r:embed="rId3"/>
          <a:stretch/>
        </p:blipFill>
        <p:spPr>
          <a:xfrm>
            <a:off x="4140360" y="3284640"/>
            <a:ext cx="1890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мметрия в быт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на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дю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орнамент5"/>
          <p:cNvPicPr/>
          <p:nvPr/>
        </p:nvPicPr>
        <p:blipFill>
          <a:blip r:embed="rId1"/>
          <a:stretch/>
        </p:blipFill>
        <p:spPr>
          <a:xfrm>
            <a:off x="684360" y="3284640"/>
            <a:ext cx="2952720" cy="1857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орнамент2"/>
          <p:cNvPicPr/>
          <p:nvPr/>
        </p:nvPicPr>
        <p:blipFill>
          <a:blip r:embed="rId2"/>
          <a:stretch/>
        </p:blipFill>
        <p:spPr>
          <a:xfrm>
            <a:off x="2195640" y="1341360"/>
            <a:ext cx="4386240" cy="452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бордюр2"/>
          <p:cNvPicPr/>
          <p:nvPr/>
        </p:nvPicPr>
        <p:blipFill>
          <a:blip r:embed="rId3"/>
          <a:stretch/>
        </p:blipFill>
        <p:spPr>
          <a:xfrm>
            <a:off x="5651640" y="2852640"/>
            <a:ext cx="2736720" cy="932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бордюр"/>
          <p:cNvPicPr/>
          <p:nvPr/>
        </p:nvPicPr>
        <p:blipFill>
          <a:blip r:embed="rId4"/>
          <a:stretch/>
        </p:blipFill>
        <p:spPr>
          <a:xfrm>
            <a:off x="5508720" y="4292640"/>
            <a:ext cx="3311280" cy="10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8" descr="снежинки"/>
          <p:cNvPicPr/>
          <p:nvPr/>
        </p:nvPicPr>
        <p:blipFill>
          <a:blip r:embed="rId1"/>
          <a:stretch/>
        </p:blipFill>
        <p:spPr>
          <a:xfrm>
            <a:off x="1258920" y="256536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мметрия в физик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ая снежинка – это маленький кристалл замерзшей воды. Форма снежинок может быть очень разнообразной, но все они обладают симметри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твердые тела состоят из кристаллов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7" descr="full"/>
          <p:cNvPicPr/>
          <p:nvPr/>
        </p:nvPicPr>
        <p:blipFill>
          <a:blip r:embed="rId2"/>
          <a:stretch/>
        </p:blipFill>
        <p:spPr>
          <a:xfrm>
            <a:off x="4643280" y="3429000"/>
            <a:ext cx="40960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755640" y="36108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 симметрия! Гимн тебе пою!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бя повсюду в мире узнаю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ы в Эйфелевой башне, в малой мошке,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ы в елочке, что у лесной дорожки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 тобою в дружбе и тюльпан, и роза,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снежный рой – творение мороза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3" name="Picture 4" descr="74"/>
          <p:cNvPicPr/>
          <p:nvPr/>
        </p:nvPicPr>
        <p:blipFill>
          <a:blip r:embed="rId1"/>
          <a:stretch/>
        </p:blipFill>
        <p:spPr>
          <a:xfrm>
            <a:off x="1979640" y="2205000"/>
            <a:ext cx="3736800" cy="34639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6"/>
          <p:cNvSpPr/>
          <p:nvPr/>
        </p:nvSpPr>
        <p:spPr>
          <a:xfrm>
            <a:off x="4211640" y="1916280"/>
            <a:ext cx="2521080" cy="1368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427640" y="2565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 rot="20092200">
            <a:off x="4889160" y="2196360"/>
            <a:ext cx="129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свидани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пределение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древности слово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симметрия»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употреблялось как «гармония», «красота». Действительно, по-гречески оно означает «соразмерность, пропорциональность, одинаковость в расположении часте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рис1"/>
          <p:cNvPicPr/>
          <p:nvPr/>
        </p:nvPicPr>
        <p:blipFill>
          <a:blip r:embed="rId1"/>
          <a:stretch/>
        </p:blipFill>
        <p:spPr>
          <a:xfrm>
            <a:off x="250920" y="260280"/>
            <a:ext cx="85312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</a:rPr>
              <a:t>СИММЕТРИЯ ОТНОСИТЕЛЬНО ТОЧК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r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чки А и М называются симметричными относительно О, если точка О – середина отрезка 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r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чка О, симметричная сама себе, называется центром симмет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О=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r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2050920" y="5300280"/>
            <a:ext cx="360072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08000" y="5661000"/>
            <a:ext cx="13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692360" y="5950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724360" y="5157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708360" y="573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59280" y="333000"/>
            <a:ext cx="3927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гура называется симметричной относительно точки О, если для каждой точки фигуры симметричная точка относительно точки О также принадлежит этой фигу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чка О – центр симметрии фиг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360" y="184464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 rot="20212800">
            <a:off x="1908000" y="3860280"/>
            <a:ext cx="1944720" cy="1584360"/>
          </a:xfrm>
          <a:prstGeom prst="triangle">
            <a:avLst>
              <a:gd name="adj" fmla="val 4840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 rot="9084600">
            <a:off x="1186920" y="2421000"/>
            <a:ext cx="1946520" cy="16574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13"/>
          <p:cNvSpPr/>
          <p:nvPr/>
        </p:nvSpPr>
        <p:spPr>
          <a:xfrm flipH="1" flipV="1">
            <a:off x="3924360" y="3429000"/>
            <a:ext cx="792000" cy="792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поворо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16400" y="1125000"/>
            <a:ext cx="3927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оротом плоскости около данной точки называется такое движение, при котором каждый луч, исходящий из этой точки, поворачивается на один и тот же угол в одном и том же направл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9640" y="1197000"/>
            <a:ext cx="46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826920" y="3068640"/>
            <a:ext cx="1224000" cy="252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050920" y="4221000"/>
            <a:ext cx="2665440" cy="136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050920" y="2781000"/>
            <a:ext cx="7308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050920" y="3429000"/>
            <a:ext cx="1873440" cy="216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851280" y="3357720"/>
            <a:ext cx="144360" cy="142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4643280" y="4149720"/>
            <a:ext cx="142920" cy="142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19"/>
          <p:cNvSpPr/>
          <p:nvPr/>
        </p:nvSpPr>
        <p:spPr>
          <a:xfrm>
            <a:off x="1908000" y="5013360"/>
            <a:ext cx="582840" cy="307800"/>
          </a:xfrm>
          <a:custGeom>
            <a:avLst/>
            <a:gdLst/>
            <a:ahLst/>
            <a:rect l="l" t="t" r="r" b="b"/>
            <a:pathLst>
              <a:path w="367" h="194">
                <a:moveTo>
                  <a:pt x="0" y="194"/>
                </a:moveTo>
                <a:cubicBezTo>
                  <a:pt x="41" y="166"/>
                  <a:pt x="28" y="152"/>
                  <a:pt x="69" y="124"/>
                </a:cubicBezTo>
                <a:cubicBezTo>
                  <a:pt x="76" y="114"/>
                  <a:pt x="79" y="100"/>
                  <a:pt x="89" y="94"/>
                </a:cubicBezTo>
                <a:cubicBezTo>
                  <a:pt x="107" y="83"/>
                  <a:pt x="149" y="74"/>
                  <a:pt x="149" y="74"/>
                </a:cubicBezTo>
                <a:cubicBezTo>
                  <a:pt x="223" y="0"/>
                  <a:pt x="164" y="45"/>
                  <a:pt x="367" y="45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20"/>
          <p:cNvSpPr/>
          <p:nvPr/>
        </p:nvSpPr>
        <p:spPr>
          <a:xfrm>
            <a:off x="2124000" y="4941720"/>
            <a:ext cx="459000" cy="395280"/>
          </a:xfrm>
          <a:custGeom>
            <a:avLst/>
            <a:gdLst/>
            <a:ahLst/>
            <a:rect l="l" t="t" r="r" b="b"/>
            <a:pathLst>
              <a:path w="289" h="249">
                <a:moveTo>
                  <a:pt x="0" y="20"/>
                </a:moveTo>
                <a:cubicBezTo>
                  <a:pt x="59" y="0"/>
                  <a:pt x="120" y="10"/>
                  <a:pt x="179" y="30"/>
                </a:cubicBezTo>
                <a:cubicBezTo>
                  <a:pt x="212" y="53"/>
                  <a:pt x="220" y="77"/>
                  <a:pt x="258" y="90"/>
                </a:cubicBezTo>
                <a:cubicBezTo>
                  <a:pt x="289" y="181"/>
                  <a:pt x="278" y="128"/>
                  <a:pt x="278" y="249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78000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 flipV="1" rot="10800000">
            <a:off x="4572000" y="436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212400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75564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араллельный перено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88000" y="1125000"/>
            <a:ext cx="4287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аллельным переносом называют преобразование, при котором точки смещаются в одном и том же направлении на одно и тож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94920" y="1267920"/>
            <a:ext cx="554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610920" y="3573360"/>
            <a:ext cx="431640" cy="165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611280" y="5229360"/>
            <a:ext cx="1944720" cy="64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2556000" y="5013000"/>
            <a:ext cx="576000" cy="863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1979640" y="4797360"/>
            <a:ext cx="1152360" cy="21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V="1">
            <a:off x="1979640" y="3573360"/>
            <a:ext cx="647640" cy="12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403280" y="3573360"/>
            <a:ext cx="122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 flipH="1">
            <a:off x="1042560" y="3573360"/>
            <a:ext cx="360360" cy="719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1042920" y="3573360"/>
            <a:ext cx="0" cy="719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V="1">
            <a:off x="2050920" y="2421000"/>
            <a:ext cx="252108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V="1">
            <a:off x="1042920" y="1773000"/>
            <a:ext cx="2665440" cy="23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3132000" y="3645000"/>
            <a:ext cx="144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2556000" y="2637000"/>
            <a:ext cx="21564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кольж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48000" y="981000"/>
            <a:ext cx="39956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жением называется преобразование, при котором последовательно выполняются осевая и параллельная симме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V="1">
            <a:off x="539640" y="1773000"/>
            <a:ext cx="4608720" cy="36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 rot="8630400">
            <a:off x="323640" y="2997000"/>
            <a:ext cx="2736720" cy="863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2556000" y="2276640"/>
            <a:ext cx="79200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3348000" y="3213000"/>
            <a:ext cx="86364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 flipH="1">
            <a:off x="2916000" y="2708280"/>
            <a:ext cx="215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3564000" y="350028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 rot="19420800">
            <a:off x="1547640" y="4292640"/>
            <a:ext cx="2665440" cy="718920"/>
          </a:xfrm>
          <a:prstGeom prst="triangle">
            <a:avLst>
              <a:gd name="adj" fmla="val 49356"/>
            </a:avLst>
          </a:prstGeom>
          <a:solidFill>
            <a:srgbClr val="99cc00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1979640" y="3789360"/>
            <a:ext cx="2872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2268360" y="4076640"/>
            <a:ext cx="3607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 flipH="1">
            <a:off x="1979640" y="386064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 flipH="1">
            <a:off x="2340000" y="414972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324000" y="3860640"/>
            <a:ext cx="93492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1258920" y="4869000"/>
            <a:ext cx="79200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 flipH="1">
            <a:off x="1476360" y="5157720"/>
            <a:ext cx="2872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24"/>
          <p:cNvSpPr/>
          <p:nvPr/>
        </p:nvSpPr>
        <p:spPr>
          <a:xfrm flipH="1">
            <a:off x="755640" y="4508640"/>
            <a:ext cx="2872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2050920" y="4581360"/>
            <a:ext cx="1729080" cy="108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 flipV="1">
            <a:off x="2627280" y="3141720"/>
            <a:ext cx="187164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7"/>
          <p:cNvSpPr/>
          <p:nvPr/>
        </p:nvSpPr>
        <p:spPr>
          <a:xfrm flipV="1">
            <a:off x="4140360" y="2924280"/>
            <a:ext cx="1873080" cy="122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28"/>
          <p:cNvSpPr/>
          <p:nvPr/>
        </p:nvSpPr>
        <p:spPr>
          <a:xfrm rot="19477200">
            <a:off x="3348000" y="3068280"/>
            <a:ext cx="2700360" cy="755640"/>
          </a:xfrm>
          <a:prstGeom prst="triangle">
            <a:avLst>
              <a:gd name="adj" fmla="val 50032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мметрия в литератур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алиндр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это абсолютное проявление симметрии в литературе. Например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А луна канула»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А роза упала на лапу Азора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32120" y="1904760"/>
            <a:ext cx="4213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алиндром В.Набоко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ел мясо лося, млея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вал Эол алоэ, лав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 ему: "Ишь! И умеет Рвать!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им: "Я - минотавр!"           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6:45:07Z</dcterms:created>
  <dc:creator>Вязова  Оксана </dc:creator>
  <dc:description/>
  <dc:language>en-US</dc:language>
  <cp:lastModifiedBy>1</cp:lastModifiedBy>
  <dcterms:modified xsi:type="dcterms:W3CDTF">2013-10-20T12:41:15Z</dcterms:modified>
  <cp:revision>37</cp:revision>
  <dc:subject/>
  <dc:title>Симметрия – вокруг нас</dc:title>
</cp:coreProperties>
</file>