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189-97D0-45B0-9E31-769F612A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815-C122-4239-B6FD-6915A5B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DB2-5C15-4B99-8900-7E7DAC93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2F3-AF27-49C8-9E47-F2127957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E804-8E13-42CB-91E4-C72D0394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08A-AAE1-48C1-A44B-72AF9A54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C585-6C70-4AA7-A298-246099E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4AC6-D145-4AA3-908B-D3023CE9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CC1F-7955-4B46-9907-95A7068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536F-3D08-4175-B33B-6D3428A6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5232-96B5-498E-A631-9676B7B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B70-1191-448D-88A3-9D53EAE4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B1D-8DA7-472C-B19B-F247A2FB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A78F-1CD3-4697-8976-C2D8DE2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5BFA-90E0-4B07-B9D2-7A09895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DF35-F9AB-4042-A21A-E790B6CB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F69C-889B-4AB2-9638-467C0DBD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1B57F-8378-45FA-8671-A511E953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35069-7036-4163-A95B-EA42975D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32299-BAA5-4409-AED0-E4770E9D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FD0CA-D71A-4A18-8A82-B7BDC2AB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03DC4-59B8-4829-9BE0-9C342031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A7F-4815-4736-AA9C-573F3BF7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E7602-EC34-4A0C-B129-1408206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D0344-6B40-4F07-B036-6BCEB8F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057B5-7F1B-41C7-A07F-6B7A739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7D641-E541-4002-AA2E-CBACA94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FC946-0596-475B-9DC4-49F6DEB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F8F53-111E-48B4-85EB-5B71DF9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C2843-80D4-4661-8C99-970270D5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B8C1-5859-4E0B-A16F-BE3B7CD7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4102-F609-47AB-BBC0-CF4B92CB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8958-C422-4674-AE36-8C21DBE0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DEA-7A9F-4D1D-B74F-5C7296B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C827-9F2A-46CB-AADE-B02766E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36F5-E4FE-46BE-8575-4F3B31B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FB14-1EC1-4B3B-A63D-87637FE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1003-D1C4-4BD3-A161-CEF5A38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D43C-A111-438B-A5F0-8BC6F8C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3804-A11C-4F4D-BEFA-E236234B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010B-DD6F-4073-B2BA-B5535EB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1157-49E2-49DC-8C50-30322D6E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9968-63B0-4FBD-9168-15F4E1AD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2A1B8-472E-4F65-B3E4-8B8D9FE4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A63-EBAA-4E53-ABD1-1FA075C5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6173D-3417-471F-A5A0-AABC3C7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BE87D-9B4F-466A-8D16-8BC5C1CD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0D4EE-E83F-4BF7-BF5A-7A570E8E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2695E-5BAC-4B8A-8B19-73A54EE4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B5C0F-EC8A-44FD-9542-CEC62308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75D4C-DC45-4717-8BBB-9A129CC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0A385-6998-4C95-BF01-3AF256C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BC1D4-1455-4BB4-8FC8-E210CA8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DA84C-3C13-427D-8604-3FB224E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69B89-671B-4DF5-BAEF-2AA2DD79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544-61D2-4C41-B5AE-D4DD255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9B407-AAD7-41B0-ACCE-85C81E49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E5155-0F9F-4F1F-964B-A787AD06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6EB91-F606-4964-BAAA-B6E6660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AC6BA-F42F-4A96-B6F9-BEDE9A7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84AD4-CADB-4C39-85BB-83B94918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34577-F186-4163-98A4-C94D17B9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313C1-DD00-4099-B73E-6A55C713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1A262-1427-42E9-B714-60D6E64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6D512-E010-4211-82AA-9871FB1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106DD-B741-485F-84A5-5EC7FCD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057-43A0-400A-BFED-401F9F8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2FBE3-F73F-4669-8D8C-64F3D25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22DF8-F530-41E9-B0FB-CACCB2D5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A45FC-86BB-47E8-BCCB-4BBADF0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4F429-66AC-4BF6-BC82-ABB24C32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AFFCE-33FE-469F-8E1E-A82001EC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3D3E4-2A50-4563-8142-689EC14F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DFA60-5616-4581-AD94-962BD318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6EF9D-1B6C-4D77-B3E9-FA99F6A8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EF398-0B96-4335-BA4D-7A93B05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255C3-C324-4AEA-B1BF-4AD7D38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4CC-F049-453A-89AA-1106524A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AD82D-A3E0-401F-A72D-5F2B52D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A28AF-B0FE-4CAB-8C60-4A0DBC3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AFA71-9B8E-40DF-8CF0-37F1C02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58C55-9492-4F71-9237-033168F8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1A925-9C8C-4748-A77F-82C4BCFD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485-043D-4186-AC9C-CC60772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EC65-5C25-4CDB-9A4C-430B44A53A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B75-CC31-4056-9311-6FBFF2F342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2CDB-0C93-4FFB-B97B-01047E26EF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29A-0DCD-43D2-A524-734F397E27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13A3-C7E0-4AA2-816A-3B509008CC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1953-0197-4308-BCC3-464B3DA5FE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A89-3F76-4136-8AA0-2ADC069001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42720" y="856800"/>
            <a:ext cx="61722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КОУ ЧЕРЕМШАНСКАЯ СРЕДНЯЯ ОБЩЕОБРАЗОВАТЕЛЬНАЯ ШКОЛА ИМЕНИ СЕРГЕЯ ПАВЛОВА                                                        ТЮМЕНЦЕВСКОГО РАЙОНА АЛТАЙСКОНО КРАЯ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2928600"/>
            <a:ext cx="61722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сследовательская работ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Номинация: «Медицина»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Тема: «Сколько весит здоровье ученика?»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Выполнили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Учащиеся 5 класс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Адышева Светлан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Логиновская Мари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Руководитель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учитель начальных классов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ростелева Елена Александровн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Рисунок 1" descr="лого"/>
          <p:cNvPicPr/>
          <p:nvPr/>
        </p:nvPicPr>
        <p:blipFill>
          <a:blip r:embed="rId1"/>
          <a:stretch/>
        </p:blipFill>
        <p:spPr>
          <a:xfrm>
            <a:off x="291960" y="371520"/>
            <a:ext cx="1914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       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РЕКОМЕНДАЦИИ РОДИТЕЛЯ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им вас: не покупайте тяжелые ранцы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 ваших детей от тяжелых нагрузок портится оса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ши дети быстрее устают, таская за своей спиной тяжелове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жалуйста, позаботьтесь о ваших детях и об их здоровь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9" descr="school069"/>
          <p:cNvPicPr/>
          <p:nvPr/>
        </p:nvPicPr>
        <p:blipFill>
          <a:blip r:embed="rId2"/>
          <a:stretch/>
        </p:blipFill>
        <p:spPr>
          <a:xfrm>
            <a:off x="2143080" y="4714920"/>
            <a:ext cx="3824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РЕКОМЕНДАЦИИ</a:t>
            </a:r>
            <a:br>
              <a:rPr sz="3000"/>
            </a:b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 РАБОТНИКАМ ШКО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ть только те учебники и пособия, которые прошли гигиеническую экспертизу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йти возможность (в начальной школе) использовать два комплекта учебников (один – в школе и один – дом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 составлении школьного расписания учитывать гигиенические требования к весу ежедневных учебных комплек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ганизовать хранение сменной обуви, спортивного инвентаря, принадлежностей для уроков труда, изобразительного искусства в помещении школ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ганизовать в классе библиотеку необходимых книг для дополнительного чт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3" descr="j0280334.jpg"/>
          <p:cNvPicPr/>
          <p:nvPr/>
        </p:nvPicPr>
        <p:blipFill>
          <a:blip r:embed="rId2"/>
          <a:stretch/>
        </p:blipFill>
        <p:spPr>
          <a:xfrm>
            <a:off x="6429240" y="5572080"/>
            <a:ext cx="133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57240" y="27432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ДОБРОГО ВАМ ЗДОРОВЬЯ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мире много богатств, 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доровье - самое главное богатство челове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 это богатство надо сохранять и укреплять с самого начала жизненного пути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9" descr="school069"/>
          <p:cNvPicPr/>
          <p:nvPr/>
        </p:nvPicPr>
        <p:blipFill>
          <a:blip r:embed="rId2"/>
          <a:stretch/>
        </p:blipFill>
        <p:spPr>
          <a:xfrm>
            <a:off x="2143080" y="4071960"/>
            <a:ext cx="3824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9a3d01"/>
                </a:solidFill>
                <a:latin typeface="Century Schoolbook"/>
              </a:rPr>
              <a:t>ВЫБОР ТЕМ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тяжелый ранец влияет на осанку ребен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олько должен весить ранец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правильно выбрать ранец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Рисунок 7" descr="D:\Мои рисунки\DSCN0554.jpg"/>
          <p:cNvPicPr/>
          <p:nvPr/>
        </p:nvPicPr>
        <p:blipFill>
          <a:blip r:embed="rId1"/>
          <a:stretch/>
        </p:blipFill>
        <p:spPr>
          <a:xfrm>
            <a:off x="5168880" y="3902040"/>
            <a:ext cx="2908440" cy="222408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" descr="лого"/>
          <p:cNvPicPr/>
          <p:nvPr/>
        </p:nvPicPr>
        <p:blipFill>
          <a:blip r:embed="rId2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8" descr="D:\Мои рисунки\DSCN0557.jpg"/>
          <p:cNvPicPr/>
          <p:nvPr/>
        </p:nvPicPr>
        <p:blipFill>
          <a:blip r:embed="rId3"/>
          <a:stretch/>
        </p:blipFill>
        <p:spPr>
          <a:xfrm>
            <a:off x="1096920" y="3902040"/>
            <a:ext cx="28782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d01"/>
                </a:solidFill>
                <a:latin typeface="Century Schoolbook"/>
              </a:rPr>
              <a:t>        </a:t>
            </a:r>
            <a:r>
              <a:rPr b="1" lang="ru-RU" sz="4000" spc="-1" strike="noStrike">
                <a:solidFill>
                  <a:srgbClr val="9a3d01"/>
                </a:solidFill>
                <a:latin typeface="Century Schoolbook"/>
              </a:rPr>
              <a:t>ЦЕЛЬ           ЗАДА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ктивизировать познавательную деятельность  при изучении темы «Человек»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ратить внимание на сбережение своего здоровья (осанки) путем ежедневного контроля тяжестей за спин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анализировать данные в медицинской литературе по теме исследова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исать, как влияют тяжелые ранцы на растущий организм ребенка, к каким последствием это приводи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оказать, что тяжелый портфель вредит здоровь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ложить свои способы решения проблем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Рисунок 8" descr="D:\Мои рисунки\DSCN0557.jpg"/>
          <p:cNvPicPr/>
          <p:nvPr/>
        </p:nvPicPr>
        <p:blipFill>
          <a:blip r:embed="rId1"/>
          <a:stretch/>
        </p:blipFill>
        <p:spPr>
          <a:xfrm>
            <a:off x="811080" y="4475160"/>
            <a:ext cx="2230560" cy="1724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" descr="лого"/>
          <p:cNvPicPr/>
          <p:nvPr/>
        </p:nvPicPr>
        <p:blipFill>
          <a:blip r:embed="rId2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ru-RU" sz="3200" spc="-1" strike="noStrike">
                <a:solidFill>
                  <a:srgbClr val="9a3d01"/>
                </a:solidFill>
                <a:latin typeface="Century Schoolbook"/>
              </a:rPr>
              <a:t>РЕЗУЛЬТАТЫ ИССЛЕДОВАН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бираем ране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все есть свои нор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1998 г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Гигиенические требования к изданиям учебников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4 классов – 300г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-6 классов – 400г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-8 классов – 500г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9-11 классов – 600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school069"/>
          <p:cNvPicPr/>
          <p:nvPr/>
        </p:nvPicPr>
        <p:blipFill>
          <a:blip r:embed="rId2"/>
          <a:stretch/>
        </p:blipFill>
        <p:spPr>
          <a:xfrm>
            <a:off x="357120" y="3929040"/>
            <a:ext cx="37148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НАШ ЭКСПЕРИМЕ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знать у медицинского работника школы информацию о состоянии опорно-двигательной системы, в частности об осанке, ребят нашего класс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звесить ранцы без школьных принадлежностей у учеников нашего класс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роверить вес учебных пособий, необходимых по программе, и сравнить их с гигиеническими нормам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течение недели наблюдать за изменением веса ранца в связи с учебными нагрузкам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одвести итоги по позициям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правильный ранец (до 0,5 кг)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легкий ранец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тяжелый ранец с принадлежностям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легкий ранец с принадлежностям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тяжелый учебник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«тяжелый» учебный день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амый «легкий» учебный день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Дать рекомендации детям, родителям и учителям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1" descr=""/>
          <p:cNvPicPr/>
          <p:nvPr/>
        </p:nvPicPr>
        <p:blipFill>
          <a:blip r:embed="rId2"/>
          <a:stretch/>
        </p:blipFill>
        <p:spPr>
          <a:xfrm>
            <a:off x="6143760" y="4714920"/>
            <a:ext cx="1863720" cy="1235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18" descr="svetoch5_s"/>
          <p:cNvPicPr/>
          <p:nvPr/>
        </p:nvPicPr>
        <p:blipFill>
          <a:blip r:embed="rId3"/>
          <a:stretch/>
        </p:blipFill>
        <p:spPr>
          <a:xfrm rot="21461400">
            <a:off x="5306760" y="3525480"/>
            <a:ext cx="1307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Century Schoolbook"/>
              </a:rPr>
              <a:t>      </a:t>
            </a:r>
            <a:r>
              <a:rPr b="1" lang="ru-RU" sz="2800" spc="-1" strike="noStrike">
                <a:solidFill>
                  <a:srgbClr val="9a3d01"/>
                </a:solidFill>
                <a:latin typeface="Century Schoolbook"/>
              </a:rPr>
              <a:t>РЕЗУЛЬТАТЫ ИССЛЕДОВ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071800" y="1600200"/>
          <a:ext cx="5852880" cy="4614840"/>
        </p:xfrm>
        <a:graphic>
          <a:graphicData uri="http://schemas.openxmlformats.org/drawingml/2006/table">
            <a:tbl>
              <a:tblPr/>
              <a:tblGrid>
                <a:gridCol w="1170000"/>
                <a:gridCol w="1171440"/>
                <a:gridCol w="1170000"/>
                <a:gridCol w="1171440"/>
                <a:gridCol w="11700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а (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 вес ранца (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ьный вес ранца (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 м/у реаль-ным и пра -вильным ранц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ал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5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,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8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16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и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46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2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е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, 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01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" descr="ученик"/>
          <p:cNvPicPr/>
          <p:nvPr/>
        </p:nvPicPr>
        <p:blipFill>
          <a:blip r:embed="rId2"/>
          <a:stretch/>
        </p:blipFill>
        <p:spPr>
          <a:xfrm>
            <a:off x="214200" y="4643280"/>
            <a:ext cx="16750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d01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9a3d01"/>
                </a:solidFill>
                <a:latin typeface="Century Schoolbook"/>
              </a:rPr>
              <a:t>ПРАКТИЧЕСКАЯ РАБОТ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D:\Мои рисунки\DSCN0919.jpg"/>
          <p:cNvPicPr/>
          <p:nvPr/>
        </p:nvPicPr>
        <p:blipFill>
          <a:blip r:embed="rId2"/>
          <a:stretch/>
        </p:blipFill>
        <p:spPr>
          <a:xfrm>
            <a:off x="1143000" y="1571760"/>
            <a:ext cx="1674720" cy="2236680"/>
          </a:xfrm>
          <a:prstGeom prst="rect">
            <a:avLst/>
          </a:prstGeom>
          <a:ln w="57240">
            <a:solidFill>
              <a:srgbClr val="9a3d01"/>
            </a:solidFill>
            <a:miter/>
          </a:ln>
        </p:spPr>
      </p:pic>
      <p:pic>
        <p:nvPicPr>
          <p:cNvPr id="406" name="Picture 3" descr="D:\Мои рисунки\DSCN0923.jpg"/>
          <p:cNvPicPr/>
          <p:nvPr/>
        </p:nvPicPr>
        <p:blipFill>
          <a:blip r:embed="rId3"/>
          <a:stretch/>
        </p:blipFill>
        <p:spPr>
          <a:xfrm>
            <a:off x="3571920" y="1571760"/>
            <a:ext cx="1657440" cy="2209680"/>
          </a:xfrm>
          <a:prstGeom prst="rect">
            <a:avLst/>
          </a:prstGeom>
          <a:ln w="57240">
            <a:solidFill>
              <a:srgbClr val="9a3d01"/>
            </a:solidFill>
            <a:miter/>
          </a:ln>
        </p:spPr>
      </p:pic>
      <p:pic>
        <p:nvPicPr>
          <p:cNvPr id="407" name="Picture 4" descr="D:\Мои рисунки\DSCN0924.jpg"/>
          <p:cNvPicPr/>
          <p:nvPr/>
        </p:nvPicPr>
        <p:blipFill>
          <a:blip r:embed="rId4"/>
          <a:stretch/>
        </p:blipFill>
        <p:spPr>
          <a:xfrm>
            <a:off x="6000840" y="1571760"/>
            <a:ext cx="1657440" cy="2209680"/>
          </a:xfrm>
          <a:prstGeom prst="rect">
            <a:avLst/>
          </a:prstGeom>
          <a:ln w="57240">
            <a:solidFill>
              <a:srgbClr val="9a3d01"/>
            </a:solidFill>
            <a:miter/>
          </a:ln>
        </p:spPr>
      </p:pic>
      <p:pic>
        <p:nvPicPr>
          <p:cNvPr id="408" name="Picture 5" descr="D:\Мои рисунки\DSCN0921.jpg"/>
          <p:cNvPicPr/>
          <p:nvPr/>
        </p:nvPicPr>
        <p:blipFill>
          <a:blip r:embed="rId5"/>
          <a:stretch/>
        </p:blipFill>
        <p:spPr>
          <a:xfrm>
            <a:off x="1071720" y="4214880"/>
            <a:ext cx="1600200" cy="2133360"/>
          </a:xfrm>
          <a:prstGeom prst="rect">
            <a:avLst/>
          </a:prstGeom>
          <a:ln w="57240">
            <a:solidFill>
              <a:srgbClr val="9a3d01"/>
            </a:solidFill>
            <a:miter/>
          </a:ln>
        </p:spPr>
      </p:pic>
      <p:pic>
        <p:nvPicPr>
          <p:cNvPr id="409" name="Picture 6" descr="D:\Мои рисунки\DSCN0922.jpg"/>
          <p:cNvPicPr/>
          <p:nvPr/>
        </p:nvPicPr>
        <p:blipFill>
          <a:blip r:embed="rId6"/>
          <a:stretch/>
        </p:blipFill>
        <p:spPr>
          <a:xfrm>
            <a:off x="3571920" y="4214880"/>
            <a:ext cx="1600200" cy="2133360"/>
          </a:xfrm>
          <a:prstGeom prst="rect">
            <a:avLst/>
          </a:prstGeom>
          <a:ln w="57240">
            <a:solidFill>
              <a:srgbClr val="9a3d01"/>
            </a:solidFill>
            <a:miter/>
          </a:ln>
        </p:spPr>
      </p:pic>
      <p:pic>
        <p:nvPicPr>
          <p:cNvPr id="410" name="Picture 7" descr="D:\Мои рисунки\DSCN0927.jpg"/>
          <p:cNvPicPr/>
          <p:nvPr/>
        </p:nvPicPr>
        <p:blipFill>
          <a:blip r:embed="rId7"/>
          <a:stretch/>
        </p:blipFill>
        <p:spPr>
          <a:xfrm>
            <a:off x="6072120" y="4572000"/>
            <a:ext cx="1905120" cy="1752480"/>
          </a:xfrm>
          <a:prstGeom prst="rect">
            <a:avLst/>
          </a:prstGeom>
          <a:ln w="57240">
            <a:solidFill>
              <a:srgbClr val="9a3d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ЧТО У НАС В РАНЦА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ик. Русский язык – 0,364 кг                                                                                                                  Учебник. Математика – 0,228 кг                                                                                                                       Учебник. Литературное чтение – 0,296 кг                                                                                                                                                               Учебник. Окружающий мир с тетрадью – 0,420 кг                                                                                                                                                                    Учебник. Немецкий язык с тетрадью и словарем – 0,300 +  0,110 + 0,080 = 0,490 кг                                                                                                                Дневник – 0,100 кг                                                                                                                    Тетрадь  по математике – 0,160 кг                                                                                                                                                Тетрадь по русскому языку – 0,08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BD05629_"/>
          <p:cNvPicPr/>
          <p:nvPr/>
        </p:nvPicPr>
        <p:blipFill>
          <a:blip r:embed="rId2"/>
          <a:stretch/>
        </p:blipFill>
        <p:spPr>
          <a:xfrm>
            <a:off x="6357960" y="4751280"/>
            <a:ext cx="171432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РЕКОМЕНДАЦИИ УЧЕНИК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Не носите лишнего в ранца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Проверяйте ранец ежедневно и не забывайте вытащить из него ненужные учебни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Рисунок 1" descr="лого"/>
          <p:cNvPicPr/>
          <p:nvPr/>
        </p:nvPicPr>
        <p:blipFill>
          <a:blip r:embed="rId1"/>
          <a:stretch/>
        </p:blipFill>
        <p:spPr>
          <a:xfrm>
            <a:off x="506520" y="231840"/>
            <a:ext cx="1206360" cy="24145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BD04923_"/>
          <p:cNvPicPr/>
          <p:nvPr/>
        </p:nvPicPr>
        <p:blipFill>
          <a:blip r:embed="rId2"/>
          <a:stretch/>
        </p:blipFill>
        <p:spPr>
          <a:xfrm>
            <a:off x="1643040" y="3149640"/>
            <a:ext cx="1643040" cy="25146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" descr="0043"/>
          <p:cNvPicPr/>
          <p:nvPr/>
        </p:nvPicPr>
        <p:blipFill>
          <a:blip r:embed="rId3"/>
          <a:stretch/>
        </p:blipFill>
        <p:spPr>
          <a:xfrm>
            <a:off x="4572000" y="4143240"/>
            <a:ext cx="1863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02-19T23:40:18Z</dcterms:modified>
  <cp:revision>16</cp:revision>
  <dc:subject/>
  <dc:title>Слайд 1</dc:title>
</cp:coreProperties>
</file>