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EE2-B28A-4EB8-845E-BCDCDE066C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23DD-5F5D-41D5-AF74-6DCE0D1A92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2C0-5E3E-446A-8539-BB44F1F8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A60-5BB3-4F04-B349-8C51B89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084-8212-40DC-9097-84BB824A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437-8D78-4136-A377-398522F1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A27E-4369-40A9-A6CA-548ED1FF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23DA-111C-42DD-9464-A8B1AFD5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90E0-26C1-4E2F-9682-0284E5CB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E65E-51D9-4151-BEFB-9DFDAD3F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BC4E-452E-4484-B2DF-CEDDCBDE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E361-0438-4992-8EDC-60C9BC19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AD5C-62E4-45F9-8D9E-FBCDB895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810-2BF5-46E3-9E9F-88DCB929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C5B1-EC1E-4125-94B0-42D1322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08CE-B170-44AF-A833-025B28C0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3F48-4AE7-42C3-897D-F5E4E313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B271-AAB8-46F5-9B53-580BAB9A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00F2-9129-4F10-A2DD-E444C6AA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E6D-26E5-4992-B4D6-BC3F3973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DFE-B456-4730-AE36-AB619131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003-B1A5-48CA-A466-EAD1E2EE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4F7-1231-44BF-8AA4-60B7885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672-C234-4C97-8471-481DA65A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360-837D-4D9A-8D0B-1BDB9A36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4D4-23CE-44E0-91C0-6741C157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89A9-1FE7-4021-82C3-E3F491F39B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FD67-B9AB-4DEC-88CA-00BF3AFFBD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X_&#1074;&#1077;&#1082;" TargetMode="External"/><Relationship Id="rId2" Type="http://schemas.openxmlformats.org/officeDocument/2006/relationships/hyperlink" Target="http://ru.wikipedia.org/wiki/&#1069;&#1088;&#1089;&#1090;&#1077;&#1076;,_&#1043;&#1072;&#1085;&#1089;_&#1061;&#1088;&#1080;&#1089;&#1090;&#1080;&#1072;&#1085;" TargetMode="External"/><Relationship Id="rId3" Type="http://schemas.openxmlformats.org/officeDocument/2006/relationships/hyperlink" Target="http://ru.wikipedia.org/wiki/&#1040;&#1084;&#1087;&#1077;&#1088;,_&#1040;&#1085;&#1076;&#1088;&#1077;_&#1052;&#1072;&#1088;&#1080;" TargetMode="External"/><Relationship Id="rId4" Type="http://schemas.openxmlformats.org/officeDocument/2006/relationships/hyperlink" Target="http://ru.wikipedia.org/wiki/1820" TargetMode="External"/><Relationship Id="rId5" Type="http://schemas.openxmlformats.org/officeDocument/2006/relationships/hyperlink" Target="http://ru.wikipedia.org/wiki/&#1044;&#1078;&#1086;&#1091;&#1083;&#1100;,_&#1044;&#1078;&#1077;&#1081;&#1084;&#1089;_&#1055;&#1088;&#1077;&#1089;&#1082;&#1086;&#1090;&#1090;" TargetMode="External"/><Relationship Id="rId6" Type="http://schemas.openxmlformats.org/officeDocument/2006/relationships/hyperlink" Target="http://ru.wikipedia.org/wiki/&#1051;&#1077;&#1085;&#1094;,_&#1069;&#1084;&#1080;&#1083;&#1080;&#1081;_&#1061;&#1088;&#1080;&#1089;&#1090;&#1080;&#1072;&#1085;&#1086;&#1074;&#1080;&#1095;" TargetMode="External"/><Relationship Id="rId7" Type="http://schemas.openxmlformats.org/officeDocument/2006/relationships/hyperlink" Target="http://ru.wikipedia.org/wiki/&#1054;&#1084;,_&#1043;&#1077;&#1086;&#1088;&#1075;_&#1057;&#1080;&#1084;&#1086;&#1085;" TargetMode="External"/><Relationship Id="rId8" Type="http://schemas.openxmlformats.org/officeDocument/2006/relationships/hyperlink" Target="http://ru.wikipedia.org/wiki/&#1043;&#1072;&#1091;&#1089;&#1089;,_&#1050;&#1072;&#1088;&#1083;_&#1060;&#1088;&#1080;&#1076;&#1088;&#1080;&#1093;" TargetMode="External"/><Relationship Id="rId9" Type="http://schemas.openxmlformats.org/officeDocument/2006/relationships/hyperlink" Target="http://ru.wikipedia.org/wiki/1830" TargetMode="External"/><Relationship Id="rId10" Type="http://schemas.openxmlformats.org/officeDocument/2006/relationships/hyperlink" Target="http://ru.wikipedia.org/wiki/&#1060;&#1072;&#1088;&#1072;&#1076;&#1077;&#1081;,_&#1052;&#1072;&#1081;&#1082;&#1083;" TargetMode="External"/><Relationship Id="rId11" Type="http://schemas.openxmlformats.org/officeDocument/2006/relationships/hyperlink" Target="http://ru.wikipedia.org/wiki/&#1069;&#1083;&#1077;&#1082;&#1090;&#1088;&#1086;&#1084;&#1072;&#1075;&#1085;&#1080;&#1090;&#1085;&#1072;&#1103;_&#1080;&#1085;&#1076;&#1091;&#1082;&#1094;&#1080;&#1103;" TargetMode="External"/><Relationship Id="rId12" Type="http://schemas.openxmlformats.org/officeDocument/2006/relationships/hyperlink" Target="http://ru.wikipedia.org/wiki/1831" TargetMode="External"/><Relationship Id="rId13" Type="http://schemas.openxmlformats.org/officeDocument/2006/relationships/hyperlink" Target="http://ru.wikipedia.org/wiki/&#1069;&#1083;&#1077;&#1082;&#1090;&#1088;&#1086;&#1083;&#1080;&#1079;" TargetMode="External"/><Relationship Id="rId14" Type="http://schemas.openxmlformats.org/officeDocument/2006/relationships/hyperlink" Target="http://ru.wikipedia.org/wiki/1834" TargetMode="External"/><Relationship Id="rId15" Type="http://schemas.openxmlformats.org/officeDocument/2006/relationships/hyperlink" Target="http://ru.wikipedia.org/wiki/&#1069;&#1083;&#1077;&#1082;&#1090;&#1088;&#1080;&#1095;&#1077;&#1089;&#1082;&#1086;&#1077;_&#1087;&#1086;&#1083;&#1077;" TargetMode="External"/><Relationship Id="rId16" Type="http://schemas.openxmlformats.org/officeDocument/2006/relationships/hyperlink" Target="http://ru.wikipedia.org/wiki/&#1052;&#1072;&#1075;&#1085;&#1080;&#1090;&#1085;&#1086;&#1077;_&#1087;&#1086;&#1083;&#1077;" TargetMode="External"/><Relationship Id="rId17" Type="http://schemas.openxmlformats.org/officeDocument/2006/relationships/hyperlink" Target="http://ru.wikipedia.org/wiki/&#1052;&#1072;&#1082;&#1089;&#1074;&#1077;&#1083;&#1083;,_&#1044;&#1078;&#1077;&#1081;&#1084;&#1089;_&#1050;&#1083;&#1077;&#1088;&#1082;" TargetMode="External"/><Relationship Id="rId18" Type="http://schemas.openxmlformats.org/officeDocument/2006/relationships/hyperlink" Target="http://ru.wikipedia.org/wiki/1873" TargetMode="External"/><Relationship Id="rId19" Type="http://schemas.openxmlformats.org/officeDocument/2006/relationships/hyperlink" Target="http://ru.wikipedia.org/wiki/&#1043;&#1077;&#1088;&#1094;,_&#1043;&#1077;&#1085;&#1088;&#1080;&#1093;_&#1056;&#1091;&#1076;&#1086;&#1083;&#1100;&#1092;" TargetMode="External"/><Relationship Id="rId20" Type="http://schemas.openxmlformats.org/officeDocument/2006/relationships/hyperlink" Target="http://ru.wikipedia.org/wiki/1889" TargetMode="External"/><Relationship Id="rId21" Type="http://schemas.openxmlformats.org/officeDocument/2006/relationships/hyperlink" Target="http://ru.wikipedia.org/w/index.php?title=&#1069;&#1083;&#1077;&#1082;&#1090;&#1088;&#1086;&#1090;&#1077;&#1093;&#1085;&#1080;&#1095;&#1077;&#1089;&#1082;&#1072;&#1103;_&#1088;&#1077;&#1074;&#1086;&#1083;&#1102;&#1094;&#1080;&#1103;&amp;action=edit&amp;redlink=1" TargetMode="External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_&#1074;&#1077;&#1082;" TargetMode="External"/><Relationship Id="rId2" Type="http://schemas.openxmlformats.org/officeDocument/2006/relationships/hyperlink" Target="http://ru.wikipedia.org/wiki/&#1069;&#1083;&#1077;&#1082;&#1090;&#1088;&#1080;&#1095;&#1077;&#1089;&#1082;&#1080;&#1081;_&#1082;&#1086;&#1085;&#1076;&#1077;&#1085;&#1089;&#1072;&#1090;&#1086;&#1088;" TargetMode="External"/><Relationship Id="rId3" Type="http://schemas.openxmlformats.org/officeDocument/2006/relationships/hyperlink" Target="http://ru.wikipedia.org/wiki/&#1051;&#1077;&#1081;&#1076;&#1077;&#1085;&#1089;&#1082;&#1072;&#1103;_&#1073;&#1072;&#1085;&#1082;&#1072;" TargetMode="External"/><Relationship Id="rId4" Type="http://schemas.openxmlformats.org/officeDocument/2006/relationships/hyperlink" Target="http://ru.wikipedia.org/wiki/1745" TargetMode="External"/><Relationship Id="rId5" Type="http://schemas.openxmlformats.org/officeDocument/2006/relationships/hyperlink" Target="http://ru.wikipedia.org/wiki/&#1050;&#1072;&#1074;&#1077;&#1085;&#1076;&#1080;&#1096;,_&#1043;&#1077;&#1085;&#1088;&#1080;" TargetMode="External"/><Relationship Id="rId6" Type="http://schemas.openxmlformats.org/officeDocument/2006/relationships/hyperlink" Target="http://ru.wikipedia.org/wiki/1773" TargetMode="External"/><Relationship Id="rId7" Type="http://schemas.openxmlformats.org/officeDocument/2006/relationships/hyperlink" Target="http://ru.wikipedia.org/wiki/&#1050;&#1091;&#1083;&#1086;&#1085;,_&#1064;&#1072;&#1088;&#1083;&#1100;_&#1054;&#1075;&#1102;&#1089;&#1090;&#1077;&#1085;" TargetMode="External"/><Relationship Id="rId8" Type="http://schemas.openxmlformats.org/officeDocument/2006/relationships/hyperlink" Target="http://ru.wikipedia.org/wiki/1785" TargetMode="External"/><Relationship Id="rId9" Type="http://schemas.openxmlformats.org/officeDocument/2006/relationships/hyperlink" Target="http://ru.wikipedia.org/wiki/&#1043;&#1072;&#1083;&#1100;&#1074;&#1072;&#1085;&#1080;,_&#1051;&#1091;&#1080;&#1076;&#1078;&#1080;" TargetMode="External"/><Relationship Id="rId10" Type="http://schemas.openxmlformats.org/officeDocument/2006/relationships/hyperlink" Target="http://ru.wikipedia.org/wiki/&#1042;&#1086;&#1083;&#1100;&#1090;&#1072;,_&#1040;&#1083;&#1077;&#1089;&#1089;&#1072;&#1085;&#1076;&#1088;&#1086;" TargetMode="External"/><Relationship Id="rId11" Type="http://schemas.openxmlformats.org/officeDocument/2006/relationships/hyperlink" Target="http://ru.wikipedia.org/wiki/&#1043;&#1072;&#1083;&#1100;&#1074;&#1072;&#1085;&#1080;&#1095;&#1077;&#1089;&#1082;&#1080;&#1081;_&#1101;&#1083;&#1077;&#1084;&#1077;&#1085;&#1090;" TargetMode="External"/><Relationship Id="rId12" Type="http://schemas.openxmlformats.org/officeDocument/2006/relationships/hyperlink" Target="http://ru.wikipedia.org/wiki/1800" TargetMode="External"/><Relationship Id="rId13" Type="http://schemas.openxmlformats.org/officeDocument/2006/relationships/hyperlink" Target="http://ru.wikipedia.org/wiki/&#1060;&#1088;&#1072;&#1085;&#1082;&#1083;&#1080;&#1085;,_&#1041;&#1077;&#1085;&#1076;&#1078;&#1072;&#1084;&#1080;&#1085;" TargetMode="External"/><Relationship Id="rId14" Type="http://schemas.openxmlformats.org/officeDocument/2006/relationships/hyperlink" Target="http://ru.wikipedia.org/wiki/&#1052;&#1086;&#1083;&#1085;&#1080;&#1103;" TargetMode="External"/><Relationship Id="rId15" Type="http://schemas.openxmlformats.org/officeDocument/2006/relationships/hyperlink" Target="http://ru.wikipedia.org/wiki/&#1040;&#1090;&#1084;&#1086;&#1089;&#1092;&#1077;&#1088;&#1085;&#1086;&#1077;_&#1101;&#1083;&#1077;&#1082;&#1090;&#1088;&#1080;&#1095;&#1077;&#1089;&#1090;&#1074;&#1086;" TargetMode="External"/><Relationship Id="rId16" Type="http://schemas.openxmlformats.org/officeDocument/2006/relationships/hyperlink" Target="http://ru.wikipedia.org/wiki/&#1052;&#1086;&#1083;&#1085;&#1080;&#1077;&#1086;&#1090;&#1074;&#1086;&#1076;" TargetMode="Externa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X_&#1074;&#1077;&#1082;" TargetMode="External"/><Relationship Id="rId2" Type="http://schemas.openxmlformats.org/officeDocument/2006/relationships/hyperlink" Target="http://ru.wikipedia.org/wiki/&#1050;&#1074;&#1072;&#1085;&#1090;&#1086;&#1074;&#1072;&#1103;_&#1101;&#1083;&#1077;&#1082;&#1090;&#1088;&#1086;&#1076;&#1080;&#1085;&#1072;&#1084;&#1080;&#1082;&#1072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История создания  первых гальванических элементов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Ховалыг Хун-Херел, 10 к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уг-Аксынская СО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XIX век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Эрстед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Ампер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вают связь между электричеством и магнетизмом (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1820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Работы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Джоул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Ленц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Ом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зучению электрического тока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Гаусс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улирует основную теорему теории электростатического поля (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1830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Фараде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вает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электромагнитную индукцию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1831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законы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3"/>
              </a:rPr>
              <a:t>электролиз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4"/>
              </a:rPr>
              <a:t>1834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водит понятие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5"/>
              </a:rPr>
              <a:t>электрического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6"/>
              </a:rPr>
              <a:t>магнитного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ей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7"/>
              </a:rPr>
              <a:t>Максвелл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улирует свои уравнения (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8"/>
              </a:rPr>
              <a:t>1873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9"/>
              </a:rPr>
              <a:t>Герц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спериментально регистрирует электромагнитные волны (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0"/>
              </a:rPr>
              <a:t>1889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1"/>
              </a:rPr>
              <a:t>Электротехническая революц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оздание электрических батарей, электромагнитов, электрического освещения, телеграфа, телефона, прокладка трансантлантического кабеля, электродвигателей, электрогенераторов и электротранспорта (трамвай, троллейбус, метро)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 век - электрическая энергия окончательно стала неотъемлемой частью жизни. Отключение электроснабжения в бытовой и производственной сетях - смерти подобно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000" y="155700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иджи Гальвани - профессор. Его исследования по физиологии нервов и мышц позволили  обнаружить влияние электричества на лягушачьи лапк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первым гальваническим элементом был Вольтов столб. Первые гальванические элементы вырабатывали ток только несколько минут. Кратковременная работа источников тока создавала серьезные препятствия для использования в промышлен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звестный русский ученый Петров в 1802 г. изготовил огромную батарею. Она состояла из 4200 медных и цинковых кружков, между каждой парой которых прокладывали картонные кружочки, пропитанные раствором нашатыря. Это был первый в истории источник постоянного тока сравнительно высокого напряж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30-х годов 19 века англичане Кемп и Уильям Стёрджен обнаружили, что цинковый электрод покрытый амальгамой цинка (соединение цинка с ртутью), работает как и обычный цинк но не реагирует с кислотой когда электроцепь разомкнута. Это было большим достижение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ученый и изобретатель Джон Даниель опубликовал в 1836 г. сообщение о том, что им создан стабильный медно-цинковый элемен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чанин Уильям Грове заменил азотной кислотой медный купоро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стория создания первых гальванических элемент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3203640" y="0"/>
            <a:ext cx="576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 же самое время талантливый физик и электротехник Борис Семенович Якоби изобрел гальванический элемент новой конструкции: два  электролита: у медного электрода - раствора сульфатамеди, у цинкового - сульфата цинка.  Это стало основным принципом при конструировании гальванических элементов для практи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ножества изобретателей, самого большого успеха достиг французский химик Жорж Лекланше. Он заполнил глиняную емкость смесью из перекиси марганца и кусочков угля из газовых реторт и вставил туда угольную призму прямоугольной формы, которая служила положительным электродом. Сверху емкость заливалась варом либо смолой и помещалась в стеклянную банку, наполненную раствором нашатыря (хлористого аммония), с электродом из цинка. При работе элемента, цинк переходил в раствор образуя хлорид цинка, а аммоний распадался на растворяющийся аммиак и водород, перекись марганца окисляет водород.  Однако, элемент Лекланше постоянно совершенствовался, и в последствии многочисленных улучшений приобрел вид всем знакомых батарее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72880"/>
            <a:ext cx="2459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434600"/>
            <a:ext cx="2808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ланше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э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Рисунок 14" descr="Гальванические элементы Лекланше и Даниэля"/>
          <p:cNvPicPr/>
          <p:nvPr/>
        </p:nvPicPr>
        <p:blipFill>
          <a:blip r:embed="rId1"/>
          <a:stretch/>
        </p:blipFill>
        <p:spPr>
          <a:xfrm>
            <a:off x="0" y="3068640"/>
            <a:ext cx="298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ольтов столб –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первый гальванический элемен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Содержимое 4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1258920" y="1844640"/>
            <a:ext cx="3025800" cy="439272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5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4643280" y="1844640"/>
            <a:ext cx="3673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вые гальванические элемен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ьванические элемен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ве, Калло и Бунзена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Содержимое 3" descr="Гальванические элементы Грове, Калло и Бунзена"/>
          <p:cNvPicPr/>
          <p:nvPr/>
        </p:nvPicPr>
        <p:blipFill>
          <a:blip r:embed="rId1"/>
          <a:stretch/>
        </p:blipFill>
        <p:spPr>
          <a:xfrm>
            <a:off x="179280" y="2205000"/>
            <a:ext cx="432144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не и Флейшера и сухой элемент фирмы "Сименс и Гальске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Содержимое 12" descr="Гальванические элементы Грене и Флейшера и сухой элемент фирмы &quot;Сименс и Гальске&quot;"/>
          <p:cNvPicPr/>
          <p:nvPr/>
        </p:nvPicPr>
        <p:blipFill>
          <a:blip r:embed="rId2"/>
          <a:stretch/>
        </p:blipFill>
        <p:spPr>
          <a:xfrm>
            <a:off x="4643280" y="2349360"/>
            <a:ext cx="4249800" cy="32403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16"/>
          <p:cNvSpPr/>
          <p:nvPr/>
        </p:nvSpPr>
        <p:spPr>
          <a:xfrm>
            <a:off x="4643280" y="1557360"/>
            <a:ext cx="0" cy="44640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971640" y="1166760"/>
            <a:ext cx="770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ьванический элемент - химический источник электрического тока, названный в честь Луиджи Гальва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йствия гальванического элемента основан на взаимодействии двух металлов через электролит, приводящем к возникновению в замкнутой цепи электрического тока. ЭДС гальванического элемента зависит от материала электродов и состава электролита. Это первичные ХИТ, которые из-за необратимости протекающих в них реакций, невозможно перезаряди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х источников тока составляют два электрода (катод, содержащий окислитель и анод, содержащий восстановитель), контактирующих с электроли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ых химических источниках тока использую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 качестве восстановителя (на аноде) — свинец Pb, кадмий Cd, цинк Zn и другие металлы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ачестве окислителя (на катоде) — оксид свинца(IV) PbO2, гидроксид никеля NiOOH, оксид марганца(IV) MnO2 и други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в качестве электролита — растворы щелочей, кислот или сол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5051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Гальваническ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                          элемент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5051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ьванический элемент - в цинковый сосуд вставлен угольный стержень. Стержень помещен в полотняный мешочек, наполнен-ный смесью оксида марганца с углем. В элементе используют клейстер из муки на растворе нашатыря. При взаимодействии нашатыря с цинком, цинк приобретает отрицательный заряд, а угольный стержень - положительный заряд. Между заряженным стержнем и цинковым сосудом возникает электрическое поле. В таком источнике тока уголь является положительным электродом, а цинковый сосуд - отрицательным электрод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гальванических элементов можно составить батаре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тока на основе гальванических элементов применяются в бытовых автономных электроприборах, источниках бесперебойного питани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Содержимое 4" descr="http://class-fizika.narod.ru/8_class/8_urok/8_el/41.jpg"/>
          <p:cNvPicPr/>
          <p:nvPr/>
        </p:nvPicPr>
        <p:blipFill>
          <a:blip r:embed="rId1"/>
          <a:stretch/>
        </p:blipFill>
        <p:spPr>
          <a:xfrm>
            <a:off x="5651640" y="549360"/>
            <a:ext cx="302400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http://class-fizika.narod.ru/8_class/8_urok/8_el/8.jpg"/>
          <p:cNvPicPr/>
          <p:nvPr/>
        </p:nvPicPr>
        <p:blipFill>
          <a:blip r:embed="rId2"/>
          <a:stretch/>
        </p:blipFill>
        <p:spPr>
          <a:xfrm>
            <a:off x="5724360" y="3500280"/>
            <a:ext cx="2880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Е ОБОРУДОВАНИЕ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Picture 2" descr="I:\DCIM\102DICAM\DSCI0515.JPG"/>
          <p:cNvPicPr/>
          <p:nvPr/>
        </p:nvPicPr>
        <p:blipFill>
          <a:blip r:embed="rId1"/>
          <a:stretch/>
        </p:blipFill>
        <p:spPr>
          <a:xfrm>
            <a:off x="1763640" y="1484280"/>
            <a:ext cx="662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АМОДЕЛЬНЫЕ       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      БАТАРЕЙКИ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ы содержат в себе слабые растворы кислот. Если взять лимон или яблоко и воткнуть в него медную проволоку, а на расстоянии от неё кусочек оцинкованного железа, то получится гальванический элемент. Измерьте вольтметром напряжение на своей батарейке, он покажет около 1 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I:\DCIM\102DICAM\DSCI0518.JPG"/>
          <p:cNvPicPr/>
          <p:nvPr/>
        </p:nvPicPr>
        <p:blipFill>
          <a:blip r:embed="rId1"/>
          <a:stretch/>
        </p:blipFill>
        <p:spPr>
          <a:xfrm>
            <a:off x="4213080" y="644400"/>
            <a:ext cx="468000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вед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источники тока в течении многих лет прочно вошли в нашу жизнь. В настоящее время не стоит вопрос о получении с помощью гальванических элементов больших количеств электрической энергии и это вряд ли целесообразно, поскольку потребности современного общества в электроэнергии вполне удовлетворяются за счет сети электропередач.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в технике и быту постоянно растет число таких приборов, машин и сигнальных устройств, для которых требуются автономные, малогабаритные легкие и надежные источники тока. Здесь можно назвать источники тока для электроинструментов, сигнальных устройств, транзисторных приемников, электрических карманных фонариков, наручных часов и т.д. и, конечно же, для искусственных спутников Земли и космических лабораторий. Гальванические элементы находят также применение в различных предохранительных устройств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АМОДЕЛЬНЫЕ       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      БАТАРЕЙКИ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5" descr="I:\DCIM\102DICAM\DSCI0520.JPG"/>
          <p:cNvPicPr/>
          <p:nvPr/>
        </p:nvPicPr>
        <p:blipFill>
          <a:blip r:embed="rId1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ы содержат в себе слабые растворы кислот. Если взять лимон или яблоко и воткнуть в него медную проволоку, а на расстоянии от неё кусочек оцинкованного железа, то получится гальванический элемент. Измерьте вольтметром напряжение на своей батарейке, он покажет около 1 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9704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Лимонна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батарейк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98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жьте лимон острым ножом поперек, стараясь по возможности не сминать и не разрывать тех тонких перегородок, которые делят лимон на гнезда. Затем в каждое гнездо воткните попеременно по кусочку (2 см.) медной и цинковой проволоки и соедините их концы последовательно тонкой проволокой. Соединять нужно все медные кусочки - одним проводом, цинковые - вторым. У вас получиться маленькая гальваническая батарея, дающая хотя очень слабый, но оказывающий некоторое физиологическое действие (проба на язык дает характерное покалывание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5" descr="I:\DCIM\102DICAM\DSCI0521.JPG"/>
          <p:cNvPicPr/>
          <p:nvPr/>
        </p:nvPicPr>
        <p:blipFill>
          <a:blip r:embed="rId1"/>
          <a:stretch/>
        </p:blipFill>
        <p:spPr>
          <a:xfrm>
            <a:off x="4500720" y="1069920"/>
            <a:ext cx="43923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Батарейки из моей кухн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2" descr="I:\DCIM\102DICAM\DSCI0516.JPG"/>
          <p:cNvPicPr/>
          <p:nvPr/>
        </p:nvPicPr>
        <p:blipFill>
          <a:blip r:embed="rId1"/>
          <a:stretch/>
        </p:blipFill>
        <p:spPr>
          <a:xfrm>
            <a:off x="1042920" y="1413000"/>
            <a:ext cx="3816360" cy="4968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I:\DCIM\102DICAM\DSCI0522.JPG"/>
          <p:cNvPicPr/>
          <p:nvPr/>
        </p:nvPicPr>
        <p:blipFill>
          <a:blip r:embed="rId2"/>
          <a:stretch/>
        </p:blipFill>
        <p:spPr>
          <a:xfrm>
            <a:off x="4932360" y="1413000"/>
            <a:ext cx="381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АМОДЕЛЬНЫЕ       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      БАТАРЕЙКИ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 по пять «желтых» и «белых» монет. Разложи их, чередуя между собой. Проложи между ними прокладки из промокашки или газеты, смоченной в крепком растворе поваренной соли. Поставь все это столбиком и сожми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арейка готова!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едините вольтметр к первой «желтой» и последней «белой монете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напряжение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5" descr="I:\DCIM\102DICAM\DSCI0527.JPG"/>
          <p:cNvPicPr/>
          <p:nvPr/>
        </p:nvPicPr>
        <p:blipFill>
          <a:blip r:embed="rId1"/>
          <a:stretch/>
        </p:blipFill>
        <p:spPr>
          <a:xfrm>
            <a:off x="4273560" y="709560"/>
            <a:ext cx="46195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835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 восстановить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севшие батарейк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5051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нет необходимости восстанавливать севшие батарейки, так как проще будет сходить в магазин и купить новые, но бывают случаи когда нет возможности приобрести новые элементы питания. Если вы находитесь в такой ситуации то хочу представить вам мануал по восстановлению заряда батареек. Наилучшим способом для пальчиковых батареек является такой СПОСОБ : снимаем обертку с батарейки и прокалываем 4-6 дырок в корпусе; наливаем в кастрюлю воды, добавляем соли (побольше, чтоб внутренности батарейки не растеклись по кастрюле) и кипятим батарейку около 10 минут, можно меньше; вынимаем и заматываем изолентой. Все! Батарейки восстановлены.  Как известно, в любом аккумуляторе или батарейке должен присутствовать электролит, и причиной непригодности батареек является банальная потеря емкости, а как вернуть эту емкость ? Есть ответ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осстановление севших батарее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2" descr="I:\Images\Фото-0012.jpg"/>
          <p:cNvPicPr/>
          <p:nvPr/>
        </p:nvPicPr>
        <p:blipFill>
          <a:blip r:embed="rId1"/>
          <a:stretch/>
        </p:blipFill>
        <p:spPr>
          <a:xfrm>
            <a:off x="4572000" y="1700280"/>
            <a:ext cx="3664080" cy="4321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I:\Images\Фото-0011.jpg"/>
          <p:cNvPicPr/>
          <p:nvPr/>
        </p:nvPicPr>
        <p:blipFill>
          <a:blip r:embed="rId2"/>
          <a:stretch/>
        </p:blipFill>
        <p:spPr>
          <a:xfrm>
            <a:off x="826920" y="1700280"/>
            <a:ext cx="3627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4"/>
          <p:cNvSpPr/>
          <p:nvPr/>
        </p:nvSpPr>
        <p:spPr>
          <a:xfrm>
            <a:off x="1403280" y="1444680"/>
            <a:ext cx="72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существует множество различных типов гальванических элементов, к пример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нцево - цинковы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нцево - оловянны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нцево - магниевы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цово - цинковы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цово - кадмиевы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цово - хлорны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 - цинковы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но - ртутно-оловянны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утно - цинковы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утно - кадмиевый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внутреннего состава, батарейки также отличаются размерам и, следовательно, ёмкостью заря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ипы гальванических элемент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-171360"/>
            <a:ext cx="7313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альванические элементы, применяемые на практике для получения электрической энергии, делятся на первичные и вторичные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е элемен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быть возвращены в рабочее состояние после того, как их наполнитель (активное вещество) был уже однажды израсходован. В этом случае говорят, что элемент истощен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элементы или аккумулято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регенерировать после истощения, если пропустить через них ток в обратном направлении (зарядить), потому что процессы генерации тока, происходящие на их электродах, с хорошим приближением электрохимически обращаемы. Принципиального же различия между первичными и вторичными элементами нет.</a:t>
            </a:r>
            <a:br>
              <a:rPr sz="18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402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"ОЖИВЛЯЕМ" БАТАРЕЙКУ!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4475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те выбрасывать старую батарейку,  а попробуйте ее "оживить"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ганцево-цинковых элементах  со временем  из    диоксида  марганца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ется гидроксид  марганца, который постепенно покрывает  оксид и мешает протеканию химической реакции. Проще всего  постучать по батарейке , например, камнем (при  сотрясении разрушается образовавшийся  поверхностный слой  гидроксида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же можно пробить в  цинковом стаканчике батарейки  отверстие, например,  гвоздем и  опустить  батарейку в воду. Электролит   разжижается, и ему легче проникнуть к  диоксиду марганца. Таким способом можно   увеличить срок службы батарейки почти на треть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898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557360"/>
            <a:ext cx="8215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редъявляет к современным гальваническим элементам весьма разнообразные требования. Вследствие все возрастающего и весьма разнообразного спроса на гальванические элементы в последнее время вновь расширяются научные исследования, направленные на разработку новых и усовершенствование старых типов элемент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Гальванические элементы как источники электрической энергии обладают существенными преимуществами: они могут быть различных размеров и форм, не имеют макроскопически подвижных, подверженных износу частей, относительно легки и автономны, мало чувствительны к вибрации и колебаниям температуры, работают бесшумно, хорошо регулируются. Их КПД довольно высок (до 90%), так как превращение химической энергии в электрическую совершается в них без промежуточной тепловой стадии, а электродные процессы в некоторых случаях близки к обратим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ктуальность тем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ике и быту постоянно растет число таких приборов, машин и сигнальных устройств, для которых требуются автономные, малогабаритные легкие и надежные источники тока. В отличие от электростанций, гальванический элемент или привычней говоря - батарейка, огромную мощность не способна дать нам, но без неё невозможно обойтись в тех случаях, когда обычная сеть не доступна либо не целесообраз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1042920" y="1557360"/>
            <a:ext cx="77058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 хотелось бы сказать, что производство и разработка новых видов гальванических элементов остаётся актуальным, так как гальванические элементы без проблем вошли в нашу жизнь и активно используются в повседневной жизни. Даже сложно представить нашу жизнь без различных батареек и аккумулято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042920" y="3357720"/>
            <a:ext cx="756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овых видов гальванических элементов,  влечёт, как мне кажется, активное использование их в будущем, так как это наиболее простые в использовании и долговечные элементы, обладающие рядом преимуществ, такие как относительно легки и автономны, мало чувствительны к вибрации и колебаниям температуры, работают бесшумно, хорошо регулируютс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971640" y="1484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оцкий В.С., Скундин А.М. Химические источники тока. М.: Энергоиздат, 1991. 360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ышкин А.В. Физика, 8 класс. Дрофа, 2002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, 9 класс, 2000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птон. Т. Первичные источники тока. Москва. «Мир». 1996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птон Т. Первичные источники то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ресурсы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oolreferat.com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ьванические элемен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ть  простейшие гальванические элем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историей создания первых гальванических элемент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устройство о принцип действия гальванических элемент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типы гальванических элемент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химических источников тока в повседневной жизни и различных сферах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ипотез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жно ли самому изготовить гальванический элемент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раткая история освоения электричеств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XVII век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нее — смутные представления о существовании электричества. Найдены минералы, притягивающие куски железа. Известно, что если некоторые вещества (янтарь, серу и др.) потереть о шерсть, они притягивают лёгкие предмет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XVIII век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cоздаётся первый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электрический конденсатор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Лейденская банк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1745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Кавендиш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177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Куло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1785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ткрывают закон взаимодействия электрических зарядов.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Гальван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вает биологические эффекты электричества.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Воль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бретает источник постоянного тока —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гальванический элемент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180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3"/>
              </a:rPr>
              <a:t>Франкл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вает электрическую природу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4"/>
              </a:rPr>
              <a:t>молний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5"/>
              </a:rPr>
              <a:t>атмосферное электричеств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изобретает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6"/>
              </a:rPr>
              <a:t>молниеотвод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XX век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оздание теории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Квантовой электродинамик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ользование электричества в быту — повсеместно, от бытовой электротехники до музыкальных электроинструментов. Появление и бурное развитие электроники, микро/нано/пико-технолог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5:14:02Z</dcterms:created>
  <dc:creator>south5</dc:creator>
  <dc:description/>
  <dc:language>en-US</dc:language>
  <cp:lastModifiedBy>Ондар</cp:lastModifiedBy>
  <dcterms:modified xsi:type="dcterms:W3CDTF">2013-10-20T09:32:25Z</dcterms:modified>
  <cp:revision>147</cp:revision>
  <dc:subject/>
  <dc:title>История электри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1000000000001024140</vt:lpwstr>
  </property>
</Properties>
</file>