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019160" y="721800"/>
            <a:ext cx="4819680" cy="36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3E0D-A9F9-45C7-BD07-D01B580EAF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EBC8-3EE5-4893-9A26-146826CC1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2D6A-08F2-4BC4-88F0-637980DB0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8760-BE2B-44AA-BFE5-BF8429085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57C-B999-400E-8861-559EE2C7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715-A476-47D4-B893-B79330C3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861FC-E65B-4FD8-90E5-70E19079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6321A-D541-4F11-9016-830A2E04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41E2D-48A6-4341-998A-6B7EBC63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7EAFA-EA7C-4A72-98B5-581789B3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430AA-6F5B-4CCB-983F-E2A257B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1E8CC-9B61-4ABC-956C-8B38E4B6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88DA5-7984-4D23-A3B0-D5332CE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B414B-411E-4155-B247-71937C2E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C3ADF-57F7-4EAA-A4B8-5791EE13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DD5-AAED-4033-B72A-AA0F9BEA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329-2B3E-4CBE-B238-2DB770D8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613D-D036-4413-A980-0076E38E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94C1-1B7C-4CAD-9AE8-5F1B02E6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D2D5-B840-4893-879F-44C32E0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6D1A-1457-4F43-9E8B-1495DC47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0191-79EF-4765-BF30-FE14C1EA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B9E3-E748-4221-B868-E42674A4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4930-D325-46A5-A40F-359D5E02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466-E3E2-4BC8-81BA-1B45AB13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0708-756D-4422-A5D9-37058B4C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6E02-B2F3-492E-BCDD-F6E1B076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2458-2B08-4A16-B977-47323BC4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3138-3FD1-44E6-9769-7B4105ED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FD9F-2BEB-45F3-8AA1-DBF323B6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C9D5-892F-4673-8E76-C3F65FBB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B7EF-EAE5-46A1-BD50-9A6352D3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72C9-5021-4053-9363-354E3924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6232-0715-4345-A763-1ED0A701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FAE4-7AEE-4F8D-A77F-A7916124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64B-E129-4235-A433-C84861C3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80C5-9413-4427-A63B-83445304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DE0D-3ABC-4254-968B-72FCA1F0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4CC5-A6D6-4560-A763-45547DB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5DAC-BA5D-489C-960A-2CDCEEB4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CB9E-E839-4670-86D5-D9255A29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6A4D-6122-4525-AB82-F3B7B376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3748-D6B4-4756-81DC-3F0831F7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D331B-2BC3-4223-9102-12696262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40B1-B3BC-48EF-846E-57D15B7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556F-9993-479C-9B7B-1CE5FD83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1D3-50B9-4AA2-89B4-F4FA74BD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A58A-9550-4ACF-BF83-EE801B5D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7F77-F856-405F-B906-6D9CDC1E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8E06-064C-46FD-A471-9D2E5B94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D14A3-1B50-4A9F-A25A-CD5DF26C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90AE-3820-4671-A252-E9D3B8F9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7184-186D-4AC4-9884-6962063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E6840-5C44-4FFC-8B7A-878F0EE9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7661-8531-4C77-9526-EC464558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FEF46-BB4C-4723-86B3-B31EB11D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3F67-7298-4C01-A55F-9543AAA9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366-0331-4110-A069-B342D2DC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A9F34-3255-474D-89F4-FA391249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D7AA4-4B8C-4F91-9545-D31974B5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9BBF5-ABFE-423B-B831-861043DB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D4B12-6C37-436C-9C05-0E1B8A17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E9009-098F-423A-A84F-14C555C5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2B69-9F64-405D-803E-F6696F7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037E-0245-4F09-BB49-F2850703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22135-4EEF-429D-B805-3B608987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B9A99-C24F-4579-8E48-75543360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D9D2B-840A-4D92-B2D8-8C390595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B2D-23D3-46A3-B5FF-EB68A688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DD9C7-6C8E-45E1-AFB3-CE7C84E4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543B-5272-427C-911D-3C9D719D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289BF-EF2C-495D-ACAB-69A04847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DA01-DDB6-4CEF-9241-2BFD7DB0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84892-BF52-43B7-A358-B10DFB41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23CA0-71B7-4AD3-A88E-1D8F96D2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5853B-B7B9-4EC1-B616-5BFE7834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55CD-2387-4144-B24D-D5DA95E5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6E94-D7C0-4A95-A689-A5F31528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E8735-6A1D-4AA9-81C2-C7336FEB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040-F451-4523-AFF6-87EDB7DE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30A8-3B0E-4D93-A383-82BDF125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24B35-D915-40DF-BBA8-C0E8F051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5B178-39A6-493D-8440-B97BE510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5D857-6E72-4C64-ACA2-AB70DD15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CB329-D55C-4159-BE11-D73CA21B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FE451-3AB8-4128-B914-79B094BA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79978-76A3-4486-8186-CB82D7D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8EC3F-6A60-44C8-9273-1595A048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8324E-AD0E-4D7A-A40F-CDF911E0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1534C-34E4-4B50-A295-96C51086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574-D0F8-4D5E-960C-4F385165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EA5AE-F39F-49BC-A1FC-D0124E1C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6C5C1-80E3-4774-A54E-01B3858B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39E9F-47F1-421B-97C2-0681BE21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5C7B-DB6A-497C-BD7E-59F0825B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708B5-383D-4496-810B-C9925364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40E0D-3FDD-4DFF-8A07-88B222A8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624D7-88AE-4530-B271-91C80633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3354E-8B66-4BC1-A560-5EFD10A5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2AE44-4B83-4791-9244-480A5026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E0A5D-1560-4816-A012-5971EC7B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EA7-21E1-4E36-8A48-B5D4EB70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6EEFF-9186-4FE1-B50F-84D09260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05B03-1F3D-4600-B47D-B3390388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AAB01-578B-4590-AC19-05B8E964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494EE-B428-4F09-9F50-D6988C35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DC605-0DAA-4BEA-81C6-F37EF276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2E5B5-CBFE-4EF0-8AA2-8315E3D2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520C2-FC2E-4D7B-A154-FD7953F7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D85B2-A119-467A-A49B-D8AAADC7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0334A-AC04-4941-AD00-29144C0B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79F5D-7C16-4208-95AE-032ADA48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88F9-1997-43EC-B46D-BD1B013E40AF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8A4C-BC8D-4B0F-8293-ECF760EB6439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70A9-E9E2-4A5E-AA5A-99358A190DCD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D725-0ABC-4558-BD2A-5B579804CFA0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E9DC-007A-4104-B30D-CDBAD787FC86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2058-1634-4513-8F2A-4792BFB61B1E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5D0D-19E8-4F92-A241-27193FBDF3D8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E99B-FA1C-4504-9B6A-1C4FC0C88383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0236-5E70-4308-B054-DB64238BB0FF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4859640"/>
          </a:xfrm>
          <a:prstGeom prst="rect">
            <a:avLst/>
          </a:prstGeom>
          <a:ln w="0">
            <a:noFill/>
          </a:ln>
        </p:spPr>
      </p:pic>
      <p:sp>
        <p:nvSpPr>
          <p:cNvPr id="407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EE6E-3CDF-4961-B37C-8F7DC432F395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22C4-4C02-4816-A1A0-BE0340E157AB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34" name="Group 6"/>
          <p:cNvGrpSpPr/>
          <p:nvPr/>
        </p:nvGrpSpPr>
        <p:grpSpPr>
          <a:xfrm>
            <a:off x="457200" y="304920"/>
            <a:ext cx="8001000" cy="6281280"/>
            <a:chOff x="457200" y="304920"/>
            <a:chExt cx="8001000" cy="6281280"/>
          </a:xfrm>
        </p:grpSpPr>
        <p:pic>
          <p:nvPicPr>
            <p:cNvPr id="435" name="Picture 4" descr="Изображение 01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800100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5"/>
            <p:cNvSpPr/>
            <p:nvPr/>
          </p:nvSpPr>
          <p:spPr>
            <a:xfrm>
              <a:off x="1295640" y="5943600"/>
              <a:ext cx="65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Добро помни, а зло забывай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Times New Roman"/>
              </a:rPr>
              <a:t>«Чтобы поверить  в добро, надо начать его делать».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Times New Roman"/>
              </a:rPr>
              <a:t>Л. Толстой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3FF-9CCB-49D1-BF8B-823051F68DF8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9129-0159-430B-B8BE-C5F18DD54556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762120" y="228600"/>
            <a:ext cx="7467480" cy="6418080"/>
            <a:chOff x="762120" y="228600"/>
            <a:chExt cx="7467480" cy="6418080"/>
          </a:xfrm>
        </p:grpSpPr>
        <p:pic>
          <p:nvPicPr>
            <p:cNvPr id="441" name="Picture 4" descr="Изображение 015"/>
            <p:cNvPicPr/>
            <p:nvPr/>
          </p:nvPicPr>
          <p:blipFill>
            <a:blip r:embed="rId1"/>
            <a:stretch/>
          </p:blipFill>
          <p:spPr>
            <a:xfrm>
              <a:off x="838080" y="228600"/>
              <a:ext cx="7315200" cy="50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5"/>
            <p:cNvSpPr/>
            <p:nvPr/>
          </p:nvSpPr>
          <p:spPr>
            <a:xfrm>
              <a:off x="762120" y="5333760"/>
              <a:ext cx="7467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Внимание к старшим – проявление доброты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6FC7-7688-4802-AE42-8321AADAF72E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44" name="Group 6"/>
          <p:cNvGrpSpPr/>
          <p:nvPr/>
        </p:nvGrpSpPr>
        <p:grpSpPr>
          <a:xfrm>
            <a:off x="533520" y="533520"/>
            <a:ext cx="8001000" cy="5839200"/>
            <a:chOff x="533520" y="533520"/>
            <a:chExt cx="8001000" cy="5839200"/>
          </a:xfrm>
        </p:grpSpPr>
        <p:pic>
          <p:nvPicPr>
            <p:cNvPr id="445" name="Picture 4" descr="Мы разные но мы помогаем друг другу"/>
            <p:cNvPicPr/>
            <p:nvPr/>
          </p:nvPicPr>
          <p:blipFill>
            <a:blip r:embed="rId1"/>
            <a:stretch/>
          </p:blipFill>
          <p:spPr>
            <a:xfrm>
              <a:off x="533520" y="533520"/>
              <a:ext cx="8001000" cy="517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6" name="Text Box 5"/>
            <p:cNvSpPr/>
            <p:nvPr/>
          </p:nvSpPr>
          <p:spPr>
            <a:xfrm>
              <a:off x="685800" y="57913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Мы разные, но мы помогаем друг другу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241A-E94E-470E-912D-C3DA0A985C18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8" name="Picture 4" descr="Ему нужна твоя дружба"/>
          <p:cNvPicPr/>
          <p:nvPr/>
        </p:nvPicPr>
        <p:blipFill>
          <a:blip r:embed="rId1"/>
          <a:srcRect l="9843" t="3372" r="9843" b="2529"/>
          <a:stretch/>
        </p:blipFill>
        <p:spPr>
          <a:xfrm>
            <a:off x="304920" y="533520"/>
            <a:ext cx="4282920" cy="556236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8"/>
          <p:cNvSpPr/>
          <p:nvPr/>
        </p:nvSpPr>
        <p:spPr>
          <a:xfrm>
            <a:off x="4572000" y="838080"/>
            <a:ext cx="434340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Ты здоров и силен, а рядом есть больные, инвалиды…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м не нужна твоя жалость, им нужна твоя дружба, помощь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Сделав добро, человек сам становится лучше, чище, светлее. Если мы будем внимательны к любому человеку, с кем мы общаемся, это и будет проявление доброт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928-9115-481B-8E3A-CC37E924B69D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7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imes New Roman"/>
              </a:rPr>
              <a:t>Человек должен стремиться к тому, чтобы изменить себя в лучшую сторону, жить в мире с собой и миром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F145-9DF9-4BE2-A958-4D31E0D6F925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99B2-3674-41F4-AF16-E1B16704CAC6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5" name="Group 7"/>
          <p:cNvGrpSpPr/>
          <p:nvPr/>
        </p:nvGrpSpPr>
        <p:grpSpPr>
          <a:xfrm>
            <a:off x="914400" y="380880"/>
            <a:ext cx="7467480" cy="6053040"/>
            <a:chOff x="914400" y="380880"/>
            <a:chExt cx="7467480" cy="6053040"/>
          </a:xfrm>
        </p:grpSpPr>
        <p:pic>
          <p:nvPicPr>
            <p:cNvPr id="456" name="Picture 4" descr="Цените людей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2438280" y="380880"/>
              <a:ext cx="464184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5"/>
            <p:cNvSpPr/>
            <p:nvPr/>
          </p:nvSpPr>
          <p:spPr>
            <a:xfrm>
              <a:off x="914400" y="5791320"/>
              <a:ext cx="74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Не оценивайте людей, а цените их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9E1E-DEC5-4675-9018-99FD8BC86E2A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762120" y="1219320"/>
            <a:ext cx="7391160" cy="5486400"/>
          </a:xfrm>
          <a:custGeom>
            <a:avLst/>
            <a:gdLst>
              <a:gd name="textAreaLeft" fmla="*/ 1723320 w 7391160"/>
              <a:gd name="textAreaRight" fmla="*/ 5665680 w 7391160"/>
              <a:gd name="textAreaTop" fmla="*/ 578160 h 5486400"/>
              <a:gd name="textAreaBottom" fmla="*/ 3474000 h 5486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WordArt 6"/>
          <p:cNvSpPr txBox="1"/>
          <p:nvPr/>
        </p:nvSpPr>
        <p:spPr>
          <a:xfrm rot="20383200">
            <a:off x="1142640" y="1752480"/>
            <a:ext cx="1986120" cy="90720"/>
          </a:xfrm>
          <a:prstGeom prst="rect">
            <a:avLst/>
          </a:prstGeom>
        </p:spPr>
        <p:txBody>
          <a:bodyPr wrap="none" fromWordArt="1" lIns="90000" rIns="90000" tIns="44280" bIns="44280" anchor="t" anchorCtr="1">
            <a:prstTxWarp prst="textArchUp">
              <a:avLst>
                <a:gd name="adj" fmla="val 1080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Times New Roman"/>
              </a:rPr>
              <a:t>Друж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Times New Roman"/>
              <a:ea typeface="Times New Roman"/>
            </a:endParaRPr>
          </a:p>
        </p:txBody>
      </p:sp>
      <p:sp>
        <p:nvSpPr>
          <p:cNvPr id="461" name="WordArt 7"/>
          <p:cNvSpPr txBox="1"/>
          <p:nvPr/>
        </p:nvSpPr>
        <p:spPr>
          <a:xfrm rot="712200">
            <a:off x="5334120" y="1752480"/>
            <a:ext cx="2028600" cy="2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462" name="WordArt 8"/>
          <p:cNvSpPr txBox="1"/>
          <p:nvPr/>
        </p:nvSpPr>
        <p:spPr>
          <a:xfrm>
            <a:off x="2895480" y="3581280"/>
            <a:ext cx="3114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рпимос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63" name="WordArt 9"/>
          <p:cNvSpPr txBox="1"/>
          <p:nvPr/>
        </p:nvSpPr>
        <p:spPr>
          <a:xfrm>
            <a:off x="3429000" y="2514600"/>
            <a:ext cx="15336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Любов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464" name="WordArt 10"/>
          <p:cNvSpPr txBox="1"/>
          <p:nvPr/>
        </p:nvSpPr>
        <p:spPr>
          <a:xfrm rot="20013600">
            <a:off x="1523880" y="2514240"/>
            <a:ext cx="2303640" cy="41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Неж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11"/>
          <p:cNvSpPr txBox="1"/>
          <p:nvPr/>
        </p:nvSpPr>
        <p:spPr>
          <a:xfrm rot="1171200">
            <a:off x="4952880" y="2514240"/>
            <a:ext cx="2432160" cy="91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илосерд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466" name="WordArt 12"/>
          <p:cNvSpPr txBox="1"/>
          <p:nvPr/>
        </p:nvSpPr>
        <p:spPr>
          <a:xfrm rot="19956600">
            <a:off x="4267080" y="4419720"/>
            <a:ext cx="23241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3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Душев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67" name="WordArt 13"/>
          <p:cNvSpPr txBox="1"/>
          <p:nvPr/>
        </p:nvSpPr>
        <p:spPr>
          <a:xfrm rot="1643400">
            <a:off x="2743200" y="4952880"/>
            <a:ext cx="243828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4407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Искрен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380880" y="152280"/>
            <a:ext cx="82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вое сердце наполняют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1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1000" fill="hold"/>
                                        <p:tgtEl>
                                          <p:spTgt spid="4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1000" fill="hold"/>
                                        <p:tgtEl>
                                          <p:spTgt spid="4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1000" fill="hold"/>
                                        <p:tgtEl>
                                          <p:spTgt spid="46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1000" fill="hold"/>
                                        <p:tgtEl>
                                          <p:spTgt spid="4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1000" fill="hold"/>
                                        <p:tgtEl>
                                          <p:spTgt spid="4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8" dur="1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3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6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134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Franklin Gothic Book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страдан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чувств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действ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знан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единен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9443-86A1-44F8-9D86-9570AAD932C9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609480" y="304920"/>
            <a:ext cx="815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228600" y="152280"/>
            <a:ext cx="868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ебе всегда сопутствуют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4" descr=""/>
          <p:cNvPicPr/>
          <p:nvPr/>
        </p:nvPicPr>
        <p:blipFill>
          <a:blip r:embed="rId1"/>
          <a:stretch/>
        </p:blipFill>
        <p:spPr>
          <a:xfrm>
            <a:off x="-122400" y="676440"/>
            <a:ext cx="8815680" cy="5303520"/>
          </a:xfrm>
          <a:prstGeom prst="rect">
            <a:avLst/>
          </a:prstGeom>
          <a:ln w="0">
            <a:noFill/>
          </a:ln>
        </p:spPr>
      </p:pic>
      <p:sp>
        <p:nvSpPr>
          <p:cNvPr id="40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327D-4C72-46FD-AC3A-4FD2B295FEBB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BCE4-C038-4E4F-A6AA-827FCC634954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74" name="Group 7"/>
          <p:cNvGrpSpPr/>
          <p:nvPr/>
        </p:nvGrpSpPr>
        <p:grpSpPr>
          <a:xfrm>
            <a:off x="1066680" y="380880"/>
            <a:ext cx="6934320" cy="5976720"/>
            <a:chOff x="1066680" y="380880"/>
            <a:chExt cx="6934320" cy="5976720"/>
          </a:xfrm>
        </p:grpSpPr>
        <p:pic>
          <p:nvPicPr>
            <p:cNvPr id="475" name="Picture 4" descr="Ты нам нужен"/>
            <p:cNvPicPr/>
            <p:nvPr/>
          </p:nvPicPr>
          <p:blipFill>
            <a:blip r:embed="rId1"/>
            <a:stretch/>
          </p:blipFill>
          <p:spPr>
            <a:xfrm>
              <a:off x="2262240" y="380880"/>
              <a:ext cx="4413240" cy="52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5"/>
            <p:cNvSpPr/>
            <p:nvPr/>
          </p:nvSpPr>
          <p:spPr>
            <a:xfrm>
              <a:off x="1066680" y="5715000"/>
              <a:ext cx="693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Мы очень разные, но мы вместе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200" spc="-1" strike="noStrike">
                <a:solidFill>
                  <a:srgbClr val="cc3300"/>
                </a:solidFill>
                <a:latin typeface="Times New Roman"/>
              </a:rPr>
              <a:t>Что же такое толерантность? </a:t>
            </a:r>
            <a:endParaRPr b="0" lang="en-US" sz="8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3936-F9ED-4B5C-82A9-6311DA3D81C9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 русском языке “толерантность” означает “способность, умение терпеть, мириться с чужим мнением, быть снисходительным к поступкам других людей, мягко относиться к их промахам, ошибкам”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108D-556E-498C-A5B3-D2FFB288636E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82" name="Номер слайда 5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E25E-D537-4704-92C6-E25FBBEBCD46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83" name="Group 86"/>
          <p:cNvGrpSpPr/>
          <p:nvPr/>
        </p:nvGrpSpPr>
        <p:grpSpPr>
          <a:xfrm>
            <a:off x="533520" y="1143000"/>
            <a:ext cx="8001000" cy="5563800"/>
            <a:chOff x="533520" y="1143000"/>
            <a:chExt cx="8001000" cy="5563800"/>
          </a:xfrm>
        </p:grpSpPr>
        <p:sp>
          <p:nvSpPr>
            <p:cNvPr id="484" name="AutoShape 72"/>
            <p:cNvSpPr/>
            <p:nvPr/>
          </p:nvSpPr>
          <p:spPr>
            <a:xfrm>
              <a:off x="533520" y="1295280"/>
              <a:ext cx="7391160" cy="52588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5" name="Text Box 74"/>
            <p:cNvSpPr/>
            <p:nvPr/>
          </p:nvSpPr>
          <p:spPr>
            <a:xfrm>
              <a:off x="2666880" y="3353040"/>
              <a:ext cx="373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6" name="Text Box 75"/>
            <p:cNvSpPr/>
            <p:nvPr/>
          </p:nvSpPr>
          <p:spPr>
            <a:xfrm>
              <a:off x="3962520" y="129528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7" name="Text Box 77"/>
            <p:cNvSpPr/>
            <p:nvPr/>
          </p:nvSpPr>
          <p:spPr>
            <a:xfrm flipV="1" rot="5400000">
              <a:off x="3521160" y="16599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Проще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8" name="Text Box 78"/>
            <p:cNvSpPr/>
            <p:nvPr/>
          </p:nvSpPr>
          <p:spPr>
            <a:xfrm rot="5400000">
              <a:off x="3519360" y="5851440"/>
              <a:ext cx="13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Милосерд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9" name="Text Box 79"/>
            <p:cNvSpPr/>
            <p:nvPr/>
          </p:nvSpPr>
          <p:spPr>
            <a:xfrm>
              <a:off x="838080" y="37342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страда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0" name="Text Box 80"/>
            <p:cNvSpPr/>
            <p:nvPr/>
          </p:nvSpPr>
          <p:spPr>
            <a:xfrm rot="2105400">
              <a:off x="1523520" y="23619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Терпимость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1" name="Text Box 81"/>
            <p:cNvSpPr/>
            <p:nvPr/>
          </p:nvSpPr>
          <p:spPr>
            <a:xfrm rot="19110600">
              <a:off x="5486400" y="2285640"/>
              <a:ext cx="15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d1f1f"/>
                  </a:solidFill>
                  <a:latin typeface="Times New Roman"/>
                </a:rPr>
                <a:t>Сочувств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2" name="Text Box 82"/>
            <p:cNvSpPr/>
            <p:nvPr/>
          </p:nvSpPr>
          <p:spPr>
            <a:xfrm rot="2068800">
              <a:off x="5645880" y="52596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d1f1f"/>
                  </a:solidFill>
                  <a:latin typeface="Times New Roman"/>
                </a:rPr>
                <a:t>Уваже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3" name="Text Box 83"/>
            <p:cNvSpPr/>
            <p:nvPr/>
          </p:nvSpPr>
          <p:spPr>
            <a:xfrm rot="19128600">
              <a:off x="1209600" y="51850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действ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4" name="Text Box 84"/>
            <p:cNvSpPr/>
            <p:nvPr/>
          </p:nvSpPr>
          <p:spPr>
            <a:xfrm>
              <a:off x="6324480" y="365796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d1f1f"/>
                  </a:solidFill>
                  <a:latin typeface="Times New Roman"/>
                </a:rPr>
                <a:t>Взаимопонима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5" name="Text Box 85"/>
          <p:cNvSpPr/>
          <p:nvPr/>
        </p:nvSpPr>
        <p:spPr>
          <a:xfrm>
            <a:off x="609480" y="1522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олерантность это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2" descr=""/>
          <p:cNvPicPr/>
          <p:nvPr/>
        </p:nvPicPr>
        <p:blipFill>
          <a:blip r:embed="rId1"/>
          <a:stretch/>
        </p:blipFill>
        <p:spPr>
          <a:xfrm>
            <a:off x="158760" y="-212760"/>
            <a:ext cx="8813880" cy="19083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Уважай собеседни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Старайся понять то, о чем говорят други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Отстаивай свое мнение тактично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щи лучшие аргументы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Будь справедливым, готовым признать правоту другого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Стремись учитывать интересы других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4228-FF5A-464E-94DD-8CD3BC02D447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Наша школа, каждый класс - это маленькая семья. И хочется, чтобы в нашей семье всегда царили доброта, уважение, взаимопониман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C8D7-E2AA-42C4-B9EF-2A24229B43EB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-122400" y="676440"/>
            <a:ext cx="8815680" cy="5303520"/>
          </a:xfrm>
          <a:prstGeom prst="rect">
            <a:avLst/>
          </a:prstGeom>
          <a:ln w="0">
            <a:noFill/>
          </a:ln>
        </p:spPr>
      </p:pic>
      <p:sp>
        <p:nvSpPr>
          <p:cNvPr id="50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021C-A5F2-4335-BAFA-C79F57B70C0C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15920" y="-433440"/>
            <a:ext cx="8577360" cy="2536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Все мы люд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на одной планет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в одном городе, республик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Учимся в одной школе, в одном класс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на одних улицах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Носим одну одежду, очк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нимаемся одним делом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Похожи глаза, волосы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2BD8-920E-4241-8764-9F5B5AFE1040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36360" y="-212760"/>
            <a:ext cx="8656920" cy="20480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Рос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Цвет волос и глаз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Одежд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Знани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циональность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Фигур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Возраст (старые и молодые)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Характер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Культур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8C1-25A7-45BE-80EF-337D3EF536C1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Различия дополняют и обогащают общество. Чтобы жить в мире, людям надо научиться жить, решая проблемы и задачи на основе сотрудничеств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50FC-F9B1-4124-B305-288F9BEC6A43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EECC-D3B9-4379-A269-1FDDCE102E4E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9" name="Picture 4" descr="Не толерантно!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04920" y="533520"/>
            <a:ext cx="4513320" cy="548640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0"/>
          <p:cNvSpPr/>
          <p:nvPr/>
        </p:nvSpPr>
        <p:spPr>
          <a:xfrm>
            <a:off x="4876920" y="609480"/>
            <a:ext cx="35812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Мы разные, но должны жить в мире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е толерантно доказывать свое право на разность подобным образо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201600" y="-165240"/>
            <a:ext cx="8491680" cy="1756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cc"/>
                </a:solidFill>
                <a:latin typeface="Times New Roman"/>
              </a:rPr>
              <a:t>взаимопонимание, взаимоуважение, ответственность, доброжелательность, сдержанность, уступчивость, </a:t>
            </a:r>
            <a:endParaRPr b="0" lang="en-US" sz="4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cc"/>
                </a:solidFill>
                <a:latin typeface="Times New Roman"/>
              </a:rPr>
              <a:t>терпимость… </a:t>
            </a:r>
            <a:endParaRPr b="0" lang="en-US" sz="4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62E0-4A75-40E8-B7FC-84094A4BAC0B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3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0BA1-C997-4BA3-B9C6-C25360DFA184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1905120" y="1219320"/>
            <a:ext cx="5028840" cy="5365080"/>
            <a:chOff x="1905120" y="1219320"/>
            <a:chExt cx="5028840" cy="5365080"/>
          </a:xfrm>
        </p:grpSpPr>
        <p:pic>
          <p:nvPicPr>
            <p:cNvPr id="426" name="Picture 4" descr="Изображение 016"/>
            <p:cNvPicPr/>
            <p:nvPr/>
          </p:nvPicPr>
          <p:blipFill>
            <a:blip r:embed="rId1"/>
            <a:stretch/>
          </p:blipFill>
          <p:spPr>
            <a:xfrm>
              <a:off x="2315520" y="1219320"/>
              <a:ext cx="4618440" cy="41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5"/>
            <p:cNvSpPr/>
            <p:nvPr/>
          </p:nvSpPr>
          <p:spPr>
            <a:xfrm>
              <a:off x="1905120" y="5515560"/>
              <a:ext cx="5010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Светлое пятно – добро, темное пятно - зло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28" name="Text Box 7"/>
          <p:cNvSpPr/>
          <p:nvPr/>
        </p:nvSpPr>
        <p:spPr>
          <a:xfrm>
            <a:off x="304920" y="152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каждом из нас есть светлая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 темная сторон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C909-81E9-468A-99EC-FF957FF0A294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30" name="Group 7"/>
          <p:cNvGrpSpPr/>
          <p:nvPr/>
        </p:nvGrpSpPr>
        <p:grpSpPr>
          <a:xfrm>
            <a:off x="838080" y="304920"/>
            <a:ext cx="7578720" cy="6067800"/>
            <a:chOff x="838080" y="304920"/>
            <a:chExt cx="7578720" cy="6067800"/>
          </a:xfrm>
        </p:grpSpPr>
        <p:pic>
          <p:nvPicPr>
            <p:cNvPr id="431" name="Picture 4" descr="Изображение 017"/>
            <p:cNvPicPr/>
            <p:nvPr/>
          </p:nvPicPr>
          <p:blipFill>
            <a:blip r:embed="rId1"/>
            <a:stretch/>
          </p:blipFill>
          <p:spPr>
            <a:xfrm>
              <a:off x="838080" y="304920"/>
              <a:ext cx="757872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5"/>
            <p:cNvSpPr/>
            <p:nvPr/>
          </p:nvSpPr>
          <p:spPr>
            <a:xfrm>
              <a:off x="1066680" y="579132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Один сажает цветы, другой - их рвет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онова Н.И.</dc:creator>
  <dc:description/>
  <dc:language>en-US</dc:language>
  <cp:lastModifiedBy>пользователь</cp:lastModifiedBy>
  <dcterms:modified xsi:type="dcterms:W3CDTF">2013-10-20T09:43:37Z</dcterms:modified>
  <cp:revision>358</cp:revision>
  <dc:subject>Толерантност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