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ECE2-EB14-473C-85F7-248E7B7F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82BA-C131-4C09-A373-DF9B8780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A7BC-8473-4FB3-959F-897C12E2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8072-B92F-4FCF-A5E8-DBD1ED97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A0C8-D62E-4D47-8AB9-3A68C407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8814-2774-452F-99FE-E9110FEA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2507-2871-4D75-ABFF-D4C3CEA2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9FAD-095B-4734-93AE-840178F0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1301-37F4-40E8-811A-F25FDDD5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0066-0821-44B9-94C2-C38C76F6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196D-7B16-446E-9173-6BFC5E3C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35C5-1650-4CAA-AAEB-9583EFE6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1C51-1C22-4AE8-91F0-7B0D44F8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8876-7119-4631-8856-CACFE3E9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3365-94BA-497C-8178-BCACDBC6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3203-2FAE-4468-92DF-B7EE6CEF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FF08-CF42-4F2C-9803-B530CFB6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53DC-552C-45C9-8528-B61A3199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29DC-5391-41E4-AB18-8CEB966F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A47A-E749-40D9-9241-44EBFEC7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A731-B88C-4BB3-9538-EA5B2732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C2AB-7BC7-4108-BBAB-909C28CD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DFCD-D1BD-4CD2-896C-559186FD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FF11-FDC7-4406-8BDB-2C444B85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9669FF-0C4D-42C9-B967-C0C3828D0C5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5E36DE-3677-4426-B115-B226E63C74CC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2960" y="16426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ffff"/>
                </a:solidFill>
                <a:latin typeface="Tahoma"/>
              </a:rPr>
              <a:t>Уголовная ответственность несовершеннолетних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71800" y="4572000"/>
            <a:ext cx="521496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: ученица 9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щенюк Юл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961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ahoma"/>
              </a:rPr>
              <a:t>Штраф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4200" y="15001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значается только при наличии у несовершеннолетнего осужденного самостоятельного заработка или имущества, на которое может быть обращено взыска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2214720" y="3714840"/>
            <a:ext cx="447336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Tahoma"/>
              </a:rPr>
              <a:t>Обязательные работ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71680" y="1714320"/>
            <a:ext cx="8229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значаются на срок от 40 до 160 часов, заключаются в выполнении работ, посильных для несовершеннолетнего, и исполняются им в свободное от учебы ил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ной работы врем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3214800" y="3643200"/>
            <a:ext cx="25858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072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Tahoma"/>
              </a:rPr>
              <a:t>Исправительные работ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начаются несовершеннолетним осужденным на срок до 1 г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692360" y="3213000"/>
            <a:ext cx="5183280" cy="33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272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ahoma"/>
              </a:rPr>
              <a:t>Арест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14200" y="1857240"/>
            <a:ext cx="4572000" cy="44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нача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совершеннолетни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ужденным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стигши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6 лет на ср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от 1 до 4 месяце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5000760" y="1857240"/>
            <a:ext cx="3835440" cy="445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Tahoma"/>
              </a:rPr>
              <a:t>Лишение свобод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285560"/>
            <a:ext cx="8229600" cy="31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начается несовершеннолетним осужденным на срок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не свыше 10 ле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отбывае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ctr">
              <a:lnSpc>
                <a:spcPct val="80000"/>
              </a:lnSpc>
              <a:spcBef>
                <a:spcPts val="451"/>
              </a:spcBef>
              <a:buClr>
                <a:srgbClr val="00ff00"/>
              </a:buClr>
              <a:buSzPct val="65000"/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совершеннолетними мужского пола, осужденными впервые к лишению свободы, а также несовершеннолетними женского пола в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оспитательных колониях общего режим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ctr">
              <a:lnSpc>
                <a:spcPct val="80000"/>
              </a:lnSpc>
              <a:spcBef>
                <a:spcPts val="451"/>
              </a:spcBef>
              <a:buClr>
                <a:srgbClr val="00ff00"/>
              </a:buClr>
              <a:buSzPct val="65000"/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совершеннолетними мужского пола, ранее отбывавшими лишение свободы,  - в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оспитательных колониях усиленного режи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3000240" y="4214880"/>
            <a:ext cx="3086280" cy="24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28760"/>
            <a:ext cx="8229600" cy="56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Если несовершеннолетний совершил преступление небольшой или средней тяжести, к нему могут быть применены принудительные меры воспитательного характера (воздействия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еры воспитательного воздейств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редупрежд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ередача под надзор родителей или лиц, их заменяющи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Возложение обязанности загладить свою вин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Ограничение досуга и установление особых требований к поведению несовершеннолетнег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97476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56800" y="207144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Цель работы: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ассмотреть уголовную ответственность несовершеннолетних как правовое явл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Задачи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1. Выяснить, кого закон относит к несовершеннолетним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  2. Узнать причины привлечения несовершеннолетних к уголовной ответственности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  3. Выяснить, какие виды наказания могут быть применены к несовершеннолетним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320" y="428580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УК РФ от 13.06.1996 г. 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включает главу 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«Уголовная ответственность несовершеннолетних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3071880" y="500040"/>
            <a:ext cx="25002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428760"/>
            <a:ext cx="8229600" cy="56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Несовершеннолетним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ризнаются лица, которым ко времени совершения преступления исполнилось четырнадцать, но не исполнилось восемнадцати ле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0" algn="ctr"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татья 87. УК Р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2143080" y="3071880"/>
            <a:ext cx="468000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42600" y="214200"/>
            <a:ext cx="8040600" cy="587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алолетние, не достигшие 14-летнего возраста, не подлежат уголовной ответствен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2" descr="D:\Мои Документы\Дополнительные материалы\Права ребенка\Картинки\Фото детей\3HJ.jpg"/>
          <p:cNvPicPr/>
          <p:nvPr/>
        </p:nvPicPr>
        <p:blipFill>
          <a:blip r:embed="rId1"/>
          <a:stretch/>
        </p:blipFill>
        <p:spPr>
          <a:xfrm>
            <a:off x="1857240" y="2286000"/>
            <a:ext cx="567072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"/>
          <p:cNvGraphicFramePr/>
          <p:nvPr/>
        </p:nvGraphicFramePr>
        <p:xfrm>
          <a:off x="4676760" y="4405320"/>
          <a:ext cx="4116240" cy="148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6760" y="4405320"/>
                    <a:ext cx="411624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Прямоугольник 6"/>
          <p:cNvSpPr/>
          <p:nvPr/>
        </p:nvSpPr>
        <p:spPr>
          <a:xfrm>
            <a:off x="785880" y="2214720"/>
            <a:ext cx="8001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казание несовершеннолетних в особой степени должно быть подчинено цели исправления и перевоспитания виновных и предупреждения совершения новых преступл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несовершеннолетним не применяются наиболее суровые меры уголовного наказания (смертная казнь и пожизненное лишение свободы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1000080" y="78588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85ffe0"/>
                </a:solidFill>
                <a:latin typeface="Arial"/>
              </a:rPr>
              <a:t>Цели назначения наказания несовершеннолетн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78000"/>
            <a:ext cx="822960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овершение преступления в несовершеннолетнем возрасте является смягчающим ответственность обстоятельством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62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6760" y="356760"/>
            <a:ext cx="85726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5ffe0"/>
                </a:solidFill>
                <a:latin typeface="Tahoma"/>
              </a:rPr>
              <a:t>К несовершеннолетним применяются следующие виды наказаний (ст.88 УК РФ)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5535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траф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5000"/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шение права   заниматься определенной деятельность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5000"/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язательные работ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5000"/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правительные работ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5000"/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рес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5000"/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шение свободы на определенный срок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5857920" y="2071800"/>
            <a:ext cx="3071880" cy="426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3:42:57Z</dcterms:created>
  <dc:creator>!</dc:creator>
  <dc:description/>
  <dc:language>en-US</dc:language>
  <cp:lastModifiedBy>Нинель</cp:lastModifiedBy>
  <dcterms:modified xsi:type="dcterms:W3CDTF">2013-10-20T11:22:09Z</dcterms:modified>
  <cp:revision>12</cp:revision>
  <dc:subject/>
  <dc:title>Уголовная ответственность несовершеннолетних</dc:title>
</cp:coreProperties>
</file>