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3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9.png" ContentType="image/png"/>
  <Override PartName="/ppt/media/image26.jpeg" ContentType="image/jpeg"/>
  <Override PartName="/ppt/media/image24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F132-4265-408C-927E-40B4E5A0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1D56-CA0F-4B47-9FCA-6E198A44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D6DF-092D-42BA-94F6-A6DFBB10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BDE3-EEDD-47E7-9B50-13B581B6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9720A-8597-4B14-BD99-F015763C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09488-1F26-4913-90A1-89E74CD6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8A089-9B63-40DE-9C76-0861F008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955C8-ABC7-40A8-AF40-4C39FE68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A46A8-73ED-4FA1-BB85-72D45DF7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BCC3B-065D-49AA-AE00-B1208C69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06745-76CD-4B1D-B121-2C6B2667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AA76-FE31-4827-BCEA-AD29F8FA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B64CA-5D33-4356-9505-88442147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0D85F-4221-422C-88CE-6EA5A59B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20319-5494-41A7-9E07-222878F1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1D848-E6F8-4AA7-BBF0-B122C6D6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C3147-66AE-438E-AAFD-9E216366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DFEE-8177-44C3-80D6-A6047B16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8E60-391B-4476-89FF-D291B99B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12EEF-086A-448C-A5A4-F922CFEB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8C3DD-8671-473E-9D7B-D2A1A8EE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EE232-91DA-45E5-AF91-8E92FA93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5DE7-82AF-41D8-B7E7-7A678A2F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7BD5A-389D-4BFB-B9C6-1178285F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8C9B-9557-48D2-826C-14D2E6BE59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C846-BAA4-475B-8718-5B7F79FCC2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32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Garamond"/>
              </a:rPr>
              <a:t>Природные объекты и памятники природы, истории и культуры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48360" y="4437000"/>
            <a:ext cx="331128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учитель кубановедения МОБУ СОШ № 25 хутора Первая Синюха Лабин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йборода Н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4932360" y="1484280"/>
            <a:ext cx="396072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17 году адыги в Гуамском ущелье заперли турецкое войско и заморили голодом несколько тысяч тур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годы Великой Отечественной войны  в районе Гуамского ущелья действовали партизаны, которые однажды взорвали мост с поездом полным оккупа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31179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7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Ахтанизовская сопка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3715920"/>
            <a:ext cx="852012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положена на юго-западной окраи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. Ахтанизовской. Высота 76 м, относительно уровня моря , над местностью возвышается на 30 м. Названа так по расположенному рядом лима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ой кратер вулкана действующий, 5—6 — старых, потухших около 8—10 лет назад. В настоящее время грязи используются для леч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ются местным памятником прир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960720" cy="1805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5508720" y="1628640"/>
            <a:ext cx="27003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7640" y="266760"/>
            <a:ext cx="4487760" cy="100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скала Петушок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4716360" y="2381400"/>
            <a:ext cx="3527640" cy="285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35290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3250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Garamond"/>
              </a:rPr>
              <a:t>Фанагорийские пещеры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95640" y="1790280"/>
            <a:ext cx="4919760" cy="48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ая Фанагорийская пещера (Псекупская, Сталактитовая) — одна из крупнейших карстовых полостей Краснодарского края. Расположена на территории Горячеключевского района в 12 км к юго-западу от села Фанагорийское на правом берегу реки Аю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0258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Малая Фанагорийская пещера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435280" y="1790640"/>
            <a:ext cx="3708360" cy="40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положена у одного из каскадов Аюкских водопадов, в основании скалы у левого берега. Вход представляет собой узкую вертикальную щель, далее свод постепенно понижается, вместе с тем, лаз становится более узким. Через пару десятков метров щель становится непроходимой для человека. Натечных образований красивых нет, пещера сухая. Встречаются летучие мыш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35272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Ботанические памятники природы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43280" y="2637000"/>
            <a:ext cx="230508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ево Дружб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619280" y="2565360"/>
            <a:ext cx="3529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3560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7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Дерево Дружбы 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43927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85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Дуб Молодежный 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35640" y="1790640"/>
            <a:ext cx="3479760" cy="444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уб Молодёжный (400 лет) находящийся в Белореченском районе Краснодарского кр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3168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Garamond"/>
              </a:rPr>
              <a:t>Тополь-белолистка</a:t>
            </a: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72360" y="2205000"/>
            <a:ext cx="2543040" cy="33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поль-белолистка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 Лабин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3311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Памятники природы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1790280"/>
            <a:ext cx="6840720" cy="33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дные (гидрологическ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еолог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тан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плекс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Комплексные памятники природ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564000" cy="2008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3843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324640" cy="83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Дантово ущелье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3280" y="1699920"/>
            <a:ext cx="450072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тово ущелье названо в честь великого итальянского поэта, мыслителя и ученого эпохи Возрождения Данте Алигьери (1265-1321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ное, сырое и прохладное местное ущелье  напоминает дорогу в ад, описанную Данте. А живописная природа этих мест вне стен ущелья - ра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8920" y="2924280"/>
            <a:ext cx="2214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Гора Папай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11280" y="1483920"/>
            <a:ext cx="493236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мнению археологов, название вершины Папай произошло от этноса «папаги», населявшего окрестности в V-X 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угая версия названия: от «пэпэай» (адыг.  «пэ» – «нос» или «начало» и «ай» – именной суффикс, возможно «нос + нос» или «много носов», т.е. много вершин, что  соответствует действительности, т.к. Папай состоит из семи основных верш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ще одна версия, объясняющая смысловое значение топонима Папай: связана  с древними племенами, населявшими Северное Причерноморье и Северный Кавказ с VII в. до н.э. до III в. н.э. , скифами. У скифов был культ «семи богов». Главный среди них был Папай, равный Зевсу (по греческой мифологи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865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Памятники истории и культуры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4643280" y="3933720"/>
            <a:ext cx="3348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266400"/>
            <a:ext cx="87138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Археологический музей-заповедник Горгиппия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64000" y="1790280"/>
            <a:ext cx="378000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Горги́ппия» — археологический музей под открытым небом в городе Анап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никальной особенностью музея является представленная для обозрения часть раскопа античного города Горгиппии, находившегося в IV веке до н. э.—III веке н. э. на месте современного города Анап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203640" cy="2138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2627280" y="4149720"/>
            <a:ext cx="30607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Свято-Екатерининский собор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03280" y="1773000"/>
            <a:ext cx="414036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ято-Екатерининский собор — кафедральный храм Екатеринодарской и Кубанской епарх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mSun-ExtB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Водные памятники природы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8000" y="2133360"/>
            <a:ext cx="3671640" cy="36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ка Агура протекает в Хостинском районе города Сочи. Образует каскады водопад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30542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5805360"/>
            <a:ext cx="410364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Garamond"/>
              </a:rPr>
              <a:t>Нижний водопад реки Агуры</a:t>
            </a:r>
            <a:endParaRPr b="0" lang="en-US" sz="2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7640" y="1790280"/>
            <a:ext cx="4487760" cy="48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вание реки "Агура" в переводе с убыхского языка означает "сухое русло". Река названа так, потому что местами вода из видимого поверхностного русла уходит под землю, через некоторое время снова появляясь на поверх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2646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148000" y="1628280"/>
            <a:ext cx="39956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зеро Солёное — небольшое озеро, расположенное на Таманском полуострове в Краснодарском крае, одно из самых солёных озёр Краснодарского кр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34671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932360" y="1790640"/>
            <a:ext cx="398304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Тамани сохранился уникальный источник, называемый «Турецким фонтаном». Считают, что ему более 300 лет. Он очень интересно устроен. В песке заложена система гончарных труб, сходящихся к роднику. Трубы по капелькам собирают дождевую воду, просочившуюся вглуб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лага, проходя через толщу песка, собирается за счет разницы температур на стенках колодца и по керамическим трубам самотёком стекает в фонта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65320" y="2349360"/>
            <a:ext cx="3693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5370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266400"/>
            <a:ext cx="85201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Геологические памятники природы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50920" y="1790640"/>
            <a:ext cx="50641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амское ущелье образовано рекой Курджипс при ее прорыве через стык Лагонакского и Гуамского хребтов. Гуамское ущелье  лучше  увидеть весной (в конце апреля) и зимой (когда снег). Весной Гуамское ущелье особенно красиво - водопады наполняются водой и падают с высоты, Курджипс полон воды и бурунов, растительность уже вовсю набрала цв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1825560"/>
            <a:ext cx="3635280" cy="2733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0" y="4133880"/>
            <a:ext cx="36352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948200" y="1557360"/>
            <a:ext cx="3836880" cy="453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1393920" y="1557360"/>
            <a:ext cx="320652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22:32:30Z</dcterms:created>
  <dc:creator>Дмитрий</dc:creator>
  <dc:description/>
  <dc:language>en-US</dc:language>
  <cp:lastModifiedBy>Дмитрий</cp:lastModifiedBy>
  <dcterms:modified xsi:type="dcterms:W3CDTF">2005-02-02T23:37:58Z</dcterms:modified>
  <cp:revision>11</cp:revision>
  <dc:subject/>
  <dc:title>Природные объекты и памятники природы, истории и культуры.</dc:title>
</cp:coreProperties>
</file>