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0C9-A9E7-453D-A2BF-24D069F5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BFC-4CA7-44E7-B732-FAD5945B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80F-8195-44C5-8440-B8261ADA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A75-31A4-4318-9A66-56ECF9D2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FBF-1512-4C7C-98FE-0A6F3EBF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FA6-CCB1-48AB-8577-528DF5A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357-EE13-4780-8F39-98BA696E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D78-3019-4C9E-A741-3875CA3D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4FB-D8E6-4830-AF70-6EA388B9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E39-9A70-4B48-92E6-5169B6EC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C33-86CF-487B-BB8D-7DB718EE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473-A8AF-4E5A-B0DA-F007A1B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5467-1866-41A8-B7A7-718C17EAB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457200" y="1036080"/>
            <a:ext cx="547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И прекрасна, и силь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Математика-стран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расп4"/>
          <p:cNvPicPr/>
          <p:nvPr/>
        </p:nvPicPr>
        <p:blipFill>
          <a:blip r:embed="rId1"/>
          <a:stretch/>
        </p:blipFill>
        <p:spPr>
          <a:xfrm>
            <a:off x="5961240" y="838080"/>
            <a:ext cx="2842920" cy="289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MATH"/>
          <p:cNvPicPr/>
          <p:nvPr/>
        </p:nvPicPr>
        <p:blipFill>
          <a:blip r:embed="rId2"/>
          <a:stretch/>
        </p:blipFill>
        <p:spPr>
          <a:xfrm>
            <a:off x="5410080" y="4419720"/>
            <a:ext cx="3276720" cy="22111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762120" y="518148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жередова Ольга Сергеевна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учитель начальных классов МБОУ СОШ № 2 им.Адмирала Ушакова муниципального образования город-курорт Гелендж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Раскрасить витра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Сведения об интересных предметах, имеющих треугольную форму (по желанию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Итоги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1840" y="1600200"/>
            <a:ext cx="746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цени свою работу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 уроке мне всё было понятно, я доволен своей раб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  На уроке мне было всё понятно, но я ошибался; могу работать луч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 Я  не всё понял и допустил много оши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228600" y="20574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228600" y="3276720"/>
            <a:ext cx="1079640" cy="1079280"/>
          </a:xfrm>
          <a:prstGeom prst="smileyFace">
            <a:avLst>
              <a:gd name="adj" fmla="val 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228600" y="4724280"/>
            <a:ext cx="1079640" cy="1079640"/>
          </a:xfrm>
          <a:prstGeom prst="smileyFace">
            <a:avLst>
              <a:gd name="adj" fmla="val -465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718320" cy="503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3" descr="54"/>
          <p:cNvPicPr/>
          <p:nvPr/>
        </p:nvPicPr>
        <p:blipFill>
          <a:blip r:embed="rId2"/>
          <a:stretch/>
        </p:blipFill>
        <p:spPr>
          <a:xfrm>
            <a:off x="4792680" y="2178000"/>
            <a:ext cx="4351320" cy="46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Устный счё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2895480"/>
                <a:gridCol w="990720"/>
                <a:gridCol w="3124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х 26 - 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00 -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 х 7 - 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9 – 40 -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0 + 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80 : 4 х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+ 96 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82 -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0 х 80 :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0 х 9 - 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60 : 7 х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00 х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47"/>
          <p:cNvSpPr/>
          <p:nvPr/>
        </p:nvSpPr>
        <p:spPr>
          <a:xfrm>
            <a:off x="457200" y="2362320"/>
            <a:ext cx="12193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457200" y="1600200"/>
            <a:ext cx="1219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457200" y="3124080"/>
            <a:ext cx="12193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457200" y="3886200"/>
            <a:ext cx="1219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457200" y="4648320"/>
            <a:ext cx="12193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2"/>
          <p:cNvSpPr/>
          <p:nvPr/>
        </p:nvSpPr>
        <p:spPr>
          <a:xfrm>
            <a:off x="457200" y="5410080"/>
            <a:ext cx="1219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3"/>
          <p:cNvSpPr/>
          <p:nvPr/>
        </p:nvSpPr>
        <p:spPr>
          <a:xfrm>
            <a:off x="4572000" y="16002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4"/>
          <p:cNvSpPr/>
          <p:nvPr/>
        </p:nvSpPr>
        <p:spPr>
          <a:xfrm>
            <a:off x="4572000" y="2362320"/>
            <a:ext cx="9907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5"/>
          <p:cNvSpPr/>
          <p:nvPr/>
        </p:nvSpPr>
        <p:spPr>
          <a:xfrm>
            <a:off x="4572000" y="312408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6"/>
          <p:cNvSpPr/>
          <p:nvPr/>
        </p:nvSpPr>
        <p:spPr>
          <a:xfrm>
            <a:off x="4572000" y="38862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7"/>
          <p:cNvSpPr/>
          <p:nvPr/>
        </p:nvSpPr>
        <p:spPr>
          <a:xfrm>
            <a:off x="4572000" y="4648320"/>
            <a:ext cx="9907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9"/>
          <p:cNvSpPr/>
          <p:nvPr/>
        </p:nvSpPr>
        <p:spPr>
          <a:xfrm>
            <a:off x="4572000" y="541008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ТРЕУГОЛЬ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Учебник. Стр.1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52280" y="3886200"/>
            <a:ext cx="2376720" cy="1657440"/>
          </a:xfrm>
          <a:prstGeom prst="triangle">
            <a:avLst>
              <a:gd name="adj" fmla="val 50000"/>
            </a:avLst>
          </a:prstGeom>
          <a:solidFill>
            <a:srgbClr val="cfe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809880" y="5334120"/>
            <a:ext cx="2986200" cy="1143000"/>
          </a:xfrm>
          <a:prstGeom prst="rtTriangle">
            <a:avLst/>
          </a:prstGeom>
          <a:solidFill>
            <a:srgbClr val="c22c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 rot="5400000">
            <a:off x="6885720" y="3858480"/>
            <a:ext cx="1633680" cy="1993680"/>
          </a:xfrm>
          <a:prstGeom prst="rtTriangle">
            <a:avLst/>
          </a:prstGeom>
          <a:solidFill>
            <a:srgbClr val="23b3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6"/>
          <p:cNvSpPr/>
          <p:nvPr/>
        </p:nvSpPr>
        <p:spPr>
          <a:xfrm>
            <a:off x="457200" y="1295280"/>
            <a:ext cx="1143000" cy="511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fill="none" w="38466" h="21600">
                <a:moveTo>
                  <a:pt x="0" y="10996"/>
                </a:moveTo>
                <a:cubicBezTo>
                  <a:pt x="3828" y="4202"/>
                  <a:pt x="11020" y="-1"/>
                  <a:pt x="18818" y="0"/>
                </a:cubicBezTo>
                <a:cubicBezTo>
                  <a:pt x="27274" y="0"/>
                  <a:pt x="34952" y="4934"/>
                  <a:pt x="38465" y="12626"/>
                </a:cubicBezTo>
              </a:path>
              <a:path stroke="0" w="38466" h="21600">
                <a:moveTo>
                  <a:pt x="0" y="10996"/>
                </a:moveTo>
                <a:cubicBezTo>
                  <a:pt x="3828" y="4202"/>
                  <a:pt x="11020" y="-1"/>
                  <a:pt x="18818" y="0"/>
                </a:cubicBezTo>
                <a:cubicBezTo>
                  <a:pt x="27274" y="0"/>
                  <a:pt x="34952" y="4934"/>
                  <a:pt x="38465" y="12626"/>
                </a:cubicBezTo>
                <a:lnTo>
                  <a:pt x="18818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7"/>
          <p:cNvSpPr/>
          <p:nvPr/>
        </p:nvSpPr>
        <p:spPr>
          <a:xfrm>
            <a:off x="2209680" y="1219320"/>
            <a:ext cx="2971800" cy="663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fill="none" w="39932" h="21600">
                <a:moveTo>
                  <a:pt x="-1" y="12633"/>
                </a:moveTo>
                <a:cubicBezTo>
                  <a:pt x="3511" y="4937"/>
                  <a:pt x="11191" y="-1"/>
                  <a:pt x="19651" y="0"/>
                </a:cubicBezTo>
                <a:cubicBezTo>
                  <a:pt x="28714" y="0"/>
                  <a:pt x="36813" y="5658"/>
                  <a:pt x="39932" y="14167"/>
                </a:cubicBezTo>
              </a:path>
              <a:path stroke="0" w="39932" h="21600">
                <a:moveTo>
                  <a:pt x="-1" y="12633"/>
                </a:moveTo>
                <a:cubicBezTo>
                  <a:pt x="3511" y="4937"/>
                  <a:pt x="11191" y="-1"/>
                  <a:pt x="19651" y="0"/>
                </a:cubicBezTo>
                <a:cubicBezTo>
                  <a:pt x="28714" y="0"/>
                  <a:pt x="36813" y="5658"/>
                  <a:pt x="39932" y="14167"/>
                </a:cubicBezTo>
                <a:lnTo>
                  <a:pt x="19651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2819520" y="4114800"/>
            <a:ext cx="3276360" cy="981000"/>
          </a:xfrm>
          <a:prstGeom prst="triangle">
            <a:avLst>
              <a:gd name="adj" fmla="val 49741"/>
            </a:avLst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4211640" y="3429000"/>
            <a:ext cx="30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3"/>
          <p:cNvSpPr/>
          <p:nvPr/>
        </p:nvSpPr>
        <p:spPr>
          <a:xfrm>
            <a:off x="5219640" y="2637000"/>
            <a:ext cx="432000" cy="863280"/>
          </a:xfrm>
          <a:custGeom>
            <a:avLst/>
            <a:gdLst>
              <a:gd name="textAreaLeft" fmla="*/ 0 w 432000"/>
              <a:gd name="textAreaRight" fmla="*/ 432360 w 43200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fill="none" w="21552" h="21046">
                <a:moveTo>
                  <a:pt x="4861" y="0"/>
                </a:moveTo>
                <a:cubicBezTo>
                  <a:pt x="14140" y="2143"/>
                  <a:pt x="20920" y="10110"/>
                  <a:pt x="21552" y="19611"/>
                </a:cubicBezTo>
              </a:path>
              <a:path stroke="0" w="21552" h="21046">
                <a:moveTo>
                  <a:pt x="4861" y="0"/>
                </a:moveTo>
                <a:cubicBezTo>
                  <a:pt x="14140" y="2143"/>
                  <a:pt x="20920" y="10110"/>
                  <a:pt x="21552" y="19611"/>
                </a:cubicBezTo>
                <a:lnTo>
                  <a:pt x="0" y="21046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990720" y="2971800"/>
            <a:ext cx="3058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H="1" flipV="1">
            <a:off x="914400" y="456840"/>
            <a:ext cx="76320" cy="25146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4249800" y="3429000"/>
            <a:ext cx="30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7"/>
          <p:cNvSpPr/>
          <p:nvPr/>
        </p:nvSpPr>
        <p:spPr>
          <a:xfrm>
            <a:off x="533520" y="1828800"/>
            <a:ext cx="2020680" cy="1150920"/>
          </a:xfrm>
          <a:custGeom>
            <a:avLst/>
            <a:gdLst>
              <a:gd name="textAreaLeft" fmla="*/ 0 w 2020680"/>
              <a:gd name="textAreaRight" fmla="*/ 2020680 w 20206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fill="none" w="21597" h="21046">
                <a:moveTo>
                  <a:pt x="4861" y="0"/>
                </a:moveTo>
                <a:cubicBezTo>
                  <a:pt x="14533" y="2234"/>
                  <a:pt x="21437" y="10773"/>
                  <a:pt x="21597" y="20698"/>
                </a:cubicBezTo>
              </a:path>
              <a:path stroke="0" w="21597" h="21046">
                <a:moveTo>
                  <a:pt x="4861" y="0"/>
                </a:moveTo>
                <a:cubicBezTo>
                  <a:pt x="14533" y="2234"/>
                  <a:pt x="21437" y="10773"/>
                  <a:pt x="21597" y="20698"/>
                </a:cubicBezTo>
                <a:lnTo>
                  <a:pt x="0" y="21046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4267080" y="3429000"/>
            <a:ext cx="30243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724280" y="5867280"/>
            <a:ext cx="3024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 flipV="1">
            <a:off x="3200400" y="4114800"/>
            <a:ext cx="1511280" cy="17287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rc 11"/>
          <p:cNvSpPr/>
          <p:nvPr/>
        </p:nvSpPr>
        <p:spPr>
          <a:xfrm>
            <a:off x="4114800" y="5029200"/>
            <a:ext cx="1639800" cy="792000"/>
          </a:xfrm>
          <a:custGeom>
            <a:avLst/>
            <a:gdLst>
              <a:gd name="textAreaLeft" fmla="*/ 0 w 1639800"/>
              <a:gd name="textAreaRight" fmla="*/ 1639800 w 16398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fill="none" w="36050" h="21600">
                <a:moveTo>
                  <a:pt x="0" y="5545"/>
                </a:moveTo>
                <a:cubicBezTo>
                  <a:pt x="3966" y="1975"/>
                  <a:pt x="9113" y="-1"/>
                  <a:pt x="14450" y="0"/>
                </a:cubicBezTo>
                <a:cubicBezTo>
                  <a:pt x="26379" y="0"/>
                  <a:pt x="36050" y="9670"/>
                  <a:pt x="36050" y="21600"/>
                </a:cubicBezTo>
              </a:path>
              <a:path stroke="0" w="36050" h="21600">
                <a:moveTo>
                  <a:pt x="0" y="5545"/>
                </a:moveTo>
                <a:cubicBezTo>
                  <a:pt x="3966" y="1975"/>
                  <a:pt x="9113" y="-1"/>
                  <a:pt x="14450" y="0"/>
                </a:cubicBezTo>
                <a:cubicBezTo>
                  <a:pt x="26379" y="0"/>
                  <a:pt x="36050" y="9670"/>
                  <a:pt x="36050" y="21600"/>
                </a:cubicBezTo>
                <a:lnTo>
                  <a:pt x="14450" y="21600"/>
                </a:lnTo>
                <a:close/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4572000" y="5715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3"/>
          <p:cNvSpPr/>
          <p:nvPr/>
        </p:nvSpPr>
        <p:spPr>
          <a:xfrm>
            <a:off x="914400" y="28954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V="1">
            <a:off x="4267080" y="1752120"/>
            <a:ext cx="215928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4191120" y="32767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1066680" y="3200400"/>
            <a:ext cx="261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ямой уго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WordArt 17"/>
          <p:cNvSpPr txBox="1"/>
          <p:nvPr/>
        </p:nvSpPr>
        <p:spPr>
          <a:xfrm>
            <a:off x="5105520" y="6095880"/>
            <a:ext cx="222876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тупой уго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2" name="WordArt 18"/>
          <p:cNvSpPr txBox="1"/>
          <p:nvPr/>
        </p:nvSpPr>
        <p:spPr>
          <a:xfrm>
            <a:off x="4572000" y="3657600"/>
            <a:ext cx="25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трый угол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Треуголь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Треуго́льник - ударный музыкальный инструмент в виде металлического прута, изогнутого в форме треугольника. Один из углов оставлен открытым (концы прута почти касаю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px-Triangel_%28Instrument%29[1]"/>
          <p:cNvPicPr/>
          <p:nvPr/>
        </p:nvPicPr>
        <p:blipFill>
          <a:blip r:embed="rId1"/>
          <a:stretch/>
        </p:blipFill>
        <p:spPr>
          <a:xfrm>
            <a:off x="457200" y="1824120"/>
            <a:ext cx="4495680" cy="3798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Созвезд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50px-Triangulum_constellation_map_ru_lite[1]"/>
          <p:cNvPicPr/>
          <p:nvPr/>
        </p:nvPicPr>
        <p:blipFill>
          <a:blip r:embed="rId1"/>
          <a:stretch/>
        </p:blipFill>
        <p:spPr>
          <a:xfrm>
            <a:off x="4408560" y="3300480"/>
            <a:ext cx="326880" cy="25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50px-Triangulum_constellation_map_ru_lite[1]"/>
          <p:cNvPicPr/>
          <p:nvPr/>
        </p:nvPicPr>
        <p:blipFill>
          <a:blip r:embed="rId2"/>
          <a:stretch/>
        </p:blipFill>
        <p:spPr>
          <a:xfrm>
            <a:off x="1447920" y="1371600"/>
            <a:ext cx="6553080" cy="5184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Египетские пирам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Пирамида Хеопса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45338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91" name="AutoShape 7"/>
          <p:cNvSpPr/>
          <p:nvPr/>
        </p:nvSpPr>
        <p:spPr>
          <a:xfrm>
            <a:off x="136440" y="46080"/>
            <a:ext cx="24195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362400" y="2733840"/>
            <a:ext cx="24192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136440" y="46080"/>
            <a:ext cx="24195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Египетский треуголь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41101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Витра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572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Витраж –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произведение декоративного искусства из цветного стекла, рассчитанного на заполнение проё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Витраж 3"/>
          <p:cNvPicPr/>
          <p:nvPr/>
        </p:nvPicPr>
        <p:blipFill>
          <a:blip r:embed="rId1"/>
          <a:srcRect l="13841" t="8236" r="14993" b="14927"/>
          <a:stretch/>
        </p:blipFill>
        <p:spPr>
          <a:xfrm>
            <a:off x="4800600" y="3657600"/>
            <a:ext cx="4114800" cy="320040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pic>
        <p:nvPicPr>
          <p:cNvPr id="99" name="Picture 11" descr="Витраж 1"/>
          <p:cNvPicPr/>
          <p:nvPr/>
        </p:nvPicPr>
        <p:blipFill>
          <a:blip r:embed="rId2"/>
          <a:srcRect l="4155" t="3738" r="50393" b="8931"/>
          <a:stretch/>
        </p:blipFill>
        <p:spPr>
          <a:xfrm>
            <a:off x="6553080" y="228600"/>
            <a:ext cx="2216160" cy="30686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20T19:15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