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437-A758-4C99-AAFD-AD1894B3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FC1-DDCE-4362-81F4-87D595F9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FE2-B63C-485F-A14A-79ED3F5F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E4B-6DB6-4119-A54E-EF9B429A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8DC-05D5-4504-BA8D-A0D5F50B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755-7E8F-4A2B-A168-C4C49961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795-DEBA-487E-9D1B-E7719D51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19E-FF1D-44B2-AA79-8EB6D454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3BA-7A70-4BCB-AE85-D214C89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269-3B1F-47AF-AADA-55DDC1E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71B-6FA5-4320-917B-5BDF09E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499-6FC6-421A-928E-3CF2E72C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F1B8-C1C3-4E59-8E64-572F9B6E2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КТОРИ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 ОКРУЖАЮЩЕМУ МИР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oboi.kards.qip.ru/images/wallpaper/8a/df/122762_1024_7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вая станц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Царство расте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namonitore.ru/uploads/catalog/nature/kolosya_na_pole_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ПРИРОД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6"/>
          <p:cNvSpPr/>
          <p:nvPr/>
        </p:nvSpPr>
        <p:spPr>
          <a:xfrm>
            <a:off x="457200" y="1905120"/>
            <a:ext cx="7924680" cy="53316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Клён, рябина, ель, тюльпан. Так как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457200" y="1066680"/>
            <a:ext cx="7924680" cy="53352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Клубника, роза, ландыш, фиалка. Так как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380880" y="228600"/>
            <a:ext cx="7925040" cy="53352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Груша, слива, тополь, вишня. Так как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457200" y="5334120"/>
            <a:ext cx="7924680" cy="53316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Липа, осина, клён, яблоня. Так как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457200" y="2743200"/>
            <a:ext cx="7924680" cy="53352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сна, тополь, рябина, ива. Так как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2"/>
          <p:cNvSpPr/>
          <p:nvPr/>
        </p:nvSpPr>
        <p:spPr>
          <a:xfrm>
            <a:off x="457200" y="3657600"/>
            <a:ext cx="7924680" cy="53352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ина, липа, дуб, ель. Так как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457200" y="4495680"/>
            <a:ext cx="8229600" cy="53352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  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Яблоня, смородина, малина, рябина. Так ка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457200" y="6095880"/>
            <a:ext cx="7924680" cy="53352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Берёза, дуб, шиповник, тополь. Так как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upload.wikimedia.org/wikipedia/commons/thumb/b/b9/Picea_abies1.JPG/265px-Picea_abies1.JPG"/>
          <p:cNvPicPr/>
          <p:nvPr/>
        </p:nvPicPr>
        <p:blipFill>
          <a:blip r:embed="rId1"/>
          <a:stretch/>
        </p:blipFill>
        <p:spPr>
          <a:xfrm>
            <a:off x="6620040" y="2133720"/>
            <a:ext cx="2523960" cy="3362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science.compulenta.ru/upload/iblock/bd9/1_600.jpg"/>
          <p:cNvPicPr/>
          <p:nvPr/>
        </p:nvPicPr>
        <p:blipFill>
          <a:blip r:embed="rId2"/>
          <a:stretch/>
        </p:blipFill>
        <p:spPr>
          <a:xfrm>
            <a:off x="6026040" y="0"/>
            <a:ext cx="3117960" cy="21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msk.barahla.net/images/photo/1/20100406/3734946/big/1.jpg"/>
          <p:cNvPicPr/>
          <p:nvPr/>
        </p:nvPicPr>
        <p:blipFill>
          <a:blip r:embed="rId3"/>
          <a:stretch/>
        </p:blipFill>
        <p:spPr>
          <a:xfrm>
            <a:off x="0" y="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www.stihi.ru/pics/2012/09/02/9024.jpg"/>
          <p:cNvPicPr/>
          <p:nvPr/>
        </p:nvPicPr>
        <p:blipFill>
          <a:blip r:embed="rId4"/>
          <a:stretch/>
        </p:blipFill>
        <p:spPr>
          <a:xfrm>
            <a:off x="2819520" y="0"/>
            <a:ext cx="2552760" cy="3886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muzmix.com/images/songs/3296/4.jpg"/>
          <p:cNvPicPr/>
          <p:nvPr/>
        </p:nvPicPr>
        <p:blipFill>
          <a:blip r:embed="rId5"/>
          <a:stretch/>
        </p:blipFill>
        <p:spPr>
          <a:xfrm>
            <a:off x="0" y="4191120"/>
            <a:ext cx="4444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stihi.ru/pics/2010/12/20/9886.jpg"/>
          <p:cNvPicPr/>
          <p:nvPr/>
        </p:nvPicPr>
        <p:blipFill>
          <a:blip r:embed="rId6"/>
          <a:srcRect l="0" t="0" r="48338" b="0"/>
          <a:stretch/>
        </p:blipFill>
        <p:spPr>
          <a:xfrm>
            <a:off x="4648320" y="3429000"/>
            <a:ext cx="236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upanel.biz/_ph/2/5006404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торая станци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Царство Животных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moe-online.ru/image/news/224572_s1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ретья станция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Царство Гриб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chelsi.ru/uploads/posts/2012-06/1338880421_yekologiya.jp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твёртая станц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Экологическа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3:23:21Z</dcterms:created>
  <dc:creator>Пользователь</dc:creator>
  <dc:description/>
  <dc:language>en-US</dc:language>
  <cp:lastModifiedBy>Пользователь</cp:lastModifiedBy>
  <dcterms:modified xsi:type="dcterms:W3CDTF">2013-02-13T14:28:04Z</dcterms:modified>
  <cp:revision>7</cp:revision>
  <dc:subject/>
  <dc:title>ВИКТОРИНА  ПО ОКРУЖАЮЩЕМУ МИРУ</dc:title>
</cp:coreProperties>
</file>