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257-9EAD-4AA9-A1E4-A6C90D44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E20-89EB-48B3-9297-064F25C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073-3B3E-4E47-BAE9-0CBDE997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342-6AB2-4A0E-968D-8FB27051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AC1-C837-42A5-98D8-C4BC28AF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0FFA-36ED-43F0-B920-045D167E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8B92-2BFD-4641-BFE0-A8964F6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A2A0-14C9-4DA0-B9B9-0B8C49B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290-63BC-48B2-AC1B-9139D94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DD9-E74E-48A6-9B5A-C3F0DBA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E420-B13B-4A5B-BECD-12DCDCD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49C-C8BF-4537-BE25-8D42B5BD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D1D2-F303-41D3-93EC-F831F30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5D0E-1CDD-43CF-B632-C8617A4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C65B-56CD-4AB0-B845-AAB0508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67A4-8CAD-4FBD-BEF7-110BCBD2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215-5737-4D7B-ACD5-2EAC7E23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0FF-0A73-4508-8519-9FDB192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8DB-693A-4881-9A5D-A956432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036-B13C-45A1-AC16-5DD878A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459-F737-4AD7-982A-A1421D3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A99-3B7B-484D-AF6E-C4EBA83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899-BB3F-4B14-BF59-AA09A5D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02E-5477-4906-A0B3-73AF979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9E3-6146-4FB5-9258-92653C4AE7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17A0-366C-4AC9-AE59-68AC0FF7CD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roki-shkola.ru/wp-content/uploads/2012/06/vrednie_privychki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Вредные привычки и их влияние на здоровь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онова Ю. 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ь ГПД ГБОУ СОШ №348 Невского района СП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vrednie_privych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86400"/>
            <a:ext cx="101520" cy="76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vrednie_privychki"/>
          <p:cNvPicPr/>
          <p:nvPr/>
        </p:nvPicPr>
        <p:blipFill>
          <a:blip r:embed="rId3"/>
          <a:stretch/>
        </p:blipFill>
        <p:spPr>
          <a:xfrm>
            <a:off x="-101520" y="5029200"/>
            <a:ext cx="101520" cy="76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74669552_buhlo_"/>
          <p:cNvPicPr/>
          <p:nvPr/>
        </p:nvPicPr>
        <p:blipFill>
          <a:blip r:embed="rId4"/>
          <a:stretch/>
        </p:blipFill>
        <p:spPr>
          <a:xfrm>
            <a:off x="0" y="3000240"/>
            <a:ext cx="3809880" cy="3857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vrednie_privychki"/>
          <p:cNvPicPr/>
          <p:nvPr/>
        </p:nvPicPr>
        <p:blipFill>
          <a:blip r:embed="rId5"/>
          <a:stretch/>
        </p:blipFill>
        <p:spPr>
          <a:xfrm>
            <a:off x="2525760" y="0"/>
            <a:ext cx="66182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3581280"/>
            <a:ext cx="85406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оголь нарушает деятельность печени - главного очистительного органа, а также затрудняет клеточный обмен.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11" descr="nalog-spirt"/>
          <p:cNvPicPr/>
          <p:nvPr/>
        </p:nvPicPr>
        <p:blipFill>
          <a:blip r:embed="rId1"/>
          <a:stretch/>
        </p:blipFill>
        <p:spPr>
          <a:xfrm>
            <a:off x="2057400" y="2286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449568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тин - один из самых опасных ядов растительного происхожде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Picture 8" descr="75291885_3155073_Kyrenie001"/>
          <p:cNvPicPr/>
          <p:nvPr/>
        </p:nvPicPr>
        <p:blipFill>
          <a:blip r:embed="rId1"/>
          <a:stretch/>
        </p:blipFill>
        <p:spPr>
          <a:xfrm>
            <a:off x="1219320" y="304920"/>
            <a:ext cx="6657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ниматься собой, своим физическим и эмоциональным здоровьем сегодня не просто модно. Это  если хотите знать  – способ выжить и жить хорошо!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3" descr="a7011cc680d8"/>
          <p:cNvPicPr/>
          <p:nvPr/>
        </p:nvPicPr>
        <p:blipFill>
          <a:blip r:embed="rId1"/>
          <a:stretch/>
        </p:blipFill>
        <p:spPr>
          <a:xfrm>
            <a:off x="228600" y="2133720"/>
            <a:ext cx="4425840" cy="4498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image002"/>
          <p:cNvPicPr/>
          <p:nvPr/>
        </p:nvPicPr>
        <p:blipFill>
          <a:blip r:embed="rId2"/>
          <a:stretch/>
        </p:blipFill>
        <p:spPr>
          <a:xfrm>
            <a:off x="4570560" y="1905120"/>
            <a:ext cx="4573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41907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доровье-это первая и важнейшая потребность человека, определяющая способность его к труду и обеспечивающая гармоническое развитие личности. Ещё это полное физическое, психическое и социальное благополучие, а  не  только отсутствие болезней или  физических дефектов.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7" descr="dieta-2075"/>
          <p:cNvPicPr/>
          <p:nvPr/>
        </p:nvPicPr>
        <p:blipFill>
          <a:blip r:embed="rId1"/>
          <a:srcRect l="0" t="3807" r="0" b="3807"/>
          <a:stretch/>
        </p:blipFill>
        <p:spPr>
          <a:xfrm>
            <a:off x="4630680" y="228600"/>
            <a:ext cx="4284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3047760"/>
            <a:ext cx="823284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того чтобы отказаться от вредных привычек, в первую очередь необходимо осознать важность этого шага. Ведь только после того как вы признались себе что вредные привычки человека мешают жить, вы теоретически сможете с ними справ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6" descr="1314128139_No-Smoking-No-Drinking-No-Drugs"/>
          <p:cNvPicPr/>
          <p:nvPr/>
        </p:nvPicPr>
        <p:blipFill>
          <a:blip r:embed="rId1"/>
          <a:stretch/>
        </p:blipFill>
        <p:spPr>
          <a:xfrm>
            <a:off x="1295280" y="304920"/>
            <a:ext cx="69818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.КАКИЕ ЕСТЬ ВРЕДНЫЕ ПРИВЫЧКИ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ЧТО ТАКОЕ НИКОТИН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КАКИЕ ЕСТЬ ПРАВИЛА ЗДОРОВОГО ОБРАЗА ЖИЗНИ?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чн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yandex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3-porosenka.ru/off-line/catalogue/3298/s-14337.jp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rosfoto.ru/photos/big/0079000/079513_337.jp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zverushka.org.ua/images/Trixie/Dog_Trixie_31101.jp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foto-sobaki.narod.ru/images/foto-sobaki.narod.ru3311.jp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ecosystema.ru/08nature/amf/33.jp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0:56:26Z</dcterms:created>
  <dc:creator>Константин</dc:creator>
  <dc:description/>
  <dc:language>en-US</dc:language>
  <cp:lastModifiedBy>днс</cp:lastModifiedBy>
  <dcterms:modified xsi:type="dcterms:W3CDTF">2013-10-20T13:45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