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3B5-CBFD-4659-BE13-2C416A66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DA5-9CED-4E75-AE10-22AC942A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0B0-706D-4CB1-A0FC-4ACCF1B2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B4B-738E-44B6-B9CC-43F9483A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C96E-1DEB-49C3-BA49-2560BE6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A545-9440-46A5-B2D9-320DB21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107F-BE3F-499D-B2F9-352EBE5E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CC70-F27E-4674-8052-DB8DC47E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5949-2B17-427F-A836-4C1BD3AD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8F3-D9E4-4276-973C-14D7FB52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31B2-56D4-4288-9A77-7403515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00C-B8F4-4361-BE7D-F5182510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3EA0-4CD1-49B7-B9D3-7773872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9F2-4464-4CAC-9978-42B7B17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4D2B-E9BF-48F3-9436-2B49C62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72C5-AC9C-4753-8032-558B10B6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C87-33C8-4EA9-9F61-A4B6909A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27F-75EF-4E92-BE80-5AFB9F3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509-2702-4256-92FF-E8D1B534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26B-B515-4E4C-A37B-FA4A46DB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5C6-A068-4764-8386-391A846C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19-3CCE-4EBC-BD11-78646CD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B60-EBB6-4EF5-8128-10694C6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E6A-19A8-412F-8586-8760216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0A5-ED87-42DD-A3B1-E531405000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CB7-52C8-4769-941D-9549ED0141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35280" y="333360"/>
            <a:ext cx="5473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ведение в кур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ческой химии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09680" y="3933720"/>
          <a:ext cx="481032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33720"/>
                    <a:ext cx="48103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ро пожаловать в мир органической хими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1338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05240" y="476280"/>
            <a:ext cx="3830760" cy="504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Йенс Якоб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рцели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304920"/>
            <a:ext cx="815328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середине 19 столетия были проведены пер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интезы органических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828 г.  нем. хими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. Вёлер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синтезировал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карбам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842 г. русский хими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.Н. Зинин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получил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анил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845 г. нем. хими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. Кольбе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-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уксусную кисло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861 г. русский хими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.М. Бутлеров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–сахаристое вещ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Были также получены жиры, глюкоза и другие органические вещества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х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р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угливание саха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56000" y="19526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114800" cy="449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990720" y="0"/>
            <a:ext cx="6781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рганические вещест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362320"/>
            <a:ext cx="25905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л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ее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общего коли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имичес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 rot="5400000">
            <a:off x="-1206000" y="2500920"/>
            <a:ext cx="52214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тезы вещест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2492280"/>
            <a:ext cx="16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ас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4520" y="1484280"/>
            <a:ext cx="11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а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076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лок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37372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??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8000" y="1484280"/>
            <a:ext cx="5185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5445000"/>
            <a:ext cx="511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005360"/>
            <a:ext cx="496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124000" y="2924280"/>
            <a:ext cx="489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556160" cy="61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чины многообраз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769608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алентность углерода всегда 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Атомы углерода соединяются углеродные цепочки с разной структу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инейной С-С-С-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ветленной     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-С-С-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мкнутой  С-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-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бразование одинарной, двойной, тройной связей между атом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Наличие атомов других элементов в составе молеку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581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581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28195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бери молеку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 = СН - СН2- СН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 - НС = СН – СН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 = С – СН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Н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 – СН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 – СН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Н2 – СН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2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648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8:14:19Z</dcterms:created>
  <dc:creator>user</dc:creator>
  <dc:description/>
  <dc:language>en-US</dc:language>
  <cp:lastModifiedBy>Dj Plesen0</cp:lastModifiedBy>
  <dcterms:modified xsi:type="dcterms:W3CDTF">2013-10-20T18:03:17Z</dcterms:modified>
  <cp:revision>68</cp:revision>
  <dc:subject/>
  <dc:title>Добро пожаловать в мир органической химии!</dc:title>
</cp:coreProperties>
</file>