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0A2-6975-44F3-911A-36E74D56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AD0-EEF5-4A14-861D-F65C3905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97D-417A-41B0-A770-7B80F6B5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260-09D3-4926-80D0-C43A236C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6D93-7B4D-4680-B061-E75902F4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E6A1-876B-4AA8-B241-0EE8204A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1F0D-3594-4EF7-9010-88227108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08BA-FB74-4AE4-864F-FBEA7281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4BD7-0BA9-451E-820C-9E2671F2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5D19-E20A-4C3E-A6DD-353E3599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65B0-B573-464C-833A-B8E2AFA4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DFE-8137-4634-A165-2178BE80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6A52-14B6-4A1F-A4EB-CD3A2BB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5877-402C-4C37-90F4-F3091B57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EB37-C25F-4F08-A426-3320B465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9ABA-0118-4771-AE87-689FB940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83A3-7958-49AF-A196-78B0B12E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9DC6E-ADE7-4C80-B146-47A78BDC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0B17-54A8-4A75-8336-E97CFF40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08E9-628C-4AE3-A5BC-5AF0644D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D2FC-CC71-4C01-A339-A4A98E04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A86A5-69B1-4F23-9A31-B8B25E01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0F1-4935-4177-9C44-57D494FB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9FA13-593B-44D8-BA4D-33F71839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CC42-8573-49C8-94F9-6DACC3A3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F999-4EA7-4D75-8460-143E1095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6BC6-B8DB-4093-84C4-D75AAC0C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2490-A5F6-4AA1-A1E0-61D343DB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F2E3F-2B87-48FB-BF76-A2D7C5DF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468D-3041-4EF4-AAF7-C8858B97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4BAA8-5197-4F20-99F0-EFB523CC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AC4B-3BC6-4217-9423-0C2472EA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3A9F-69D5-47A4-A147-BC435B82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75A-6AD6-42DF-85BB-42AB9B91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960E1-5A6F-4443-AAB4-92084ABC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3D328-984E-4A97-B286-C8F5B451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CA0F8-CAF6-4811-8821-47FCE242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520D-87F7-4A1B-AF9A-4F3C8637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E81B-769D-46B5-8B7B-330BE03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201FC-DB69-4A5F-94DC-28F773EA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F85F-D490-4748-9B17-61EB2CCB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B34F3-D20E-44E7-9064-D375F017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62B9E-6E6F-4E9B-AA9B-B09A4198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DEF7F-CD7C-4512-953D-BA9BFED7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433-0B9E-4573-8820-24E4A094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EE389-8382-4409-A27E-3D2388E0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0998F-AF7E-4ABC-8597-969CB8DC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69BC-9362-4537-80F5-15AFA5D2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29C6-7946-4054-AAA6-454B93CC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2B073-5883-4EEF-859A-DEFE50BE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BFE9-B6BF-491C-934B-A9093E8E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BE357-C575-4ABD-B5A7-F68CE3E0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B96E6-4961-4809-B81A-20C268CE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8453-70A4-40AC-9882-DF3BB269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F21A4-E7AE-4054-A121-F48DA998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1ED-EFB4-4DA7-BCA3-85A586EB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0C831-0FAF-43E6-B184-07A792D4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2B12-AD22-48D7-9E00-C29A8CEE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5858C-F125-4E57-94B0-B9A5102A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FF6EF-5A95-4D00-B0F0-014F9AE5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12D33-9DA2-41D1-BF10-4F261C99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EED49-D8D5-490F-81A1-4EACAC53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E5E16-0AD5-4232-9A64-7911BB74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B3ED3-3FAD-4F78-92F8-352ADABA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4004F-225F-4D31-950A-A97E95E8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3082D-AC30-45DC-BB5B-3B36EF8A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874-DA99-4017-B869-3B4085ED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1B3C1-BDA5-4940-964D-B27C1EAF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AF2C6-BCA0-409F-AB72-9F109521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10E11-B237-4C66-99FB-FF037E73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90CB7-3E38-4485-8C69-927DC962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1342D-BFBE-4882-833D-4CCBCBE2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401F4-4556-49F2-9721-44500224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B8DB6-1705-42D4-A64A-4A9A5DF7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1C94F-8116-4937-926C-4AB9FBB2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DBC64-2671-4F48-831D-1C0F732C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CFF4E-8202-4197-A37F-646840B2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B52-0E28-4EB9-9E88-A54EFEB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7463C-8656-4697-BB40-939BE595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A3D1D-55C3-416B-AB1A-1E068643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087F8-C847-45C9-B539-40E65729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17B39-35ED-4A0B-B322-02CA2616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B64F7-2B6E-444C-BF09-6612AC98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D5C-32B2-4261-8FA2-EBAE986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C31D-4AB9-4BEE-8C53-FC34DFBEE8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B9AB-8230-43BF-86CE-4B816783F80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EAAB-776E-4C41-833B-6305D51E77D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5295-834E-4EE8-ADAC-CB0D1D57C3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B4D6-9505-46A2-B02E-8A9A277B927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D94-1ECC-45CF-B8DD-F87F4C2304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435B-3EEF-4F88-9BAB-1B30929AA73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214200" y="1999800"/>
            <a:ext cx="91440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ние прощать - свойство сильных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е никогда не прощают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br>
              <a:rPr sz="4400"/>
            </a:br>
            <a:br>
              <a:rPr sz="44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атма Ганди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Учимся проща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Месть - это не выхо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только лишь очередная возможность потешить уязвленное самолюбие. Подчиняясь ей, мы обрекаем себя на печальную судьбу: на протяжении длительного времени быть зависимым от причинившего обиду человек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Рисунок 3" descr="normal_obida.jpg"/>
          <p:cNvPicPr/>
          <p:nvPr/>
        </p:nvPicPr>
        <p:blipFill>
          <a:blip r:embed="rId1"/>
          <a:stretch/>
        </p:blipFill>
        <p:spPr>
          <a:xfrm>
            <a:off x="6215040" y="4643280"/>
            <a:ext cx="16272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42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 algn="ctr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Если переживaния не нaходят выходa, они рaзрушaют и психически, и физически, – убеждены психологи.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ногие сомaтические зaболевaния связaны именно с тем, что человек когдa-то кого-то не простил, и этот груз шлейфом тянется зa ним по жизни и приносит мaссу проблем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 этом сaм человек, кaк правило, не осознaет, что стaновится причиной его депрессий и недомогaн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Рисунок 3" descr="normal_obida.jpg"/>
          <p:cNvPicPr/>
          <p:nvPr/>
        </p:nvPicPr>
        <p:blipFill>
          <a:blip r:embed="rId1"/>
          <a:stretch/>
        </p:blipFill>
        <p:spPr>
          <a:xfrm>
            <a:off x="6215040" y="4643280"/>
            <a:ext cx="16272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914400" y="35712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мейте прощать, забывать старые обиды, ведь они только мешают нам жить и пр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осят отрицательную энерги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4" descr="img_15033934_437_4.jpg"/>
          <p:cNvPicPr/>
          <p:nvPr/>
        </p:nvPicPr>
        <p:blipFill>
          <a:blip r:embed="rId1"/>
          <a:stretch/>
        </p:blipFill>
        <p:spPr>
          <a:xfrm>
            <a:off x="3143160" y="2571840"/>
            <a:ext cx="291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914400" y="35676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мейте прощать. Причем не только других, но и себя. В конце концов, все люди «не без греха» и мы сами тут не исключ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Рисунок 3" descr="pozitiv1.gif"/>
          <p:cNvPicPr/>
          <p:nvPr/>
        </p:nvPicPr>
        <p:blipFill>
          <a:blip r:embed="rId1"/>
          <a:stretch/>
        </p:blipFill>
        <p:spPr>
          <a:xfrm>
            <a:off x="2643120" y="2643120"/>
            <a:ext cx="395784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914400" y="35676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учиться прощать очень важно для каждого из нас, чтобы не тратить минуты жизни на пустяковые никому не нужные обид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Рисунок 3" descr="213123_Obida_1.jpg"/>
          <p:cNvPicPr/>
          <p:nvPr/>
        </p:nvPicPr>
        <p:blipFill>
          <a:blip r:embed="rId1"/>
          <a:stretch/>
        </p:blipFill>
        <p:spPr>
          <a:xfrm>
            <a:off x="4071960" y="2571840"/>
            <a:ext cx="4683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1440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мение прощать всегда считалось высшей мудрость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щение поможет не только снять этот груз, но и поставить нас в значительно более выгодную позицию по сравнению с обидчиком, морально возвыситься над н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Рисунок 3" descr="Как научиться прощать"/>
          <p:cNvPicPr/>
          <p:nvPr/>
        </p:nvPicPr>
        <p:blipFill>
          <a:blip r:embed="rId1"/>
          <a:stretch/>
        </p:blipFill>
        <p:spPr>
          <a:xfrm>
            <a:off x="3429000" y="3714840"/>
            <a:ext cx="46432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Учимся прощать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7172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Для начала осознайте причину конфликта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пробуйте проговорить обиду вслух или выписать на листок бумаги. Это поможет вам трезво оценить ситуаци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роятно, что в спокойной домашней атмосфере она вызовет у вас только смех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Рисунок 3" descr="obida.jpg"/>
          <p:cNvPicPr/>
          <p:nvPr/>
        </p:nvPicPr>
        <p:blipFill>
          <a:blip r:embed="rId1"/>
          <a:stretch/>
        </p:blipFill>
        <p:spPr>
          <a:xfrm>
            <a:off x="5357880" y="4483080"/>
            <a:ext cx="3166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Учимся прощать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«Выпустите пар»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вободите себя от собравшейся негативной энергии. Но давать выход отрицательным эмоциям лучше, не отыгрываясь на окружающем вас мире, а вкладываясь в физические упражнения или творческую деятельност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1189263820_offence_00.jpg"/>
          <p:cNvPicPr/>
          <p:nvPr/>
        </p:nvPicPr>
        <p:blipFill>
          <a:blip r:embed="rId1"/>
          <a:stretch/>
        </p:blipFill>
        <p:spPr>
          <a:xfrm>
            <a:off x="6715080" y="3857760"/>
            <a:ext cx="2214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Учимся прощать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Примиритесь с самим собой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огда для людей легче не прощать. Одним это помогает объяснить причины своих неудач. Неважно при этом, сколько прошло времени, всегда есть возможность сказать: «во всем, что со мной происходит, виноват обидчик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Учимся прощать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Постарайтесь понять своего обидчика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аже если он преднамеренно стремился причинить вам боль, никто не заставляет вас оправдывать его поступо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чь идет лишь о прощени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Рисунок 3" descr="1220464209.jpg"/>
          <p:cNvPicPr/>
          <p:nvPr/>
        </p:nvPicPr>
        <p:blipFill>
          <a:blip r:embed="rId1"/>
          <a:stretch/>
        </p:blipFill>
        <p:spPr>
          <a:xfrm>
            <a:off x="4857840" y="3714840"/>
            <a:ext cx="313992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Учимся проща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Вспомните о хорош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редоточьтесь  на тех положительных качествах, которые есть в вашем обидчике, и тогда простить его вам будет легч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Рисунок 3" descr="i.jpg"/>
          <p:cNvPicPr/>
          <p:nvPr/>
        </p:nvPicPr>
        <p:blipFill>
          <a:blip r:embed="rId1"/>
          <a:stretch/>
        </p:blipFill>
        <p:spPr>
          <a:xfrm>
            <a:off x="2643120" y="3643200"/>
            <a:ext cx="31942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Учимся проща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356840" y="8568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Не считайте прощение актом величайшего благодуш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дя на мир, вы не должны делать никому одолжения. Прощение важно для вас самих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м вы, прежде всего, самого себя освобождаете от тяжкого груза обиды. Поймите эт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Рисунок 4" descr="3629949_10122412102120_577.jpg"/>
          <p:cNvPicPr/>
          <p:nvPr/>
        </p:nvPicPr>
        <p:blipFill>
          <a:blip r:embed="rId1"/>
          <a:stretch/>
        </p:blipFill>
        <p:spPr>
          <a:xfrm>
            <a:off x="5286240" y="4429080"/>
            <a:ext cx="3429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5:31:19Z</dcterms:created>
  <dc:creator>lv</dc:creator>
  <dc:description/>
  <dc:language>en-US</dc:language>
  <cp:lastModifiedBy>USER</cp:lastModifiedBy>
  <dcterms:modified xsi:type="dcterms:W3CDTF">2010-12-13T11:16:47Z</dcterms:modified>
  <cp:revision>8</cp:revision>
  <dc:subject/>
  <dc:title>«Умение прощать - свойство сильных. Слабые никогда не прощают». Махатма Ганди </dc:title>
</cp:coreProperties>
</file>