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B9AC-3CEF-40CB-997D-B49B1F22AF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исунки Савченко Е.М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рисунки в презентации выполнены с помощью инструментов панели рисования программ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9 класс». – М.: ВАКО, 2007. – 320 с. – (В помощь школьному учит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9 класс». – М.: ВАКО, 2007. – 320 с. – (В помощь школьному учит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9 класс». – М.: ВАКО, 2007. – 320 с. – (В помощь школьному учит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9 класс». – М.: ВАКО, 2007. – 320 с. – (В помощь школьному учит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5ED-FB69-42CD-B1E9-A95995E9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C48-82A7-4005-9CA6-A46D9304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E91-3646-48D4-8F8F-F04B4C1D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A9D-0244-42D7-9F0E-BC34DCD7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37C-8F58-4A07-88FA-F06E0FA2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6C4-1A4C-457B-8DF0-ED63C496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472-75E0-41E7-AFC2-8895D754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196-7DF0-4776-A5DA-1A135CB5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3834-2890-4E38-A936-0240CB6F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AEA2-F2D6-4740-A3BA-B5CB4CB3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DDA-4095-431E-A643-DCD41972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EBF-3515-476B-AD30-DF1BF91A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14B2-D025-4C7E-837B-BECF58A79B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49" name="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457200" y="1981080"/>
            <a:ext cx="81532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Координаты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вектора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2120" y="5486400"/>
            <a:ext cx="784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ff">
                    <a:alpha val="65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"Геометрия 7-9" 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66ff">
                  <a:alpha val="65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95280" y="457200"/>
            <a:ext cx="8497800" cy="1077480"/>
            <a:chOff x="395280" y="457200"/>
            <a:chExt cx="8497800" cy="1077480"/>
          </a:xfrm>
        </p:grpSpPr>
        <p:sp>
          <p:nvSpPr>
            <p:cNvPr id="60" name=""/>
            <p:cNvSpPr txBox="1"/>
            <p:nvPr/>
          </p:nvSpPr>
          <p:spPr>
            <a:xfrm>
              <a:off x="395280" y="457200"/>
              <a:ext cx="8497800" cy="90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257dff"/>
                  </a:solidFill>
                  <a:latin typeface="Arial"/>
                </a:rPr>
                <a:t>Савченко Е.М., учитель математики,  </a:t>
              </a:r>
              <a:endPara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257d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257dff"/>
                  </a:solidFill>
                  <a:latin typeface="Arial"/>
                </a:rPr>
                <a:t>МОУ гимназия №      , г. Полярные Зори, Мурманской обл. </a:t>
              </a:r>
              <a:endPara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257dff"/>
                </a:solidFill>
                <a:latin typeface="Arial"/>
                <a:ea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 rot="21475800">
              <a:off x="2843280" y="790560"/>
              <a:ext cx="633240" cy="732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3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874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1447920" y="1522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Каждая координата суммы двух или более векторов равна сумме соответствующих координат этих ве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09480" y="228600"/>
            <a:ext cx="60984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590920" y="2362320"/>
            <a:ext cx="2666880" cy="787320"/>
            <a:chOff x="2590920" y="2362320"/>
            <a:chExt cx="2666880" cy="787320"/>
          </a:xfrm>
        </p:grpSpPr>
        <p:sp>
          <p:nvSpPr>
            <p:cNvPr id="885" name=""/>
            <p:cNvSpPr/>
            <p:nvPr/>
          </p:nvSpPr>
          <p:spPr>
            <a:xfrm>
              <a:off x="2590920" y="2362320"/>
              <a:ext cx="26668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y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1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667240" y="259092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962520" y="251172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953240" y="250704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6019920" y="2438280"/>
            <a:ext cx="2666880" cy="787320"/>
            <a:chOff x="6019920" y="2438280"/>
            <a:chExt cx="2666880" cy="787320"/>
          </a:xfrm>
        </p:grpSpPr>
        <p:sp>
          <p:nvSpPr>
            <p:cNvPr id="890" name=""/>
            <p:cNvSpPr/>
            <p:nvPr/>
          </p:nvSpPr>
          <p:spPr>
            <a:xfrm>
              <a:off x="6019920" y="2438280"/>
              <a:ext cx="26668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y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2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096240" y="259056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391520" y="258732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382240" y="258264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380880" y="3733920"/>
            <a:ext cx="8305920" cy="703440"/>
            <a:chOff x="380880" y="3733920"/>
            <a:chExt cx="8305920" cy="703440"/>
          </a:xfrm>
        </p:grpSpPr>
        <p:sp>
          <p:nvSpPr>
            <p:cNvPr id="895" name=""/>
            <p:cNvSpPr/>
            <p:nvPr/>
          </p:nvSpPr>
          <p:spPr>
            <a:xfrm>
              <a:off x="380880" y="3733920"/>
              <a:ext cx="8305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+b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                               </a:t>
              </a: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7200" y="39625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66680" y="388476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581280" y="4648320"/>
            <a:ext cx="5029200" cy="787320"/>
            <a:chOff x="3581280" y="4648320"/>
            <a:chExt cx="5029200" cy="787320"/>
          </a:xfrm>
        </p:grpSpPr>
        <p:sp>
          <p:nvSpPr>
            <p:cNvPr id="899" name=""/>
            <p:cNvSpPr/>
            <p:nvPr/>
          </p:nvSpPr>
          <p:spPr>
            <a:xfrm>
              <a:off x="3581280" y="4648320"/>
              <a:ext cx="5029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(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+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i="1" lang="en-US" sz="40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0033cc"/>
                  </a:solidFill>
                  <a:latin typeface="Times New Roman"/>
                </a:rPr>
                <a:t>)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+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(y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y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2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)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778360" y="4797720"/>
              <a:ext cx="241560" cy="288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267080" y="479916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229600" y="4800600"/>
              <a:ext cx="228600" cy="504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2209680" y="5699160"/>
            <a:ext cx="5257800" cy="787320"/>
            <a:chOff x="2209680" y="5699160"/>
            <a:chExt cx="5257800" cy="787320"/>
          </a:xfrm>
        </p:grpSpPr>
        <p:sp>
          <p:nvSpPr>
            <p:cNvPr id="904" name=""/>
            <p:cNvSpPr/>
            <p:nvPr/>
          </p:nvSpPr>
          <p:spPr>
            <a:xfrm>
              <a:off x="2209680" y="5699160"/>
              <a:ext cx="52578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+b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+x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;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y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+y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285640" y="5927760"/>
              <a:ext cx="29232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971440" y="585180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304920" y="1371600"/>
            <a:ext cx="8305560" cy="787320"/>
            <a:chOff x="304920" y="1371600"/>
            <a:chExt cx="8305560" cy="787320"/>
          </a:xfrm>
        </p:grpSpPr>
        <p:grpSp>
          <p:nvGrpSpPr>
            <p:cNvPr id="908" name=""/>
            <p:cNvGrpSpPr/>
            <p:nvPr/>
          </p:nvGrpSpPr>
          <p:grpSpPr>
            <a:xfrm>
              <a:off x="3657600" y="1371600"/>
              <a:ext cx="2286000" cy="787320"/>
              <a:chOff x="3657600" y="1371600"/>
              <a:chExt cx="2286000" cy="787320"/>
            </a:xfrm>
          </p:grpSpPr>
          <p:sp>
            <p:nvSpPr>
              <p:cNvPr id="909" name=""/>
              <p:cNvSpPr/>
              <p:nvPr/>
            </p:nvSpPr>
            <p:spPr>
              <a:xfrm>
                <a:off x="3657600" y="1371600"/>
                <a:ext cx="228600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4000" spc="-1" strike="noStrike" baseline="-25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;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y</a:t>
                </a:r>
                <a:r>
                  <a:rPr b="1" i="1" lang="en-US" sz="4000" spc="-1" strike="noStrike" baseline="-25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33920" y="160020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6324480" y="1371600"/>
              <a:ext cx="2286000" cy="787320"/>
              <a:chOff x="6324480" y="1371600"/>
              <a:chExt cx="2286000" cy="787320"/>
            </a:xfrm>
          </p:grpSpPr>
          <p:sp>
            <p:nvSpPr>
              <p:cNvPr id="912" name=""/>
              <p:cNvSpPr/>
              <p:nvPr/>
            </p:nvSpPr>
            <p:spPr>
              <a:xfrm>
                <a:off x="6324480" y="1371600"/>
                <a:ext cx="228600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4000" spc="-1" strike="noStrike" baseline="-25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;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y</a:t>
                </a:r>
                <a:r>
                  <a:rPr b="1" i="1" lang="en-US" sz="4000" spc="-1" strike="noStrike" baseline="-25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400800" y="152244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304920" y="160020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Рассмотрим векторы                             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352680" y="2362320"/>
            <a:ext cx="1828800" cy="787320"/>
            <a:chOff x="3352680" y="2362320"/>
            <a:chExt cx="1828800" cy="787320"/>
          </a:xfrm>
        </p:grpSpPr>
        <p:sp>
          <p:nvSpPr>
            <p:cNvPr id="916" name=""/>
            <p:cNvSpPr/>
            <p:nvPr/>
          </p:nvSpPr>
          <p:spPr>
            <a:xfrm>
              <a:off x="3352680" y="2362320"/>
              <a:ext cx="18288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y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1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86200" y="2511720"/>
              <a:ext cx="241200" cy="288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52880" y="2506680"/>
              <a:ext cx="228600" cy="504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6400800" y="2438280"/>
            <a:ext cx="2666880" cy="787320"/>
            <a:chOff x="6400800" y="2438280"/>
            <a:chExt cx="2666880" cy="787320"/>
          </a:xfrm>
        </p:grpSpPr>
        <p:sp>
          <p:nvSpPr>
            <p:cNvPr id="920" name=""/>
            <p:cNvSpPr/>
            <p:nvPr/>
          </p:nvSpPr>
          <p:spPr>
            <a:xfrm>
              <a:off x="6400800" y="2438280"/>
              <a:ext cx="26668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+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y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2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91160" y="2587680"/>
              <a:ext cx="241560" cy="288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381880" y="2582640"/>
              <a:ext cx="228600" cy="504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L -0.22777 0.12477 L -0.31389 0.18773 E">
                                      <p:cBhvr>
                                        <p:cTn id="539" dur="1000" fill="hold"/>
                                        <p:tgtEl>
                                          <p:spTgt spid="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-0.11389 0.12662 L -0.175 0.19884 E">
                                      <p:cBhvr>
                                        <p:cTn id="541" dur="1000" fill="hold"/>
                                        <p:tgtEl>
                                          <p:spTgt spid="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304920" y="2681280"/>
            <a:ext cx="7924680" cy="3889440"/>
            <a:chOff x="304920" y="2681280"/>
            <a:chExt cx="7924680" cy="3889440"/>
          </a:xfrm>
        </p:grpSpPr>
        <p:grpSp>
          <p:nvGrpSpPr>
            <p:cNvPr id="924" name=""/>
            <p:cNvGrpSpPr/>
            <p:nvPr/>
          </p:nvGrpSpPr>
          <p:grpSpPr>
            <a:xfrm>
              <a:off x="5410080" y="3200400"/>
              <a:ext cx="2819520" cy="3370320"/>
              <a:chOff x="5410080" y="3200400"/>
              <a:chExt cx="2819520" cy="3370320"/>
            </a:xfrm>
          </p:grpSpPr>
          <p:grpSp>
            <p:nvGrpSpPr>
              <p:cNvPr id="925" name=""/>
              <p:cNvGrpSpPr/>
              <p:nvPr/>
            </p:nvGrpSpPr>
            <p:grpSpPr>
              <a:xfrm>
                <a:off x="5410080" y="3200400"/>
                <a:ext cx="2819520" cy="703440"/>
                <a:chOff x="5410080" y="3200400"/>
                <a:chExt cx="2819520" cy="70344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410080" y="3200400"/>
                  <a:ext cx="2819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 +b </a:t>
                  </a:r>
                  <a:r>
                    <a:rPr b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{ 5; 7}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5486400" y="3429000"/>
                  <a:ext cx="291960" cy="1440"/>
                </a:xfrm>
                <a:custGeom>
                  <a:avLst/>
                  <a:gdLst/>
                  <a:ahLst/>
                  <a:rect l="l" t="t" r="r" b="b"/>
                  <a:pathLst>
                    <a:path w="184" h="1">
                      <a:moveTo>
                        <a:pt x="0" y="0"/>
                      </a:moveTo>
                      <a:lnTo>
                        <a:pt x="18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172200" y="3352680"/>
                  <a:ext cx="291960" cy="1440"/>
                </a:xfrm>
                <a:custGeom>
                  <a:avLst/>
                  <a:gdLst/>
                  <a:ahLst/>
                  <a:rect l="l" t="t" r="r" b="b"/>
                  <a:pathLst>
                    <a:path w="184" h="1">
                      <a:moveTo>
                        <a:pt x="0" y="0"/>
                      </a:moveTo>
                      <a:lnTo>
                        <a:pt x="18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9" name=""/>
              <p:cNvGrpSpPr/>
              <p:nvPr/>
            </p:nvGrpSpPr>
            <p:grpSpPr>
              <a:xfrm>
                <a:off x="5410080" y="4098960"/>
                <a:ext cx="2819520" cy="703440"/>
                <a:chOff x="5410080" y="4098960"/>
                <a:chExt cx="2819520" cy="70344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5410080" y="4098960"/>
                  <a:ext cx="2819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 +b </a:t>
                  </a:r>
                  <a:r>
                    <a:rPr b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{ 4; 1}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5486400" y="4327560"/>
                  <a:ext cx="291960" cy="1440"/>
                </a:xfrm>
                <a:custGeom>
                  <a:avLst/>
                  <a:gdLst/>
                  <a:ahLst/>
                  <a:rect l="l" t="t" r="r" b="b"/>
                  <a:pathLst>
                    <a:path w="184" h="1">
                      <a:moveTo>
                        <a:pt x="0" y="0"/>
                      </a:moveTo>
                      <a:lnTo>
                        <a:pt x="18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172200" y="4251240"/>
                  <a:ext cx="291960" cy="1440"/>
                </a:xfrm>
                <a:custGeom>
                  <a:avLst/>
                  <a:gdLst/>
                  <a:ahLst/>
                  <a:rect l="l" t="t" r="r" b="b"/>
                  <a:pathLst>
                    <a:path w="184" h="1">
                      <a:moveTo>
                        <a:pt x="0" y="0"/>
                      </a:moveTo>
                      <a:lnTo>
                        <a:pt x="18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5410080" y="4952880"/>
                <a:ext cx="2819520" cy="703440"/>
                <a:chOff x="5410080" y="4952880"/>
                <a:chExt cx="2819520" cy="70344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5410080" y="4952880"/>
                  <a:ext cx="2819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 +b </a:t>
                  </a:r>
                  <a:r>
                    <a:rPr b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{ 1; 1}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5486400" y="5181480"/>
                  <a:ext cx="291960" cy="1440"/>
                </a:xfrm>
                <a:custGeom>
                  <a:avLst/>
                  <a:gdLst/>
                  <a:ahLst/>
                  <a:rect l="l" t="t" r="r" b="b"/>
                  <a:pathLst>
                    <a:path w="184" h="1">
                      <a:moveTo>
                        <a:pt x="0" y="0"/>
                      </a:moveTo>
                      <a:lnTo>
                        <a:pt x="18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172200" y="5105160"/>
                  <a:ext cx="291960" cy="1440"/>
                </a:xfrm>
                <a:custGeom>
                  <a:avLst/>
                  <a:gdLst/>
                  <a:ahLst/>
                  <a:rect l="l" t="t" r="r" b="b"/>
                  <a:pathLst>
                    <a:path w="184" h="1">
                      <a:moveTo>
                        <a:pt x="0" y="0"/>
                      </a:moveTo>
                      <a:lnTo>
                        <a:pt x="18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7" name=""/>
              <p:cNvGrpSpPr/>
              <p:nvPr/>
            </p:nvGrpSpPr>
            <p:grpSpPr>
              <a:xfrm>
                <a:off x="5410080" y="5867280"/>
                <a:ext cx="2819520" cy="703440"/>
                <a:chOff x="5410080" y="5867280"/>
                <a:chExt cx="2819520" cy="70344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5410080" y="5867280"/>
                  <a:ext cx="2819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 +b </a:t>
                  </a:r>
                  <a:r>
                    <a:rPr b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{-1; 0}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486400" y="6095880"/>
                  <a:ext cx="291960" cy="1440"/>
                </a:xfrm>
                <a:custGeom>
                  <a:avLst/>
                  <a:gdLst/>
                  <a:ahLst/>
                  <a:rect l="l" t="t" r="r" b="b"/>
                  <a:pathLst>
                    <a:path w="184" h="1">
                      <a:moveTo>
                        <a:pt x="0" y="0"/>
                      </a:moveTo>
                      <a:lnTo>
                        <a:pt x="18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172200" y="6019560"/>
                  <a:ext cx="291960" cy="1440"/>
                </a:xfrm>
                <a:custGeom>
                  <a:avLst/>
                  <a:gdLst/>
                  <a:ahLst/>
                  <a:rect l="l" t="t" r="r" b="b"/>
                  <a:pathLst>
                    <a:path w="184" h="1">
                      <a:moveTo>
                        <a:pt x="0" y="0"/>
                      </a:moveTo>
                      <a:lnTo>
                        <a:pt x="18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1" name=""/>
            <p:cNvGrpSpPr/>
            <p:nvPr/>
          </p:nvGrpSpPr>
          <p:grpSpPr>
            <a:xfrm>
              <a:off x="304920" y="2681280"/>
              <a:ext cx="4419360" cy="3873600"/>
              <a:chOff x="304920" y="2681280"/>
              <a:chExt cx="4419360" cy="3873600"/>
            </a:xfrm>
          </p:grpSpPr>
          <p:grpSp>
            <p:nvGrpSpPr>
              <p:cNvPr id="942" name=""/>
              <p:cNvGrpSpPr/>
              <p:nvPr/>
            </p:nvGrpSpPr>
            <p:grpSpPr>
              <a:xfrm>
                <a:off x="380880" y="3200400"/>
                <a:ext cx="4343400" cy="763920"/>
                <a:chOff x="380880" y="3200400"/>
                <a:chExt cx="4343400" cy="76392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380880" y="3200400"/>
                  <a:ext cx="2286000" cy="703440"/>
                  <a:chOff x="380880" y="3200400"/>
                  <a:chExt cx="2286000" cy="70344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380880" y="3200400"/>
                    <a:ext cx="22860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a </a:t>
                    </a:r>
                    <a:r>
                      <a:rPr b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{3; 2};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457200" y="3429000"/>
                    <a:ext cx="2919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1">
                        <a:moveTo>
                          <a:pt x="0" y="0"/>
                        </a:moveTo>
                        <a:lnTo>
                          <a:pt x="184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6" name=""/>
                <p:cNvGrpSpPr/>
                <p:nvPr/>
              </p:nvGrpSpPr>
              <p:grpSpPr>
                <a:xfrm>
                  <a:off x="2438280" y="3260880"/>
                  <a:ext cx="2286000" cy="703440"/>
                  <a:chOff x="2438280" y="3260880"/>
                  <a:chExt cx="2286000" cy="70344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>
                    <a:off x="2438280" y="3260880"/>
                    <a:ext cx="22860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b </a:t>
                    </a:r>
                    <a:r>
                      <a:rPr b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{2; 5}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514600" y="3413160"/>
                    <a:ext cx="291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1">
                        <a:moveTo>
                          <a:pt x="0" y="0"/>
                        </a:moveTo>
                        <a:lnTo>
                          <a:pt x="184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9" name=""/>
              <p:cNvSpPr/>
              <p:nvPr/>
            </p:nvSpPr>
            <p:spPr>
              <a:xfrm>
                <a:off x="304920" y="2681280"/>
                <a:ext cx="1523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№ </a:t>
                </a: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92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"/>
              <p:cNvGrpSpPr/>
              <p:nvPr/>
            </p:nvGrpSpPr>
            <p:grpSpPr>
              <a:xfrm>
                <a:off x="380880" y="4038480"/>
                <a:ext cx="4343400" cy="763920"/>
                <a:chOff x="380880" y="4038480"/>
                <a:chExt cx="4343400" cy="763920"/>
              </a:xfrm>
            </p:grpSpPr>
            <p:grpSp>
              <p:nvGrpSpPr>
                <p:cNvPr id="951" name=""/>
                <p:cNvGrpSpPr/>
                <p:nvPr/>
              </p:nvGrpSpPr>
              <p:grpSpPr>
                <a:xfrm>
                  <a:off x="380880" y="4038480"/>
                  <a:ext cx="2286000" cy="703440"/>
                  <a:chOff x="380880" y="4038480"/>
                  <a:chExt cx="2286000" cy="70344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>
                    <a:off x="380880" y="4038480"/>
                    <a:ext cx="22860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a </a:t>
                    </a:r>
                    <a:r>
                      <a:rPr b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{3;-4};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457200" y="4267080"/>
                    <a:ext cx="2919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1">
                        <a:moveTo>
                          <a:pt x="0" y="0"/>
                        </a:moveTo>
                        <a:lnTo>
                          <a:pt x="184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4" name=""/>
                <p:cNvGrpSpPr/>
                <p:nvPr/>
              </p:nvGrpSpPr>
              <p:grpSpPr>
                <a:xfrm>
                  <a:off x="2438280" y="4098960"/>
                  <a:ext cx="2286000" cy="703440"/>
                  <a:chOff x="2438280" y="4098960"/>
                  <a:chExt cx="2286000" cy="70344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>
                    <a:off x="2438280" y="4098960"/>
                    <a:ext cx="22860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b </a:t>
                    </a:r>
                    <a:r>
                      <a:rPr b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{1; 5}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2514600" y="4251240"/>
                    <a:ext cx="291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1">
                        <a:moveTo>
                          <a:pt x="0" y="0"/>
                        </a:moveTo>
                        <a:lnTo>
                          <a:pt x="184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7" name=""/>
              <p:cNvGrpSpPr/>
              <p:nvPr/>
            </p:nvGrpSpPr>
            <p:grpSpPr>
              <a:xfrm>
                <a:off x="380880" y="4876920"/>
                <a:ext cx="2286000" cy="703440"/>
                <a:chOff x="380880" y="4876920"/>
                <a:chExt cx="2286000" cy="70344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380880" y="4876920"/>
                  <a:ext cx="2286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 </a:t>
                  </a:r>
                  <a:r>
                    <a:rPr b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{-4;-2};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57200" y="5105520"/>
                  <a:ext cx="291960" cy="1440"/>
                </a:xfrm>
                <a:custGeom>
                  <a:avLst/>
                  <a:gdLst/>
                  <a:ahLst/>
                  <a:rect l="l" t="t" r="r" b="b"/>
                  <a:pathLst>
                    <a:path w="184" h="1">
                      <a:moveTo>
                        <a:pt x="0" y="0"/>
                      </a:moveTo>
                      <a:lnTo>
                        <a:pt x="18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2362320" y="4937040"/>
                <a:ext cx="2286000" cy="703440"/>
                <a:chOff x="2362320" y="4937040"/>
                <a:chExt cx="2286000" cy="70344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2362320" y="4937040"/>
                  <a:ext cx="2286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 </a:t>
                  </a:r>
                  <a:r>
                    <a:rPr b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{5; 3}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2603880" y="5089680"/>
                  <a:ext cx="291960" cy="1440"/>
                </a:xfrm>
                <a:custGeom>
                  <a:avLst/>
                  <a:gdLst/>
                  <a:ahLst/>
                  <a:rect l="l" t="t" r="r" b="b"/>
                  <a:pathLst>
                    <a:path w="184" h="1">
                      <a:moveTo>
                        <a:pt x="0" y="0"/>
                      </a:moveTo>
                      <a:lnTo>
                        <a:pt x="18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380880" y="5791320"/>
                <a:ext cx="2286000" cy="703440"/>
                <a:chOff x="380880" y="5791320"/>
                <a:chExt cx="2286000" cy="70344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380880" y="5791320"/>
                  <a:ext cx="2286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 </a:t>
                  </a:r>
                  <a:r>
                    <a:rPr b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{2; 7};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457200" y="6019920"/>
                  <a:ext cx="291960" cy="1440"/>
                </a:xfrm>
                <a:custGeom>
                  <a:avLst/>
                  <a:gdLst/>
                  <a:ahLst/>
                  <a:rect l="l" t="t" r="r" b="b"/>
                  <a:pathLst>
                    <a:path w="184" h="1">
                      <a:moveTo>
                        <a:pt x="0" y="0"/>
                      </a:moveTo>
                      <a:lnTo>
                        <a:pt x="18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2362320" y="5851440"/>
                <a:ext cx="2286000" cy="703440"/>
                <a:chOff x="2362320" y="5851440"/>
                <a:chExt cx="2286000" cy="70344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2362320" y="5851440"/>
                  <a:ext cx="2286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 </a:t>
                  </a:r>
                  <a:r>
                    <a:rPr b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{-3;-7}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603880" y="6004080"/>
                  <a:ext cx="291960" cy="1440"/>
                </a:xfrm>
                <a:custGeom>
                  <a:avLst/>
                  <a:gdLst/>
                  <a:ahLst/>
                  <a:rect l="l" t="t" r="r" b="b"/>
                  <a:pathLst>
                    <a:path w="184" h="1">
                      <a:moveTo>
                        <a:pt x="0" y="0"/>
                      </a:moveTo>
                      <a:lnTo>
                        <a:pt x="18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69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970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1500120" y="533520"/>
            <a:ext cx="2286000" cy="703440"/>
            <a:chOff x="1500120" y="533520"/>
            <a:chExt cx="2286000" cy="703440"/>
          </a:xfrm>
        </p:grpSpPr>
        <p:sp>
          <p:nvSpPr>
            <p:cNvPr id="979" name=""/>
            <p:cNvSpPr/>
            <p:nvPr/>
          </p:nvSpPr>
          <p:spPr>
            <a:xfrm>
              <a:off x="1500120" y="53352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6; 9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576440" y="7621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1500120" y="1219320"/>
            <a:ext cx="2286000" cy="703440"/>
            <a:chOff x="1500120" y="1219320"/>
            <a:chExt cx="2286000" cy="703440"/>
          </a:xfrm>
        </p:grpSpPr>
        <p:sp>
          <p:nvSpPr>
            <p:cNvPr id="982" name=""/>
            <p:cNvSpPr/>
            <p:nvPr/>
          </p:nvSpPr>
          <p:spPr>
            <a:xfrm>
              <a:off x="1500120" y="121932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n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8; 0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576440" y="14479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173600" y="853920"/>
            <a:ext cx="2536200" cy="1143000"/>
            <a:chOff x="1173600" y="853920"/>
            <a:chExt cx="2536200" cy="1143000"/>
          </a:xfrm>
        </p:grpSpPr>
        <p:sp>
          <p:nvSpPr>
            <p:cNvPr id="985" name=""/>
            <p:cNvSpPr/>
            <p:nvPr/>
          </p:nvSpPr>
          <p:spPr>
            <a:xfrm>
              <a:off x="1173600" y="85392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500120" y="19969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814320" y="1920960"/>
            <a:ext cx="2819160" cy="703440"/>
            <a:chOff x="814320" y="1920960"/>
            <a:chExt cx="2819160" cy="703440"/>
          </a:xfrm>
        </p:grpSpPr>
        <p:sp>
          <p:nvSpPr>
            <p:cNvPr id="988" name=""/>
            <p:cNvSpPr/>
            <p:nvPr/>
          </p:nvSpPr>
          <p:spPr>
            <a:xfrm>
              <a:off x="814320" y="1920960"/>
              <a:ext cx="281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+n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14;9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90280" y="2149560"/>
              <a:ext cx="29232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576080" y="214812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5715000" y="593640"/>
            <a:ext cx="2286000" cy="703440"/>
            <a:chOff x="5715000" y="593640"/>
            <a:chExt cx="2286000" cy="703440"/>
          </a:xfrm>
        </p:grpSpPr>
        <p:sp>
          <p:nvSpPr>
            <p:cNvPr id="992" name=""/>
            <p:cNvSpPr/>
            <p:nvPr/>
          </p:nvSpPr>
          <p:spPr>
            <a:xfrm>
              <a:off x="5715000" y="59364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s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6; -4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791320" y="82224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5715000" y="1279440"/>
            <a:ext cx="2286000" cy="703440"/>
            <a:chOff x="5715000" y="1279440"/>
            <a:chExt cx="2286000" cy="703440"/>
          </a:xfrm>
        </p:grpSpPr>
        <p:sp>
          <p:nvSpPr>
            <p:cNvPr id="995" name=""/>
            <p:cNvSpPr/>
            <p:nvPr/>
          </p:nvSpPr>
          <p:spPr>
            <a:xfrm>
              <a:off x="5715000" y="127944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p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2; 1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150804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5388480" y="914400"/>
            <a:ext cx="2536200" cy="1143000"/>
            <a:chOff x="5388480" y="914400"/>
            <a:chExt cx="2536200" cy="1143000"/>
          </a:xfrm>
        </p:grpSpPr>
        <p:sp>
          <p:nvSpPr>
            <p:cNvPr id="998" name=""/>
            <p:cNvSpPr/>
            <p:nvPr/>
          </p:nvSpPr>
          <p:spPr>
            <a:xfrm>
              <a:off x="5388480" y="91440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715000" y="205740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5029200" y="1981080"/>
            <a:ext cx="2819160" cy="703440"/>
            <a:chOff x="5029200" y="1981080"/>
            <a:chExt cx="2819160" cy="703440"/>
          </a:xfrm>
        </p:grpSpPr>
        <p:sp>
          <p:nvSpPr>
            <p:cNvPr id="1001" name=""/>
            <p:cNvSpPr/>
            <p:nvPr/>
          </p:nvSpPr>
          <p:spPr>
            <a:xfrm>
              <a:off x="5029200" y="1981080"/>
              <a:ext cx="281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s +p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4;-3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105160" y="2209680"/>
              <a:ext cx="29232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790960" y="220824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09480" y="152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координаты в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5029200" y="2895480"/>
            <a:ext cx="4114800" cy="7632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4572000" y="2895480"/>
            <a:ext cx="4343400" cy="3885840"/>
            <a:chOff x="4572000" y="2895480"/>
            <a:chExt cx="4343400" cy="3885840"/>
          </a:xfrm>
        </p:grpSpPr>
        <p:sp>
          <p:nvSpPr>
            <p:cNvPr id="1007" name=""/>
            <p:cNvSpPr/>
            <p:nvPr/>
          </p:nvSpPr>
          <p:spPr>
            <a:xfrm>
              <a:off x="4572000" y="3061080"/>
              <a:ext cx="4343400" cy="372024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5170320" y="2895480"/>
              <a:ext cx="161640" cy="368640"/>
              <a:chOff x="5170320" y="2895480"/>
              <a:chExt cx="161640" cy="368640"/>
            </a:xfrm>
          </p:grpSpPr>
          <p:sp>
            <p:nvSpPr>
              <p:cNvPr id="1009" name=""/>
              <p:cNvSpPr/>
              <p:nvPr/>
            </p:nvSpPr>
            <p:spPr>
              <a:xfrm>
                <a:off x="5231520" y="3172320"/>
                <a:ext cx="47880" cy="91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170320" y="2895480"/>
                <a:ext cx="161640" cy="351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5714640" y="2896200"/>
              <a:ext cx="162720" cy="368640"/>
              <a:chOff x="5714640" y="2896200"/>
              <a:chExt cx="162720" cy="368640"/>
            </a:xfrm>
          </p:grpSpPr>
          <p:sp>
            <p:nvSpPr>
              <p:cNvPr id="1012" name=""/>
              <p:cNvSpPr/>
              <p:nvPr/>
            </p:nvSpPr>
            <p:spPr>
              <a:xfrm>
                <a:off x="5776200" y="3173040"/>
                <a:ext cx="48240" cy="91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714640" y="2896200"/>
                <a:ext cx="162720" cy="351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6295320" y="2896200"/>
              <a:ext cx="161640" cy="368640"/>
              <a:chOff x="6295320" y="2896200"/>
              <a:chExt cx="161640" cy="368640"/>
            </a:xfrm>
          </p:grpSpPr>
          <p:sp>
            <p:nvSpPr>
              <p:cNvPr id="1015" name=""/>
              <p:cNvSpPr/>
              <p:nvPr/>
            </p:nvSpPr>
            <p:spPr>
              <a:xfrm>
                <a:off x="6356520" y="3173040"/>
                <a:ext cx="47880" cy="91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295320" y="2896200"/>
                <a:ext cx="161640" cy="351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7" name=""/>
            <p:cNvGrpSpPr/>
            <p:nvPr/>
          </p:nvGrpSpPr>
          <p:grpSpPr>
            <a:xfrm>
              <a:off x="6874560" y="2896200"/>
              <a:ext cx="161640" cy="368640"/>
              <a:chOff x="6874560" y="2896200"/>
              <a:chExt cx="161640" cy="368640"/>
            </a:xfrm>
          </p:grpSpPr>
          <p:sp>
            <p:nvSpPr>
              <p:cNvPr id="1018" name=""/>
              <p:cNvSpPr/>
              <p:nvPr/>
            </p:nvSpPr>
            <p:spPr>
              <a:xfrm>
                <a:off x="6935760" y="3173040"/>
                <a:ext cx="47880" cy="91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874560" y="2896200"/>
                <a:ext cx="161640" cy="351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"/>
            <p:cNvGrpSpPr/>
            <p:nvPr/>
          </p:nvGrpSpPr>
          <p:grpSpPr>
            <a:xfrm>
              <a:off x="7388640" y="2896200"/>
              <a:ext cx="161640" cy="368640"/>
              <a:chOff x="7388640" y="2896200"/>
              <a:chExt cx="161640" cy="368640"/>
            </a:xfrm>
          </p:grpSpPr>
          <p:sp>
            <p:nvSpPr>
              <p:cNvPr id="1021" name=""/>
              <p:cNvSpPr/>
              <p:nvPr/>
            </p:nvSpPr>
            <p:spPr>
              <a:xfrm>
                <a:off x="7449840" y="3173040"/>
                <a:ext cx="47880" cy="91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388640" y="2896200"/>
                <a:ext cx="161640" cy="351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7969320" y="2896200"/>
              <a:ext cx="161640" cy="368640"/>
              <a:chOff x="7969320" y="2896200"/>
              <a:chExt cx="161640" cy="368640"/>
            </a:xfrm>
          </p:grpSpPr>
          <p:sp>
            <p:nvSpPr>
              <p:cNvPr id="1024" name=""/>
              <p:cNvSpPr/>
              <p:nvPr/>
            </p:nvSpPr>
            <p:spPr>
              <a:xfrm>
                <a:off x="8030520" y="3173040"/>
                <a:ext cx="47880" cy="91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969320" y="2896200"/>
                <a:ext cx="161640" cy="351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>
              <a:off x="7785720" y="4205520"/>
              <a:ext cx="248400" cy="227700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778080" y="4781160"/>
              <a:ext cx="385920" cy="179316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714640" y="5379120"/>
              <a:ext cx="387000" cy="124128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8511120" y="2895480"/>
              <a:ext cx="161640" cy="368640"/>
              <a:chOff x="8511120" y="2895480"/>
              <a:chExt cx="161640" cy="368640"/>
            </a:xfrm>
          </p:grpSpPr>
          <p:sp>
            <p:nvSpPr>
              <p:cNvPr id="1030" name=""/>
              <p:cNvSpPr/>
              <p:nvPr/>
            </p:nvSpPr>
            <p:spPr>
              <a:xfrm>
                <a:off x="8572320" y="3172320"/>
                <a:ext cx="47880" cy="91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511120" y="2895480"/>
                <a:ext cx="161640" cy="351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0.37917 0.00556 E">
                                      <p:cBhvr>
                                        <p:cTn id="596" dur="3000" fill="hold"/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033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1447920" y="1522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Каждая координата разности двух векторов равна разности соответствующих координат этих ве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09480" y="228600"/>
            <a:ext cx="60984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2590920" y="2362320"/>
            <a:ext cx="2666880" cy="787320"/>
            <a:chOff x="2590920" y="2362320"/>
            <a:chExt cx="2666880" cy="787320"/>
          </a:xfrm>
        </p:grpSpPr>
        <p:sp>
          <p:nvSpPr>
            <p:cNvPr id="1044" name=""/>
            <p:cNvSpPr/>
            <p:nvPr/>
          </p:nvSpPr>
          <p:spPr>
            <a:xfrm>
              <a:off x="2590920" y="2362320"/>
              <a:ext cx="26668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y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1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667240" y="259092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962520" y="251172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53240" y="250704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6019920" y="2438280"/>
            <a:ext cx="2666880" cy="787320"/>
            <a:chOff x="6019920" y="2438280"/>
            <a:chExt cx="2666880" cy="787320"/>
          </a:xfrm>
        </p:grpSpPr>
        <p:sp>
          <p:nvSpPr>
            <p:cNvPr id="1049" name=""/>
            <p:cNvSpPr/>
            <p:nvPr/>
          </p:nvSpPr>
          <p:spPr>
            <a:xfrm>
              <a:off x="6019920" y="2438280"/>
              <a:ext cx="26668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y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2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096240" y="259056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391520" y="258732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382240" y="258264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380880" y="3733920"/>
            <a:ext cx="8305920" cy="703440"/>
            <a:chOff x="380880" y="3733920"/>
            <a:chExt cx="8305920" cy="703440"/>
          </a:xfrm>
        </p:grpSpPr>
        <p:sp>
          <p:nvSpPr>
            <p:cNvPr id="1054" name=""/>
            <p:cNvSpPr/>
            <p:nvPr/>
          </p:nvSpPr>
          <p:spPr>
            <a:xfrm>
              <a:off x="380880" y="3733920"/>
              <a:ext cx="8305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–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                            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57200" y="39625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066680" y="388476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3581280" y="4648320"/>
            <a:ext cx="5029200" cy="787320"/>
            <a:chOff x="3581280" y="4648320"/>
            <a:chExt cx="5029200" cy="787320"/>
          </a:xfrm>
        </p:grpSpPr>
        <p:sp>
          <p:nvSpPr>
            <p:cNvPr id="1058" name=""/>
            <p:cNvSpPr/>
            <p:nvPr/>
          </p:nvSpPr>
          <p:spPr>
            <a:xfrm>
              <a:off x="3581280" y="4648320"/>
              <a:ext cx="5029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(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–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i="1" lang="en-US" sz="40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0033cc"/>
                  </a:solidFill>
                  <a:latin typeface="Times New Roman"/>
                </a:rPr>
                <a:t>)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+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(y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1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– y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)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778360" y="4797720"/>
              <a:ext cx="241560" cy="288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267080" y="479916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229600" y="4800600"/>
              <a:ext cx="228600" cy="504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2209680" y="5699160"/>
            <a:ext cx="5257800" cy="787320"/>
            <a:chOff x="2209680" y="5699160"/>
            <a:chExt cx="5257800" cy="787320"/>
          </a:xfrm>
        </p:grpSpPr>
        <p:sp>
          <p:nvSpPr>
            <p:cNvPr id="1063" name=""/>
            <p:cNvSpPr/>
            <p:nvPr/>
          </p:nvSpPr>
          <p:spPr>
            <a:xfrm>
              <a:off x="2209680" y="5699160"/>
              <a:ext cx="52578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Arial"/>
                </a:rPr>
                <a:t>–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–x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;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y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–y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285640" y="5927760"/>
              <a:ext cx="29232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971440" y="585180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304920" y="1371600"/>
            <a:ext cx="8305560" cy="787320"/>
            <a:chOff x="304920" y="1371600"/>
            <a:chExt cx="8305560" cy="787320"/>
          </a:xfrm>
        </p:grpSpPr>
        <p:grpSp>
          <p:nvGrpSpPr>
            <p:cNvPr id="1067" name=""/>
            <p:cNvGrpSpPr/>
            <p:nvPr/>
          </p:nvGrpSpPr>
          <p:grpSpPr>
            <a:xfrm>
              <a:off x="3657600" y="1371600"/>
              <a:ext cx="2286000" cy="787320"/>
              <a:chOff x="3657600" y="1371600"/>
              <a:chExt cx="2286000" cy="787320"/>
            </a:xfrm>
          </p:grpSpPr>
          <p:sp>
            <p:nvSpPr>
              <p:cNvPr id="1068" name=""/>
              <p:cNvSpPr/>
              <p:nvPr/>
            </p:nvSpPr>
            <p:spPr>
              <a:xfrm>
                <a:off x="3657600" y="1371600"/>
                <a:ext cx="228600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4000" spc="-1" strike="noStrike" baseline="-25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;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y</a:t>
                </a:r>
                <a:r>
                  <a:rPr b="1" i="1" lang="en-US" sz="4000" spc="-1" strike="noStrike" baseline="-25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733920" y="160020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324480" y="1371600"/>
              <a:ext cx="2286000" cy="787320"/>
              <a:chOff x="6324480" y="1371600"/>
              <a:chExt cx="2286000" cy="787320"/>
            </a:xfrm>
          </p:grpSpPr>
          <p:sp>
            <p:nvSpPr>
              <p:cNvPr id="1071" name=""/>
              <p:cNvSpPr/>
              <p:nvPr/>
            </p:nvSpPr>
            <p:spPr>
              <a:xfrm>
                <a:off x="6324480" y="1371600"/>
                <a:ext cx="228600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4000" spc="-1" strike="noStrike" baseline="-25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;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y</a:t>
                </a:r>
                <a:r>
                  <a:rPr b="1" i="1" lang="en-US" sz="4000" spc="-1" strike="noStrike" baseline="-25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400800" y="152244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304920" y="160020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Рассмотрим векторы                             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3352680" y="2362320"/>
            <a:ext cx="1828800" cy="787320"/>
            <a:chOff x="3352680" y="2362320"/>
            <a:chExt cx="1828800" cy="787320"/>
          </a:xfrm>
        </p:grpSpPr>
        <p:sp>
          <p:nvSpPr>
            <p:cNvPr id="1075" name=""/>
            <p:cNvSpPr/>
            <p:nvPr/>
          </p:nvSpPr>
          <p:spPr>
            <a:xfrm>
              <a:off x="3352680" y="2362320"/>
              <a:ext cx="18288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y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1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886200" y="2511720"/>
              <a:ext cx="241200" cy="288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952880" y="2506680"/>
              <a:ext cx="228600" cy="504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6400800" y="2438280"/>
            <a:ext cx="2666880" cy="787320"/>
            <a:chOff x="6400800" y="2438280"/>
            <a:chExt cx="2666880" cy="787320"/>
          </a:xfrm>
        </p:grpSpPr>
        <p:sp>
          <p:nvSpPr>
            <p:cNvPr id="1079" name=""/>
            <p:cNvSpPr/>
            <p:nvPr/>
          </p:nvSpPr>
          <p:spPr>
            <a:xfrm>
              <a:off x="6400800" y="2438280"/>
              <a:ext cx="26668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–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y</a:t>
              </a:r>
              <a:r>
                <a:rPr b="1" i="1" lang="en-US" sz="4000" spc="-1" strike="noStrike" baseline="-25000">
                  <a:solidFill>
                    <a:srgbClr val="3333ff"/>
                  </a:solidFill>
                  <a:latin typeface="Times New Roman"/>
                </a:rPr>
                <a:t>2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391160" y="2587680"/>
              <a:ext cx="241560" cy="288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381880" y="2582640"/>
              <a:ext cx="228600" cy="504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3734280" y="3840120"/>
            <a:ext cx="20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 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-0.11389 0.12662 L -0.175 0.19884 E">
                                      <p:cBhvr>
                                        <p:cTn id="626" dur="1000" fill="hold"/>
                                        <p:tgtEl>
                                          <p:spTgt spid="1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L -0.22777 0.12477 L -0.31389 0.18773 E">
                                      <p:cBhvr>
                                        <p:cTn id="628" dur="1000" fill="hold"/>
                                        <p:tgtEl>
                                          <p:spTgt spid="10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084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1447920" y="1522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Каждая координата произведения вектора на число равна произведению соответствующей координаты вектора на это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09480" y="228600"/>
            <a:ext cx="60984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609480" y="2422440"/>
            <a:ext cx="2666880" cy="703440"/>
            <a:chOff x="609480" y="2422440"/>
            <a:chExt cx="2666880" cy="703440"/>
          </a:xfrm>
        </p:grpSpPr>
        <p:sp>
          <p:nvSpPr>
            <p:cNvPr id="1095" name=""/>
            <p:cNvSpPr/>
            <p:nvPr/>
          </p:nvSpPr>
          <p:spPr>
            <a:xfrm>
              <a:off x="609480" y="242244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y</a:t>
              </a:r>
              <a:r>
                <a:rPr b="1" i="1" lang="en-US" sz="800" spc="-1" strike="noStrike">
                  <a:solidFill>
                    <a:srgbClr val="3333ff"/>
                  </a:solidFill>
                  <a:latin typeface="Times New Roman"/>
                </a:rPr>
                <a:t>  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85440" y="265104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752480" y="257148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666880" y="256680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457200" y="4861080"/>
            <a:ext cx="2514600" cy="703440"/>
            <a:chOff x="457200" y="4861080"/>
            <a:chExt cx="2514600" cy="703440"/>
          </a:xfrm>
        </p:grpSpPr>
        <p:sp>
          <p:nvSpPr>
            <p:cNvPr id="1100" name=""/>
            <p:cNvSpPr/>
            <p:nvPr/>
          </p:nvSpPr>
          <p:spPr>
            <a:xfrm>
              <a:off x="457200" y="486108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ka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kx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;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ky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38440" y="50896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304920" y="1371600"/>
            <a:ext cx="5638680" cy="1054080"/>
            <a:chOff x="304920" y="1371600"/>
            <a:chExt cx="5638680" cy="1054080"/>
          </a:xfrm>
        </p:grpSpPr>
        <p:grpSp>
          <p:nvGrpSpPr>
            <p:cNvPr id="1103" name=""/>
            <p:cNvGrpSpPr/>
            <p:nvPr/>
          </p:nvGrpSpPr>
          <p:grpSpPr>
            <a:xfrm>
              <a:off x="3657600" y="1371600"/>
              <a:ext cx="2286000" cy="703440"/>
              <a:chOff x="3657600" y="1371600"/>
              <a:chExt cx="2286000" cy="703440"/>
            </a:xfrm>
          </p:grpSpPr>
          <p:sp>
            <p:nvSpPr>
              <p:cNvPr id="1104" name=""/>
              <p:cNvSpPr/>
              <p:nvPr/>
            </p:nvSpPr>
            <p:spPr>
              <a:xfrm>
                <a:off x="3657600" y="1371600"/>
                <a:ext cx="2286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;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y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733920" y="160020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6" name=""/>
            <p:cNvSpPr/>
            <p:nvPr/>
          </p:nvSpPr>
          <p:spPr>
            <a:xfrm>
              <a:off x="304920" y="1600200"/>
              <a:ext cx="3047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Рассмотрим вектор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3276360" y="2422440"/>
            <a:ext cx="914760" cy="761760"/>
            <a:chOff x="3276360" y="2422440"/>
            <a:chExt cx="914760" cy="761760"/>
          </a:xfrm>
        </p:grpSpPr>
        <p:sp>
          <p:nvSpPr>
            <p:cNvPr id="1108" name=""/>
            <p:cNvSpPr/>
            <p:nvPr/>
          </p:nvSpPr>
          <p:spPr>
            <a:xfrm flipH="1">
              <a:off x="3276360" y="2498400"/>
              <a:ext cx="304920" cy="6858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9" name=""/>
                <p:cNvSpPr txBox="1"/>
                <p:nvPr/>
              </p:nvSpPr>
              <p:spPr>
                <a:xfrm>
                  <a:off x="3581640" y="2727000"/>
                  <a:ext cx="32832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10" name=""/>
            <p:cNvSpPr/>
            <p:nvPr/>
          </p:nvSpPr>
          <p:spPr>
            <a:xfrm>
              <a:off x="3733920" y="24224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457200" y="3641760"/>
            <a:ext cx="3124080" cy="703440"/>
            <a:chOff x="457200" y="3641760"/>
            <a:chExt cx="3124080" cy="703440"/>
          </a:xfrm>
        </p:grpSpPr>
        <p:sp>
          <p:nvSpPr>
            <p:cNvPr id="1112" name=""/>
            <p:cNvSpPr/>
            <p:nvPr/>
          </p:nvSpPr>
          <p:spPr>
            <a:xfrm>
              <a:off x="457200" y="3641760"/>
              <a:ext cx="312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ka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kx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ky</a:t>
              </a:r>
              <a:r>
                <a:rPr b="1" i="1" lang="en-US" sz="800" spc="-1" strike="noStrike">
                  <a:solidFill>
                    <a:srgbClr val="3333ff"/>
                  </a:solidFill>
                  <a:latin typeface="Times New Roman"/>
                </a:rPr>
                <a:t>  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38080" y="387036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133360" y="3790800"/>
              <a:ext cx="24156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76360" y="378612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3505320" y="3794040"/>
                <a:ext cx="7048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7" name=""/>
          <p:cNvGrpSpPr/>
          <p:nvPr/>
        </p:nvGrpSpPr>
        <p:grpSpPr>
          <a:xfrm>
            <a:off x="7848360" y="1371600"/>
            <a:ext cx="914760" cy="761760"/>
            <a:chOff x="7848360" y="1371600"/>
            <a:chExt cx="914760" cy="761760"/>
          </a:xfrm>
        </p:grpSpPr>
        <p:sp>
          <p:nvSpPr>
            <p:cNvPr id="1118" name=""/>
            <p:cNvSpPr/>
            <p:nvPr/>
          </p:nvSpPr>
          <p:spPr>
            <a:xfrm flipH="1">
              <a:off x="7848360" y="1447560"/>
              <a:ext cx="304920" cy="6858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9" name=""/>
                <p:cNvSpPr txBox="1"/>
                <p:nvPr/>
              </p:nvSpPr>
              <p:spPr>
                <a:xfrm>
                  <a:off x="8153640" y="1676160"/>
                  <a:ext cx="32832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0" name=""/>
            <p:cNvSpPr/>
            <p:nvPr/>
          </p:nvSpPr>
          <p:spPr>
            <a:xfrm>
              <a:off x="8305920" y="13716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5867280" y="1981080"/>
            <a:ext cx="2286000" cy="703440"/>
            <a:chOff x="5867280" y="1981080"/>
            <a:chExt cx="2286000" cy="703440"/>
          </a:xfrm>
        </p:grpSpPr>
        <p:sp>
          <p:nvSpPr>
            <p:cNvPr id="1122" name=""/>
            <p:cNvSpPr/>
            <p:nvPr/>
          </p:nvSpPr>
          <p:spPr>
            <a:xfrm>
              <a:off x="5867280" y="19810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6; 3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260760" y="220968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5943600" y="1371600"/>
            <a:ext cx="2286000" cy="703440"/>
            <a:chOff x="5943600" y="1371600"/>
            <a:chExt cx="2286000" cy="703440"/>
          </a:xfrm>
        </p:grpSpPr>
        <p:sp>
          <p:nvSpPr>
            <p:cNvPr id="1125" name=""/>
            <p:cNvSpPr/>
            <p:nvPr/>
          </p:nvSpPr>
          <p:spPr>
            <a:xfrm>
              <a:off x="5943600" y="137160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2; 1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19920" y="16002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5334120" y="1523880"/>
            <a:ext cx="75960" cy="518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7695720" y="3124080"/>
            <a:ext cx="1600560" cy="761760"/>
            <a:chOff x="7695720" y="3124080"/>
            <a:chExt cx="1600560" cy="761760"/>
          </a:xfrm>
        </p:grpSpPr>
        <p:sp>
          <p:nvSpPr>
            <p:cNvPr id="1129" name=""/>
            <p:cNvSpPr/>
            <p:nvPr/>
          </p:nvSpPr>
          <p:spPr>
            <a:xfrm flipH="1">
              <a:off x="7695720" y="3200040"/>
              <a:ext cx="304920" cy="6858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0" name=""/>
                <p:cNvSpPr txBox="1"/>
                <p:nvPr/>
              </p:nvSpPr>
              <p:spPr>
                <a:xfrm>
                  <a:off x="8001000" y="3428640"/>
                  <a:ext cx="32832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31" name=""/>
            <p:cNvSpPr/>
            <p:nvPr/>
          </p:nvSpPr>
          <p:spPr>
            <a:xfrm>
              <a:off x="8153280" y="312408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imes New Roman"/>
                </a:rPr>
                <a:t>(-2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5638680" y="3886200"/>
            <a:ext cx="2895840" cy="703440"/>
            <a:chOff x="5638680" y="3886200"/>
            <a:chExt cx="2895840" cy="703440"/>
          </a:xfrm>
        </p:grpSpPr>
        <p:sp>
          <p:nvSpPr>
            <p:cNvPr id="1133" name=""/>
            <p:cNvSpPr/>
            <p:nvPr/>
          </p:nvSpPr>
          <p:spPr>
            <a:xfrm>
              <a:off x="5638680" y="3886200"/>
              <a:ext cx="289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-2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4; 0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184800" y="411480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5867280" y="3124080"/>
            <a:ext cx="2286000" cy="703440"/>
            <a:chOff x="5867280" y="3124080"/>
            <a:chExt cx="2286000" cy="703440"/>
          </a:xfrm>
        </p:grpSpPr>
        <p:sp>
          <p:nvSpPr>
            <p:cNvPr id="1136" name=""/>
            <p:cNvSpPr/>
            <p:nvPr/>
          </p:nvSpPr>
          <p:spPr>
            <a:xfrm>
              <a:off x="5867280" y="31240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2; 0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43600" y="33526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7620120" y="5105520"/>
            <a:ext cx="1371600" cy="761400"/>
            <a:chOff x="7620120" y="5105520"/>
            <a:chExt cx="1371600" cy="761400"/>
          </a:xfrm>
        </p:grpSpPr>
        <p:sp>
          <p:nvSpPr>
            <p:cNvPr id="1139" name=""/>
            <p:cNvSpPr/>
            <p:nvPr/>
          </p:nvSpPr>
          <p:spPr>
            <a:xfrm flipH="1">
              <a:off x="7620120" y="5181480"/>
              <a:ext cx="304560" cy="6854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0" name=""/>
                <p:cNvSpPr txBox="1"/>
                <p:nvPr/>
              </p:nvSpPr>
              <p:spPr>
                <a:xfrm>
                  <a:off x="7772400" y="5410080"/>
                  <a:ext cx="328680" cy="45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41" name=""/>
            <p:cNvSpPr/>
            <p:nvPr/>
          </p:nvSpPr>
          <p:spPr>
            <a:xfrm>
              <a:off x="7848720" y="510552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imes New Roman"/>
                </a:rPr>
                <a:t>(-</a:t>
              </a:r>
              <a:r>
                <a:rPr b="1" lang="ru-RU" sz="4000" spc="-1" strike="noStrike">
                  <a:solidFill>
                    <a:srgbClr val="660066"/>
                  </a:solidFill>
                  <a:latin typeface="Times New Roman"/>
                </a:rPr>
                <a:t>1</a:t>
              </a:r>
              <a:r>
                <a:rPr b="1" lang="en-US" sz="4000" spc="-1" strike="noStrike">
                  <a:solidFill>
                    <a:srgbClr val="660066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5410080" y="5791320"/>
            <a:ext cx="2895840" cy="703440"/>
            <a:chOff x="5410080" y="5791320"/>
            <a:chExt cx="2895840" cy="703440"/>
          </a:xfrm>
        </p:grpSpPr>
        <p:sp>
          <p:nvSpPr>
            <p:cNvPr id="1143" name=""/>
            <p:cNvSpPr/>
            <p:nvPr/>
          </p:nvSpPr>
          <p:spPr>
            <a:xfrm>
              <a:off x="5410080" y="5791320"/>
              <a:ext cx="289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2; -5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56200" y="601992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5791320" y="5105520"/>
            <a:ext cx="2286000" cy="703440"/>
            <a:chOff x="5791320" y="5105520"/>
            <a:chExt cx="2286000" cy="703440"/>
          </a:xfrm>
        </p:grpSpPr>
        <p:sp>
          <p:nvSpPr>
            <p:cNvPr id="1146" name=""/>
            <p:cNvSpPr/>
            <p:nvPr/>
          </p:nvSpPr>
          <p:spPr>
            <a:xfrm>
              <a:off x="5791320" y="510552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2; 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5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867640" y="53341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"/>
          <p:cNvGrpSpPr/>
          <p:nvPr/>
        </p:nvGrpSpPr>
        <p:grpSpPr>
          <a:xfrm>
            <a:off x="4724280" y="4937040"/>
            <a:ext cx="4038840" cy="703440"/>
            <a:chOff x="4724280" y="4937040"/>
            <a:chExt cx="4038840" cy="703440"/>
          </a:xfrm>
        </p:grpSpPr>
        <p:sp>
          <p:nvSpPr>
            <p:cNvPr id="1149" name=""/>
            <p:cNvSpPr/>
            <p:nvPr/>
          </p:nvSpPr>
          <p:spPr>
            <a:xfrm>
              <a:off x="6553080" y="4937040"/>
              <a:ext cx="221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099200" y="502920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724280" y="498168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f(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0; 5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6324480" y="4146480"/>
            <a:ext cx="2743200" cy="703440"/>
            <a:chOff x="6324480" y="4146480"/>
            <a:chExt cx="2743200" cy="703440"/>
          </a:xfrm>
        </p:grpSpPr>
        <p:sp>
          <p:nvSpPr>
            <p:cNvPr id="1153" name=""/>
            <p:cNvSpPr/>
            <p:nvPr/>
          </p:nvSpPr>
          <p:spPr>
            <a:xfrm>
              <a:off x="6324480" y="4146480"/>
              <a:ext cx="274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0,5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e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099200" y="4375080"/>
              <a:ext cx="29232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6781680" y="3276720"/>
            <a:ext cx="2057400" cy="703440"/>
            <a:chOff x="6781680" y="3276720"/>
            <a:chExt cx="2057400" cy="703440"/>
          </a:xfrm>
        </p:grpSpPr>
        <p:sp>
          <p:nvSpPr>
            <p:cNvPr id="1156" name=""/>
            <p:cNvSpPr/>
            <p:nvPr/>
          </p:nvSpPr>
          <p:spPr>
            <a:xfrm>
              <a:off x="6781680" y="327672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023240" y="35053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6477120" y="2346480"/>
            <a:ext cx="2209680" cy="703440"/>
            <a:chOff x="6477120" y="2346480"/>
            <a:chExt cx="2209680" cy="703440"/>
          </a:xfrm>
        </p:grpSpPr>
        <p:sp>
          <p:nvSpPr>
            <p:cNvPr id="1159" name=""/>
            <p:cNvSpPr/>
            <p:nvPr/>
          </p:nvSpPr>
          <p:spPr>
            <a:xfrm>
              <a:off x="6477120" y="2346480"/>
              <a:ext cx="220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d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023240" y="249876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6477120" y="1447920"/>
            <a:ext cx="2438280" cy="703440"/>
            <a:chOff x="6477120" y="1447920"/>
            <a:chExt cx="2438280" cy="703440"/>
          </a:xfrm>
        </p:grpSpPr>
        <p:sp>
          <p:nvSpPr>
            <p:cNvPr id="1162" name=""/>
            <p:cNvSpPr/>
            <p:nvPr/>
          </p:nvSpPr>
          <p:spPr>
            <a:xfrm>
              <a:off x="6477120" y="144792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   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946920" y="158436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6629400" y="533520"/>
            <a:ext cx="2209680" cy="703440"/>
            <a:chOff x="6629400" y="533520"/>
            <a:chExt cx="2209680" cy="703440"/>
          </a:xfrm>
        </p:grpSpPr>
        <p:sp>
          <p:nvSpPr>
            <p:cNvPr id="1165" name=""/>
            <p:cNvSpPr/>
            <p:nvPr/>
          </p:nvSpPr>
          <p:spPr>
            <a:xfrm>
              <a:off x="6629400" y="533520"/>
              <a:ext cx="220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946920" y="7621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4724280" y="2390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{</a:t>
            </a:r>
            <a:r>
              <a:rPr b="1" lang="ru-RU" sz="3600" spc="-1" strike="noStrike">
                <a:solidFill>
                  <a:srgbClr val="3333ff"/>
                </a:solidFill>
                <a:latin typeface="Times New Roman"/>
              </a:rPr>
              <a:t>-2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;-3}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876920" y="2498760"/>
            <a:ext cx="291960" cy="1440"/>
          </a:xfrm>
          <a:custGeom>
            <a:avLst/>
            <a:gdLst/>
            <a:ahLst/>
            <a:rect l="l" t="t" r="r" b="b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724280" y="14763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{</a:t>
            </a:r>
            <a:r>
              <a:rPr b="1" lang="ru-RU" sz="3600" spc="-1" strike="noStrike">
                <a:solidFill>
                  <a:srgbClr val="3333ff"/>
                </a:solidFill>
                <a:latin typeface="Times New Roman"/>
              </a:rPr>
              <a:t>-2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; </a:t>
            </a:r>
            <a:r>
              <a:rPr b="1" lang="ru-RU" sz="36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}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800600" y="1584360"/>
            <a:ext cx="291960" cy="1440"/>
          </a:xfrm>
          <a:custGeom>
            <a:avLst/>
            <a:gdLst/>
            <a:ahLst/>
            <a:rect l="l" t="t" r="r" b="b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173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4724280" y="577800"/>
            <a:ext cx="2286000" cy="642600"/>
            <a:chOff x="4724280" y="577800"/>
            <a:chExt cx="2286000" cy="642600"/>
          </a:xfrm>
        </p:grpSpPr>
        <p:sp>
          <p:nvSpPr>
            <p:cNvPr id="1182" name=""/>
            <p:cNvSpPr/>
            <p:nvPr/>
          </p:nvSpPr>
          <p:spPr>
            <a:xfrm>
              <a:off x="4724280" y="5778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36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; 4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00600" y="8064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228600" y="6858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ти координаты векторов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4800600" y="3321000"/>
            <a:ext cx="2286000" cy="642600"/>
            <a:chOff x="4800600" y="3321000"/>
            <a:chExt cx="2286000" cy="642600"/>
          </a:xfrm>
        </p:grpSpPr>
        <p:sp>
          <p:nvSpPr>
            <p:cNvPr id="1186" name=""/>
            <p:cNvSpPr/>
            <p:nvPr/>
          </p:nvSpPr>
          <p:spPr>
            <a:xfrm>
              <a:off x="4800600" y="33210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c 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3600" spc="-1" strike="noStrike">
                  <a:solidFill>
                    <a:srgbClr val="3333ff"/>
                  </a:solidFill>
                  <a:latin typeface="Times New Roman"/>
                </a:rPr>
                <a:t>2;-5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76920" y="35496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4572000" y="4191120"/>
            <a:ext cx="2286000" cy="642600"/>
            <a:chOff x="4572000" y="4191120"/>
            <a:chExt cx="2286000" cy="642600"/>
          </a:xfrm>
        </p:grpSpPr>
        <p:sp>
          <p:nvSpPr>
            <p:cNvPr id="1189" name=""/>
            <p:cNvSpPr/>
            <p:nvPr/>
          </p:nvSpPr>
          <p:spPr>
            <a:xfrm>
              <a:off x="4572000" y="41911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e 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2;-3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48320" y="4419360"/>
              <a:ext cx="291960" cy="108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1" name=""/>
          <p:cNvSpPr/>
          <p:nvPr/>
        </p:nvSpPr>
        <p:spPr>
          <a:xfrm>
            <a:off x="4876920" y="5089680"/>
            <a:ext cx="291960" cy="1440"/>
          </a:xfrm>
          <a:custGeom>
            <a:avLst/>
            <a:gdLst/>
            <a:ahLst/>
            <a:rect l="l" t="t" r="r" b="b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33520" y="647712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одите ответы в текстовые поля, не делая пробелов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"/>
          <p:cNvGrpSpPr/>
          <p:nvPr/>
        </p:nvGrpSpPr>
        <p:grpSpPr>
          <a:xfrm>
            <a:off x="6781680" y="4146480"/>
            <a:ext cx="1904760" cy="703440"/>
            <a:chOff x="6781680" y="4146480"/>
            <a:chExt cx="1904760" cy="703440"/>
          </a:xfrm>
        </p:grpSpPr>
        <p:sp>
          <p:nvSpPr>
            <p:cNvPr id="1194" name=""/>
            <p:cNvSpPr/>
            <p:nvPr/>
          </p:nvSpPr>
          <p:spPr>
            <a:xfrm>
              <a:off x="6781680" y="4146480"/>
              <a:ext cx="190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e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022880" y="43750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4800600" y="2346480"/>
            <a:ext cx="3886200" cy="703440"/>
            <a:chOff x="4800600" y="2346480"/>
            <a:chExt cx="3886200" cy="703440"/>
          </a:xfrm>
        </p:grpSpPr>
        <p:sp>
          <p:nvSpPr>
            <p:cNvPr id="1197" name=""/>
            <p:cNvSpPr/>
            <p:nvPr/>
          </p:nvSpPr>
          <p:spPr>
            <a:xfrm>
              <a:off x="6781680" y="2346480"/>
              <a:ext cx="190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d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023240" y="24991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00600" y="23911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d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3600" spc="-1" strike="noStrike">
                  <a:solidFill>
                    <a:srgbClr val="3333ff"/>
                  </a:solidFill>
                  <a:latin typeface="Times New Roman"/>
                </a:rPr>
                <a:t>-2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;-3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76920" y="24991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6781680" y="3276720"/>
            <a:ext cx="1904760" cy="703440"/>
            <a:chOff x="6781680" y="3276720"/>
            <a:chExt cx="1904760" cy="703440"/>
          </a:xfrm>
        </p:grpSpPr>
        <p:sp>
          <p:nvSpPr>
            <p:cNvPr id="1202" name=""/>
            <p:cNvSpPr/>
            <p:nvPr/>
          </p:nvSpPr>
          <p:spPr>
            <a:xfrm>
              <a:off x="6781680" y="3276720"/>
              <a:ext cx="190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022880" y="35053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724280" y="1432080"/>
            <a:ext cx="3886200" cy="703440"/>
            <a:chOff x="4724280" y="1432080"/>
            <a:chExt cx="3886200" cy="703440"/>
          </a:xfrm>
        </p:grpSpPr>
        <p:sp>
          <p:nvSpPr>
            <p:cNvPr id="1205" name=""/>
            <p:cNvSpPr/>
            <p:nvPr/>
          </p:nvSpPr>
          <p:spPr>
            <a:xfrm>
              <a:off x="6705360" y="1432080"/>
              <a:ext cx="190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946920" y="15847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724280" y="14767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3600" spc="-1" strike="noStrike">
                  <a:solidFill>
                    <a:srgbClr val="3333ff"/>
                  </a:solidFill>
                  <a:latin typeface="Times New Roman"/>
                </a:rPr>
                <a:t>-2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; </a:t>
              </a:r>
              <a:r>
                <a:rPr b="1" lang="ru-RU" sz="3600" spc="-1" strike="noStrike">
                  <a:solidFill>
                    <a:srgbClr val="3333ff"/>
                  </a:solidFill>
                  <a:latin typeface="Times New Roman"/>
                </a:rPr>
                <a:t>0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800600" y="15847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6705720" y="533520"/>
            <a:ext cx="1904760" cy="703440"/>
            <a:chOff x="6705720" y="533520"/>
            <a:chExt cx="1904760" cy="703440"/>
          </a:xfrm>
        </p:grpSpPr>
        <p:sp>
          <p:nvSpPr>
            <p:cNvPr id="1210" name=""/>
            <p:cNvSpPr/>
            <p:nvPr/>
          </p:nvSpPr>
          <p:spPr>
            <a:xfrm>
              <a:off x="6705720" y="533520"/>
              <a:ext cx="190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946920" y="7621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2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214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4724280" y="577800"/>
            <a:ext cx="2286000" cy="642600"/>
            <a:chOff x="4724280" y="577800"/>
            <a:chExt cx="2286000" cy="642600"/>
          </a:xfrm>
        </p:grpSpPr>
        <p:sp>
          <p:nvSpPr>
            <p:cNvPr id="1223" name=""/>
            <p:cNvSpPr/>
            <p:nvPr/>
          </p:nvSpPr>
          <p:spPr>
            <a:xfrm>
              <a:off x="4724280" y="5778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36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; 4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800600" y="8064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228600" y="6858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ти координаты вектор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тивоположных данным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4800600" y="3321000"/>
            <a:ext cx="2286000" cy="642600"/>
            <a:chOff x="4800600" y="3321000"/>
            <a:chExt cx="2286000" cy="642600"/>
          </a:xfrm>
        </p:grpSpPr>
        <p:sp>
          <p:nvSpPr>
            <p:cNvPr id="1227" name=""/>
            <p:cNvSpPr/>
            <p:nvPr/>
          </p:nvSpPr>
          <p:spPr>
            <a:xfrm>
              <a:off x="4800600" y="33210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c 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0; 0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876920" y="35496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4800600" y="4191120"/>
            <a:ext cx="2286000" cy="642600"/>
            <a:chOff x="4800600" y="4191120"/>
            <a:chExt cx="2286000" cy="642600"/>
          </a:xfrm>
        </p:grpSpPr>
        <p:sp>
          <p:nvSpPr>
            <p:cNvPr id="1230" name=""/>
            <p:cNvSpPr/>
            <p:nvPr/>
          </p:nvSpPr>
          <p:spPr>
            <a:xfrm>
              <a:off x="4800600" y="41911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e 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2;-3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876920" y="4419360"/>
              <a:ext cx="291960" cy="108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4800600" y="4937040"/>
            <a:ext cx="3886200" cy="703440"/>
            <a:chOff x="4800600" y="4937040"/>
            <a:chExt cx="3886200" cy="703440"/>
          </a:xfrm>
        </p:grpSpPr>
        <p:sp>
          <p:nvSpPr>
            <p:cNvPr id="1233" name=""/>
            <p:cNvSpPr/>
            <p:nvPr/>
          </p:nvSpPr>
          <p:spPr>
            <a:xfrm>
              <a:off x="6781680" y="4937040"/>
              <a:ext cx="190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23240" y="50896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800600" y="498168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f(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0; 5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876920" y="50896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612000" y="15228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9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33520" y="647712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одите ответы в текстовые поля, не делая пробелов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"/>
          <p:cNvGrpSpPr/>
          <p:nvPr/>
        </p:nvGrpSpPr>
        <p:grpSpPr>
          <a:xfrm>
            <a:off x="6095880" y="533520"/>
            <a:ext cx="2514600" cy="703440"/>
            <a:chOff x="6095880" y="533520"/>
            <a:chExt cx="2514600" cy="703440"/>
          </a:xfrm>
        </p:grpSpPr>
        <p:sp>
          <p:nvSpPr>
            <p:cNvPr id="1240" name=""/>
            <p:cNvSpPr/>
            <p:nvPr/>
          </p:nvSpPr>
          <p:spPr>
            <a:xfrm>
              <a:off x="6095880" y="53352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+c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934320" y="7621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72200" y="7621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6248520" y="5013360"/>
            <a:ext cx="2514600" cy="703440"/>
            <a:chOff x="6248520" y="5013360"/>
            <a:chExt cx="2514600" cy="703440"/>
          </a:xfrm>
        </p:grpSpPr>
        <p:sp>
          <p:nvSpPr>
            <p:cNvPr id="1244" name=""/>
            <p:cNvSpPr/>
            <p:nvPr/>
          </p:nvSpPr>
          <p:spPr>
            <a:xfrm>
              <a:off x="6248520" y="501336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- c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010280" y="524196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24480" y="524196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6324480" y="1447920"/>
            <a:ext cx="2438640" cy="703440"/>
            <a:chOff x="6324480" y="1447920"/>
            <a:chExt cx="2438640" cy="703440"/>
          </a:xfrm>
        </p:grpSpPr>
        <p:sp>
          <p:nvSpPr>
            <p:cNvPr id="1248" name=""/>
            <p:cNvSpPr/>
            <p:nvPr/>
          </p:nvSpPr>
          <p:spPr>
            <a:xfrm>
              <a:off x="6324480" y="1447920"/>
              <a:ext cx="2438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+d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   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77120" y="16002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010280" y="160020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6248520" y="2362320"/>
            <a:ext cx="2438280" cy="703440"/>
            <a:chOff x="6248520" y="2362320"/>
            <a:chExt cx="2438280" cy="703440"/>
          </a:xfrm>
        </p:grpSpPr>
        <p:sp>
          <p:nvSpPr>
            <p:cNvPr id="1252" name=""/>
            <p:cNvSpPr/>
            <p:nvPr/>
          </p:nvSpPr>
          <p:spPr>
            <a:xfrm>
              <a:off x="6248520" y="236232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 +e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010280" y="259092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400800" y="25909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6324480" y="3276720"/>
            <a:ext cx="2362320" cy="703440"/>
            <a:chOff x="6324480" y="3276720"/>
            <a:chExt cx="2362320" cy="703440"/>
          </a:xfrm>
        </p:grpSpPr>
        <p:sp>
          <p:nvSpPr>
            <p:cNvPr id="1256" name=""/>
            <p:cNvSpPr/>
            <p:nvPr/>
          </p:nvSpPr>
          <p:spPr>
            <a:xfrm>
              <a:off x="6324480" y="3276720"/>
              <a:ext cx="2362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 - d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023240" y="335268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477120" y="335268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248520" y="4175280"/>
            <a:ext cx="2438280" cy="703440"/>
            <a:chOff x="6248520" y="4175280"/>
            <a:chExt cx="2438280" cy="703440"/>
          </a:xfrm>
        </p:grpSpPr>
        <p:sp>
          <p:nvSpPr>
            <p:cNvPr id="1260" name=""/>
            <p:cNvSpPr/>
            <p:nvPr/>
          </p:nvSpPr>
          <p:spPr>
            <a:xfrm>
              <a:off x="6248520" y="417528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 - d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    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324480" y="432792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099200" y="432792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265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685800" y="2286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ти координаты  векторов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33520" y="647712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одите ответы в текстовые поля, не делая пробелов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2286000" y="609480"/>
            <a:ext cx="4114800" cy="5062320"/>
            <a:chOff x="2286000" y="609480"/>
            <a:chExt cx="4114800" cy="5062320"/>
          </a:xfrm>
        </p:grpSpPr>
        <p:grpSp>
          <p:nvGrpSpPr>
            <p:cNvPr id="1276" name=""/>
            <p:cNvGrpSpPr/>
            <p:nvPr/>
          </p:nvGrpSpPr>
          <p:grpSpPr>
            <a:xfrm>
              <a:off x="2362320" y="1447920"/>
              <a:ext cx="3962160" cy="642600"/>
              <a:chOff x="2362320" y="1447920"/>
              <a:chExt cx="3962160" cy="642600"/>
            </a:xfrm>
          </p:grpSpPr>
          <p:sp>
            <p:nvSpPr>
              <p:cNvPr id="1277" name=""/>
              <p:cNvSpPr/>
              <p:nvPr/>
            </p:nvSpPr>
            <p:spPr>
              <a:xfrm>
                <a:off x="4038480" y="144792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d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-2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;-3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191120" y="1523880"/>
                <a:ext cx="291960" cy="180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2362320" y="144792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-2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; 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0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2438280" y="1523880"/>
                <a:ext cx="292320" cy="180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2362320" y="609480"/>
              <a:ext cx="2286000" cy="642600"/>
              <a:chOff x="2362320" y="609480"/>
              <a:chExt cx="2286000" cy="642600"/>
            </a:xfrm>
          </p:grpSpPr>
          <p:sp>
            <p:nvSpPr>
              <p:cNvPr id="1282" name=""/>
              <p:cNvSpPr/>
              <p:nvPr/>
            </p:nvSpPr>
            <p:spPr>
              <a:xfrm>
                <a:off x="2362320" y="60948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a 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; 4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2438640" y="83808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2362320" y="2362320"/>
              <a:ext cx="2286000" cy="642600"/>
              <a:chOff x="2362320" y="2362320"/>
              <a:chExt cx="2286000" cy="642600"/>
            </a:xfrm>
          </p:grpSpPr>
          <p:sp>
            <p:nvSpPr>
              <p:cNvPr id="1285" name=""/>
              <p:cNvSpPr/>
              <p:nvPr/>
            </p:nvSpPr>
            <p:spPr>
              <a:xfrm>
                <a:off x="2362320" y="236232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c 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2;-5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438640" y="2590560"/>
                <a:ext cx="291960" cy="108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4114800" y="2362320"/>
              <a:ext cx="2286000" cy="642600"/>
              <a:chOff x="4114800" y="2362320"/>
              <a:chExt cx="2286000" cy="642600"/>
            </a:xfrm>
          </p:grpSpPr>
          <p:sp>
            <p:nvSpPr>
              <p:cNvPr id="1288" name=""/>
              <p:cNvSpPr/>
              <p:nvPr/>
            </p:nvSpPr>
            <p:spPr>
              <a:xfrm>
                <a:off x="4114800" y="236232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e 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2;-3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191120" y="2590560"/>
                <a:ext cx="291960" cy="108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2362320" y="3276720"/>
              <a:ext cx="2286000" cy="642600"/>
              <a:chOff x="2362320" y="3276720"/>
              <a:chExt cx="2286000" cy="642600"/>
            </a:xfrm>
          </p:grpSpPr>
          <p:sp>
            <p:nvSpPr>
              <p:cNvPr id="1291" name=""/>
              <p:cNvSpPr/>
              <p:nvPr/>
            </p:nvSpPr>
            <p:spPr>
              <a:xfrm>
                <a:off x="2362320" y="327672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f(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0; 5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514600" y="3352680"/>
                <a:ext cx="291960" cy="108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4114800" y="609480"/>
              <a:ext cx="2286000" cy="642600"/>
              <a:chOff x="4114800" y="609480"/>
              <a:chExt cx="2286000" cy="642600"/>
            </a:xfrm>
          </p:grpSpPr>
          <p:sp>
            <p:nvSpPr>
              <p:cNvPr id="1294" name=""/>
              <p:cNvSpPr/>
              <p:nvPr/>
            </p:nvSpPr>
            <p:spPr>
              <a:xfrm>
                <a:off x="4114800" y="60948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c 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3; 2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191120" y="83808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3962520" y="3276720"/>
              <a:ext cx="2286000" cy="642600"/>
              <a:chOff x="3962520" y="3276720"/>
              <a:chExt cx="2286000" cy="642600"/>
            </a:xfrm>
          </p:grpSpPr>
          <p:sp>
            <p:nvSpPr>
              <p:cNvPr id="1297" name=""/>
              <p:cNvSpPr/>
              <p:nvPr/>
            </p:nvSpPr>
            <p:spPr>
              <a:xfrm>
                <a:off x="3962520" y="327672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d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-2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;-3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114800" y="3352680"/>
                <a:ext cx="291960" cy="108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2286000" y="4191120"/>
              <a:ext cx="3962160" cy="642600"/>
              <a:chOff x="2286000" y="4191120"/>
              <a:chExt cx="3962160" cy="642600"/>
            </a:xfrm>
          </p:grpSpPr>
          <p:sp>
            <p:nvSpPr>
              <p:cNvPr id="1300" name=""/>
              <p:cNvSpPr/>
              <p:nvPr/>
            </p:nvSpPr>
            <p:spPr>
              <a:xfrm>
                <a:off x="3962160" y="419112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d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-2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;-3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114800" y="4267080"/>
                <a:ext cx="291960" cy="180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2286000" y="419112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-2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; 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0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361960" y="4267080"/>
                <a:ext cx="292320" cy="180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4038480" y="5029200"/>
              <a:ext cx="2286000" cy="642600"/>
              <a:chOff x="4038480" y="5029200"/>
              <a:chExt cx="2286000" cy="642600"/>
            </a:xfrm>
          </p:grpSpPr>
          <p:sp>
            <p:nvSpPr>
              <p:cNvPr id="1305" name=""/>
              <p:cNvSpPr/>
              <p:nvPr/>
            </p:nvSpPr>
            <p:spPr>
              <a:xfrm>
                <a:off x="4038480" y="502920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c 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3; 2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4114800" y="525780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2286000" y="4997520"/>
              <a:ext cx="2286000" cy="642600"/>
              <a:chOff x="2286000" y="4997520"/>
              <a:chExt cx="2286000" cy="642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2286000" y="499752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a 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; 4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362320" y="5225760"/>
                <a:ext cx="291960" cy="108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"/>
          <p:cNvGrpSpPr/>
          <p:nvPr/>
        </p:nvGrpSpPr>
        <p:grpSpPr>
          <a:xfrm>
            <a:off x="3886200" y="914400"/>
            <a:ext cx="2286000" cy="703440"/>
            <a:chOff x="3886200" y="914400"/>
            <a:chExt cx="2286000" cy="703440"/>
          </a:xfrm>
        </p:grpSpPr>
        <p:sp>
          <p:nvSpPr>
            <p:cNvPr id="1311" name=""/>
            <p:cNvSpPr/>
            <p:nvPr/>
          </p:nvSpPr>
          <p:spPr>
            <a:xfrm>
              <a:off x="3886200" y="91440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8;12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962520" y="10224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3886200" y="914400"/>
            <a:ext cx="2286000" cy="703440"/>
            <a:chOff x="3886200" y="914400"/>
            <a:chExt cx="2286000" cy="703440"/>
          </a:xfrm>
        </p:grpSpPr>
        <p:sp>
          <p:nvSpPr>
            <p:cNvPr id="1314" name=""/>
            <p:cNvSpPr/>
            <p:nvPr/>
          </p:nvSpPr>
          <p:spPr>
            <a:xfrm>
              <a:off x="3886200" y="91440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8;12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962520" y="10224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1371600" y="898560"/>
            <a:ext cx="2286000" cy="703440"/>
            <a:chOff x="1371600" y="898560"/>
            <a:chExt cx="2286000" cy="703440"/>
          </a:xfrm>
        </p:grpSpPr>
        <p:sp>
          <p:nvSpPr>
            <p:cNvPr id="1317" name=""/>
            <p:cNvSpPr/>
            <p:nvPr/>
          </p:nvSpPr>
          <p:spPr>
            <a:xfrm>
              <a:off x="1371600" y="89856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6; 9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447920" y="112716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320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663840" y="2803680"/>
            <a:ext cx="2536560" cy="1143000"/>
            <a:chOff x="663840" y="2803680"/>
            <a:chExt cx="2536560" cy="1143000"/>
          </a:xfrm>
        </p:grpSpPr>
        <p:sp>
          <p:nvSpPr>
            <p:cNvPr id="1329" name=""/>
            <p:cNvSpPr/>
            <p:nvPr/>
          </p:nvSpPr>
          <p:spPr>
            <a:xfrm>
              <a:off x="663840" y="280368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990720" y="394668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304920" y="3946680"/>
            <a:ext cx="2819160" cy="703440"/>
            <a:chOff x="304920" y="3946680"/>
            <a:chExt cx="2819160" cy="703440"/>
          </a:xfrm>
        </p:grpSpPr>
        <p:sp>
          <p:nvSpPr>
            <p:cNvPr id="1332" name=""/>
            <p:cNvSpPr/>
            <p:nvPr/>
          </p:nvSpPr>
          <p:spPr>
            <a:xfrm>
              <a:off x="304920" y="3946680"/>
              <a:ext cx="281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2;-3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80880" y="4175280"/>
              <a:ext cx="29160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066680" y="4038480"/>
              <a:ext cx="29160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5107680" y="3794040"/>
            <a:ext cx="2536200" cy="1143000"/>
            <a:chOff x="5107680" y="3794040"/>
            <a:chExt cx="2536200" cy="1143000"/>
          </a:xfrm>
        </p:grpSpPr>
        <p:sp>
          <p:nvSpPr>
            <p:cNvPr id="1336" name=""/>
            <p:cNvSpPr/>
            <p:nvPr/>
          </p:nvSpPr>
          <p:spPr>
            <a:xfrm>
              <a:off x="5107680" y="379404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434200" y="493704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762120" y="228600"/>
            <a:ext cx="5486400" cy="703440"/>
            <a:chOff x="762120" y="228600"/>
            <a:chExt cx="5486400" cy="703440"/>
          </a:xfrm>
        </p:grpSpPr>
        <p:sp>
          <p:nvSpPr>
            <p:cNvPr id="1339" name=""/>
            <p:cNvSpPr/>
            <p:nvPr/>
          </p:nvSpPr>
          <p:spPr>
            <a:xfrm>
              <a:off x="762120" y="397080"/>
              <a:ext cx="441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йдите координаты вектор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5105520" y="228600"/>
              <a:ext cx="1143000" cy="703440"/>
              <a:chOff x="5105520" y="228600"/>
              <a:chExt cx="1143000" cy="703440"/>
            </a:xfrm>
          </p:grpSpPr>
          <p:sp>
            <p:nvSpPr>
              <p:cNvPr id="1341" name=""/>
              <p:cNvSpPr/>
              <p:nvPr/>
            </p:nvSpPr>
            <p:spPr>
              <a:xfrm>
                <a:off x="5105520" y="228600"/>
                <a:ext cx="1143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-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181840" y="45720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880240" y="304560"/>
                <a:ext cx="291960" cy="180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4" name=""/>
          <p:cNvGrpSpPr/>
          <p:nvPr/>
        </p:nvGrpSpPr>
        <p:grpSpPr>
          <a:xfrm>
            <a:off x="5486400" y="3549600"/>
            <a:ext cx="2286000" cy="703440"/>
            <a:chOff x="5486400" y="3549600"/>
            <a:chExt cx="2286000" cy="703440"/>
          </a:xfrm>
        </p:grpSpPr>
        <p:sp>
          <p:nvSpPr>
            <p:cNvPr id="1345" name=""/>
            <p:cNvSpPr/>
            <p:nvPr/>
          </p:nvSpPr>
          <p:spPr>
            <a:xfrm>
              <a:off x="5486400" y="354960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-b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8;-12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727600" y="36576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7314840" y="2498760"/>
            <a:ext cx="1371960" cy="761760"/>
            <a:chOff x="7314840" y="2498760"/>
            <a:chExt cx="1371960" cy="761760"/>
          </a:xfrm>
        </p:grpSpPr>
        <p:sp>
          <p:nvSpPr>
            <p:cNvPr id="1348" name=""/>
            <p:cNvSpPr/>
            <p:nvPr/>
          </p:nvSpPr>
          <p:spPr>
            <a:xfrm flipH="1">
              <a:off x="7314840" y="2574720"/>
              <a:ext cx="304920" cy="6858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9" name=""/>
                <p:cNvSpPr txBox="1"/>
                <p:nvPr/>
              </p:nvSpPr>
              <p:spPr>
                <a:xfrm>
                  <a:off x="7467840" y="2803320"/>
                  <a:ext cx="32832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50" name=""/>
            <p:cNvSpPr/>
            <p:nvPr/>
          </p:nvSpPr>
          <p:spPr>
            <a:xfrm>
              <a:off x="7543800" y="24987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imes New Roman"/>
                </a:rPr>
                <a:t>(-1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1" name=""/>
          <p:cNvSpPr/>
          <p:nvPr/>
        </p:nvSpPr>
        <p:spPr>
          <a:xfrm>
            <a:off x="763200" y="17524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5029200" y="4937040"/>
            <a:ext cx="2819520" cy="703440"/>
            <a:chOff x="5029200" y="4937040"/>
            <a:chExt cx="2819520" cy="703440"/>
          </a:xfrm>
        </p:grpSpPr>
        <p:sp>
          <p:nvSpPr>
            <p:cNvPr id="1353" name=""/>
            <p:cNvSpPr/>
            <p:nvPr/>
          </p:nvSpPr>
          <p:spPr>
            <a:xfrm>
              <a:off x="5029200" y="4937040"/>
              <a:ext cx="281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2;-3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105520" y="516564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791320" y="502884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5868360" y="17366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1371600" y="898560"/>
            <a:ext cx="2286000" cy="703440"/>
            <a:chOff x="1371600" y="898560"/>
            <a:chExt cx="2286000" cy="703440"/>
          </a:xfrm>
        </p:grpSpPr>
        <p:sp>
          <p:nvSpPr>
            <p:cNvPr id="1358" name=""/>
            <p:cNvSpPr/>
            <p:nvPr/>
          </p:nvSpPr>
          <p:spPr>
            <a:xfrm>
              <a:off x="1371600" y="89856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6; 9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47920" y="112716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3886200" y="914400"/>
            <a:ext cx="2286000" cy="703440"/>
            <a:chOff x="3886200" y="914400"/>
            <a:chExt cx="2286000" cy="703440"/>
          </a:xfrm>
        </p:grpSpPr>
        <p:sp>
          <p:nvSpPr>
            <p:cNvPr id="1361" name=""/>
            <p:cNvSpPr/>
            <p:nvPr/>
          </p:nvSpPr>
          <p:spPr>
            <a:xfrm>
              <a:off x="3886200" y="91440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8;12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962520" y="10224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"/>
          <p:cNvGrpSpPr/>
          <p:nvPr/>
        </p:nvGrpSpPr>
        <p:grpSpPr>
          <a:xfrm>
            <a:off x="1371600" y="898560"/>
            <a:ext cx="2286000" cy="703440"/>
            <a:chOff x="1371600" y="898560"/>
            <a:chExt cx="2286000" cy="703440"/>
          </a:xfrm>
        </p:grpSpPr>
        <p:sp>
          <p:nvSpPr>
            <p:cNvPr id="1364" name=""/>
            <p:cNvSpPr/>
            <p:nvPr/>
          </p:nvSpPr>
          <p:spPr>
            <a:xfrm>
              <a:off x="1371600" y="89856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6; 9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47920" y="112716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-0.02361 0.13263 L -0.04167 0.23148 E">
                                      <p:cBhvr>
                                        <p:cTn id="752" dur="1000" fill="hold"/>
                                        <p:tgtEl>
                                          <p:spTgt spid="1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40741E-007 L -0.27639 0.28773 L -0.31806 0.32963 E">
                                      <p:cBhvr>
                                        <p:cTn id="755" dur="1000" fill="hold"/>
                                        <p:tgtEl>
                                          <p:spTgt spid="1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30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40741E-007 L 0.09167 0.13403 L 0.16806 0.23403 E">
                                      <p:cBhvr>
                                        <p:cTn id="784" dur="1000" fill="hold"/>
                                        <p:tgtEl>
                                          <p:spTgt spid="1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5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26528 0.27893 L 0.45833 0.47777 E">
                                      <p:cBhvr>
                                        <p:cTn id="798" dur="1000" fill="hold"/>
                                        <p:tgtEl>
                                          <p:spTgt spid="1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5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6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367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1828800" y="6094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координаты вектора             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"/>
          <p:cNvGrpSpPr/>
          <p:nvPr/>
        </p:nvGrpSpPr>
        <p:grpSpPr>
          <a:xfrm>
            <a:off x="6172200" y="441360"/>
            <a:ext cx="1143000" cy="703440"/>
            <a:chOff x="6172200" y="441360"/>
            <a:chExt cx="1143000" cy="703440"/>
          </a:xfrm>
        </p:grpSpPr>
        <p:sp>
          <p:nvSpPr>
            <p:cNvPr id="1377" name=""/>
            <p:cNvSpPr/>
            <p:nvPr/>
          </p:nvSpPr>
          <p:spPr>
            <a:xfrm>
              <a:off x="6172200" y="4413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-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248520" y="66996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946920" y="51732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578520" y="53172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1676520" y="1050840"/>
            <a:ext cx="6781680" cy="703440"/>
            <a:chOff x="1676520" y="1050840"/>
            <a:chExt cx="6781680" cy="703440"/>
          </a:xfrm>
        </p:grpSpPr>
        <p:sp>
          <p:nvSpPr>
            <p:cNvPr id="1382" name=""/>
            <p:cNvSpPr/>
            <p:nvPr/>
          </p:nvSpPr>
          <p:spPr>
            <a:xfrm>
              <a:off x="1676520" y="1050840"/>
              <a:ext cx="678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a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5;3};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2;1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209680" y="1279440"/>
              <a:ext cx="29160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898800" y="1203480"/>
              <a:ext cx="29160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33520" y="2530440"/>
            <a:ext cx="8381880" cy="3795840"/>
            <a:chOff x="533520" y="2530440"/>
            <a:chExt cx="8381880" cy="3795840"/>
          </a:xfrm>
        </p:grpSpPr>
        <p:grpSp>
          <p:nvGrpSpPr>
            <p:cNvPr id="1386" name=""/>
            <p:cNvGrpSpPr/>
            <p:nvPr/>
          </p:nvGrpSpPr>
          <p:grpSpPr>
            <a:xfrm>
              <a:off x="5791320" y="4191120"/>
              <a:ext cx="2286000" cy="703440"/>
              <a:chOff x="5791320" y="4191120"/>
              <a:chExt cx="2286000" cy="703440"/>
            </a:xfrm>
          </p:grpSpPr>
          <p:sp>
            <p:nvSpPr>
              <p:cNvPr id="1387" name=""/>
              <p:cNvSpPr/>
              <p:nvPr/>
            </p:nvSpPr>
            <p:spPr>
              <a:xfrm>
                <a:off x="5791320" y="4191120"/>
                <a:ext cx="2286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5; 3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867640" y="441972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892440" y="3581280"/>
              <a:ext cx="2536560" cy="1143000"/>
              <a:chOff x="892440" y="3581280"/>
              <a:chExt cx="2536560" cy="1143000"/>
            </a:xfrm>
          </p:grpSpPr>
          <p:sp>
            <p:nvSpPr>
              <p:cNvPr id="1390" name=""/>
              <p:cNvSpPr/>
              <p:nvPr/>
            </p:nvSpPr>
            <p:spPr>
              <a:xfrm>
                <a:off x="892440" y="3581280"/>
                <a:ext cx="349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1219320" y="4724280"/>
                <a:ext cx="22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2" name=""/>
            <p:cNvGrpSpPr/>
            <p:nvPr/>
          </p:nvGrpSpPr>
          <p:grpSpPr>
            <a:xfrm>
              <a:off x="533520" y="4724280"/>
              <a:ext cx="2819160" cy="703440"/>
              <a:chOff x="533520" y="4724280"/>
              <a:chExt cx="2819160" cy="703440"/>
            </a:xfrm>
          </p:grpSpPr>
          <p:sp>
            <p:nvSpPr>
              <p:cNvPr id="1393" name=""/>
              <p:cNvSpPr/>
              <p:nvPr/>
            </p:nvSpPr>
            <p:spPr>
              <a:xfrm>
                <a:off x="533520" y="4724280"/>
                <a:ext cx="2819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 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-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3; 2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09480" y="4952880"/>
                <a:ext cx="29160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1295280" y="4816080"/>
                <a:ext cx="291600" cy="180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5183640" y="4495680"/>
              <a:ext cx="2536200" cy="1143000"/>
              <a:chOff x="5183640" y="4495680"/>
              <a:chExt cx="2536200" cy="1143000"/>
            </a:xfrm>
          </p:grpSpPr>
          <p:sp>
            <p:nvSpPr>
              <p:cNvPr id="1397" name=""/>
              <p:cNvSpPr/>
              <p:nvPr/>
            </p:nvSpPr>
            <p:spPr>
              <a:xfrm>
                <a:off x="5183640" y="4495680"/>
                <a:ext cx="4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510160" y="5638680"/>
                <a:ext cx="22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5638680" y="4861080"/>
              <a:ext cx="2286000" cy="703440"/>
              <a:chOff x="5638680" y="4861080"/>
              <a:chExt cx="2286000" cy="703440"/>
            </a:xfrm>
          </p:grpSpPr>
          <p:sp>
            <p:nvSpPr>
              <p:cNvPr id="1400" name=""/>
              <p:cNvSpPr/>
              <p:nvPr/>
            </p:nvSpPr>
            <p:spPr>
              <a:xfrm>
                <a:off x="5638680" y="4861080"/>
                <a:ext cx="2286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-b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-2;-1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879880" y="496908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7543440" y="3124080"/>
              <a:ext cx="1371960" cy="761760"/>
              <a:chOff x="7543440" y="3124080"/>
              <a:chExt cx="1371960" cy="761760"/>
            </a:xfrm>
          </p:grpSpPr>
          <p:sp>
            <p:nvSpPr>
              <p:cNvPr id="1403" name=""/>
              <p:cNvSpPr/>
              <p:nvPr/>
            </p:nvSpPr>
            <p:spPr>
              <a:xfrm flipH="1">
                <a:off x="7543440" y="3200040"/>
                <a:ext cx="304920" cy="68580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04" name=""/>
                  <p:cNvSpPr txBox="1"/>
                  <p:nvPr/>
                </p:nvSpPr>
                <p:spPr>
                  <a:xfrm>
                    <a:off x="7696440" y="3428640"/>
                    <a:ext cx="328320" cy="45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05" name=""/>
              <p:cNvSpPr/>
              <p:nvPr/>
            </p:nvSpPr>
            <p:spPr>
              <a:xfrm>
                <a:off x="7772400" y="3124080"/>
                <a:ext cx="1143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660066"/>
                    </a:solidFill>
                    <a:latin typeface="Times New Roman"/>
                  </a:rPr>
                  <a:t>(-1)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6" name=""/>
            <p:cNvSpPr/>
            <p:nvPr/>
          </p:nvSpPr>
          <p:spPr>
            <a:xfrm>
              <a:off x="991800" y="2530440"/>
              <a:ext cx="118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1 </a:t>
              </a: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спосо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5105520" y="5622840"/>
              <a:ext cx="2819160" cy="703440"/>
              <a:chOff x="5105520" y="5622840"/>
              <a:chExt cx="2819160" cy="703440"/>
            </a:xfrm>
          </p:grpSpPr>
          <p:sp>
            <p:nvSpPr>
              <p:cNvPr id="1408" name=""/>
              <p:cNvSpPr/>
              <p:nvPr/>
            </p:nvSpPr>
            <p:spPr>
              <a:xfrm>
                <a:off x="5105520" y="5622840"/>
                <a:ext cx="2819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 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-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3; 2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181480" y="5851440"/>
                <a:ext cx="29160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867280" y="5714640"/>
                <a:ext cx="291600" cy="180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1" name=""/>
            <p:cNvSpPr/>
            <p:nvPr/>
          </p:nvSpPr>
          <p:spPr>
            <a:xfrm>
              <a:off x="5792400" y="2590920"/>
              <a:ext cx="118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спосо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1295280" y="3139920"/>
              <a:ext cx="2286000" cy="703440"/>
              <a:chOff x="1295280" y="3139920"/>
              <a:chExt cx="2286000" cy="703440"/>
            </a:xfrm>
          </p:grpSpPr>
          <p:sp>
            <p:nvSpPr>
              <p:cNvPr id="1413" name=""/>
              <p:cNvSpPr/>
              <p:nvPr/>
            </p:nvSpPr>
            <p:spPr>
              <a:xfrm>
                <a:off x="1295280" y="3139920"/>
                <a:ext cx="2286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5; 3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371600" y="336852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1295280" y="3886200"/>
              <a:ext cx="2286000" cy="703440"/>
              <a:chOff x="1295280" y="3886200"/>
              <a:chExt cx="2286000" cy="703440"/>
            </a:xfrm>
          </p:grpSpPr>
          <p:sp>
            <p:nvSpPr>
              <p:cNvPr id="1416" name=""/>
              <p:cNvSpPr/>
              <p:nvPr/>
            </p:nvSpPr>
            <p:spPr>
              <a:xfrm>
                <a:off x="1295280" y="3886200"/>
                <a:ext cx="2286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2; 1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371600" y="399420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5791320" y="3124080"/>
              <a:ext cx="2286000" cy="703440"/>
              <a:chOff x="5791320" y="3124080"/>
              <a:chExt cx="2286000" cy="703440"/>
            </a:xfrm>
          </p:grpSpPr>
          <p:sp>
            <p:nvSpPr>
              <p:cNvPr id="1419" name=""/>
              <p:cNvSpPr/>
              <p:nvPr/>
            </p:nvSpPr>
            <p:spPr>
              <a:xfrm>
                <a:off x="5791320" y="3124080"/>
                <a:ext cx="2286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2; 1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867640" y="323208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1" name=""/>
          <p:cNvSpPr/>
          <p:nvPr/>
        </p:nvSpPr>
        <p:spPr>
          <a:xfrm flipH="1" flipV="1">
            <a:off x="-720" y="2209680"/>
            <a:ext cx="9906120" cy="7632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2" name=""/>
          <p:cNvGrpSpPr/>
          <p:nvPr/>
        </p:nvGrpSpPr>
        <p:grpSpPr>
          <a:xfrm>
            <a:off x="0" y="2209680"/>
            <a:ext cx="9143640" cy="4647960"/>
            <a:chOff x="0" y="2209680"/>
            <a:chExt cx="9143640" cy="4647960"/>
          </a:xfrm>
        </p:grpSpPr>
        <p:sp>
          <p:nvSpPr>
            <p:cNvPr id="1423" name=""/>
            <p:cNvSpPr/>
            <p:nvPr/>
          </p:nvSpPr>
          <p:spPr>
            <a:xfrm>
              <a:off x="0" y="2361600"/>
              <a:ext cx="9143640" cy="4496040"/>
            </a:xfrm>
            <a:custGeom>
              <a:avLst/>
              <a:gdLst/>
              <a:ahLst/>
              <a:rect l="l" t="t" r="r" b="b"/>
              <a:pathLst>
                <a:path w="5649" h="2456">
                  <a:moveTo>
                    <a:pt x="264" y="155"/>
                  </a:moveTo>
                  <a:cubicBezTo>
                    <a:pt x="287" y="140"/>
                    <a:pt x="354" y="57"/>
                    <a:pt x="401" y="57"/>
                  </a:cubicBezTo>
                  <a:cubicBezTo>
                    <a:pt x="449" y="58"/>
                    <a:pt x="496" y="161"/>
                    <a:pt x="548" y="160"/>
                  </a:cubicBezTo>
                  <a:cubicBezTo>
                    <a:pt x="598" y="158"/>
                    <a:pt x="655" y="50"/>
                    <a:pt x="707" y="47"/>
                  </a:cubicBezTo>
                  <a:cubicBezTo>
                    <a:pt x="760" y="45"/>
                    <a:pt x="812" y="143"/>
                    <a:pt x="867" y="145"/>
                  </a:cubicBezTo>
                  <a:cubicBezTo>
                    <a:pt x="921" y="147"/>
                    <a:pt x="977" y="55"/>
                    <a:pt x="1030" y="57"/>
                  </a:cubicBezTo>
                  <a:cubicBezTo>
                    <a:pt x="1084" y="59"/>
                    <a:pt x="1136" y="155"/>
                    <a:pt x="1191" y="155"/>
                  </a:cubicBezTo>
                  <a:cubicBezTo>
                    <a:pt x="1245" y="155"/>
                    <a:pt x="1301" y="57"/>
                    <a:pt x="1354" y="57"/>
                  </a:cubicBezTo>
                  <a:cubicBezTo>
                    <a:pt x="1407" y="58"/>
                    <a:pt x="1459" y="160"/>
                    <a:pt x="1510" y="160"/>
                  </a:cubicBezTo>
                  <a:cubicBezTo>
                    <a:pt x="1561" y="160"/>
                    <a:pt x="1608" y="55"/>
                    <a:pt x="1660" y="57"/>
                  </a:cubicBezTo>
                  <a:cubicBezTo>
                    <a:pt x="1712" y="60"/>
                    <a:pt x="1772" y="175"/>
                    <a:pt x="1824" y="174"/>
                  </a:cubicBezTo>
                  <a:cubicBezTo>
                    <a:pt x="1877" y="173"/>
                    <a:pt x="1921" y="48"/>
                    <a:pt x="1971" y="51"/>
                  </a:cubicBezTo>
                  <a:cubicBezTo>
                    <a:pt x="2021" y="54"/>
                    <a:pt x="2078" y="191"/>
                    <a:pt x="2128" y="191"/>
                  </a:cubicBezTo>
                  <a:cubicBezTo>
                    <a:pt x="2177" y="191"/>
                    <a:pt x="2219" y="51"/>
                    <a:pt x="2268" y="49"/>
                  </a:cubicBezTo>
                  <a:cubicBezTo>
                    <a:pt x="2316" y="47"/>
                    <a:pt x="2369" y="182"/>
                    <a:pt x="2421" y="181"/>
                  </a:cubicBezTo>
                  <a:cubicBezTo>
                    <a:pt x="2472" y="180"/>
                    <a:pt x="2523" y="43"/>
                    <a:pt x="2575" y="45"/>
                  </a:cubicBezTo>
                  <a:cubicBezTo>
                    <a:pt x="2627" y="47"/>
                    <a:pt x="2679" y="193"/>
                    <a:pt x="2735" y="191"/>
                  </a:cubicBezTo>
                  <a:cubicBezTo>
                    <a:pt x="2792" y="189"/>
                    <a:pt x="2856" y="39"/>
                    <a:pt x="2917" y="35"/>
                  </a:cubicBezTo>
                  <a:cubicBezTo>
                    <a:pt x="2978" y="31"/>
                    <a:pt x="3043" y="165"/>
                    <a:pt x="3100" y="165"/>
                  </a:cubicBezTo>
                  <a:cubicBezTo>
                    <a:pt x="3158" y="165"/>
                    <a:pt x="3200" y="30"/>
                    <a:pt x="3261" y="33"/>
                  </a:cubicBezTo>
                  <a:cubicBezTo>
                    <a:pt x="3321" y="36"/>
                    <a:pt x="3398" y="181"/>
                    <a:pt x="3460" y="181"/>
                  </a:cubicBezTo>
                  <a:cubicBezTo>
                    <a:pt x="3522" y="181"/>
                    <a:pt x="3578" y="37"/>
                    <a:pt x="3635" y="35"/>
                  </a:cubicBezTo>
                  <a:cubicBezTo>
                    <a:pt x="3691" y="33"/>
                    <a:pt x="3743" y="167"/>
                    <a:pt x="3798" y="167"/>
                  </a:cubicBezTo>
                  <a:cubicBezTo>
                    <a:pt x="3853" y="167"/>
                    <a:pt x="3906" y="37"/>
                    <a:pt x="3966" y="37"/>
                  </a:cubicBezTo>
                  <a:cubicBezTo>
                    <a:pt x="4025" y="37"/>
                    <a:pt x="4091" y="166"/>
                    <a:pt x="4153" y="165"/>
                  </a:cubicBezTo>
                  <a:cubicBezTo>
                    <a:pt x="4214" y="164"/>
                    <a:pt x="4273" y="35"/>
                    <a:pt x="4331" y="33"/>
                  </a:cubicBezTo>
                  <a:cubicBezTo>
                    <a:pt x="4388" y="31"/>
                    <a:pt x="4439" y="156"/>
                    <a:pt x="4500" y="155"/>
                  </a:cubicBezTo>
                  <a:cubicBezTo>
                    <a:pt x="4560" y="154"/>
                    <a:pt x="4633" y="30"/>
                    <a:pt x="4694" y="29"/>
                  </a:cubicBezTo>
                  <a:cubicBezTo>
                    <a:pt x="4755" y="28"/>
                    <a:pt x="4807" y="150"/>
                    <a:pt x="4865" y="151"/>
                  </a:cubicBezTo>
                  <a:cubicBezTo>
                    <a:pt x="4922" y="152"/>
                    <a:pt x="4979" y="31"/>
                    <a:pt x="5041" y="33"/>
                  </a:cubicBezTo>
                  <a:cubicBezTo>
                    <a:pt x="5103" y="35"/>
                    <a:pt x="5179" y="162"/>
                    <a:pt x="5239" y="163"/>
                  </a:cubicBezTo>
                  <a:cubicBezTo>
                    <a:pt x="5299" y="164"/>
                    <a:pt x="5353" y="0"/>
                    <a:pt x="5404" y="39"/>
                  </a:cubicBezTo>
                  <a:cubicBezTo>
                    <a:pt x="5456" y="78"/>
                    <a:pt x="5545" y="253"/>
                    <a:pt x="5546" y="397"/>
                  </a:cubicBezTo>
                  <a:cubicBezTo>
                    <a:pt x="5547" y="541"/>
                    <a:pt x="5408" y="701"/>
                    <a:pt x="5408" y="901"/>
                  </a:cubicBezTo>
                  <a:cubicBezTo>
                    <a:pt x="5408" y="1101"/>
                    <a:pt x="5529" y="1412"/>
                    <a:pt x="5544" y="1597"/>
                  </a:cubicBezTo>
                  <a:cubicBezTo>
                    <a:pt x="5559" y="1782"/>
                    <a:pt x="5504" y="1908"/>
                    <a:pt x="5496" y="2013"/>
                  </a:cubicBezTo>
                  <a:cubicBezTo>
                    <a:pt x="5488" y="2118"/>
                    <a:pt x="5481" y="2182"/>
                    <a:pt x="5496" y="2229"/>
                  </a:cubicBezTo>
                  <a:cubicBezTo>
                    <a:pt x="5511" y="2276"/>
                    <a:pt x="5560" y="2280"/>
                    <a:pt x="5584" y="2293"/>
                  </a:cubicBezTo>
                  <a:cubicBezTo>
                    <a:pt x="5608" y="2306"/>
                    <a:pt x="5649" y="2296"/>
                    <a:pt x="5640" y="2309"/>
                  </a:cubicBezTo>
                  <a:cubicBezTo>
                    <a:pt x="5631" y="2322"/>
                    <a:pt x="5603" y="2357"/>
                    <a:pt x="5528" y="2373"/>
                  </a:cubicBezTo>
                  <a:cubicBezTo>
                    <a:pt x="5453" y="2389"/>
                    <a:pt x="5326" y="2425"/>
                    <a:pt x="5192" y="2405"/>
                  </a:cubicBezTo>
                  <a:cubicBezTo>
                    <a:pt x="5058" y="2385"/>
                    <a:pt x="4872" y="2246"/>
                    <a:pt x="4726" y="2253"/>
                  </a:cubicBezTo>
                  <a:cubicBezTo>
                    <a:pt x="4580" y="2260"/>
                    <a:pt x="4431" y="2434"/>
                    <a:pt x="4316" y="2445"/>
                  </a:cubicBezTo>
                  <a:cubicBezTo>
                    <a:pt x="4201" y="2456"/>
                    <a:pt x="4135" y="2345"/>
                    <a:pt x="4036" y="2317"/>
                  </a:cubicBezTo>
                  <a:cubicBezTo>
                    <a:pt x="3936" y="2289"/>
                    <a:pt x="3815" y="2262"/>
                    <a:pt x="3719" y="2277"/>
                  </a:cubicBezTo>
                  <a:cubicBezTo>
                    <a:pt x="3623" y="2292"/>
                    <a:pt x="3542" y="2396"/>
                    <a:pt x="3460" y="2405"/>
                  </a:cubicBezTo>
                  <a:cubicBezTo>
                    <a:pt x="3378" y="2414"/>
                    <a:pt x="3305" y="2334"/>
                    <a:pt x="3230" y="2333"/>
                  </a:cubicBezTo>
                  <a:cubicBezTo>
                    <a:pt x="3154" y="2332"/>
                    <a:pt x="3096" y="2412"/>
                    <a:pt x="3007" y="2397"/>
                  </a:cubicBezTo>
                  <a:cubicBezTo>
                    <a:pt x="2918" y="2382"/>
                    <a:pt x="2796" y="2249"/>
                    <a:pt x="2698" y="2245"/>
                  </a:cubicBezTo>
                  <a:cubicBezTo>
                    <a:pt x="2600" y="2241"/>
                    <a:pt x="2497" y="2356"/>
                    <a:pt x="2417" y="2373"/>
                  </a:cubicBezTo>
                  <a:cubicBezTo>
                    <a:pt x="2337" y="2390"/>
                    <a:pt x="2287" y="2374"/>
                    <a:pt x="2216" y="2349"/>
                  </a:cubicBezTo>
                  <a:cubicBezTo>
                    <a:pt x="2145" y="2324"/>
                    <a:pt x="2048" y="2224"/>
                    <a:pt x="1988" y="2223"/>
                  </a:cubicBezTo>
                  <a:cubicBezTo>
                    <a:pt x="1928" y="2222"/>
                    <a:pt x="1902" y="2311"/>
                    <a:pt x="1851" y="2340"/>
                  </a:cubicBezTo>
                  <a:cubicBezTo>
                    <a:pt x="1801" y="2369"/>
                    <a:pt x="1761" y="2408"/>
                    <a:pt x="1687" y="2398"/>
                  </a:cubicBezTo>
                  <a:cubicBezTo>
                    <a:pt x="1615" y="2389"/>
                    <a:pt x="1510" y="2281"/>
                    <a:pt x="1414" y="2281"/>
                  </a:cubicBezTo>
                  <a:cubicBezTo>
                    <a:pt x="1318" y="2281"/>
                    <a:pt x="1227" y="2398"/>
                    <a:pt x="1113" y="2398"/>
                  </a:cubicBezTo>
                  <a:cubicBezTo>
                    <a:pt x="999" y="2398"/>
                    <a:pt x="843" y="2281"/>
                    <a:pt x="729" y="2281"/>
                  </a:cubicBezTo>
                  <a:cubicBezTo>
                    <a:pt x="616" y="2281"/>
                    <a:pt x="511" y="2384"/>
                    <a:pt x="429" y="2398"/>
                  </a:cubicBezTo>
                  <a:cubicBezTo>
                    <a:pt x="346" y="2413"/>
                    <a:pt x="306" y="2393"/>
                    <a:pt x="237" y="2369"/>
                  </a:cubicBezTo>
                  <a:cubicBezTo>
                    <a:pt x="169" y="2345"/>
                    <a:pt x="36" y="2281"/>
                    <a:pt x="19" y="2252"/>
                  </a:cubicBezTo>
                  <a:cubicBezTo>
                    <a:pt x="0" y="2223"/>
                    <a:pt x="95" y="2252"/>
                    <a:pt x="128" y="2194"/>
                  </a:cubicBezTo>
                  <a:cubicBezTo>
                    <a:pt x="160" y="2135"/>
                    <a:pt x="192" y="2022"/>
                    <a:pt x="210" y="1901"/>
                  </a:cubicBezTo>
                  <a:cubicBezTo>
                    <a:pt x="228" y="1780"/>
                    <a:pt x="236" y="1666"/>
                    <a:pt x="241" y="1466"/>
                  </a:cubicBezTo>
                  <a:cubicBezTo>
                    <a:pt x="245" y="1266"/>
                    <a:pt x="239" y="885"/>
                    <a:pt x="237" y="701"/>
                  </a:cubicBezTo>
                  <a:cubicBezTo>
                    <a:pt x="236" y="518"/>
                    <a:pt x="225" y="455"/>
                    <a:pt x="229" y="364"/>
                  </a:cubicBezTo>
                  <a:cubicBezTo>
                    <a:pt x="235" y="272"/>
                    <a:pt x="258" y="196"/>
                    <a:pt x="266" y="152"/>
                  </a:cubicBezTo>
                </a:path>
              </a:pathLst>
            </a:custGeom>
            <a:gradFill rotWithShape="0">
              <a:gsLst>
                <a:gs pos="0">
                  <a:srgbClr val="a6d6da"/>
                </a:gs>
                <a:gs pos="50000">
                  <a:srgbClr val="ffffff"/>
                </a:gs>
                <a:gs pos="100000">
                  <a:srgbClr val="a6d6da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4" name=""/>
            <p:cNvGrpSpPr/>
            <p:nvPr/>
          </p:nvGrpSpPr>
          <p:grpSpPr>
            <a:xfrm>
              <a:off x="548640" y="2251440"/>
              <a:ext cx="148320" cy="429840"/>
              <a:chOff x="548640" y="2251440"/>
              <a:chExt cx="148320" cy="429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604800" y="2574360"/>
                <a:ext cx="43920" cy="106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48640" y="2251440"/>
                <a:ext cx="148320" cy="4100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1047240" y="2253600"/>
              <a:ext cx="150480" cy="428040"/>
              <a:chOff x="1047240" y="2253600"/>
              <a:chExt cx="150480" cy="428040"/>
            </a:xfrm>
          </p:grpSpPr>
          <p:sp>
            <p:nvSpPr>
              <p:cNvPr id="1428" name=""/>
              <p:cNvSpPr/>
              <p:nvPr/>
            </p:nvSpPr>
            <p:spPr>
              <a:xfrm>
                <a:off x="1104120" y="2575080"/>
                <a:ext cx="4464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047240" y="2253600"/>
                <a:ext cx="1504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"/>
            <p:cNvGrpSpPr/>
            <p:nvPr/>
          </p:nvGrpSpPr>
          <p:grpSpPr>
            <a:xfrm>
              <a:off x="1581120" y="2253600"/>
              <a:ext cx="145440" cy="428040"/>
              <a:chOff x="1581120" y="2253600"/>
              <a:chExt cx="145440" cy="428040"/>
            </a:xfrm>
          </p:grpSpPr>
          <p:sp>
            <p:nvSpPr>
              <p:cNvPr id="1431" name=""/>
              <p:cNvSpPr/>
              <p:nvPr/>
            </p:nvSpPr>
            <p:spPr>
              <a:xfrm>
                <a:off x="1636200" y="2575080"/>
                <a:ext cx="4320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581120" y="2253600"/>
                <a:ext cx="14544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3" name=""/>
            <p:cNvGrpSpPr/>
            <p:nvPr/>
          </p:nvGrpSpPr>
          <p:grpSpPr>
            <a:xfrm>
              <a:off x="2110680" y="2253600"/>
              <a:ext cx="148680" cy="428040"/>
              <a:chOff x="2110680" y="2253600"/>
              <a:chExt cx="148680" cy="428040"/>
            </a:xfrm>
          </p:grpSpPr>
          <p:sp>
            <p:nvSpPr>
              <p:cNvPr id="1434" name=""/>
              <p:cNvSpPr/>
              <p:nvPr/>
            </p:nvSpPr>
            <p:spPr>
              <a:xfrm>
                <a:off x="2166840" y="2575080"/>
                <a:ext cx="43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110680" y="2253600"/>
                <a:ext cx="1486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6" name=""/>
            <p:cNvGrpSpPr/>
            <p:nvPr/>
          </p:nvGrpSpPr>
          <p:grpSpPr>
            <a:xfrm>
              <a:off x="2581560" y="2253600"/>
              <a:ext cx="148680" cy="428040"/>
              <a:chOff x="2581560" y="2253600"/>
              <a:chExt cx="148680" cy="428040"/>
            </a:xfrm>
          </p:grpSpPr>
          <p:sp>
            <p:nvSpPr>
              <p:cNvPr id="1437" name=""/>
              <p:cNvSpPr/>
              <p:nvPr/>
            </p:nvSpPr>
            <p:spPr>
              <a:xfrm>
                <a:off x="2637720" y="2575080"/>
                <a:ext cx="43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581560" y="2253600"/>
                <a:ext cx="1486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9" name=""/>
            <p:cNvGrpSpPr/>
            <p:nvPr/>
          </p:nvGrpSpPr>
          <p:grpSpPr>
            <a:xfrm>
              <a:off x="3114000" y="2253600"/>
              <a:ext cx="148680" cy="428040"/>
              <a:chOff x="3114000" y="2253600"/>
              <a:chExt cx="148680" cy="428040"/>
            </a:xfrm>
          </p:grpSpPr>
          <p:sp>
            <p:nvSpPr>
              <p:cNvPr id="1440" name=""/>
              <p:cNvSpPr/>
              <p:nvPr/>
            </p:nvSpPr>
            <p:spPr>
              <a:xfrm>
                <a:off x="3170160" y="2575080"/>
                <a:ext cx="43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114000" y="2253600"/>
                <a:ext cx="1486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2" name=""/>
            <p:cNvSpPr/>
            <p:nvPr/>
          </p:nvSpPr>
          <p:spPr>
            <a:xfrm>
              <a:off x="2945520" y="3778560"/>
              <a:ext cx="228240" cy="265284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023200" y="4448520"/>
              <a:ext cx="352440" cy="208908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047240" y="5145840"/>
              <a:ext cx="356040" cy="14461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5" name=""/>
            <p:cNvGrpSpPr/>
            <p:nvPr/>
          </p:nvGrpSpPr>
          <p:grpSpPr>
            <a:xfrm>
              <a:off x="3611160" y="2251440"/>
              <a:ext cx="148320" cy="429840"/>
              <a:chOff x="3611160" y="2251440"/>
              <a:chExt cx="148320" cy="429840"/>
            </a:xfrm>
          </p:grpSpPr>
          <p:sp>
            <p:nvSpPr>
              <p:cNvPr id="1446" name=""/>
              <p:cNvSpPr/>
              <p:nvPr/>
            </p:nvSpPr>
            <p:spPr>
              <a:xfrm>
                <a:off x="3667320" y="2574360"/>
                <a:ext cx="43920" cy="106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611160" y="2251440"/>
                <a:ext cx="148320" cy="4100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4051440" y="2209680"/>
              <a:ext cx="148680" cy="429480"/>
              <a:chOff x="4051440" y="2209680"/>
              <a:chExt cx="148680" cy="429480"/>
            </a:xfrm>
          </p:grpSpPr>
          <p:sp>
            <p:nvSpPr>
              <p:cNvPr id="1449" name=""/>
              <p:cNvSpPr/>
              <p:nvPr/>
            </p:nvSpPr>
            <p:spPr>
              <a:xfrm>
                <a:off x="4107600" y="2532240"/>
                <a:ext cx="43920" cy="106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051440" y="2209680"/>
                <a:ext cx="148680" cy="4096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4611600" y="2209680"/>
              <a:ext cx="146880" cy="428040"/>
              <a:chOff x="4611600" y="2209680"/>
              <a:chExt cx="146880" cy="428040"/>
            </a:xfrm>
          </p:grpSpPr>
          <p:sp>
            <p:nvSpPr>
              <p:cNvPr id="1452" name=""/>
              <p:cNvSpPr/>
              <p:nvPr/>
            </p:nvSpPr>
            <p:spPr>
              <a:xfrm>
                <a:off x="4667040" y="2531160"/>
                <a:ext cx="4356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611600" y="2209680"/>
                <a:ext cx="1468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5169960" y="2209680"/>
              <a:ext cx="148680" cy="428040"/>
              <a:chOff x="5169960" y="2209680"/>
              <a:chExt cx="148680" cy="428040"/>
            </a:xfrm>
          </p:grpSpPr>
          <p:sp>
            <p:nvSpPr>
              <p:cNvPr id="1455" name=""/>
              <p:cNvSpPr/>
              <p:nvPr/>
            </p:nvSpPr>
            <p:spPr>
              <a:xfrm>
                <a:off x="5226120" y="2531160"/>
                <a:ext cx="43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169960" y="2209680"/>
                <a:ext cx="1486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5789880" y="2209680"/>
              <a:ext cx="148680" cy="428040"/>
              <a:chOff x="5789880" y="2209680"/>
              <a:chExt cx="148680" cy="428040"/>
            </a:xfrm>
          </p:grpSpPr>
          <p:sp>
            <p:nvSpPr>
              <p:cNvPr id="1458" name=""/>
              <p:cNvSpPr/>
              <p:nvPr/>
            </p:nvSpPr>
            <p:spPr>
              <a:xfrm>
                <a:off x="5846040" y="2531160"/>
                <a:ext cx="43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789880" y="2209680"/>
                <a:ext cx="1486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6357960" y="2209680"/>
              <a:ext cx="146880" cy="428040"/>
              <a:chOff x="6357960" y="2209680"/>
              <a:chExt cx="146880" cy="428040"/>
            </a:xfrm>
          </p:grpSpPr>
          <p:sp>
            <p:nvSpPr>
              <p:cNvPr id="1461" name=""/>
              <p:cNvSpPr/>
              <p:nvPr/>
            </p:nvSpPr>
            <p:spPr>
              <a:xfrm>
                <a:off x="6413400" y="2531160"/>
                <a:ext cx="4356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357960" y="2209680"/>
                <a:ext cx="1468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6916320" y="2209680"/>
              <a:ext cx="148680" cy="428040"/>
              <a:chOff x="6916320" y="2209680"/>
              <a:chExt cx="148680" cy="428040"/>
            </a:xfrm>
          </p:grpSpPr>
          <p:sp>
            <p:nvSpPr>
              <p:cNvPr id="1464" name=""/>
              <p:cNvSpPr/>
              <p:nvPr/>
            </p:nvSpPr>
            <p:spPr>
              <a:xfrm>
                <a:off x="6972480" y="2531160"/>
                <a:ext cx="43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916320" y="2209680"/>
                <a:ext cx="1486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7546320" y="2209680"/>
              <a:ext cx="146880" cy="428040"/>
              <a:chOff x="7546320" y="2209680"/>
              <a:chExt cx="146880" cy="428040"/>
            </a:xfrm>
          </p:grpSpPr>
          <p:sp>
            <p:nvSpPr>
              <p:cNvPr id="1467" name=""/>
              <p:cNvSpPr/>
              <p:nvPr/>
            </p:nvSpPr>
            <p:spPr>
              <a:xfrm>
                <a:off x="7601760" y="2531160"/>
                <a:ext cx="4356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546320" y="2209680"/>
                <a:ext cx="1468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8104680" y="2220120"/>
              <a:ext cx="148680" cy="428040"/>
              <a:chOff x="8104680" y="2220120"/>
              <a:chExt cx="148680" cy="428040"/>
            </a:xfrm>
          </p:grpSpPr>
          <p:sp>
            <p:nvSpPr>
              <p:cNvPr id="1470" name=""/>
              <p:cNvSpPr/>
              <p:nvPr/>
            </p:nvSpPr>
            <p:spPr>
              <a:xfrm>
                <a:off x="8160840" y="2541600"/>
                <a:ext cx="43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8104680" y="2220120"/>
                <a:ext cx="14868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8663400" y="2209680"/>
              <a:ext cx="148320" cy="428040"/>
              <a:chOff x="8663400" y="2209680"/>
              <a:chExt cx="148320" cy="428040"/>
            </a:xfrm>
          </p:grpSpPr>
          <p:sp>
            <p:nvSpPr>
              <p:cNvPr id="1473" name=""/>
              <p:cNvSpPr/>
              <p:nvPr/>
            </p:nvSpPr>
            <p:spPr>
              <a:xfrm>
                <a:off x="8719560" y="2531160"/>
                <a:ext cx="43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8663400" y="2209680"/>
                <a:ext cx="148320" cy="4082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5" name=""/>
            <p:cNvSpPr/>
            <p:nvPr/>
          </p:nvSpPr>
          <p:spPr>
            <a:xfrm>
              <a:off x="4192200" y="3791160"/>
              <a:ext cx="228240" cy="265284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97800" y="4494240"/>
              <a:ext cx="356040" cy="19735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405200" y="5021280"/>
              <a:ext cx="356040" cy="14461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91667 -0.00555 E">
                                      <p:cBhvr>
                                        <p:cTn id="812" dur="2000" fill="hold"/>
                                        <p:tgtEl>
                                          <p:spTgt spid="1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8" name=""/>
          <p:cNvGrpSpPr/>
          <p:nvPr/>
        </p:nvGrpSpPr>
        <p:grpSpPr>
          <a:xfrm>
            <a:off x="5029200" y="5867280"/>
            <a:ext cx="2438280" cy="703440"/>
            <a:chOff x="5029200" y="5867280"/>
            <a:chExt cx="2438280" cy="703440"/>
          </a:xfrm>
        </p:grpSpPr>
        <p:sp>
          <p:nvSpPr>
            <p:cNvPr id="1479" name=""/>
            <p:cNvSpPr/>
            <p:nvPr/>
          </p:nvSpPr>
          <p:spPr>
            <a:xfrm>
              <a:off x="5029200" y="586728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n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26;-24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105160" y="6095880"/>
              <a:ext cx="29160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5181480" y="152280"/>
            <a:ext cx="2286000" cy="703440"/>
            <a:chOff x="5181480" y="152280"/>
            <a:chExt cx="2286000" cy="703440"/>
          </a:xfrm>
        </p:grpSpPr>
        <p:sp>
          <p:nvSpPr>
            <p:cNvPr id="1482" name=""/>
            <p:cNvSpPr/>
            <p:nvPr/>
          </p:nvSpPr>
          <p:spPr>
            <a:xfrm>
              <a:off x="5181480" y="1522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5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;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3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257800" y="2602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3048120" y="136440"/>
            <a:ext cx="2286000" cy="703440"/>
            <a:chOff x="3048120" y="136440"/>
            <a:chExt cx="2286000" cy="703440"/>
          </a:xfrm>
        </p:grpSpPr>
        <p:sp>
          <p:nvSpPr>
            <p:cNvPr id="1485" name=""/>
            <p:cNvSpPr/>
            <p:nvPr/>
          </p:nvSpPr>
          <p:spPr>
            <a:xfrm>
              <a:off x="3048120" y="13644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;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-4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124440" y="36504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488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4574160" y="1981080"/>
            <a:ext cx="2536200" cy="1143000"/>
            <a:chOff x="4574160" y="1981080"/>
            <a:chExt cx="2536200" cy="1143000"/>
          </a:xfrm>
        </p:grpSpPr>
        <p:sp>
          <p:nvSpPr>
            <p:cNvPr id="1497" name=""/>
            <p:cNvSpPr/>
            <p:nvPr/>
          </p:nvSpPr>
          <p:spPr>
            <a:xfrm>
              <a:off x="4574160" y="198108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00680" y="312408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4191120" y="3200400"/>
            <a:ext cx="3504960" cy="703440"/>
            <a:chOff x="4191120" y="3200400"/>
            <a:chExt cx="3504960" cy="703440"/>
          </a:xfrm>
        </p:grpSpPr>
        <p:sp>
          <p:nvSpPr>
            <p:cNvPr id="1500" name=""/>
            <p:cNvSpPr/>
            <p:nvPr/>
          </p:nvSpPr>
          <p:spPr>
            <a:xfrm>
              <a:off x="4191120" y="3200400"/>
              <a:ext cx="350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4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18;-22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572000" y="34290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194440" y="335124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4419720" y="4724280"/>
            <a:ext cx="3047400" cy="1143000"/>
            <a:chOff x="4419720" y="4724280"/>
            <a:chExt cx="3047400" cy="1143000"/>
          </a:xfrm>
        </p:grpSpPr>
        <p:sp>
          <p:nvSpPr>
            <p:cNvPr id="1504" name=""/>
            <p:cNvSpPr/>
            <p:nvPr/>
          </p:nvSpPr>
          <p:spPr>
            <a:xfrm>
              <a:off x="4419720" y="4724280"/>
              <a:ext cx="577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814280" y="5867280"/>
              <a:ext cx="26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>
            <a:off x="762120" y="3049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ы векторы                       и                        . Найд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ы вектор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2133360" y="1676520"/>
            <a:ext cx="1371960" cy="761760"/>
            <a:chOff x="2133360" y="1676520"/>
            <a:chExt cx="1371960" cy="761760"/>
          </a:xfrm>
        </p:grpSpPr>
        <p:sp>
          <p:nvSpPr>
            <p:cNvPr id="1508" name=""/>
            <p:cNvSpPr/>
            <p:nvPr/>
          </p:nvSpPr>
          <p:spPr>
            <a:xfrm flipH="1">
              <a:off x="2133360" y="1752480"/>
              <a:ext cx="304920" cy="6858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9" name=""/>
                <p:cNvSpPr txBox="1"/>
                <p:nvPr/>
              </p:nvSpPr>
              <p:spPr>
                <a:xfrm>
                  <a:off x="2286360" y="1981080"/>
                  <a:ext cx="32832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10" name=""/>
            <p:cNvSpPr/>
            <p:nvPr/>
          </p:nvSpPr>
          <p:spPr>
            <a:xfrm>
              <a:off x="2362320" y="167652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3048120" y="136440"/>
            <a:ext cx="2286000" cy="703440"/>
            <a:chOff x="3048120" y="136440"/>
            <a:chExt cx="2286000" cy="703440"/>
          </a:xfrm>
        </p:grpSpPr>
        <p:sp>
          <p:nvSpPr>
            <p:cNvPr id="1512" name=""/>
            <p:cNvSpPr/>
            <p:nvPr/>
          </p:nvSpPr>
          <p:spPr>
            <a:xfrm>
              <a:off x="3048120" y="13644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;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-4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124440" y="36504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5181480" y="152280"/>
            <a:ext cx="2286000" cy="703440"/>
            <a:chOff x="5181480" y="152280"/>
            <a:chExt cx="2286000" cy="703440"/>
          </a:xfrm>
        </p:grpSpPr>
        <p:sp>
          <p:nvSpPr>
            <p:cNvPr id="1515" name=""/>
            <p:cNvSpPr/>
            <p:nvPr/>
          </p:nvSpPr>
          <p:spPr>
            <a:xfrm>
              <a:off x="5181480" y="1522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5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;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3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257800" y="2602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4038480" y="838080"/>
            <a:ext cx="2438640" cy="703440"/>
            <a:chOff x="4038480" y="838080"/>
            <a:chExt cx="2438640" cy="703440"/>
          </a:xfrm>
        </p:grpSpPr>
        <p:sp>
          <p:nvSpPr>
            <p:cNvPr id="1518" name=""/>
            <p:cNvSpPr/>
            <p:nvPr/>
          </p:nvSpPr>
          <p:spPr>
            <a:xfrm>
              <a:off x="4038480" y="838080"/>
              <a:ext cx="2438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m =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4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-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114800" y="1066680"/>
              <a:ext cx="431640" cy="12600"/>
            </a:xfrm>
            <a:custGeom>
              <a:avLst/>
              <a:gdLst/>
              <a:ahLst/>
              <a:rect l="l" t="t" r="r" b="b"/>
              <a:pathLst>
                <a:path w="272" h="8">
                  <a:moveTo>
                    <a:pt x="0" y="0"/>
                  </a:moveTo>
                  <a:lnTo>
                    <a:pt x="272" y="8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334120" y="10666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019920" y="99036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781680" y="822240"/>
            <a:ext cx="2438280" cy="703440"/>
            <a:chOff x="6781680" y="822240"/>
            <a:chExt cx="2438280" cy="703440"/>
          </a:xfrm>
        </p:grpSpPr>
        <p:sp>
          <p:nvSpPr>
            <p:cNvPr id="1523" name=""/>
            <p:cNvSpPr/>
            <p:nvPr/>
          </p:nvSpPr>
          <p:spPr>
            <a:xfrm>
              <a:off x="6781680" y="82224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n = 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-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4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000640" y="105084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610480" y="9745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857640" y="105084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3048120" y="136440"/>
            <a:ext cx="2286000" cy="703440"/>
            <a:chOff x="3048120" y="136440"/>
            <a:chExt cx="2286000" cy="703440"/>
          </a:xfrm>
        </p:grpSpPr>
        <p:sp>
          <p:nvSpPr>
            <p:cNvPr id="1528" name=""/>
            <p:cNvSpPr/>
            <p:nvPr/>
          </p:nvSpPr>
          <p:spPr>
            <a:xfrm>
              <a:off x="3048120" y="13644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;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-4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124440" y="36504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5181480" y="152280"/>
            <a:ext cx="2286000" cy="703440"/>
            <a:chOff x="5181480" y="152280"/>
            <a:chExt cx="2286000" cy="703440"/>
          </a:xfrm>
        </p:grpSpPr>
        <p:sp>
          <p:nvSpPr>
            <p:cNvPr id="1531" name=""/>
            <p:cNvSpPr/>
            <p:nvPr/>
          </p:nvSpPr>
          <p:spPr>
            <a:xfrm>
              <a:off x="5181480" y="1522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5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;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3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257800" y="2602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5029200" y="1371600"/>
            <a:ext cx="609480" cy="141120"/>
          </a:xfrm>
          <a:custGeom>
            <a:avLst/>
            <a:gdLst/>
            <a:ahLst/>
            <a:rect l="l" t="t" r="r" b="b"/>
            <a:pathLst>
              <a:path w="384" h="89">
                <a:moveTo>
                  <a:pt x="0" y="0"/>
                </a:moveTo>
                <a:cubicBezTo>
                  <a:pt x="28" y="15"/>
                  <a:pt x="104" y="87"/>
                  <a:pt x="168" y="88"/>
                </a:cubicBezTo>
                <a:cubicBezTo>
                  <a:pt x="232" y="89"/>
                  <a:pt x="339" y="25"/>
                  <a:pt x="384" y="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2133360" y="2362320"/>
            <a:ext cx="1371960" cy="761760"/>
            <a:chOff x="2133360" y="2362320"/>
            <a:chExt cx="1371960" cy="761760"/>
          </a:xfrm>
        </p:grpSpPr>
        <p:sp>
          <p:nvSpPr>
            <p:cNvPr id="1535" name=""/>
            <p:cNvSpPr/>
            <p:nvPr/>
          </p:nvSpPr>
          <p:spPr>
            <a:xfrm flipH="1">
              <a:off x="2133360" y="2438280"/>
              <a:ext cx="304920" cy="6858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6" name=""/>
                <p:cNvSpPr txBox="1"/>
                <p:nvPr/>
              </p:nvSpPr>
              <p:spPr>
                <a:xfrm>
                  <a:off x="2286360" y="2666880"/>
                  <a:ext cx="32832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7" name=""/>
            <p:cNvSpPr/>
            <p:nvPr/>
          </p:nvSpPr>
          <p:spPr>
            <a:xfrm>
              <a:off x="2362320" y="236232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imes New Roman"/>
                </a:rPr>
                <a:t>(-2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8" name=""/>
          <p:cNvGrpSpPr/>
          <p:nvPr/>
        </p:nvGrpSpPr>
        <p:grpSpPr>
          <a:xfrm>
            <a:off x="1980720" y="4495680"/>
            <a:ext cx="1371960" cy="761760"/>
            <a:chOff x="1980720" y="4495680"/>
            <a:chExt cx="1371960" cy="761760"/>
          </a:xfrm>
        </p:grpSpPr>
        <p:sp>
          <p:nvSpPr>
            <p:cNvPr id="1539" name=""/>
            <p:cNvSpPr/>
            <p:nvPr/>
          </p:nvSpPr>
          <p:spPr>
            <a:xfrm flipH="1">
              <a:off x="1980720" y="4571640"/>
              <a:ext cx="304920" cy="6858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0" name=""/>
                <p:cNvSpPr txBox="1"/>
                <p:nvPr/>
              </p:nvSpPr>
              <p:spPr>
                <a:xfrm>
                  <a:off x="2133720" y="4800240"/>
                  <a:ext cx="32832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41" name=""/>
            <p:cNvSpPr/>
            <p:nvPr/>
          </p:nvSpPr>
          <p:spPr>
            <a:xfrm>
              <a:off x="2209680" y="449568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1980720" y="5257800"/>
            <a:ext cx="1371960" cy="761760"/>
            <a:chOff x="1980720" y="5257800"/>
            <a:chExt cx="1371960" cy="761760"/>
          </a:xfrm>
        </p:grpSpPr>
        <p:sp>
          <p:nvSpPr>
            <p:cNvPr id="1543" name=""/>
            <p:cNvSpPr/>
            <p:nvPr/>
          </p:nvSpPr>
          <p:spPr>
            <a:xfrm flipH="1">
              <a:off x="1980720" y="5333760"/>
              <a:ext cx="304920" cy="6858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4" name=""/>
                <p:cNvSpPr txBox="1"/>
                <p:nvPr/>
              </p:nvSpPr>
              <p:spPr>
                <a:xfrm>
                  <a:off x="2133720" y="5562360"/>
                  <a:ext cx="32832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45" name=""/>
            <p:cNvSpPr/>
            <p:nvPr/>
          </p:nvSpPr>
          <p:spPr>
            <a:xfrm>
              <a:off x="2209680" y="5257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imes New Roman"/>
                </a:rPr>
                <a:t>(-4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5029200" y="1523880"/>
            <a:ext cx="2286000" cy="703440"/>
            <a:chOff x="5029200" y="1523880"/>
            <a:chExt cx="2286000" cy="703440"/>
          </a:xfrm>
        </p:grpSpPr>
        <p:sp>
          <p:nvSpPr>
            <p:cNvPr id="1547" name=""/>
            <p:cNvSpPr/>
            <p:nvPr/>
          </p:nvSpPr>
          <p:spPr>
            <a:xfrm>
              <a:off x="5029200" y="15238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4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8;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16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346720" y="175248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4876920" y="2286000"/>
            <a:ext cx="2971800" cy="703440"/>
            <a:chOff x="4876920" y="2286000"/>
            <a:chExt cx="2971800" cy="703440"/>
          </a:xfrm>
        </p:grpSpPr>
        <p:sp>
          <p:nvSpPr>
            <p:cNvPr id="1550" name=""/>
            <p:cNvSpPr/>
            <p:nvPr/>
          </p:nvSpPr>
          <p:spPr>
            <a:xfrm>
              <a:off x="4876920" y="2286000"/>
              <a:ext cx="297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10;-6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347080" y="23940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4952880" y="4419720"/>
            <a:ext cx="2286000" cy="703440"/>
            <a:chOff x="4952880" y="4419720"/>
            <a:chExt cx="2286000" cy="703440"/>
          </a:xfrm>
        </p:grpSpPr>
        <p:sp>
          <p:nvSpPr>
            <p:cNvPr id="1553" name=""/>
            <p:cNvSpPr/>
            <p:nvPr/>
          </p:nvSpPr>
          <p:spPr>
            <a:xfrm>
              <a:off x="4952880" y="441972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6;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12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270400" y="464832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4648320" y="5105520"/>
            <a:ext cx="2971800" cy="703440"/>
            <a:chOff x="4648320" y="5105520"/>
            <a:chExt cx="2971800" cy="703440"/>
          </a:xfrm>
        </p:grpSpPr>
        <p:sp>
          <p:nvSpPr>
            <p:cNvPr id="1556" name=""/>
            <p:cNvSpPr/>
            <p:nvPr/>
          </p:nvSpPr>
          <p:spPr>
            <a:xfrm>
              <a:off x="4648320" y="5105520"/>
              <a:ext cx="297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4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20;-12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118480" y="52135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4038480" y="5867280"/>
            <a:ext cx="3504960" cy="703440"/>
            <a:chOff x="4038480" y="5867280"/>
            <a:chExt cx="3504960" cy="703440"/>
          </a:xfrm>
        </p:grpSpPr>
        <p:sp>
          <p:nvSpPr>
            <p:cNvPr id="1559" name=""/>
            <p:cNvSpPr/>
            <p:nvPr/>
          </p:nvSpPr>
          <p:spPr>
            <a:xfrm>
              <a:off x="4038480" y="5867280"/>
              <a:ext cx="350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4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26;-24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419360" y="60958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041800" y="60181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2" name=""/>
          <p:cNvSpPr/>
          <p:nvPr/>
        </p:nvSpPr>
        <p:spPr>
          <a:xfrm>
            <a:off x="5638680" y="1371600"/>
            <a:ext cx="609840" cy="141120"/>
          </a:xfrm>
          <a:custGeom>
            <a:avLst/>
            <a:gdLst/>
            <a:ahLst/>
            <a:rect l="l" t="t" r="r" b="b"/>
            <a:pathLst>
              <a:path w="384" h="89">
                <a:moveTo>
                  <a:pt x="0" y="0"/>
                </a:moveTo>
                <a:cubicBezTo>
                  <a:pt x="28" y="15"/>
                  <a:pt x="104" y="87"/>
                  <a:pt x="168" y="88"/>
                </a:cubicBezTo>
                <a:cubicBezTo>
                  <a:pt x="232" y="89"/>
                  <a:pt x="339" y="25"/>
                  <a:pt x="384" y="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7620120" y="1371600"/>
            <a:ext cx="609480" cy="141120"/>
          </a:xfrm>
          <a:custGeom>
            <a:avLst/>
            <a:gdLst/>
            <a:ahLst/>
            <a:rect l="l" t="t" r="r" b="b"/>
            <a:pathLst>
              <a:path w="384" h="89">
                <a:moveTo>
                  <a:pt x="0" y="0"/>
                </a:moveTo>
                <a:cubicBezTo>
                  <a:pt x="28" y="15"/>
                  <a:pt x="104" y="87"/>
                  <a:pt x="168" y="88"/>
                </a:cubicBezTo>
                <a:cubicBezTo>
                  <a:pt x="232" y="89"/>
                  <a:pt x="339" y="25"/>
                  <a:pt x="384" y="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8229600" y="1371600"/>
            <a:ext cx="609480" cy="141120"/>
          </a:xfrm>
          <a:custGeom>
            <a:avLst/>
            <a:gdLst/>
            <a:ahLst/>
            <a:rect l="l" t="t" r="r" b="b"/>
            <a:pathLst>
              <a:path w="384" h="89">
                <a:moveTo>
                  <a:pt x="0" y="0"/>
                </a:moveTo>
                <a:cubicBezTo>
                  <a:pt x="28" y="15"/>
                  <a:pt x="104" y="87"/>
                  <a:pt x="168" y="88"/>
                </a:cubicBezTo>
                <a:cubicBezTo>
                  <a:pt x="232" y="89"/>
                  <a:pt x="339" y="25"/>
                  <a:pt x="384" y="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5105520" y="3200400"/>
            <a:ext cx="2438280" cy="703440"/>
            <a:chOff x="5105520" y="3200400"/>
            <a:chExt cx="2438280" cy="703440"/>
          </a:xfrm>
        </p:grpSpPr>
        <p:sp>
          <p:nvSpPr>
            <p:cNvPr id="1566" name=""/>
            <p:cNvSpPr/>
            <p:nvPr/>
          </p:nvSpPr>
          <p:spPr>
            <a:xfrm>
              <a:off x="5105520" y="320040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m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18;-22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181480" y="3429000"/>
              <a:ext cx="29160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152280" y="3429000"/>
            <a:ext cx="5181480" cy="1008360"/>
            <a:chOff x="152280" y="3429000"/>
            <a:chExt cx="5181480" cy="1008360"/>
          </a:xfrm>
        </p:grpSpPr>
        <p:sp>
          <p:nvSpPr>
            <p:cNvPr id="1569" name=""/>
            <p:cNvSpPr/>
            <p:nvPr/>
          </p:nvSpPr>
          <p:spPr>
            <a:xfrm>
              <a:off x="152280" y="3429000"/>
              <a:ext cx="518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ложите полученные векторы по координатным векторам 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190760" y="3886200"/>
              <a:ext cx="228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647960" y="3886200"/>
              <a:ext cx="228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481E-006 L -0.24166 0.17338 L -0.29166 0.21112 E">
                                      <p:cBhvr>
                                        <p:cTn id="818" dur="1000" fill="hold"/>
                                        <p:tgtEl>
                                          <p:spTgt spid="1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0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7" dur="1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L -0.48473 0.29143 L -0.525 0.31921 E">
                                      <p:cBhvr>
                                        <p:cTn id="851" dur="1000" fill="hold"/>
                                        <p:tgtEl>
                                          <p:spTgt spid="1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3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10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2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481E-006 L -0.26666 0.56227 L -0.29722 0.62524 E">
                                      <p:cBhvr>
                                        <p:cTn id="914" dur="1000" fill="hold"/>
                                        <p:tgtEl>
                                          <p:spTgt spid="1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0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1" dur="10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L -0.5 0.70069 L -0.53334 0.74444 E">
                                      <p:cBhvr>
                                        <p:cTn id="945" dur="1000" fill="hold"/>
                                        <p:tgtEl>
                                          <p:spTgt spid="1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2000"/>
                            </p:stCondLst>
                            <p:childTnLst>
                              <p:par>
                                <p:cTn id="9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2" dur="1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3" dur="1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7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3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17600" y="825480"/>
            <a:ext cx="5252400" cy="424800"/>
            <a:chOff x="417600" y="825480"/>
            <a:chExt cx="5252400" cy="424800"/>
          </a:xfrm>
        </p:grpSpPr>
        <p:sp>
          <p:nvSpPr>
            <p:cNvPr id="72" name=""/>
            <p:cNvSpPr/>
            <p:nvPr/>
          </p:nvSpPr>
          <p:spPr>
            <a:xfrm>
              <a:off x="417600" y="825480"/>
              <a:ext cx="5252400" cy="2520"/>
            </a:xfrm>
            <a:custGeom>
              <a:avLst/>
              <a:gdLst/>
              <a:ahLst/>
              <a:rect l="l" t="t" r="r" b="b"/>
              <a:pathLst>
                <a:path w="1436" h="1">
                  <a:moveTo>
                    <a:pt x="0" y="0"/>
                  </a:moveTo>
                  <a:lnTo>
                    <a:pt x="1436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6400" y="1247400"/>
              <a:ext cx="5223600" cy="2880"/>
            </a:xfrm>
            <a:custGeom>
              <a:avLst/>
              <a:gdLst/>
              <a:ahLst/>
              <a:rect l="l" t="t" r="r" b="b"/>
              <a:pathLst>
                <a:path w="1428" h="1">
                  <a:moveTo>
                    <a:pt x="0" y="0"/>
                  </a:moveTo>
                  <a:lnTo>
                    <a:pt x="1428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17600" y="1698480"/>
            <a:ext cx="5253120" cy="3240"/>
          </a:xfrm>
          <a:custGeom>
            <a:avLst/>
            <a:gdLst/>
            <a:ahLst/>
            <a:rect l="l" t="t" r="r" b="b"/>
            <a:pathLst>
              <a:path w="1436" h="1">
                <a:moveTo>
                  <a:pt x="0" y="0"/>
                </a:moveTo>
                <a:lnTo>
                  <a:pt x="1436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095560"/>
            <a:ext cx="5308560" cy="12600"/>
          </a:xfrm>
          <a:custGeom>
            <a:avLst/>
            <a:gdLst/>
            <a:ahLst/>
            <a:rect l="l" t="t" r="r" b="b"/>
            <a:pathLst>
              <a:path w="3344" h="8">
                <a:moveTo>
                  <a:pt x="0" y="0"/>
                </a:moveTo>
                <a:lnTo>
                  <a:pt x="3344" y="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17600" y="2522520"/>
            <a:ext cx="5252400" cy="424800"/>
            <a:chOff x="417600" y="2522520"/>
            <a:chExt cx="5252400" cy="424800"/>
          </a:xfrm>
        </p:grpSpPr>
        <p:sp>
          <p:nvSpPr>
            <p:cNvPr id="77" name=""/>
            <p:cNvSpPr/>
            <p:nvPr/>
          </p:nvSpPr>
          <p:spPr>
            <a:xfrm>
              <a:off x="417600" y="2522520"/>
              <a:ext cx="5252400" cy="2520"/>
            </a:xfrm>
            <a:custGeom>
              <a:avLst/>
              <a:gdLst/>
              <a:ahLst/>
              <a:rect l="l" t="t" r="r" b="b"/>
              <a:pathLst>
                <a:path w="1436" h="1">
                  <a:moveTo>
                    <a:pt x="0" y="0"/>
                  </a:moveTo>
                  <a:lnTo>
                    <a:pt x="1436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6400" y="2944440"/>
              <a:ext cx="5223600" cy="2880"/>
            </a:xfrm>
            <a:custGeom>
              <a:avLst/>
              <a:gdLst/>
              <a:ahLst/>
              <a:rect l="l" t="t" r="r" b="b"/>
              <a:pathLst>
                <a:path w="1428" h="1">
                  <a:moveTo>
                    <a:pt x="0" y="0"/>
                  </a:moveTo>
                  <a:lnTo>
                    <a:pt x="1428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04640" y="3376440"/>
            <a:ext cx="5295240" cy="443880"/>
            <a:chOff x="404640" y="3376440"/>
            <a:chExt cx="5295240" cy="443880"/>
          </a:xfrm>
        </p:grpSpPr>
        <p:sp>
          <p:nvSpPr>
            <p:cNvPr id="80" name=""/>
            <p:cNvSpPr/>
            <p:nvPr/>
          </p:nvSpPr>
          <p:spPr>
            <a:xfrm>
              <a:off x="404640" y="3376440"/>
              <a:ext cx="5295240" cy="11160"/>
            </a:xfrm>
            <a:custGeom>
              <a:avLst/>
              <a:gdLst/>
              <a:ahLst/>
              <a:rect l="l" t="t" r="r" b="b"/>
              <a:pathLst>
                <a:path w="1448" h="4">
                  <a:moveTo>
                    <a:pt x="0" y="0"/>
                  </a:moveTo>
                  <a:lnTo>
                    <a:pt x="1448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3320" y="3809880"/>
              <a:ext cx="5236560" cy="10440"/>
            </a:xfrm>
            <a:custGeom>
              <a:avLst/>
              <a:gdLst/>
              <a:ahLst/>
              <a:rect l="l" t="t" r="r" b="b"/>
              <a:pathLst>
                <a:path w="1432" h="4">
                  <a:moveTo>
                    <a:pt x="0" y="0"/>
                  </a:moveTo>
                  <a:lnTo>
                    <a:pt x="1432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17600" y="4210200"/>
            <a:ext cx="5295240" cy="443520"/>
            <a:chOff x="417600" y="4210200"/>
            <a:chExt cx="5295240" cy="443520"/>
          </a:xfrm>
        </p:grpSpPr>
        <p:sp>
          <p:nvSpPr>
            <p:cNvPr id="83" name=""/>
            <p:cNvSpPr/>
            <p:nvPr/>
          </p:nvSpPr>
          <p:spPr>
            <a:xfrm>
              <a:off x="417600" y="4210200"/>
              <a:ext cx="5295240" cy="11160"/>
            </a:xfrm>
            <a:custGeom>
              <a:avLst/>
              <a:gdLst/>
              <a:ahLst/>
              <a:rect l="l" t="t" r="r" b="b"/>
              <a:pathLst>
                <a:path w="1448" h="4">
                  <a:moveTo>
                    <a:pt x="0" y="0"/>
                  </a:moveTo>
                  <a:lnTo>
                    <a:pt x="1448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6280" y="4643280"/>
              <a:ext cx="5236560" cy="10440"/>
            </a:xfrm>
            <a:custGeom>
              <a:avLst/>
              <a:gdLst/>
              <a:ahLst/>
              <a:rect l="l" t="t" r="r" b="b"/>
              <a:pathLst>
                <a:path w="1432" h="4">
                  <a:moveTo>
                    <a:pt x="0" y="0"/>
                  </a:moveTo>
                  <a:lnTo>
                    <a:pt x="1432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04640" y="5075280"/>
            <a:ext cx="5308200" cy="453600"/>
            <a:chOff x="404640" y="5075280"/>
            <a:chExt cx="5308200" cy="453600"/>
          </a:xfrm>
        </p:grpSpPr>
        <p:sp>
          <p:nvSpPr>
            <p:cNvPr id="86" name=""/>
            <p:cNvSpPr/>
            <p:nvPr/>
          </p:nvSpPr>
          <p:spPr>
            <a:xfrm>
              <a:off x="404640" y="5075280"/>
              <a:ext cx="5264280" cy="2160"/>
            </a:xfrm>
            <a:custGeom>
              <a:avLst/>
              <a:gdLst/>
              <a:ahLst/>
              <a:rect l="l" t="t" r="r" b="b"/>
              <a:pathLst>
                <a:path w="1440" h="1">
                  <a:moveTo>
                    <a:pt x="0" y="0"/>
                  </a:move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4640" y="5506920"/>
              <a:ext cx="5308200" cy="21960"/>
            </a:xfrm>
            <a:custGeom>
              <a:avLst/>
              <a:gdLst/>
              <a:ahLst/>
              <a:rect l="l" t="t" r="r" b="b"/>
              <a:pathLst>
                <a:path w="1452" h="8">
                  <a:moveTo>
                    <a:pt x="0" y="8"/>
                  </a:moveTo>
                  <a:lnTo>
                    <a:pt x="1452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04640" y="5929200"/>
            <a:ext cx="5266080" cy="12960"/>
          </a:xfrm>
          <a:custGeom>
            <a:avLst/>
            <a:gdLst/>
            <a:ahLst/>
            <a:rect l="l" t="t" r="r" b="b"/>
            <a:pathLst>
              <a:path w="1440" h="4">
                <a:moveTo>
                  <a:pt x="0" y="4"/>
                </a:moveTo>
                <a:lnTo>
                  <a:pt x="1440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4640" y="6362640"/>
            <a:ext cx="5249880" cy="1800"/>
          </a:xfrm>
          <a:custGeom>
            <a:avLst/>
            <a:gdLst/>
            <a:ahLst/>
            <a:rect l="l" t="t" r="r" b="b"/>
            <a:pathLst>
              <a:path w="1436" h="1">
                <a:moveTo>
                  <a:pt x="0" y="0"/>
                </a:moveTo>
                <a:lnTo>
                  <a:pt x="1436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600" y="392040"/>
            <a:ext cx="5265720" cy="11160"/>
          </a:xfrm>
          <a:custGeom>
            <a:avLst/>
            <a:gdLst/>
            <a:ahLst/>
            <a:rect l="l" t="t" r="r" b="b"/>
            <a:pathLst>
              <a:path w="1440" h="4">
                <a:moveTo>
                  <a:pt x="0" y="4"/>
                </a:moveTo>
                <a:lnTo>
                  <a:pt x="1440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360" y="392040"/>
            <a:ext cx="4680" cy="5994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63920" y="388800"/>
            <a:ext cx="1800" cy="5994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06720" y="392040"/>
            <a:ext cx="9720" cy="5994360"/>
          </a:xfrm>
          <a:custGeom>
            <a:avLst/>
            <a:gdLst/>
            <a:ahLst/>
            <a:rect l="l" t="t" r="r" b="b"/>
            <a:pathLst>
              <a:path w="4" h="2160">
                <a:moveTo>
                  <a:pt x="4" y="0"/>
                </a:moveTo>
                <a:lnTo>
                  <a:pt x="0" y="216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59240" y="380880"/>
            <a:ext cx="11160" cy="6015240"/>
          </a:xfrm>
          <a:custGeom>
            <a:avLst/>
            <a:gdLst/>
            <a:ahLst/>
            <a:rect l="l" t="t" r="r" b="b"/>
            <a:pathLst>
              <a:path w="4" h="2168">
                <a:moveTo>
                  <a:pt x="0" y="0"/>
                </a:moveTo>
                <a:lnTo>
                  <a:pt x="4" y="216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33720" y="392040"/>
            <a:ext cx="11160" cy="6015240"/>
          </a:xfrm>
          <a:custGeom>
            <a:avLst/>
            <a:gdLst/>
            <a:ahLst/>
            <a:rect l="l" t="t" r="r" b="b"/>
            <a:pathLst>
              <a:path w="4" h="2168">
                <a:moveTo>
                  <a:pt x="0" y="0"/>
                </a:moveTo>
                <a:lnTo>
                  <a:pt x="4" y="216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87680" y="380880"/>
            <a:ext cx="9360" cy="5992920"/>
          </a:xfrm>
          <a:custGeom>
            <a:avLst/>
            <a:gdLst/>
            <a:ahLst/>
            <a:rect l="l" t="t" r="r" b="b"/>
            <a:pathLst>
              <a:path w="4" h="2160">
                <a:moveTo>
                  <a:pt x="0" y="0"/>
                </a:moveTo>
                <a:lnTo>
                  <a:pt x="4" y="216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49560" y="392040"/>
            <a:ext cx="22320" cy="5959440"/>
          </a:xfrm>
          <a:custGeom>
            <a:avLst/>
            <a:gdLst/>
            <a:ahLst/>
            <a:rect l="l" t="t" r="r" b="b"/>
            <a:pathLst>
              <a:path w="8" h="2148">
                <a:moveTo>
                  <a:pt x="0" y="0"/>
                </a:moveTo>
                <a:lnTo>
                  <a:pt x="8" y="214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24040" y="392040"/>
            <a:ext cx="22320" cy="5959440"/>
          </a:xfrm>
          <a:custGeom>
            <a:avLst/>
            <a:gdLst/>
            <a:ahLst/>
            <a:rect l="l" t="t" r="r" b="b"/>
            <a:pathLst>
              <a:path w="8" h="2148">
                <a:moveTo>
                  <a:pt x="0" y="0"/>
                </a:moveTo>
                <a:lnTo>
                  <a:pt x="8" y="214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9160" y="392040"/>
            <a:ext cx="9360" cy="5970600"/>
          </a:xfrm>
          <a:custGeom>
            <a:avLst/>
            <a:gdLst/>
            <a:ahLst/>
            <a:rect l="l" t="t" r="r" b="b"/>
            <a:pathLst>
              <a:path w="4" h="2152">
                <a:moveTo>
                  <a:pt x="0" y="0"/>
                </a:moveTo>
                <a:lnTo>
                  <a:pt x="4" y="2152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41320" y="380880"/>
            <a:ext cx="11160" cy="5992920"/>
          </a:xfrm>
          <a:custGeom>
            <a:avLst/>
            <a:gdLst/>
            <a:ahLst/>
            <a:rect l="l" t="t" r="r" b="b"/>
            <a:pathLst>
              <a:path w="4" h="2160">
                <a:moveTo>
                  <a:pt x="0" y="0"/>
                </a:moveTo>
                <a:lnTo>
                  <a:pt x="4" y="216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381480"/>
            <a:ext cx="5332680" cy="17280"/>
          </a:xfrm>
          <a:custGeom>
            <a:avLst/>
            <a:gdLst/>
            <a:ahLst/>
            <a:rect l="l" t="t" r="r" b="b"/>
            <a:pathLst>
              <a:path w="2656" h="8">
                <a:moveTo>
                  <a:pt x="0" y="0"/>
                </a:moveTo>
                <a:lnTo>
                  <a:pt x="2656" y="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13200" y="388800"/>
            <a:ext cx="15840" cy="5967720"/>
          </a:xfrm>
          <a:custGeom>
            <a:avLst/>
            <a:gdLst/>
            <a:ahLst/>
            <a:rect l="l" t="t" r="r" b="b"/>
            <a:pathLst>
              <a:path w="8" h="2808">
                <a:moveTo>
                  <a:pt x="0" y="0"/>
                </a:moveTo>
                <a:lnTo>
                  <a:pt x="8" y="280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62480" y="388800"/>
            <a:ext cx="33480" cy="5950080"/>
          </a:xfrm>
          <a:custGeom>
            <a:avLst/>
            <a:gdLst/>
            <a:ahLst/>
            <a:rect l="l" t="t" r="r" b="b"/>
            <a:pathLst>
              <a:path w="16" h="2800">
                <a:moveTo>
                  <a:pt x="0" y="0"/>
                </a:moveTo>
                <a:lnTo>
                  <a:pt x="16" y="280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13560" y="388800"/>
            <a:ext cx="1440" cy="5994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33680" y="334800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14640" y="423720"/>
            <a:ext cx="31680" cy="5983560"/>
          </a:xfrm>
          <a:custGeom>
            <a:avLst/>
            <a:gdLst/>
            <a:ahLst/>
            <a:rect l="l" t="t" r="r" b="b"/>
            <a:pathLst>
              <a:path w="16" h="2816">
                <a:moveTo>
                  <a:pt x="16" y="28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022560" y="2108160"/>
            <a:ext cx="1803600" cy="1282680"/>
            <a:chOff x="3022560" y="2108160"/>
            <a:chExt cx="1803600" cy="1282680"/>
          </a:xfrm>
        </p:grpSpPr>
        <p:sp>
          <p:nvSpPr>
            <p:cNvPr id="108" name=""/>
            <p:cNvSpPr/>
            <p:nvPr/>
          </p:nvSpPr>
          <p:spPr>
            <a:xfrm>
              <a:off x="3022560" y="2108160"/>
              <a:ext cx="1803600" cy="1282680"/>
            </a:xfrm>
            <a:custGeom>
              <a:avLst/>
              <a:gdLst/>
              <a:ahLst/>
              <a:rect l="l" t="t" r="r" b="b"/>
              <a:pathLst>
                <a:path w="1136" h="808">
                  <a:moveTo>
                    <a:pt x="0" y="808"/>
                  </a:moveTo>
                  <a:lnTo>
                    <a:pt x="11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sm" type="oval" w="sm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581280" y="2133720"/>
              <a:ext cx="609840" cy="703440"/>
              <a:chOff x="3581280" y="2133720"/>
              <a:chExt cx="609840" cy="703440"/>
            </a:xfrm>
          </p:grpSpPr>
          <p:sp>
            <p:nvSpPr>
              <p:cNvPr id="110" name=""/>
              <p:cNvSpPr/>
              <p:nvPr/>
            </p:nvSpPr>
            <p:spPr>
              <a:xfrm>
                <a:off x="3581280" y="213372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p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33920" y="23623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5715000" y="228600"/>
            <a:ext cx="3429000" cy="1557000"/>
            <a:chOff x="5715000" y="228600"/>
            <a:chExt cx="3429000" cy="1557000"/>
          </a:xfrm>
        </p:grpSpPr>
        <p:sp>
          <p:nvSpPr>
            <p:cNvPr id="113" name=""/>
            <p:cNvSpPr/>
            <p:nvPr/>
          </p:nvSpPr>
          <p:spPr>
            <a:xfrm>
              <a:off x="5715000" y="457200"/>
              <a:ext cx="3429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координат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          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векто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715000" y="228600"/>
              <a:ext cx="609480" cy="764280"/>
              <a:chOff x="5715000" y="228600"/>
              <a:chExt cx="609480" cy="764280"/>
            </a:xfrm>
          </p:grpSpPr>
          <p:sp>
            <p:nvSpPr>
              <p:cNvPr id="115" name=""/>
              <p:cNvSpPr/>
              <p:nvPr/>
            </p:nvSpPr>
            <p:spPr>
              <a:xfrm>
                <a:off x="5715000" y="228600"/>
                <a:ext cx="609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956200" y="366840"/>
                <a:ext cx="292320" cy="14400"/>
              </a:xfrm>
              <a:custGeom>
                <a:avLst/>
                <a:gdLst/>
                <a:ahLst/>
                <a:rect l="l" t="t" r="r" b="b"/>
                <a:pathLst>
                  <a:path w="184" h="9">
                    <a:moveTo>
                      <a:pt x="0" y="0"/>
                    </a:moveTo>
                    <a:lnTo>
                      <a:pt x="184" y="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553080" y="228600"/>
              <a:ext cx="609480" cy="764280"/>
              <a:chOff x="6553080" y="228600"/>
              <a:chExt cx="609480" cy="764280"/>
            </a:xfrm>
          </p:grpSpPr>
          <p:sp>
            <p:nvSpPr>
              <p:cNvPr id="118" name=""/>
              <p:cNvSpPr/>
              <p:nvPr/>
            </p:nvSpPr>
            <p:spPr>
              <a:xfrm>
                <a:off x="6553080" y="228600"/>
                <a:ext cx="609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j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81680" y="366480"/>
                <a:ext cx="291960" cy="14400"/>
              </a:xfrm>
              <a:custGeom>
                <a:avLst/>
                <a:gdLst/>
                <a:ahLst/>
                <a:rect l="l" t="t" r="r" b="b"/>
                <a:pathLst>
                  <a:path w="184" h="9">
                    <a:moveTo>
                      <a:pt x="0" y="0"/>
                    </a:moveTo>
                    <a:lnTo>
                      <a:pt x="184" y="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5867280" y="4419720"/>
            <a:ext cx="3124080" cy="1739520"/>
            <a:chOff x="5867280" y="4419720"/>
            <a:chExt cx="3124080" cy="1739520"/>
          </a:xfrm>
        </p:grpSpPr>
        <p:sp>
          <p:nvSpPr>
            <p:cNvPr id="121" name=""/>
            <p:cNvSpPr/>
            <p:nvPr/>
          </p:nvSpPr>
          <p:spPr>
            <a:xfrm>
              <a:off x="5867280" y="4419720"/>
              <a:ext cx="312408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p{ x; y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ff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  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координа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                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екто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3240" y="4648320"/>
              <a:ext cx="317520" cy="1440"/>
            </a:xfrm>
            <a:custGeom>
              <a:avLst/>
              <a:gdLst/>
              <a:ahLst/>
              <a:rect l="l" t="t" r="r" b="b"/>
              <a:pathLst>
                <a:path w="200" h="1">
                  <a:moveTo>
                    <a:pt x="0" y="0"/>
                  </a:move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57200" y="1415880"/>
            <a:ext cx="1828800" cy="703440"/>
            <a:chOff x="457200" y="1415880"/>
            <a:chExt cx="1828800" cy="703440"/>
          </a:xfrm>
        </p:grpSpPr>
        <p:sp>
          <p:nvSpPr>
            <p:cNvPr id="124" name=""/>
            <p:cNvSpPr/>
            <p:nvPr/>
          </p:nvSpPr>
          <p:spPr>
            <a:xfrm>
              <a:off x="457200" y="141588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p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4; 3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16444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800600" y="1600200"/>
            <a:ext cx="399240" cy="533520"/>
            <a:chOff x="4800600" y="1600200"/>
            <a:chExt cx="399240" cy="533520"/>
          </a:xfrm>
        </p:grpSpPr>
        <p:sp>
          <p:nvSpPr>
            <p:cNvPr id="127" name=""/>
            <p:cNvSpPr/>
            <p:nvPr/>
          </p:nvSpPr>
          <p:spPr>
            <a:xfrm>
              <a:off x="4800600" y="20574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2760" y="16002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277800" y="335268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114960" y="1752480"/>
            <a:ext cx="1164240" cy="764280"/>
            <a:chOff x="6114960" y="1752480"/>
            <a:chExt cx="1164240" cy="764280"/>
          </a:xfrm>
        </p:grpSpPr>
        <p:grpSp>
          <p:nvGrpSpPr>
            <p:cNvPr id="131" name=""/>
            <p:cNvGrpSpPr/>
            <p:nvPr/>
          </p:nvGrpSpPr>
          <p:grpSpPr>
            <a:xfrm>
              <a:off x="6114960" y="1752480"/>
              <a:ext cx="609480" cy="764280"/>
              <a:chOff x="6114960" y="1752480"/>
              <a:chExt cx="609480" cy="76428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114960" y="1752480"/>
                <a:ext cx="609480" cy="764280"/>
                <a:chOff x="6114960" y="1752480"/>
                <a:chExt cx="609480" cy="764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114960" y="1752480"/>
                  <a:ext cx="609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i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356160" y="1890360"/>
                  <a:ext cx="292320" cy="14040"/>
                </a:xfrm>
                <a:custGeom>
                  <a:avLst/>
                  <a:gdLst/>
                  <a:ahLst/>
                  <a:rect l="l" t="t" r="r" b="b"/>
                  <a:pathLst>
                    <a:path w="184" h="9">
                      <a:moveTo>
                        <a:pt x="0" y="0"/>
                      </a:moveTo>
                      <a:lnTo>
                        <a:pt x="184" y="9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>
                <a:off x="6267240" y="2057040"/>
                <a:ext cx="1440" cy="38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72160" y="2057040"/>
                <a:ext cx="1440" cy="38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6574320" y="1933200"/>
              <a:ext cx="70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1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639200" y="1676520"/>
            <a:ext cx="1045080" cy="764280"/>
            <a:chOff x="7639200" y="1676520"/>
            <a:chExt cx="1045080" cy="764280"/>
          </a:xfrm>
        </p:grpSpPr>
        <p:grpSp>
          <p:nvGrpSpPr>
            <p:cNvPr id="139" name=""/>
            <p:cNvGrpSpPr/>
            <p:nvPr/>
          </p:nvGrpSpPr>
          <p:grpSpPr>
            <a:xfrm>
              <a:off x="7639200" y="1676520"/>
              <a:ext cx="609480" cy="764280"/>
              <a:chOff x="7639200" y="1676520"/>
              <a:chExt cx="609480" cy="764280"/>
            </a:xfrm>
          </p:grpSpPr>
          <p:sp>
            <p:nvSpPr>
              <p:cNvPr id="140" name=""/>
              <p:cNvSpPr/>
              <p:nvPr/>
            </p:nvSpPr>
            <p:spPr>
              <a:xfrm>
                <a:off x="7639200" y="1676520"/>
                <a:ext cx="609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j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867800" y="1814400"/>
                <a:ext cx="291960" cy="14400"/>
              </a:xfrm>
              <a:custGeom>
                <a:avLst/>
                <a:gdLst/>
                <a:ahLst/>
                <a:rect l="l" t="t" r="r" b="b"/>
                <a:pathLst>
                  <a:path w="184" h="9">
                    <a:moveTo>
                      <a:pt x="0" y="0"/>
                    </a:moveTo>
                    <a:lnTo>
                      <a:pt x="184" y="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7715160" y="1981080"/>
              <a:ext cx="381600" cy="380520"/>
              <a:chOff x="7715160" y="1981080"/>
              <a:chExt cx="381600" cy="380520"/>
            </a:xfrm>
          </p:grpSpPr>
          <p:sp>
            <p:nvSpPr>
              <p:cNvPr id="143" name=""/>
              <p:cNvSpPr/>
              <p:nvPr/>
            </p:nvSpPr>
            <p:spPr>
              <a:xfrm>
                <a:off x="7715160" y="1981080"/>
                <a:ext cx="1440" cy="38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95320" y="1981080"/>
                <a:ext cx="1440" cy="38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8098200" y="19047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114800" y="2743200"/>
            <a:ext cx="4800600" cy="1526760"/>
            <a:chOff x="4114800" y="2743200"/>
            <a:chExt cx="4800600" cy="1526760"/>
          </a:xfrm>
        </p:grpSpPr>
        <p:grpSp>
          <p:nvGrpSpPr>
            <p:cNvPr id="147" name=""/>
            <p:cNvGrpSpPr/>
            <p:nvPr/>
          </p:nvGrpSpPr>
          <p:grpSpPr>
            <a:xfrm>
              <a:off x="5943600" y="2743200"/>
              <a:ext cx="2819160" cy="703440"/>
              <a:chOff x="5943600" y="2743200"/>
              <a:chExt cx="2819160" cy="703440"/>
            </a:xfrm>
          </p:grpSpPr>
          <p:sp>
            <p:nvSpPr>
              <p:cNvPr id="148" name=""/>
              <p:cNvSpPr/>
              <p:nvPr/>
            </p:nvSpPr>
            <p:spPr>
              <a:xfrm>
                <a:off x="5943600" y="2743200"/>
                <a:ext cx="2819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p = x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+ y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j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095880" y="297144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6600" y="2895120"/>
                <a:ext cx="266760" cy="1080"/>
              </a:xfrm>
              <a:custGeom>
                <a:avLst/>
                <a:gdLst/>
                <a:ahLst/>
                <a:rect l="l" t="t" r="r" b="b"/>
                <a:pathLst>
                  <a:path w="168" h="1">
                    <a:moveTo>
                      <a:pt x="0" y="0"/>
                    </a:moveTo>
                    <a:lnTo>
                      <a:pt x="168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01000" y="2893680"/>
                <a:ext cx="266760" cy="1080"/>
              </a:xfrm>
              <a:custGeom>
                <a:avLst/>
                <a:gdLst/>
                <a:ahLst/>
                <a:rect l="l" t="t" r="r" b="b"/>
                <a:pathLst>
                  <a:path w="168" h="1">
                    <a:moveTo>
                      <a:pt x="0" y="0"/>
                    </a:moveTo>
                    <a:lnTo>
                      <a:pt x="168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114800" y="3444480"/>
              <a:ext cx="480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разложение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ектора по координатным вектор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57200" y="227016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F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4; 3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514600" y="2743200"/>
            <a:ext cx="609480" cy="647640"/>
            <a:chOff x="2514600" y="2743200"/>
            <a:chExt cx="609480" cy="647640"/>
          </a:xfrm>
        </p:grpSpPr>
        <p:sp>
          <p:nvSpPr>
            <p:cNvPr id="155" name=""/>
            <p:cNvSpPr/>
            <p:nvPr/>
          </p:nvSpPr>
          <p:spPr>
            <a:xfrm>
              <a:off x="2514600" y="27432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27240" y="2922480"/>
              <a:ext cx="1800" cy="468360"/>
            </a:xfrm>
            <a:custGeom>
              <a:avLst/>
              <a:gdLst/>
              <a:ahLst/>
              <a:rect l="l" t="t" r="r" b="b"/>
              <a:pathLst>
                <a:path w="1" h="295">
                  <a:moveTo>
                    <a:pt x="0" y="295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55800" y="2882880"/>
              <a:ext cx="22536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0"/>
                  </a:moveTo>
                  <a:lnTo>
                    <a:pt x="142" y="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895480" y="3352680"/>
            <a:ext cx="609840" cy="642600"/>
            <a:chOff x="2895480" y="3352680"/>
            <a:chExt cx="609840" cy="642600"/>
          </a:xfrm>
        </p:grpSpPr>
        <p:sp>
          <p:nvSpPr>
            <p:cNvPr id="159" name=""/>
            <p:cNvSpPr/>
            <p:nvPr/>
          </p:nvSpPr>
          <p:spPr>
            <a:xfrm>
              <a:off x="2895480" y="33526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22560" y="3390840"/>
              <a:ext cx="471600" cy="1800"/>
            </a:xfrm>
            <a:custGeom>
              <a:avLst/>
              <a:gdLst/>
              <a:ahLst/>
              <a:rect l="l" t="t" r="r" b="b"/>
              <a:pathLst>
                <a:path w="297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4080" y="3498840"/>
              <a:ext cx="22572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0"/>
                  </a:moveTo>
                  <a:lnTo>
                    <a:pt x="142" y="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352680" y="3352680"/>
            <a:ext cx="609840" cy="642600"/>
            <a:chOff x="3352680" y="3352680"/>
            <a:chExt cx="609840" cy="642600"/>
          </a:xfrm>
        </p:grpSpPr>
        <p:sp>
          <p:nvSpPr>
            <p:cNvPr id="163" name=""/>
            <p:cNvSpPr/>
            <p:nvPr/>
          </p:nvSpPr>
          <p:spPr>
            <a:xfrm>
              <a:off x="3352680" y="33526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79760" y="3390840"/>
              <a:ext cx="471600" cy="1800"/>
            </a:xfrm>
            <a:custGeom>
              <a:avLst/>
              <a:gdLst/>
              <a:ahLst/>
              <a:rect l="l" t="t" r="r" b="b"/>
              <a:pathLst>
                <a:path w="297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81280" y="3498840"/>
              <a:ext cx="22572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0"/>
                  </a:moveTo>
                  <a:lnTo>
                    <a:pt x="142" y="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809880" y="3352680"/>
            <a:ext cx="609840" cy="642600"/>
            <a:chOff x="3809880" y="3352680"/>
            <a:chExt cx="609840" cy="642600"/>
          </a:xfrm>
        </p:grpSpPr>
        <p:sp>
          <p:nvSpPr>
            <p:cNvPr id="167" name=""/>
            <p:cNvSpPr/>
            <p:nvPr/>
          </p:nvSpPr>
          <p:spPr>
            <a:xfrm>
              <a:off x="3809880" y="33526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36960" y="3390840"/>
              <a:ext cx="471600" cy="1800"/>
            </a:xfrm>
            <a:custGeom>
              <a:avLst/>
              <a:gdLst/>
              <a:ahLst/>
              <a:rect l="l" t="t" r="r" b="b"/>
              <a:pathLst>
                <a:path w="297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38480" y="3498840"/>
              <a:ext cx="22572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0"/>
                  </a:moveTo>
                  <a:lnTo>
                    <a:pt x="142" y="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267080" y="3352680"/>
            <a:ext cx="609840" cy="642600"/>
            <a:chOff x="4267080" y="3352680"/>
            <a:chExt cx="609840" cy="642600"/>
          </a:xfrm>
        </p:grpSpPr>
        <p:sp>
          <p:nvSpPr>
            <p:cNvPr id="171" name=""/>
            <p:cNvSpPr/>
            <p:nvPr/>
          </p:nvSpPr>
          <p:spPr>
            <a:xfrm>
              <a:off x="4267080" y="33526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94160" y="3390840"/>
              <a:ext cx="471600" cy="1800"/>
            </a:xfrm>
            <a:custGeom>
              <a:avLst/>
              <a:gdLst/>
              <a:ahLst/>
              <a:rect l="l" t="t" r="r" b="b"/>
              <a:pathLst>
                <a:path w="297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95680" y="3498840"/>
              <a:ext cx="22572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0"/>
                  </a:moveTo>
                  <a:lnTo>
                    <a:pt x="142" y="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514600" y="2362320"/>
            <a:ext cx="609480" cy="647640"/>
            <a:chOff x="2514600" y="2362320"/>
            <a:chExt cx="609480" cy="647640"/>
          </a:xfrm>
        </p:grpSpPr>
        <p:sp>
          <p:nvSpPr>
            <p:cNvPr id="175" name=""/>
            <p:cNvSpPr/>
            <p:nvPr/>
          </p:nvSpPr>
          <p:spPr>
            <a:xfrm>
              <a:off x="2514600" y="23623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27240" y="2541600"/>
              <a:ext cx="1800" cy="468360"/>
            </a:xfrm>
            <a:custGeom>
              <a:avLst/>
              <a:gdLst/>
              <a:ahLst/>
              <a:rect l="l" t="t" r="r" b="b"/>
              <a:pathLst>
                <a:path w="1" h="295">
                  <a:moveTo>
                    <a:pt x="0" y="295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55800" y="2502000"/>
              <a:ext cx="22536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0"/>
                  </a:moveTo>
                  <a:lnTo>
                    <a:pt x="142" y="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514600" y="1905120"/>
            <a:ext cx="609480" cy="647640"/>
            <a:chOff x="2514600" y="1905120"/>
            <a:chExt cx="609480" cy="647640"/>
          </a:xfrm>
        </p:grpSpPr>
        <p:sp>
          <p:nvSpPr>
            <p:cNvPr id="179" name=""/>
            <p:cNvSpPr/>
            <p:nvPr/>
          </p:nvSpPr>
          <p:spPr>
            <a:xfrm>
              <a:off x="2514600" y="190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27240" y="2084400"/>
              <a:ext cx="1800" cy="468360"/>
            </a:xfrm>
            <a:custGeom>
              <a:avLst/>
              <a:gdLst/>
              <a:ahLst/>
              <a:rect l="l" t="t" r="r" b="b"/>
              <a:pathLst>
                <a:path w="1" h="295">
                  <a:moveTo>
                    <a:pt x="0" y="295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55800" y="2044800"/>
              <a:ext cx="22536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0"/>
                  </a:moveTo>
                  <a:lnTo>
                    <a:pt x="142" y="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57200" y="593640"/>
            <a:ext cx="2514600" cy="703440"/>
            <a:chOff x="457200" y="593640"/>
            <a:chExt cx="2514600" cy="703440"/>
          </a:xfrm>
        </p:grpSpPr>
        <p:sp>
          <p:nvSpPr>
            <p:cNvPr id="183" name=""/>
            <p:cNvSpPr/>
            <p:nvPr/>
          </p:nvSpPr>
          <p:spPr>
            <a:xfrm>
              <a:off x="457200" y="59364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p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4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822240"/>
              <a:ext cx="29232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00120" y="74304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08320" y="73836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09480" y="5769000"/>
            <a:ext cx="617220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Вектор, начало которого совпадает с началом координат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диус-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5769000"/>
            <a:ext cx="67057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Координаты радиус-вектора совпадают с координатами конца ве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0" y="2666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5680" y="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2489040" y="469800"/>
            <a:ext cx="12960" cy="6235920"/>
          </a:xfrm>
          <a:custGeom>
            <a:avLst/>
            <a:gdLst/>
            <a:ahLst/>
            <a:rect l="l" t="t" r="r" b="b"/>
            <a:pathLst>
              <a:path w="8" h="3928">
                <a:moveTo>
                  <a:pt x="8" y="39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295280" y="1066680"/>
            <a:ext cx="1193760" cy="3721320"/>
          </a:xfrm>
          <a:custGeom>
            <a:avLst/>
            <a:gdLst/>
            <a:ahLst/>
            <a:rect l="l" t="t" r="r" b="b"/>
            <a:pathLst>
              <a:path w="752" h="2344">
                <a:moveTo>
                  <a:pt x="752" y="1176"/>
                </a:moveTo>
                <a:lnTo>
                  <a:pt x="0" y="0"/>
                </a:lnTo>
                <a:lnTo>
                  <a:pt x="8" y="2344"/>
                </a:lnTo>
                <a:lnTo>
                  <a:pt x="752" y="1176"/>
                </a:lnTo>
                <a:close/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1982520" y="763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2470320" y="251460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6" name=""/>
          <p:cNvGrpSpPr/>
          <p:nvPr/>
        </p:nvGrpSpPr>
        <p:grpSpPr>
          <a:xfrm>
            <a:off x="1678680" y="1523880"/>
            <a:ext cx="604800" cy="2669760"/>
            <a:chOff x="1678680" y="1523880"/>
            <a:chExt cx="604800" cy="2669760"/>
          </a:xfrm>
        </p:grpSpPr>
        <p:sp>
          <p:nvSpPr>
            <p:cNvPr id="1577" name=""/>
            <p:cNvSpPr/>
            <p:nvPr/>
          </p:nvSpPr>
          <p:spPr>
            <a:xfrm>
              <a:off x="1678680" y="1523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764360" y="37339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9" name=""/>
          <p:cNvSpPr/>
          <p:nvPr/>
        </p:nvSpPr>
        <p:spPr>
          <a:xfrm>
            <a:off x="1705320" y="259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295280" y="1143000"/>
            <a:ext cx="1800" cy="3657600"/>
          </a:xfrm>
          <a:custGeom>
            <a:avLst/>
            <a:gdLst/>
            <a:ahLst/>
            <a:rect l="l" t="t" r="r" b="b"/>
            <a:pathLst>
              <a:path w="1" h="2304">
                <a:moveTo>
                  <a:pt x="0" y="0"/>
                </a:moveTo>
                <a:lnTo>
                  <a:pt x="0" y="2304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1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582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304920" y="2924280"/>
            <a:ext cx="4495680" cy="17280"/>
          </a:xfrm>
          <a:custGeom>
            <a:avLst/>
            <a:gdLst/>
            <a:ahLst/>
            <a:rect l="l" t="t" r="r" b="b"/>
            <a:pathLst>
              <a:path w="2656" h="8">
                <a:moveTo>
                  <a:pt x="0" y="0"/>
                </a:moveTo>
                <a:lnTo>
                  <a:pt x="2656" y="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43444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2971800" y="152280"/>
            <a:ext cx="5943600" cy="1374120"/>
            <a:chOff x="2971800" y="152280"/>
            <a:chExt cx="5943600" cy="1374120"/>
          </a:xfrm>
        </p:grpSpPr>
        <p:sp>
          <p:nvSpPr>
            <p:cNvPr id="1593" name=""/>
            <p:cNvSpPr/>
            <p:nvPr/>
          </p:nvSpPr>
          <p:spPr>
            <a:xfrm>
              <a:off x="2971800" y="152280"/>
              <a:ext cx="5943600" cy="13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 ОА = ОС = 10,   ОВ =6,   ОА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Найдит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ординаты векторов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А,  ОС,  АС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7925040" y="411120"/>
              <a:ext cx="85680" cy="282600"/>
              <a:chOff x="7925040" y="411120"/>
              <a:chExt cx="85680" cy="282600"/>
            </a:xfrm>
          </p:grpSpPr>
          <p:sp>
            <p:nvSpPr>
              <p:cNvPr id="1595" name=""/>
              <p:cNvSpPr/>
              <p:nvPr/>
            </p:nvSpPr>
            <p:spPr>
              <a:xfrm>
                <a:off x="7925040" y="411120"/>
                <a:ext cx="5040" cy="279360"/>
              </a:xfrm>
              <a:custGeom>
                <a:avLst/>
                <a:gdLst/>
                <a:ahLst/>
                <a:rect l="l" t="t" r="r" b="b"/>
                <a:pathLst>
                  <a:path w="3" h="176">
                    <a:moveTo>
                      <a:pt x="0" y="0"/>
                    </a:moveTo>
                    <a:lnTo>
                      <a:pt x="3" y="17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8004600" y="411120"/>
                <a:ext cx="6120" cy="282600"/>
              </a:xfrm>
              <a:custGeom>
                <a:avLst/>
                <a:gdLst/>
                <a:ahLst/>
                <a:rect l="l" t="t" r="r" b="b"/>
                <a:pathLst>
                  <a:path w="4" h="178">
                    <a:moveTo>
                      <a:pt x="0" y="0"/>
                    </a:moveTo>
                    <a:lnTo>
                      <a:pt x="4" y="17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7" name=""/>
            <p:cNvSpPr/>
            <p:nvPr/>
          </p:nvSpPr>
          <p:spPr>
            <a:xfrm>
              <a:off x="6337440" y="1071360"/>
              <a:ext cx="368280" cy="12960"/>
            </a:xfrm>
            <a:custGeom>
              <a:avLst/>
              <a:gdLst/>
              <a:ahLst/>
              <a:rect l="l" t="t" r="r" b="b"/>
              <a:pathLst>
                <a:path w="232" h="8">
                  <a:moveTo>
                    <a:pt x="0" y="8"/>
                  </a:moveTo>
                  <a:lnTo>
                    <a:pt x="23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023240" y="1084320"/>
              <a:ext cx="368280" cy="12600"/>
            </a:xfrm>
            <a:custGeom>
              <a:avLst/>
              <a:gdLst/>
              <a:ahLst/>
              <a:rect l="l" t="t" r="r" b="b"/>
              <a:pathLst>
                <a:path w="232" h="8">
                  <a:moveTo>
                    <a:pt x="0" y="8"/>
                  </a:moveTo>
                  <a:lnTo>
                    <a:pt x="23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785360" y="1084320"/>
              <a:ext cx="368280" cy="12600"/>
            </a:xfrm>
            <a:custGeom>
              <a:avLst/>
              <a:gdLst/>
              <a:ahLst/>
              <a:rect l="l" t="t" r="r" b="b"/>
              <a:pathLst>
                <a:path w="232" h="8">
                  <a:moveTo>
                    <a:pt x="0" y="8"/>
                  </a:moveTo>
                  <a:lnTo>
                    <a:pt x="23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0" name=""/>
          <p:cNvSpPr/>
          <p:nvPr/>
        </p:nvSpPr>
        <p:spPr>
          <a:xfrm>
            <a:off x="99288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916560" y="251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91656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99252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6019920" y="2468520"/>
            <a:ext cx="1955520" cy="581400"/>
            <a:chOff x="6019920" y="2468520"/>
            <a:chExt cx="1955520" cy="581400"/>
          </a:xfrm>
        </p:grpSpPr>
        <p:sp>
          <p:nvSpPr>
            <p:cNvPr id="1605" name=""/>
            <p:cNvSpPr/>
            <p:nvPr/>
          </p:nvSpPr>
          <p:spPr>
            <a:xfrm>
              <a:off x="6019920" y="2468520"/>
              <a:ext cx="195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A{-6; 8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146640" y="2527200"/>
              <a:ext cx="4824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1295280" y="1066680"/>
            <a:ext cx="1219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8" name=""/>
          <p:cNvGrpSpPr/>
          <p:nvPr/>
        </p:nvGrpSpPr>
        <p:grpSpPr>
          <a:xfrm>
            <a:off x="6095880" y="3459240"/>
            <a:ext cx="1955880" cy="581400"/>
            <a:chOff x="6095880" y="3459240"/>
            <a:chExt cx="1955880" cy="581400"/>
          </a:xfrm>
        </p:grpSpPr>
        <p:sp>
          <p:nvSpPr>
            <p:cNvPr id="1609" name=""/>
            <p:cNvSpPr/>
            <p:nvPr/>
          </p:nvSpPr>
          <p:spPr>
            <a:xfrm>
              <a:off x="6095880" y="3459240"/>
              <a:ext cx="195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C{-6;-8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222960" y="3517560"/>
              <a:ext cx="48276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1" name=""/>
          <p:cNvGrpSpPr/>
          <p:nvPr/>
        </p:nvGrpSpPr>
        <p:grpSpPr>
          <a:xfrm>
            <a:off x="6095880" y="4449600"/>
            <a:ext cx="2057040" cy="581400"/>
            <a:chOff x="6095880" y="4449600"/>
            <a:chExt cx="2057040" cy="581400"/>
          </a:xfrm>
        </p:grpSpPr>
        <p:sp>
          <p:nvSpPr>
            <p:cNvPr id="1612" name=""/>
            <p:cNvSpPr/>
            <p:nvPr/>
          </p:nvSpPr>
          <p:spPr>
            <a:xfrm>
              <a:off x="6095880" y="4449600"/>
              <a:ext cx="205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{0;-16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229440" y="4508280"/>
              <a:ext cx="5076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1282680" y="1054080"/>
            <a:ext cx="1206360" cy="1879560"/>
          </a:xfrm>
          <a:custGeom>
            <a:avLst/>
            <a:gdLst/>
            <a:ahLst/>
            <a:rect l="l" t="t" r="r" b="b"/>
            <a:pathLst>
              <a:path w="760" h="1184">
                <a:moveTo>
                  <a:pt x="760" y="118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1295280" y="2920320"/>
            <a:ext cx="1219320" cy="1879560"/>
          </a:xfrm>
          <a:custGeom>
            <a:avLst/>
            <a:gdLst/>
            <a:ahLst/>
            <a:rect l="l" t="t" r="r" b="b"/>
            <a:pathLst>
              <a:path w="768" h="1184">
                <a:moveTo>
                  <a:pt x="768" y="118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1279440" y="1062000"/>
            <a:ext cx="28800" cy="3726000"/>
          </a:xfrm>
          <a:custGeom>
            <a:avLst/>
            <a:gdLst/>
            <a:ahLst/>
            <a:rect l="l" t="t" r="r" b="b"/>
            <a:pathLst>
              <a:path w="18" h="2347">
                <a:moveTo>
                  <a:pt x="0" y="0"/>
                </a:moveTo>
                <a:lnTo>
                  <a:pt x="18" y="2347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2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2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0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7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9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1 0.20371 L 0.13194 0.26297 E">
                                      <p:cBhvr>
                                        <p:cTn id="1071" dur="2000" fill="hold"/>
                                        <p:tgtEl>
                                          <p:spTgt spid="1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8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/>
          <p:nvPr/>
        </p:nvSpPr>
        <p:spPr>
          <a:xfrm>
            <a:off x="797040" y="3017880"/>
            <a:ext cx="4359240" cy="1714320"/>
          </a:xfrm>
          <a:custGeom>
            <a:avLst/>
            <a:gdLst/>
            <a:ahLst/>
            <a:rect l="l" t="t" r="r" b="b"/>
            <a:pathLst>
              <a:path w="2746" h="1080">
                <a:moveTo>
                  <a:pt x="0" y="1080"/>
                </a:moveTo>
                <a:lnTo>
                  <a:pt x="2746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838080" y="3005280"/>
            <a:ext cx="4330800" cy="1714320"/>
          </a:xfrm>
          <a:custGeom>
            <a:avLst/>
            <a:gdLst/>
            <a:ahLst/>
            <a:rect l="l" t="t" r="r" b="b"/>
            <a:pathLst>
              <a:path w="2728" h="1080">
                <a:moveTo>
                  <a:pt x="0" y="1072"/>
                </a:moveTo>
                <a:lnTo>
                  <a:pt x="800" y="16"/>
                </a:lnTo>
                <a:lnTo>
                  <a:pt x="2728" y="0"/>
                </a:lnTo>
                <a:lnTo>
                  <a:pt x="1912" y="1080"/>
                </a:lnTo>
                <a:lnTo>
                  <a:pt x="0" y="1072"/>
                </a:lnTo>
                <a:close/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620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8" name=""/>
          <p:cNvSpPr/>
          <p:nvPr/>
        </p:nvSpPr>
        <p:spPr>
          <a:xfrm>
            <a:off x="355680" y="4719600"/>
            <a:ext cx="5562360" cy="1800"/>
          </a:xfrm>
          <a:custGeom>
            <a:avLst/>
            <a:gdLst/>
            <a:ahLst/>
            <a:rect l="l" t="t" r="r" b="b"/>
            <a:pathLst>
              <a:path w="3504" h="1">
                <a:moveTo>
                  <a:pt x="0" y="0"/>
                </a:moveTo>
                <a:lnTo>
                  <a:pt x="350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800280" y="2281320"/>
            <a:ext cx="12600" cy="3098880"/>
          </a:xfrm>
          <a:custGeom>
            <a:avLst/>
            <a:gdLst/>
            <a:ahLst/>
            <a:rect l="l" t="t" r="r" b="b"/>
            <a:pathLst>
              <a:path w="8" h="1952">
                <a:moveTo>
                  <a:pt x="0" y="1952"/>
                </a:moveTo>
                <a:lnTo>
                  <a:pt x="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487480" y="40971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407520" y="18288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324000" y="470232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685800" y="76320"/>
            <a:ext cx="8305920" cy="1495800"/>
            <a:chOff x="685800" y="76320"/>
            <a:chExt cx="8305920" cy="1495800"/>
          </a:xfrm>
        </p:grpSpPr>
        <p:sp>
          <p:nvSpPr>
            <p:cNvPr id="1634" name=""/>
            <p:cNvSpPr/>
            <p:nvPr/>
          </p:nvSpPr>
          <p:spPr>
            <a:xfrm>
              <a:off x="685800" y="76320"/>
              <a:ext cx="8305920" cy="14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ABC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ллелограмм,    ОА = 6,    ОС = 8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ОС = 6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 Разложите векторы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А,  ОС,  ОВ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по координатным векторам 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343400" y="1066680"/>
              <a:ext cx="228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800600" y="1066680"/>
              <a:ext cx="228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7" name=""/>
                <p:cNvSpPr txBox="1"/>
                <p:nvPr/>
              </p:nvSpPr>
              <p:spPr>
                <a:xfrm>
                  <a:off x="685800" y="633240"/>
                  <a:ext cx="387360" cy="35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38" name=""/>
            <p:cNvSpPr/>
            <p:nvPr/>
          </p:nvSpPr>
          <p:spPr>
            <a:xfrm>
              <a:off x="5638680" y="596880"/>
              <a:ext cx="368280" cy="12600"/>
            </a:xfrm>
            <a:custGeom>
              <a:avLst/>
              <a:gdLst/>
              <a:ahLst/>
              <a:rect l="l" t="t" r="r" b="b"/>
              <a:pathLst>
                <a:path w="232" h="8">
                  <a:moveTo>
                    <a:pt x="0" y="8"/>
                  </a:moveTo>
                  <a:lnTo>
                    <a:pt x="23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400800" y="596880"/>
              <a:ext cx="368280" cy="12600"/>
            </a:xfrm>
            <a:custGeom>
              <a:avLst/>
              <a:gdLst/>
              <a:ahLst/>
              <a:rect l="l" t="t" r="r" b="b"/>
              <a:pathLst>
                <a:path w="232" h="8">
                  <a:moveTo>
                    <a:pt x="0" y="8"/>
                  </a:moveTo>
                  <a:lnTo>
                    <a:pt x="23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086600" y="609480"/>
              <a:ext cx="368280" cy="12960"/>
            </a:xfrm>
            <a:custGeom>
              <a:avLst/>
              <a:gdLst/>
              <a:ahLst/>
              <a:rect l="l" t="t" r="r" b="b"/>
              <a:pathLst>
                <a:path w="232" h="8">
                  <a:moveTo>
                    <a:pt x="0" y="8"/>
                  </a:moveTo>
                  <a:lnTo>
                    <a:pt x="23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1905120" y="263700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181480" y="271296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3689280" y="469440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1219320" y="347508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914400" y="438948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800280" y="2992320"/>
            <a:ext cx="1346040" cy="1739880"/>
          </a:xfrm>
          <a:custGeom>
            <a:avLst/>
            <a:gdLst/>
            <a:ahLst/>
            <a:rect l="l" t="t" r="r" b="b"/>
            <a:pathLst>
              <a:path w="848" h="1096">
                <a:moveTo>
                  <a:pt x="0" y="1096"/>
                </a:moveTo>
                <a:lnTo>
                  <a:pt x="84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800280" y="4719600"/>
            <a:ext cx="3073320" cy="1800"/>
          </a:xfrm>
          <a:custGeom>
            <a:avLst/>
            <a:gdLst/>
            <a:ahLst/>
            <a:rect l="l" t="t" r="r" b="b"/>
            <a:pathLst>
              <a:path w="1936" h="1">
                <a:moveTo>
                  <a:pt x="0" y="0"/>
                </a:moveTo>
                <a:lnTo>
                  <a:pt x="19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"/>
          <p:cNvGrpSpPr/>
          <p:nvPr/>
        </p:nvGrpSpPr>
        <p:grpSpPr>
          <a:xfrm>
            <a:off x="1828800" y="3043080"/>
            <a:ext cx="291960" cy="1663920"/>
            <a:chOff x="1828800" y="3043080"/>
            <a:chExt cx="291960" cy="1663920"/>
          </a:xfrm>
        </p:grpSpPr>
        <p:sp>
          <p:nvSpPr>
            <p:cNvPr id="1649" name=""/>
            <p:cNvSpPr/>
            <p:nvPr/>
          </p:nvSpPr>
          <p:spPr>
            <a:xfrm>
              <a:off x="2082960" y="3043080"/>
              <a:ext cx="37800" cy="1663920"/>
            </a:xfrm>
            <a:custGeom>
              <a:avLst/>
              <a:gdLst/>
              <a:ahLst/>
              <a:rect l="l" t="t" r="r" b="b"/>
              <a:pathLst>
                <a:path w="24" h="1048">
                  <a:moveTo>
                    <a:pt x="24" y="0"/>
                  </a:moveTo>
                  <a:lnTo>
                    <a:pt x="0" y="10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828800" y="446544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lnTo>
                    <a:pt x="0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"/>
          <p:cNvGrpSpPr/>
          <p:nvPr/>
        </p:nvGrpSpPr>
        <p:grpSpPr>
          <a:xfrm>
            <a:off x="838080" y="4770360"/>
            <a:ext cx="2895840" cy="669240"/>
            <a:chOff x="838080" y="4770360"/>
            <a:chExt cx="2895840" cy="669240"/>
          </a:xfrm>
        </p:grpSpPr>
        <p:sp>
          <p:nvSpPr>
            <p:cNvPr id="1652" name=""/>
            <p:cNvSpPr/>
            <p:nvPr/>
          </p:nvSpPr>
          <p:spPr>
            <a:xfrm>
              <a:off x="2089080" y="4979880"/>
              <a:ext cx="5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38080" y="4770360"/>
              <a:ext cx="2895840" cy="314640"/>
            </a:xfrm>
            <a:custGeom>
              <a:avLst/>
              <a:gdLst/>
              <a:ahLst/>
              <a:rect l="l" t="t" r="r" b="b"/>
              <a:pathLst>
                <a:path w="1824" h="144">
                  <a:moveTo>
                    <a:pt x="0" y="0"/>
                  </a:moveTo>
                  <a:cubicBezTo>
                    <a:pt x="232" y="72"/>
                    <a:pt x="464" y="144"/>
                    <a:pt x="768" y="144"/>
                  </a:cubicBezTo>
                  <a:cubicBezTo>
                    <a:pt x="1072" y="144"/>
                    <a:pt x="1448" y="72"/>
                    <a:pt x="18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"/>
          <p:cNvSpPr/>
          <p:nvPr/>
        </p:nvSpPr>
        <p:spPr>
          <a:xfrm>
            <a:off x="1295280" y="4618080"/>
            <a:ext cx="577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5" name=""/>
          <p:cNvGrpSpPr/>
          <p:nvPr/>
        </p:nvGrpSpPr>
        <p:grpSpPr>
          <a:xfrm>
            <a:off x="4876920" y="3017880"/>
            <a:ext cx="291960" cy="1676160"/>
            <a:chOff x="4876920" y="3017880"/>
            <a:chExt cx="291960" cy="1676160"/>
          </a:xfrm>
        </p:grpSpPr>
        <p:sp>
          <p:nvSpPr>
            <p:cNvPr id="1656" name=""/>
            <p:cNvSpPr/>
            <p:nvPr/>
          </p:nvSpPr>
          <p:spPr>
            <a:xfrm>
              <a:off x="5131080" y="3017880"/>
              <a:ext cx="37800" cy="1676160"/>
            </a:xfrm>
            <a:custGeom>
              <a:avLst/>
              <a:gdLst/>
              <a:ahLst/>
              <a:rect l="l" t="t" r="r" b="b"/>
              <a:pathLst>
                <a:path w="24" h="1048">
                  <a:moveTo>
                    <a:pt x="24" y="0"/>
                  </a:moveTo>
                  <a:lnTo>
                    <a:pt x="0" y="10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876920" y="445068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lnTo>
                    <a:pt x="0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762120" y="4770360"/>
            <a:ext cx="4267080" cy="1328400"/>
            <a:chOff x="762120" y="4770360"/>
            <a:chExt cx="4267080" cy="1328400"/>
          </a:xfrm>
        </p:grpSpPr>
        <p:sp>
          <p:nvSpPr>
            <p:cNvPr id="1659" name=""/>
            <p:cNvSpPr/>
            <p:nvPr/>
          </p:nvSpPr>
          <p:spPr>
            <a:xfrm>
              <a:off x="762120" y="4770360"/>
              <a:ext cx="4267080" cy="927000"/>
            </a:xfrm>
            <a:custGeom>
              <a:avLst/>
              <a:gdLst/>
              <a:ahLst/>
              <a:rect l="l" t="t" r="r" b="b"/>
              <a:pathLst>
                <a:path w="2688" h="584">
                  <a:moveTo>
                    <a:pt x="0" y="0"/>
                  </a:moveTo>
                  <a:cubicBezTo>
                    <a:pt x="215" y="97"/>
                    <a:pt x="840" y="584"/>
                    <a:pt x="1288" y="584"/>
                  </a:cubicBezTo>
                  <a:cubicBezTo>
                    <a:pt x="1736" y="584"/>
                    <a:pt x="2396" y="122"/>
                    <a:pt x="268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666880" y="5608440"/>
              <a:ext cx="5778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4343400" y="4618080"/>
            <a:ext cx="577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1676520" y="3287880"/>
            <a:ext cx="577800" cy="494280"/>
            <a:chOff x="1676520" y="3287880"/>
            <a:chExt cx="577800" cy="494280"/>
          </a:xfrm>
        </p:grpSpPr>
        <p:sp>
          <p:nvSpPr>
            <p:cNvPr id="1663" name=""/>
            <p:cNvSpPr/>
            <p:nvPr/>
          </p:nvSpPr>
          <p:spPr>
            <a:xfrm>
              <a:off x="1676520" y="3383280"/>
              <a:ext cx="57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4" name=""/>
            <p:cNvGrpSpPr/>
            <p:nvPr/>
          </p:nvGrpSpPr>
          <p:grpSpPr>
            <a:xfrm>
              <a:off x="1870200" y="3287880"/>
              <a:ext cx="241200" cy="122400"/>
              <a:chOff x="1870200" y="3287880"/>
              <a:chExt cx="241200" cy="122400"/>
            </a:xfrm>
          </p:grpSpPr>
          <p:sp>
            <p:nvSpPr>
              <p:cNvPr id="1665" name=""/>
              <p:cNvSpPr/>
              <p:nvPr/>
            </p:nvSpPr>
            <p:spPr>
              <a:xfrm>
                <a:off x="1870200" y="3326040"/>
                <a:ext cx="241200" cy="84240"/>
              </a:xfrm>
              <a:custGeom>
                <a:avLst/>
                <a:gdLst/>
                <a:ahLst/>
                <a:rect l="l" t="t" r="r" b="b"/>
                <a:pathLst>
                  <a:path w="152" h="53">
                    <a:moveTo>
                      <a:pt x="0" y="0"/>
                    </a:moveTo>
                    <a:cubicBezTo>
                      <a:pt x="11" y="8"/>
                      <a:pt x="45" y="39"/>
                      <a:pt x="70" y="46"/>
                    </a:cubicBezTo>
                    <a:cubicBezTo>
                      <a:pt x="95" y="53"/>
                      <a:pt x="135" y="44"/>
                      <a:pt x="152" y="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1911240" y="3287880"/>
                <a:ext cx="200160" cy="55800"/>
              </a:xfrm>
              <a:custGeom>
                <a:avLst/>
                <a:gdLst/>
                <a:ahLst/>
                <a:rect l="l" t="t" r="r" b="b"/>
                <a:pathLst>
                  <a:path w="126" h="35">
                    <a:moveTo>
                      <a:pt x="0" y="0"/>
                    </a:moveTo>
                    <a:cubicBezTo>
                      <a:pt x="10" y="5"/>
                      <a:pt x="39" y="25"/>
                      <a:pt x="60" y="30"/>
                    </a:cubicBezTo>
                    <a:cubicBezTo>
                      <a:pt x="81" y="35"/>
                      <a:pt x="112" y="32"/>
                      <a:pt x="126" y="3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7" name=""/>
          <p:cNvGrpSpPr/>
          <p:nvPr/>
        </p:nvGrpSpPr>
        <p:grpSpPr>
          <a:xfrm>
            <a:off x="2057400" y="3627360"/>
            <a:ext cx="609480" cy="490320"/>
            <a:chOff x="2057400" y="3627360"/>
            <a:chExt cx="609480" cy="490320"/>
          </a:xfrm>
        </p:grpSpPr>
        <p:sp>
          <p:nvSpPr>
            <p:cNvPr id="1668" name=""/>
            <p:cNvSpPr/>
            <p:nvPr/>
          </p:nvSpPr>
          <p:spPr>
            <a:xfrm>
              <a:off x="2057400" y="3627360"/>
              <a:ext cx="6094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295360" y="3746160"/>
              <a:ext cx="304200" cy="270000"/>
            </a:xfrm>
            <a:custGeom>
              <a:avLst/>
              <a:gdLst/>
              <a:ahLst/>
              <a:rect l="l" t="t" r="r" b="b"/>
              <a:pathLst>
                <a:path w="192" h="170">
                  <a:moveTo>
                    <a:pt x="0" y="26"/>
                  </a:moveTo>
                  <a:lnTo>
                    <a:pt x="15" y="14"/>
                  </a:lnTo>
                  <a:lnTo>
                    <a:pt x="51" y="170"/>
                  </a:lnTo>
                  <a:lnTo>
                    <a:pt x="51" y="3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6629400" y="1219320"/>
            <a:ext cx="1955880" cy="581400"/>
            <a:chOff x="6629400" y="1219320"/>
            <a:chExt cx="1955880" cy="581400"/>
          </a:xfrm>
        </p:grpSpPr>
        <p:sp>
          <p:nvSpPr>
            <p:cNvPr id="1671" name=""/>
            <p:cNvSpPr/>
            <p:nvPr/>
          </p:nvSpPr>
          <p:spPr>
            <a:xfrm>
              <a:off x="6629400" y="1219320"/>
              <a:ext cx="195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C{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8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756480" y="1277640"/>
              <a:ext cx="48276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629400" y="1981080"/>
            <a:ext cx="2133000" cy="581400"/>
            <a:chOff x="6629400" y="1981080"/>
            <a:chExt cx="2133000" cy="581400"/>
          </a:xfrm>
        </p:grpSpPr>
        <p:grpSp>
          <p:nvGrpSpPr>
            <p:cNvPr id="1674" name=""/>
            <p:cNvGrpSpPr/>
            <p:nvPr/>
          </p:nvGrpSpPr>
          <p:grpSpPr>
            <a:xfrm>
              <a:off x="6629400" y="1981080"/>
              <a:ext cx="2133000" cy="581400"/>
              <a:chOff x="6629400" y="1981080"/>
              <a:chExt cx="2133000" cy="581400"/>
            </a:xfrm>
          </p:grpSpPr>
          <p:sp>
            <p:nvSpPr>
              <p:cNvPr id="1675" name=""/>
              <p:cNvSpPr/>
              <p:nvPr/>
            </p:nvSpPr>
            <p:spPr>
              <a:xfrm>
                <a:off x="6629400" y="1981080"/>
                <a:ext cx="213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OA{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;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768000" y="2039760"/>
                <a:ext cx="526320" cy="1800"/>
              </a:xfrm>
              <a:custGeom>
                <a:avLst/>
                <a:gdLst/>
                <a:ahLst/>
                <a:rect l="l" t="t" r="r" b="b"/>
                <a:pathLst>
                  <a:path w="304" h="1">
                    <a:moveTo>
                      <a:pt x="0" y="0"/>
                    </a:moveTo>
                    <a:lnTo>
                      <a:pt x="3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7772400" y="2057400"/>
              <a:ext cx="609480" cy="490320"/>
              <a:chOff x="7772400" y="2057400"/>
              <a:chExt cx="609480" cy="490320"/>
            </a:xfrm>
          </p:grpSpPr>
          <p:sp>
            <p:nvSpPr>
              <p:cNvPr id="1678" name=""/>
              <p:cNvSpPr/>
              <p:nvPr/>
            </p:nvSpPr>
            <p:spPr>
              <a:xfrm>
                <a:off x="7772400" y="2057400"/>
                <a:ext cx="60948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8010360" y="2176200"/>
                <a:ext cx="304200" cy="270000"/>
              </a:xfrm>
              <a:custGeom>
                <a:avLst/>
                <a:gdLst/>
                <a:ahLst/>
                <a:rect l="l" t="t" r="r" b="b"/>
                <a:pathLst>
                  <a:path w="192" h="170">
                    <a:moveTo>
                      <a:pt x="0" y="26"/>
                    </a:moveTo>
                    <a:lnTo>
                      <a:pt x="15" y="14"/>
                    </a:lnTo>
                    <a:lnTo>
                      <a:pt x="51" y="170"/>
                    </a:lnTo>
                    <a:lnTo>
                      <a:pt x="51" y="3"/>
                    </a:lnTo>
                    <a:lnTo>
                      <a:pt x="19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0" name=""/>
          <p:cNvGrpSpPr/>
          <p:nvPr/>
        </p:nvGrpSpPr>
        <p:grpSpPr>
          <a:xfrm>
            <a:off x="6629400" y="2773440"/>
            <a:ext cx="2209680" cy="581400"/>
            <a:chOff x="6629400" y="2773440"/>
            <a:chExt cx="2209680" cy="581400"/>
          </a:xfrm>
        </p:grpSpPr>
        <p:sp>
          <p:nvSpPr>
            <p:cNvPr id="1681" name=""/>
            <p:cNvSpPr/>
            <p:nvPr/>
          </p:nvSpPr>
          <p:spPr>
            <a:xfrm>
              <a:off x="6629400" y="277344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B{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767280" y="2832120"/>
              <a:ext cx="52668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7924680" y="2849400"/>
              <a:ext cx="609120" cy="490320"/>
              <a:chOff x="7924680" y="2849400"/>
              <a:chExt cx="609120" cy="490320"/>
            </a:xfrm>
          </p:grpSpPr>
          <p:sp>
            <p:nvSpPr>
              <p:cNvPr id="1684" name=""/>
              <p:cNvSpPr/>
              <p:nvPr/>
            </p:nvSpPr>
            <p:spPr>
              <a:xfrm>
                <a:off x="7924680" y="2849400"/>
                <a:ext cx="60912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8162640" y="2968200"/>
                <a:ext cx="304200" cy="270000"/>
              </a:xfrm>
              <a:custGeom>
                <a:avLst/>
                <a:gdLst/>
                <a:ahLst/>
                <a:rect l="l" t="t" r="r" b="b"/>
                <a:pathLst>
                  <a:path w="192" h="170">
                    <a:moveTo>
                      <a:pt x="0" y="26"/>
                    </a:moveTo>
                    <a:lnTo>
                      <a:pt x="15" y="14"/>
                    </a:lnTo>
                    <a:lnTo>
                      <a:pt x="51" y="170"/>
                    </a:lnTo>
                    <a:lnTo>
                      <a:pt x="51" y="3"/>
                    </a:lnTo>
                    <a:lnTo>
                      <a:pt x="19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6" name=""/>
          <p:cNvGrpSpPr/>
          <p:nvPr/>
        </p:nvGrpSpPr>
        <p:grpSpPr>
          <a:xfrm>
            <a:off x="6172200" y="4906800"/>
            <a:ext cx="2590920" cy="1068840"/>
            <a:chOff x="6172200" y="4906800"/>
            <a:chExt cx="2590920" cy="1068840"/>
          </a:xfrm>
        </p:grpSpPr>
        <p:sp>
          <p:nvSpPr>
            <p:cNvPr id="1687" name=""/>
            <p:cNvSpPr/>
            <p:nvPr/>
          </p:nvSpPr>
          <p:spPr>
            <a:xfrm>
              <a:off x="7315200" y="4983120"/>
              <a:ext cx="228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8382240" y="4983120"/>
              <a:ext cx="228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172200" y="490680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A=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310440" y="4965480"/>
              <a:ext cx="52704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1" name=""/>
            <p:cNvGrpSpPr/>
            <p:nvPr/>
          </p:nvGrpSpPr>
          <p:grpSpPr>
            <a:xfrm>
              <a:off x="7696440" y="4906800"/>
              <a:ext cx="685440" cy="551160"/>
              <a:chOff x="7696440" y="4906800"/>
              <a:chExt cx="685440" cy="551160"/>
            </a:xfrm>
          </p:grpSpPr>
          <p:sp>
            <p:nvSpPr>
              <p:cNvPr id="1692" name=""/>
              <p:cNvSpPr/>
              <p:nvPr/>
            </p:nvSpPr>
            <p:spPr>
              <a:xfrm>
                <a:off x="7696440" y="4906800"/>
                <a:ext cx="6854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 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7964280" y="5043600"/>
                <a:ext cx="342360" cy="311040"/>
              </a:xfrm>
              <a:custGeom>
                <a:avLst/>
                <a:gdLst/>
                <a:ahLst/>
                <a:rect l="l" t="t" r="r" b="b"/>
                <a:pathLst>
                  <a:path w="192" h="170">
                    <a:moveTo>
                      <a:pt x="0" y="26"/>
                    </a:moveTo>
                    <a:lnTo>
                      <a:pt x="15" y="14"/>
                    </a:lnTo>
                    <a:lnTo>
                      <a:pt x="51" y="170"/>
                    </a:lnTo>
                    <a:lnTo>
                      <a:pt x="51" y="3"/>
                    </a:lnTo>
                    <a:lnTo>
                      <a:pt x="19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4" name=""/>
          <p:cNvGrpSpPr/>
          <p:nvPr/>
        </p:nvGrpSpPr>
        <p:grpSpPr>
          <a:xfrm>
            <a:off x="6172200" y="5745240"/>
            <a:ext cx="2590920" cy="1068840"/>
            <a:chOff x="6172200" y="5745240"/>
            <a:chExt cx="2590920" cy="1068840"/>
          </a:xfrm>
        </p:grpSpPr>
        <p:sp>
          <p:nvSpPr>
            <p:cNvPr id="1695" name=""/>
            <p:cNvSpPr/>
            <p:nvPr/>
          </p:nvSpPr>
          <p:spPr>
            <a:xfrm>
              <a:off x="6172200" y="574524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B=11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467840" y="5821200"/>
              <a:ext cx="228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534520" y="5821200"/>
              <a:ext cx="228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310440" y="5803560"/>
              <a:ext cx="52704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9" name=""/>
            <p:cNvGrpSpPr/>
            <p:nvPr/>
          </p:nvGrpSpPr>
          <p:grpSpPr>
            <a:xfrm>
              <a:off x="7925040" y="5745240"/>
              <a:ext cx="685440" cy="551160"/>
              <a:chOff x="7925040" y="5745240"/>
              <a:chExt cx="685440" cy="551160"/>
            </a:xfrm>
          </p:grpSpPr>
          <p:sp>
            <p:nvSpPr>
              <p:cNvPr id="1700" name=""/>
              <p:cNvSpPr/>
              <p:nvPr/>
            </p:nvSpPr>
            <p:spPr>
              <a:xfrm>
                <a:off x="7925040" y="5745240"/>
                <a:ext cx="6854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 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8192880" y="5882040"/>
                <a:ext cx="342360" cy="311040"/>
              </a:xfrm>
              <a:custGeom>
                <a:avLst/>
                <a:gdLst/>
                <a:ahLst/>
                <a:rect l="l" t="t" r="r" b="b"/>
                <a:pathLst>
                  <a:path w="192" h="170">
                    <a:moveTo>
                      <a:pt x="0" y="26"/>
                    </a:moveTo>
                    <a:lnTo>
                      <a:pt x="15" y="14"/>
                    </a:lnTo>
                    <a:lnTo>
                      <a:pt x="51" y="170"/>
                    </a:lnTo>
                    <a:lnTo>
                      <a:pt x="51" y="3"/>
                    </a:lnTo>
                    <a:lnTo>
                      <a:pt x="19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2" name=""/>
          <p:cNvGrpSpPr/>
          <p:nvPr/>
        </p:nvGrpSpPr>
        <p:grpSpPr>
          <a:xfrm>
            <a:off x="6172200" y="4038480"/>
            <a:ext cx="1955880" cy="581400"/>
            <a:chOff x="6172200" y="4038480"/>
            <a:chExt cx="1955880" cy="581400"/>
          </a:xfrm>
        </p:grpSpPr>
        <p:grpSp>
          <p:nvGrpSpPr>
            <p:cNvPr id="1703" name=""/>
            <p:cNvGrpSpPr/>
            <p:nvPr/>
          </p:nvGrpSpPr>
          <p:grpSpPr>
            <a:xfrm>
              <a:off x="6172200" y="4038480"/>
              <a:ext cx="1955880" cy="581400"/>
              <a:chOff x="6172200" y="4038480"/>
              <a:chExt cx="1955880" cy="581400"/>
            </a:xfrm>
          </p:grpSpPr>
          <p:sp>
            <p:nvSpPr>
              <p:cNvPr id="1704" name=""/>
              <p:cNvSpPr/>
              <p:nvPr/>
            </p:nvSpPr>
            <p:spPr>
              <a:xfrm>
                <a:off x="6172200" y="4038480"/>
                <a:ext cx="1955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OC =8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6299280" y="4097160"/>
                <a:ext cx="482760" cy="1800"/>
              </a:xfrm>
              <a:custGeom>
                <a:avLst/>
                <a:gdLst/>
                <a:ahLst/>
                <a:rect l="l" t="t" r="r" b="b"/>
                <a:pathLst>
                  <a:path w="304" h="1">
                    <a:moveTo>
                      <a:pt x="0" y="0"/>
                    </a:moveTo>
                    <a:lnTo>
                      <a:pt x="3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6" name=""/>
            <p:cNvSpPr/>
            <p:nvPr/>
          </p:nvSpPr>
          <p:spPr>
            <a:xfrm>
              <a:off x="7391520" y="4114800"/>
              <a:ext cx="228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7" dur="1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0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7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2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9" dur="1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6" dur="10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3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0" dur="10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0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0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1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7" name=""/>
          <p:cNvGrpSpPr/>
          <p:nvPr/>
        </p:nvGrpSpPr>
        <p:grpSpPr>
          <a:xfrm>
            <a:off x="1295280" y="1447920"/>
            <a:ext cx="2438640" cy="703440"/>
            <a:chOff x="1295280" y="1447920"/>
            <a:chExt cx="2438640" cy="703440"/>
          </a:xfrm>
        </p:grpSpPr>
        <p:sp>
          <p:nvSpPr>
            <p:cNvPr id="1708" name=""/>
            <p:cNvSpPr/>
            <p:nvPr/>
          </p:nvSpPr>
          <p:spPr>
            <a:xfrm>
              <a:off x="1295280" y="1447920"/>
              <a:ext cx="2438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447920" y="160020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209680" y="157500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712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0" name=""/>
          <p:cNvSpPr/>
          <p:nvPr/>
        </p:nvSpPr>
        <p:spPr>
          <a:xfrm>
            <a:off x="380880" y="9144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ти координаты  векторов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838080" y="228600"/>
            <a:ext cx="3962160" cy="642600"/>
            <a:chOff x="838080" y="228600"/>
            <a:chExt cx="3962160" cy="642600"/>
          </a:xfrm>
        </p:grpSpPr>
        <p:sp>
          <p:nvSpPr>
            <p:cNvPr id="1722" name=""/>
            <p:cNvSpPr/>
            <p:nvPr/>
          </p:nvSpPr>
          <p:spPr>
            <a:xfrm>
              <a:off x="2514240" y="2286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-3;-2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666880" y="30456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38080" y="2286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36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4; 8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914040" y="304560"/>
              <a:ext cx="29232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1752480" y="4038480"/>
            <a:ext cx="838440" cy="703440"/>
            <a:chOff x="1752480" y="4038480"/>
            <a:chExt cx="838440" cy="703440"/>
          </a:xfrm>
        </p:grpSpPr>
        <p:sp>
          <p:nvSpPr>
            <p:cNvPr id="1727" name=""/>
            <p:cNvSpPr/>
            <p:nvPr/>
          </p:nvSpPr>
          <p:spPr>
            <a:xfrm>
              <a:off x="1752480" y="403848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2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133720" y="42670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1600200" y="4876920"/>
            <a:ext cx="1219320" cy="703440"/>
            <a:chOff x="1600200" y="4876920"/>
            <a:chExt cx="1219320" cy="703440"/>
          </a:xfrm>
        </p:grpSpPr>
        <p:sp>
          <p:nvSpPr>
            <p:cNvPr id="1730" name=""/>
            <p:cNvSpPr/>
            <p:nvPr/>
          </p:nvSpPr>
          <p:spPr>
            <a:xfrm>
              <a:off x="1600200" y="487692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-3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133720" y="49788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62120" y="5791320"/>
            <a:ext cx="1790640" cy="712800"/>
            <a:chOff x="762120" y="5791320"/>
            <a:chExt cx="1790640" cy="712800"/>
          </a:xfrm>
        </p:grpSpPr>
        <p:grpSp>
          <p:nvGrpSpPr>
            <p:cNvPr id="1733" name=""/>
            <p:cNvGrpSpPr/>
            <p:nvPr/>
          </p:nvGrpSpPr>
          <p:grpSpPr>
            <a:xfrm>
              <a:off x="762120" y="5791320"/>
              <a:ext cx="838080" cy="703440"/>
              <a:chOff x="762120" y="5791320"/>
              <a:chExt cx="838080" cy="703440"/>
            </a:xfrm>
          </p:grpSpPr>
          <p:sp>
            <p:nvSpPr>
              <p:cNvPr id="1734" name=""/>
              <p:cNvSpPr/>
              <p:nvPr/>
            </p:nvSpPr>
            <p:spPr>
              <a:xfrm>
                <a:off x="762120" y="579132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2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1143000" y="6019920"/>
                <a:ext cx="29160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6" name=""/>
            <p:cNvSpPr/>
            <p:nvPr/>
          </p:nvSpPr>
          <p:spPr>
            <a:xfrm>
              <a:off x="1333440" y="580068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–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3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070000" y="5902200"/>
              <a:ext cx="29232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1676520" y="3124080"/>
            <a:ext cx="838080" cy="703440"/>
            <a:chOff x="1676520" y="3124080"/>
            <a:chExt cx="838080" cy="703440"/>
          </a:xfrm>
        </p:grpSpPr>
        <p:sp>
          <p:nvSpPr>
            <p:cNvPr id="1739" name=""/>
            <p:cNvSpPr/>
            <p:nvPr/>
          </p:nvSpPr>
          <p:spPr>
            <a:xfrm>
              <a:off x="1676520" y="31240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-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057400" y="3352680"/>
              <a:ext cx="29160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1295280" y="2286000"/>
            <a:ext cx="2438640" cy="703440"/>
            <a:chOff x="1295280" y="2286000"/>
            <a:chExt cx="2438640" cy="703440"/>
          </a:xfrm>
        </p:grpSpPr>
        <p:sp>
          <p:nvSpPr>
            <p:cNvPr id="1742" name=""/>
            <p:cNvSpPr/>
            <p:nvPr/>
          </p:nvSpPr>
          <p:spPr>
            <a:xfrm>
              <a:off x="1295280" y="2286000"/>
              <a:ext cx="2438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–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447920" y="243828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171880" y="24130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5" name=""/>
          <p:cNvSpPr/>
          <p:nvPr/>
        </p:nvSpPr>
        <p:spPr>
          <a:xfrm>
            <a:off x="2438280" y="23241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{-1;10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476440" y="1473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{-7; 6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438280" y="3149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{4;-8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438280" y="4038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{-8;16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425680" y="4876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{ 9; 6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2362320" y="5823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{ 1; 22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1" name=""/>
          <p:cNvGrpSpPr/>
          <p:nvPr/>
        </p:nvGrpSpPr>
        <p:grpSpPr>
          <a:xfrm>
            <a:off x="1295280" y="1447920"/>
            <a:ext cx="2438640" cy="703440"/>
            <a:chOff x="1295280" y="1447920"/>
            <a:chExt cx="2438640" cy="703440"/>
          </a:xfrm>
        </p:grpSpPr>
        <p:sp>
          <p:nvSpPr>
            <p:cNvPr id="1752" name=""/>
            <p:cNvSpPr/>
            <p:nvPr/>
          </p:nvSpPr>
          <p:spPr>
            <a:xfrm>
              <a:off x="1295280" y="1447920"/>
              <a:ext cx="2438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447920" y="160020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209680" y="157500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5" name=""/>
          <p:cNvSpPr/>
          <p:nvPr/>
        </p:nvSpPr>
        <p:spPr>
          <a:xfrm>
            <a:off x="5791320" y="13716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 +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6642000" y="1600200"/>
            <a:ext cx="292320" cy="1440"/>
          </a:xfrm>
          <a:custGeom>
            <a:avLst/>
            <a:gdLst/>
            <a:ahLst/>
            <a:rect l="l" t="t" r="r" b="b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5943600" y="1600200"/>
            <a:ext cx="291960" cy="1440"/>
          </a:xfrm>
          <a:custGeom>
            <a:avLst/>
            <a:gdLst/>
            <a:ahLst/>
            <a:rect l="l" t="t" r="r" b="b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8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759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7" name=""/>
          <p:cNvSpPr/>
          <p:nvPr/>
        </p:nvSpPr>
        <p:spPr>
          <a:xfrm>
            <a:off x="2362320" y="990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ти координаты  векторов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533520" y="228600"/>
            <a:ext cx="3962160" cy="642600"/>
            <a:chOff x="533520" y="228600"/>
            <a:chExt cx="3962160" cy="642600"/>
          </a:xfrm>
        </p:grpSpPr>
        <p:sp>
          <p:nvSpPr>
            <p:cNvPr id="1769" name=""/>
            <p:cNvSpPr/>
            <p:nvPr/>
          </p:nvSpPr>
          <p:spPr>
            <a:xfrm>
              <a:off x="2209680" y="2286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5;-2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362320" y="30456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33520" y="2286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3600" spc="-1" strike="noStrike">
                  <a:solidFill>
                    <a:srgbClr val="3333ff"/>
                  </a:solidFill>
                  <a:latin typeface="Times New Roman"/>
                </a:rPr>
                <a:t>-2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; 6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09480" y="304560"/>
              <a:ext cx="29232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3" name=""/>
          <p:cNvGrpSpPr/>
          <p:nvPr/>
        </p:nvGrpSpPr>
        <p:grpSpPr>
          <a:xfrm>
            <a:off x="4952880" y="152280"/>
            <a:ext cx="2286000" cy="642600"/>
            <a:chOff x="4952880" y="152280"/>
            <a:chExt cx="2286000" cy="642600"/>
          </a:xfrm>
        </p:grpSpPr>
        <p:sp>
          <p:nvSpPr>
            <p:cNvPr id="1774" name=""/>
            <p:cNvSpPr/>
            <p:nvPr/>
          </p:nvSpPr>
          <p:spPr>
            <a:xfrm>
              <a:off x="4952880" y="15228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c 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4</a:t>
              </a:r>
              <a:r>
                <a:rPr b="1" lang="ru-RU" sz="3600" spc="-1" strike="noStrike">
                  <a:solidFill>
                    <a:srgbClr val="3333ff"/>
                  </a:solidFill>
                  <a:latin typeface="Times New Roman"/>
                </a:rPr>
                <a:t>;-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2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029200" y="3808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6" name=""/>
          <p:cNvGrpSpPr/>
          <p:nvPr/>
        </p:nvGrpSpPr>
        <p:grpSpPr>
          <a:xfrm>
            <a:off x="6705720" y="152280"/>
            <a:ext cx="2286000" cy="642600"/>
            <a:chOff x="6705720" y="152280"/>
            <a:chExt cx="2286000" cy="642600"/>
          </a:xfrm>
        </p:grpSpPr>
        <p:sp>
          <p:nvSpPr>
            <p:cNvPr id="1777" name=""/>
            <p:cNvSpPr/>
            <p:nvPr/>
          </p:nvSpPr>
          <p:spPr>
            <a:xfrm>
              <a:off x="6705720" y="15228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e 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2;10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782040" y="3808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9" name=""/>
          <p:cNvGrpSpPr/>
          <p:nvPr/>
        </p:nvGrpSpPr>
        <p:grpSpPr>
          <a:xfrm>
            <a:off x="1295280" y="4038480"/>
            <a:ext cx="838440" cy="703440"/>
            <a:chOff x="1295280" y="4038480"/>
            <a:chExt cx="838440" cy="703440"/>
          </a:xfrm>
        </p:grpSpPr>
        <p:sp>
          <p:nvSpPr>
            <p:cNvPr id="1780" name=""/>
            <p:cNvSpPr/>
            <p:nvPr/>
          </p:nvSpPr>
          <p:spPr>
            <a:xfrm>
              <a:off x="1295280" y="403848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2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676520" y="42670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2" name=""/>
          <p:cNvGrpSpPr/>
          <p:nvPr/>
        </p:nvGrpSpPr>
        <p:grpSpPr>
          <a:xfrm>
            <a:off x="1143000" y="4876920"/>
            <a:ext cx="1219320" cy="703440"/>
            <a:chOff x="1143000" y="4876920"/>
            <a:chExt cx="1219320" cy="703440"/>
          </a:xfrm>
        </p:grpSpPr>
        <p:sp>
          <p:nvSpPr>
            <p:cNvPr id="1783" name=""/>
            <p:cNvSpPr/>
            <p:nvPr/>
          </p:nvSpPr>
          <p:spPr>
            <a:xfrm>
              <a:off x="1143000" y="487692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-3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676520" y="49788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762120" y="5791320"/>
            <a:ext cx="1790640" cy="712800"/>
            <a:chOff x="762120" y="5791320"/>
            <a:chExt cx="1790640" cy="712800"/>
          </a:xfrm>
        </p:grpSpPr>
        <p:grpSp>
          <p:nvGrpSpPr>
            <p:cNvPr id="1786" name=""/>
            <p:cNvGrpSpPr/>
            <p:nvPr/>
          </p:nvGrpSpPr>
          <p:grpSpPr>
            <a:xfrm>
              <a:off x="762120" y="5791320"/>
              <a:ext cx="838080" cy="703440"/>
              <a:chOff x="762120" y="5791320"/>
              <a:chExt cx="838080" cy="703440"/>
            </a:xfrm>
          </p:grpSpPr>
          <p:sp>
            <p:nvSpPr>
              <p:cNvPr id="1787" name=""/>
              <p:cNvSpPr/>
              <p:nvPr/>
            </p:nvSpPr>
            <p:spPr>
              <a:xfrm>
                <a:off x="762120" y="579132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2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143000" y="6019920"/>
                <a:ext cx="29160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9" name=""/>
            <p:cNvSpPr/>
            <p:nvPr/>
          </p:nvSpPr>
          <p:spPr>
            <a:xfrm>
              <a:off x="1333440" y="580068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–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3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070000" y="5902200"/>
              <a:ext cx="29232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1" name=""/>
          <p:cNvGrpSpPr/>
          <p:nvPr/>
        </p:nvGrpSpPr>
        <p:grpSpPr>
          <a:xfrm>
            <a:off x="1219320" y="3124080"/>
            <a:ext cx="838080" cy="703440"/>
            <a:chOff x="1219320" y="3124080"/>
            <a:chExt cx="838080" cy="703440"/>
          </a:xfrm>
        </p:grpSpPr>
        <p:sp>
          <p:nvSpPr>
            <p:cNvPr id="1792" name=""/>
            <p:cNvSpPr/>
            <p:nvPr/>
          </p:nvSpPr>
          <p:spPr>
            <a:xfrm>
              <a:off x="1219320" y="31240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-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600200" y="3352680"/>
              <a:ext cx="29160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4" name=""/>
          <p:cNvGrpSpPr/>
          <p:nvPr/>
        </p:nvGrpSpPr>
        <p:grpSpPr>
          <a:xfrm>
            <a:off x="1295280" y="2286000"/>
            <a:ext cx="2438640" cy="703440"/>
            <a:chOff x="1295280" y="2286000"/>
            <a:chExt cx="2438640" cy="703440"/>
          </a:xfrm>
        </p:grpSpPr>
        <p:sp>
          <p:nvSpPr>
            <p:cNvPr id="1795" name=""/>
            <p:cNvSpPr/>
            <p:nvPr/>
          </p:nvSpPr>
          <p:spPr>
            <a:xfrm>
              <a:off x="1295280" y="2286000"/>
              <a:ext cx="2438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–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447920" y="243828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171880" y="24130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8" name=""/>
          <p:cNvSpPr/>
          <p:nvPr/>
        </p:nvSpPr>
        <p:spPr>
          <a:xfrm>
            <a:off x="4686480" y="1536840"/>
            <a:ext cx="15840" cy="5168880"/>
          </a:xfrm>
          <a:custGeom>
            <a:avLst/>
            <a:gdLst/>
            <a:ahLst/>
            <a:rect l="l" t="t" r="r" b="b"/>
            <a:pathLst>
              <a:path w="10" h="3256">
                <a:moveTo>
                  <a:pt x="0" y="0"/>
                </a:moveTo>
                <a:lnTo>
                  <a:pt x="10" y="3256"/>
                </a:lnTo>
              </a:path>
            </a:pathLst>
          </a:custGeom>
          <a:noFill/>
          <a:ln w="763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4686480" y="228600"/>
            <a:ext cx="12600" cy="647640"/>
          </a:xfrm>
          <a:custGeom>
            <a:avLst/>
            <a:gdLst/>
            <a:ahLst/>
            <a:rect l="l" t="t" r="r" b="b"/>
            <a:pathLst>
              <a:path w="8" h="408">
                <a:moveTo>
                  <a:pt x="0" y="0"/>
                </a:moveTo>
                <a:lnTo>
                  <a:pt x="8" y="408"/>
                </a:lnTo>
              </a:path>
            </a:pathLst>
          </a:custGeom>
          <a:noFill/>
          <a:ln w="763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0" name=""/>
          <p:cNvGrpSpPr/>
          <p:nvPr/>
        </p:nvGrpSpPr>
        <p:grpSpPr>
          <a:xfrm>
            <a:off x="5791320" y="2133720"/>
            <a:ext cx="2438280" cy="703440"/>
            <a:chOff x="5791320" y="2133720"/>
            <a:chExt cx="2438280" cy="703440"/>
          </a:xfrm>
        </p:grpSpPr>
        <p:sp>
          <p:nvSpPr>
            <p:cNvPr id="1801" name=""/>
            <p:cNvSpPr/>
            <p:nvPr/>
          </p:nvSpPr>
          <p:spPr>
            <a:xfrm>
              <a:off x="5791320" y="213372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e – 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943600" y="2286000"/>
              <a:ext cx="29160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667560" y="2260800"/>
              <a:ext cx="29160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5791320" y="2971800"/>
            <a:ext cx="838080" cy="703440"/>
            <a:chOff x="5791320" y="2971800"/>
            <a:chExt cx="838080" cy="703440"/>
          </a:xfrm>
        </p:grpSpPr>
        <p:sp>
          <p:nvSpPr>
            <p:cNvPr id="1805" name=""/>
            <p:cNvSpPr/>
            <p:nvPr/>
          </p:nvSpPr>
          <p:spPr>
            <a:xfrm>
              <a:off x="5791320" y="297180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-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172200" y="3200400"/>
              <a:ext cx="29160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5943600" y="3962520"/>
            <a:ext cx="838080" cy="703440"/>
            <a:chOff x="5943600" y="3962520"/>
            <a:chExt cx="838080" cy="703440"/>
          </a:xfrm>
        </p:grpSpPr>
        <p:sp>
          <p:nvSpPr>
            <p:cNvPr id="1808" name=""/>
            <p:cNvSpPr/>
            <p:nvPr/>
          </p:nvSpPr>
          <p:spPr>
            <a:xfrm>
              <a:off x="5943600" y="396252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3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324480" y="4191120"/>
              <a:ext cx="29160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5791320" y="4876920"/>
            <a:ext cx="1218960" cy="703440"/>
            <a:chOff x="5791320" y="4876920"/>
            <a:chExt cx="1218960" cy="703440"/>
          </a:xfrm>
        </p:grpSpPr>
        <p:sp>
          <p:nvSpPr>
            <p:cNvPr id="1811" name=""/>
            <p:cNvSpPr/>
            <p:nvPr/>
          </p:nvSpPr>
          <p:spPr>
            <a:xfrm>
              <a:off x="5791320" y="4876920"/>
              <a:ext cx="121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-2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324480" y="4978800"/>
              <a:ext cx="29160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5715000" y="5791320"/>
            <a:ext cx="1790640" cy="712800"/>
            <a:chOff x="5715000" y="5791320"/>
            <a:chExt cx="1790640" cy="712800"/>
          </a:xfrm>
        </p:grpSpPr>
        <p:grpSp>
          <p:nvGrpSpPr>
            <p:cNvPr id="1814" name=""/>
            <p:cNvGrpSpPr/>
            <p:nvPr/>
          </p:nvGrpSpPr>
          <p:grpSpPr>
            <a:xfrm>
              <a:off x="5715000" y="5791320"/>
              <a:ext cx="838080" cy="703440"/>
              <a:chOff x="5715000" y="5791320"/>
              <a:chExt cx="838080" cy="703440"/>
            </a:xfrm>
          </p:grpSpPr>
          <p:sp>
            <p:nvSpPr>
              <p:cNvPr id="1815" name=""/>
              <p:cNvSpPr/>
              <p:nvPr/>
            </p:nvSpPr>
            <p:spPr>
              <a:xfrm>
                <a:off x="5715000" y="579132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3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095880" y="6019920"/>
                <a:ext cx="29160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7" name=""/>
            <p:cNvSpPr/>
            <p:nvPr/>
          </p:nvSpPr>
          <p:spPr>
            <a:xfrm>
              <a:off x="6286680" y="5800680"/>
              <a:ext cx="121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–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2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023240" y="601812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92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17600" y="825480"/>
            <a:ext cx="5252400" cy="424800"/>
            <a:chOff x="417600" y="825480"/>
            <a:chExt cx="5252400" cy="424800"/>
          </a:xfrm>
        </p:grpSpPr>
        <p:sp>
          <p:nvSpPr>
            <p:cNvPr id="201" name=""/>
            <p:cNvSpPr/>
            <p:nvPr/>
          </p:nvSpPr>
          <p:spPr>
            <a:xfrm>
              <a:off x="417600" y="825480"/>
              <a:ext cx="5252400" cy="2520"/>
            </a:xfrm>
            <a:custGeom>
              <a:avLst/>
              <a:gdLst/>
              <a:ahLst/>
              <a:rect l="l" t="t" r="r" b="b"/>
              <a:pathLst>
                <a:path w="1436" h="1">
                  <a:moveTo>
                    <a:pt x="0" y="0"/>
                  </a:moveTo>
                  <a:lnTo>
                    <a:pt x="1436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6400" y="1247400"/>
              <a:ext cx="5223600" cy="2880"/>
            </a:xfrm>
            <a:custGeom>
              <a:avLst/>
              <a:gdLst/>
              <a:ahLst/>
              <a:rect l="l" t="t" r="r" b="b"/>
              <a:pathLst>
                <a:path w="1428" h="1">
                  <a:moveTo>
                    <a:pt x="0" y="0"/>
                  </a:moveTo>
                  <a:lnTo>
                    <a:pt x="1428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17600" y="1698480"/>
            <a:ext cx="5253120" cy="3240"/>
          </a:xfrm>
          <a:custGeom>
            <a:avLst/>
            <a:gdLst/>
            <a:ahLst/>
            <a:rect l="l" t="t" r="r" b="b"/>
            <a:pathLst>
              <a:path w="1436" h="1">
                <a:moveTo>
                  <a:pt x="0" y="0"/>
                </a:moveTo>
                <a:lnTo>
                  <a:pt x="1436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2095560"/>
            <a:ext cx="5308560" cy="12600"/>
          </a:xfrm>
          <a:custGeom>
            <a:avLst/>
            <a:gdLst/>
            <a:ahLst/>
            <a:rect l="l" t="t" r="r" b="b"/>
            <a:pathLst>
              <a:path w="3344" h="8">
                <a:moveTo>
                  <a:pt x="0" y="0"/>
                </a:moveTo>
                <a:lnTo>
                  <a:pt x="3344" y="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17600" y="2522520"/>
            <a:ext cx="5252400" cy="424800"/>
            <a:chOff x="417600" y="2522520"/>
            <a:chExt cx="5252400" cy="424800"/>
          </a:xfrm>
        </p:grpSpPr>
        <p:sp>
          <p:nvSpPr>
            <p:cNvPr id="206" name=""/>
            <p:cNvSpPr/>
            <p:nvPr/>
          </p:nvSpPr>
          <p:spPr>
            <a:xfrm>
              <a:off x="417600" y="2522520"/>
              <a:ext cx="5252400" cy="2520"/>
            </a:xfrm>
            <a:custGeom>
              <a:avLst/>
              <a:gdLst/>
              <a:ahLst/>
              <a:rect l="l" t="t" r="r" b="b"/>
              <a:pathLst>
                <a:path w="1436" h="1">
                  <a:moveTo>
                    <a:pt x="0" y="0"/>
                  </a:moveTo>
                  <a:lnTo>
                    <a:pt x="1436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6400" y="2944440"/>
              <a:ext cx="5223600" cy="2880"/>
            </a:xfrm>
            <a:custGeom>
              <a:avLst/>
              <a:gdLst/>
              <a:ahLst/>
              <a:rect l="l" t="t" r="r" b="b"/>
              <a:pathLst>
                <a:path w="1428" h="1">
                  <a:moveTo>
                    <a:pt x="0" y="0"/>
                  </a:moveTo>
                  <a:lnTo>
                    <a:pt x="1428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04640" y="3376440"/>
            <a:ext cx="5295240" cy="443880"/>
            <a:chOff x="404640" y="3376440"/>
            <a:chExt cx="5295240" cy="443880"/>
          </a:xfrm>
        </p:grpSpPr>
        <p:sp>
          <p:nvSpPr>
            <p:cNvPr id="209" name=""/>
            <p:cNvSpPr/>
            <p:nvPr/>
          </p:nvSpPr>
          <p:spPr>
            <a:xfrm>
              <a:off x="404640" y="3376440"/>
              <a:ext cx="5295240" cy="11160"/>
            </a:xfrm>
            <a:custGeom>
              <a:avLst/>
              <a:gdLst/>
              <a:ahLst/>
              <a:rect l="l" t="t" r="r" b="b"/>
              <a:pathLst>
                <a:path w="1448" h="4">
                  <a:moveTo>
                    <a:pt x="0" y="0"/>
                  </a:moveTo>
                  <a:lnTo>
                    <a:pt x="1448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3320" y="3809880"/>
              <a:ext cx="5236560" cy="10440"/>
            </a:xfrm>
            <a:custGeom>
              <a:avLst/>
              <a:gdLst/>
              <a:ahLst/>
              <a:rect l="l" t="t" r="r" b="b"/>
              <a:pathLst>
                <a:path w="1432" h="4">
                  <a:moveTo>
                    <a:pt x="0" y="0"/>
                  </a:moveTo>
                  <a:lnTo>
                    <a:pt x="1432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17600" y="4210200"/>
            <a:ext cx="5295240" cy="443520"/>
            <a:chOff x="417600" y="4210200"/>
            <a:chExt cx="5295240" cy="443520"/>
          </a:xfrm>
        </p:grpSpPr>
        <p:sp>
          <p:nvSpPr>
            <p:cNvPr id="212" name=""/>
            <p:cNvSpPr/>
            <p:nvPr/>
          </p:nvSpPr>
          <p:spPr>
            <a:xfrm>
              <a:off x="417600" y="4210200"/>
              <a:ext cx="5295240" cy="11160"/>
            </a:xfrm>
            <a:custGeom>
              <a:avLst/>
              <a:gdLst/>
              <a:ahLst/>
              <a:rect l="l" t="t" r="r" b="b"/>
              <a:pathLst>
                <a:path w="1448" h="4">
                  <a:moveTo>
                    <a:pt x="0" y="0"/>
                  </a:moveTo>
                  <a:lnTo>
                    <a:pt x="1448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6280" y="4643280"/>
              <a:ext cx="5236560" cy="10440"/>
            </a:xfrm>
            <a:custGeom>
              <a:avLst/>
              <a:gdLst/>
              <a:ahLst/>
              <a:rect l="l" t="t" r="r" b="b"/>
              <a:pathLst>
                <a:path w="1432" h="4">
                  <a:moveTo>
                    <a:pt x="0" y="0"/>
                  </a:moveTo>
                  <a:lnTo>
                    <a:pt x="1432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04640" y="5075280"/>
            <a:ext cx="5308200" cy="453600"/>
            <a:chOff x="404640" y="5075280"/>
            <a:chExt cx="5308200" cy="453600"/>
          </a:xfrm>
        </p:grpSpPr>
        <p:sp>
          <p:nvSpPr>
            <p:cNvPr id="215" name=""/>
            <p:cNvSpPr/>
            <p:nvPr/>
          </p:nvSpPr>
          <p:spPr>
            <a:xfrm>
              <a:off x="404640" y="5075280"/>
              <a:ext cx="5264280" cy="2160"/>
            </a:xfrm>
            <a:custGeom>
              <a:avLst/>
              <a:gdLst/>
              <a:ahLst/>
              <a:rect l="l" t="t" r="r" b="b"/>
              <a:pathLst>
                <a:path w="1440" h="1">
                  <a:moveTo>
                    <a:pt x="0" y="0"/>
                  </a:move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4640" y="5506920"/>
              <a:ext cx="5308200" cy="21960"/>
            </a:xfrm>
            <a:custGeom>
              <a:avLst/>
              <a:gdLst/>
              <a:ahLst/>
              <a:rect l="l" t="t" r="r" b="b"/>
              <a:pathLst>
                <a:path w="1452" h="8">
                  <a:moveTo>
                    <a:pt x="0" y="8"/>
                  </a:moveTo>
                  <a:lnTo>
                    <a:pt x="1452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04640" y="5929200"/>
            <a:ext cx="5266080" cy="12960"/>
          </a:xfrm>
          <a:custGeom>
            <a:avLst/>
            <a:gdLst/>
            <a:ahLst/>
            <a:rect l="l" t="t" r="r" b="b"/>
            <a:pathLst>
              <a:path w="1440" h="4">
                <a:moveTo>
                  <a:pt x="0" y="4"/>
                </a:moveTo>
                <a:lnTo>
                  <a:pt x="1440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4640" y="6362640"/>
            <a:ext cx="5249880" cy="1800"/>
          </a:xfrm>
          <a:custGeom>
            <a:avLst/>
            <a:gdLst/>
            <a:ahLst/>
            <a:rect l="l" t="t" r="r" b="b"/>
            <a:pathLst>
              <a:path w="1436" h="1">
                <a:moveTo>
                  <a:pt x="0" y="0"/>
                </a:moveTo>
                <a:lnTo>
                  <a:pt x="1436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7600" y="392040"/>
            <a:ext cx="5265720" cy="11160"/>
          </a:xfrm>
          <a:custGeom>
            <a:avLst/>
            <a:gdLst/>
            <a:ahLst/>
            <a:rect l="l" t="t" r="r" b="b"/>
            <a:pathLst>
              <a:path w="1440" h="4">
                <a:moveTo>
                  <a:pt x="0" y="4"/>
                </a:moveTo>
                <a:lnTo>
                  <a:pt x="1440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4360" y="392040"/>
            <a:ext cx="4680" cy="5994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63920" y="388800"/>
            <a:ext cx="1800" cy="5994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06720" y="392040"/>
            <a:ext cx="9720" cy="5994360"/>
          </a:xfrm>
          <a:custGeom>
            <a:avLst/>
            <a:gdLst/>
            <a:ahLst/>
            <a:rect l="l" t="t" r="r" b="b"/>
            <a:pathLst>
              <a:path w="4" h="2160">
                <a:moveTo>
                  <a:pt x="4" y="0"/>
                </a:moveTo>
                <a:lnTo>
                  <a:pt x="0" y="216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59240" y="380880"/>
            <a:ext cx="11160" cy="6015240"/>
          </a:xfrm>
          <a:custGeom>
            <a:avLst/>
            <a:gdLst/>
            <a:ahLst/>
            <a:rect l="l" t="t" r="r" b="b"/>
            <a:pathLst>
              <a:path w="4" h="2168">
                <a:moveTo>
                  <a:pt x="0" y="0"/>
                </a:moveTo>
                <a:lnTo>
                  <a:pt x="4" y="216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33720" y="392040"/>
            <a:ext cx="11160" cy="6015240"/>
          </a:xfrm>
          <a:custGeom>
            <a:avLst/>
            <a:gdLst/>
            <a:ahLst/>
            <a:rect l="l" t="t" r="r" b="b"/>
            <a:pathLst>
              <a:path w="4" h="2168">
                <a:moveTo>
                  <a:pt x="0" y="0"/>
                </a:moveTo>
                <a:lnTo>
                  <a:pt x="4" y="216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87680" y="380880"/>
            <a:ext cx="9360" cy="5992920"/>
          </a:xfrm>
          <a:custGeom>
            <a:avLst/>
            <a:gdLst/>
            <a:ahLst/>
            <a:rect l="l" t="t" r="r" b="b"/>
            <a:pathLst>
              <a:path w="4" h="2160">
                <a:moveTo>
                  <a:pt x="0" y="0"/>
                </a:moveTo>
                <a:lnTo>
                  <a:pt x="4" y="216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49560" y="392040"/>
            <a:ext cx="22320" cy="5959440"/>
          </a:xfrm>
          <a:custGeom>
            <a:avLst/>
            <a:gdLst/>
            <a:ahLst/>
            <a:rect l="l" t="t" r="r" b="b"/>
            <a:pathLst>
              <a:path w="8" h="2148">
                <a:moveTo>
                  <a:pt x="0" y="0"/>
                </a:moveTo>
                <a:lnTo>
                  <a:pt x="8" y="214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24040" y="392040"/>
            <a:ext cx="22320" cy="5959440"/>
          </a:xfrm>
          <a:custGeom>
            <a:avLst/>
            <a:gdLst/>
            <a:ahLst/>
            <a:rect l="l" t="t" r="r" b="b"/>
            <a:pathLst>
              <a:path w="8" h="2148">
                <a:moveTo>
                  <a:pt x="0" y="0"/>
                </a:moveTo>
                <a:lnTo>
                  <a:pt x="8" y="214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9160" y="392040"/>
            <a:ext cx="9360" cy="5970600"/>
          </a:xfrm>
          <a:custGeom>
            <a:avLst/>
            <a:gdLst/>
            <a:ahLst/>
            <a:rect l="l" t="t" r="r" b="b"/>
            <a:pathLst>
              <a:path w="4" h="2152">
                <a:moveTo>
                  <a:pt x="0" y="0"/>
                </a:moveTo>
                <a:lnTo>
                  <a:pt x="4" y="2152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1320" y="380880"/>
            <a:ext cx="11160" cy="5992920"/>
          </a:xfrm>
          <a:custGeom>
            <a:avLst/>
            <a:gdLst/>
            <a:ahLst/>
            <a:rect l="l" t="t" r="r" b="b"/>
            <a:pathLst>
              <a:path w="4" h="2160">
                <a:moveTo>
                  <a:pt x="0" y="0"/>
                </a:moveTo>
                <a:lnTo>
                  <a:pt x="4" y="216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3381480"/>
            <a:ext cx="5332680" cy="17280"/>
          </a:xfrm>
          <a:custGeom>
            <a:avLst/>
            <a:gdLst/>
            <a:ahLst/>
            <a:rect l="l" t="t" r="r" b="b"/>
            <a:pathLst>
              <a:path w="2656" h="8">
                <a:moveTo>
                  <a:pt x="0" y="0"/>
                </a:moveTo>
                <a:lnTo>
                  <a:pt x="2656" y="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13200" y="388800"/>
            <a:ext cx="15840" cy="5967720"/>
          </a:xfrm>
          <a:custGeom>
            <a:avLst/>
            <a:gdLst/>
            <a:ahLst/>
            <a:rect l="l" t="t" r="r" b="b"/>
            <a:pathLst>
              <a:path w="8" h="2808">
                <a:moveTo>
                  <a:pt x="0" y="0"/>
                </a:moveTo>
                <a:lnTo>
                  <a:pt x="8" y="280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62480" y="388800"/>
            <a:ext cx="33480" cy="5950080"/>
          </a:xfrm>
          <a:custGeom>
            <a:avLst/>
            <a:gdLst/>
            <a:ahLst/>
            <a:rect l="l" t="t" r="r" b="b"/>
            <a:pathLst>
              <a:path w="16" h="2800">
                <a:moveTo>
                  <a:pt x="0" y="0"/>
                </a:moveTo>
                <a:lnTo>
                  <a:pt x="16" y="280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13560" y="388800"/>
            <a:ext cx="1440" cy="5994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33680" y="334800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14640" y="423720"/>
            <a:ext cx="31680" cy="5983560"/>
          </a:xfrm>
          <a:custGeom>
            <a:avLst/>
            <a:gdLst/>
            <a:ahLst/>
            <a:rect l="l" t="t" r="r" b="b"/>
            <a:pathLst>
              <a:path w="16" h="2816">
                <a:moveTo>
                  <a:pt x="16" y="28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022560" y="3390840"/>
            <a:ext cx="1346400" cy="2108160"/>
            <a:chOff x="3022560" y="3390840"/>
            <a:chExt cx="1346400" cy="2108160"/>
          </a:xfrm>
        </p:grpSpPr>
        <p:sp>
          <p:nvSpPr>
            <p:cNvPr id="237" name=""/>
            <p:cNvSpPr/>
            <p:nvPr/>
          </p:nvSpPr>
          <p:spPr>
            <a:xfrm>
              <a:off x="3022560" y="3390840"/>
              <a:ext cx="1346400" cy="2108160"/>
            </a:xfrm>
            <a:custGeom>
              <a:avLst/>
              <a:gdLst/>
              <a:ahLst/>
              <a:rect l="l" t="t" r="r" b="b"/>
              <a:pathLst>
                <a:path w="848" h="1328">
                  <a:moveTo>
                    <a:pt x="0" y="0"/>
                  </a:moveTo>
                  <a:lnTo>
                    <a:pt x="848" y="13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657600" y="3886200"/>
              <a:ext cx="609480" cy="703440"/>
              <a:chOff x="3657600" y="3886200"/>
              <a:chExt cx="609480" cy="703440"/>
            </a:xfrm>
          </p:grpSpPr>
          <p:sp>
            <p:nvSpPr>
              <p:cNvPr id="239" name=""/>
              <p:cNvSpPr/>
              <p:nvPr/>
            </p:nvSpPr>
            <p:spPr>
              <a:xfrm>
                <a:off x="3657600" y="3886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p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809880" y="411480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943600" y="1219320"/>
            <a:ext cx="1828800" cy="703440"/>
            <a:chOff x="5943600" y="1219320"/>
            <a:chExt cx="1828800" cy="703440"/>
          </a:xfrm>
        </p:grpSpPr>
        <p:sp>
          <p:nvSpPr>
            <p:cNvPr id="242" name=""/>
            <p:cNvSpPr/>
            <p:nvPr/>
          </p:nvSpPr>
          <p:spPr>
            <a:xfrm>
              <a:off x="5943600" y="121932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p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3;-5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95880" y="14479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343400" y="4983120"/>
            <a:ext cx="430200" cy="581400"/>
            <a:chOff x="4343400" y="4983120"/>
            <a:chExt cx="430200" cy="581400"/>
          </a:xfrm>
        </p:grpSpPr>
        <p:sp>
          <p:nvSpPr>
            <p:cNvPr id="245" name=""/>
            <p:cNvSpPr/>
            <p:nvPr/>
          </p:nvSpPr>
          <p:spPr>
            <a:xfrm>
              <a:off x="4343400" y="54864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44480" y="49831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277800" y="335268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67280" y="45720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P</a:t>
            </a:r>
            <a:r>
              <a:rPr b="1" i="1" lang="ru-RU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3;-5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22560" y="3390840"/>
            <a:ext cx="471600" cy="1800"/>
          </a:xfrm>
          <a:custGeom>
            <a:avLst/>
            <a:gdLst/>
            <a:ahLst/>
            <a:rect l="l" t="t" r="r" b="b"/>
            <a:pathLst>
              <a:path w="297" h="1">
                <a:moveTo>
                  <a:pt x="0" y="0"/>
                </a:moveTo>
                <a:lnTo>
                  <a:pt x="29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895480" y="3397320"/>
            <a:ext cx="609840" cy="642600"/>
            <a:chOff x="2895480" y="3397320"/>
            <a:chExt cx="609840" cy="642600"/>
          </a:xfrm>
        </p:grpSpPr>
        <p:sp>
          <p:nvSpPr>
            <p:cNvPr id="251" name=""/>
            <p:cNvSpPr/>
            <p:nvPr/>
          </p:nvSpPr>
          <p:spPr>
            <a:xfrm>
              <a:off x="2895480" y="33973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24080" y="3543120"/>
              <a:ext cx="225720" cy="612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0"/>
                  </a:moveTo>
                  <a:lnTo>
                    <a:pt x="142" y="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943600" y="2133720"/>
            <a:ext cx="2514600" cy="703440"/>
            <a:chOff x="5943600" y="2133720"/>
            <a:chExt cx="2514600" cy="703440"/>
          </a:xfrm>
        </p:grpSpPr>
        <p:sp>
          <p:nvSpPr>
            <p:cNvPr id="254" name=""/>
            <p:cNvSpPr/>
            <p:nvPr/>
          </p:nvSpPr>
          <p:spPr>
            <a:xfrm>
              <a:off x="5943600" y="213372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p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3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–5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95880" y="2362320"/>
              <a:ext cx="29232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86520" y="228312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94720" y="227844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38280" y="1689120"/>
            <a:ext cx="609840" cy="1689120"/>
            <a:chOff x="2438280" y="1689120"/>
            <a:chExt cx="609840" cy="1689120"/>
          </a:xfrm>
        </p:grpSpPr>
        <p:sp>
          <p:nvSpPr>
            <p:cNvPr id="259" name=""/>
            <p:cNvSpPr/>
            <p:nvPr/>
          </p:nvSpPr>
          <p:spPr>
            <a:xfrm>
              <a:off x="3022560" y="1689120"/>
              <a:ext cx="12600" cy="1689120"/>
            </a:xfrm>
            <a:custGeom>
              <a:avLst/>
              <a:gdLst/>
              <a:ahLst/>
              <a:rect l="l" t="t" r="r" b="b"/>
              <a:pathLst>
                <a:path w="8" h="1064">
                  <a:moveTo>
                    <a:pt x="8" y="106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2438280" y="1828800"/>
              <a:ext cx="609840" cy="703440"/>
              <a:chOff x="2438280" y="1828800"/>
              <a:chExt cx="609840" cy="703440"/>
            </a:xfrm>
          </p:grpSpPr>
          <p:sp>
            <p:nvSpPr>
              <p:cNvPr id="261" name=""/>
              <p:cNvSpPr/>
              <p:nvPr/>
            </p:nvSpPr>
            <p:spPr>
              <a:xfrm>
                <a:off x="2438280" y="18288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m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90920" y="20574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"/>
          <p:cNvSpPr/>
          <p:nvPr/>
        </p:nvSpPr>
        <p:spPr>
          <a:xfrm>
            <a:off x="3027240" y="2922480"/>
            <a:ext cx="1800" cy="468360"/>
          </a:xfrm>
          <a:custGeom>
            <a:avLst/>
            <a:gdLst/>
            <a:ahLst/>
            <a:rect l="l" t="t" r="r" b="b"/>
            <a:pathLst>
              <a:path w="1" h="295">
                <a:moveTo>
                  <a:pt x="0" y="29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514600" y="2743200"/>
            <a:ext cx="609480" cy="642600"/>
            <a:chOff x="2514600" y="2743200"/>
            <a:chExt cx="609480" cy="642600"/>
          </a:xfrm>
        </p:grpSpPr>
        <p:sp>
          <p:nvSpPr>
            <p:cNvPr id="265" name=""/>
            <p:cNvSpPr/>
            <p:nvPr/>
          </p:nvSpPr>
          <p:spPr>
            <a:xfrm>
              <a:off x="2514600" y="27432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55800" y="2882880"/>
              <a:ext cx="22536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0"/>
                  </a:moveTo>
                  <a:lnTo>
                    <a:pt x="142" y="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971800" y="1143000"/>
            <a:ext cx="543960" cy="581400"/>
            <a:chOff x="2971800" y="1143000"/>
            <a:chExt cx="543960" cy="581400"/>
          </a:xfrm>
        </p:grpSpPr>
        <p:sp>
          <p:nvSpPr>
            <p:cNvPr id="268" name=""/>
            <p:cNvSpPr/>
            <p:nvPr/>
          </p:nvSpPr>
          <p:spPr>
            <a:xfrm>
              <a:off x="2971800" y="16462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73960" y="1143000"/>
              <a:ext cx="5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943600" y="4343400"/>
            <a:ext cx="1828800" cy="703440"/>
            <a:chOff x="5943600" y="4343400"/>
            <a:chExt cx="1828800" cy="703440"/>
          </a:xfrm>
        </p:grpSpPr>
        <p:sp>
          <p:nvSpPr>
            <p:cNvPr id="271" name=""/>
            <p:cNvSpPr/>
            <p:nvPr/>
          </p:nvSpPr>
          <p:spPr>
            <a:xfrm>
              <a:off x="5943600" y="434340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m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0; 4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95880" y="45720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5943600" y="35812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i="1" lang="ru-RU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0;4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943600" y="5257800"/>
            <a:ext cx="2514600" cy="703440"/>
            <a:chOff x="5943600" y="5257800"/>
            <a:chExt cx="2514600" cy="703440"/>
          </a:xfrm>
        </p:grpSpPr>
        <p:sp>
          <p:nvSpPr>
            <p:cNvPr id="275" name=""/>
            <p:cNvSpPr/>
            <p:nvPr/>
          </p:nvSpPr>
          <p:spPr>
            <a:xfrm>
              <a:off x="5943600" y="525780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m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0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4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95880" y="5486400"/>
              <a:ext cx="29232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86520" y="540720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94720" y="540252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335200" y="2666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15680" y="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010280" y="5883120"/>
            <a:ext cx="2514600" cy="703440"/>
            <a:chOff x="7010280" y="5883120"/>
            <a:chExt cx="2514600" cy="703440"/>
          </a:xfrm>
        </p:grpSpPr>
        <p:sp>
          <p:nvSpPr>
            <p:cNvPr id="282" name=""/>
            <p:cNvSpPr/>
            <p:nvPr/>
          </p:nvSpPr>
          <p:spPr>
            <a:xfrm>
              <a:off x="7010280" y="588312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m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4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62560" y="611172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292960" y="603216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86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17600" y="825480"/>
            <a:ext cx="5252400" cy="424800"/>
            <a:chOff x="417600" y="825480"/>
            <a:chExt cx="5252400" cy="424800"/>
          </a:xfrm>
        </p:grpSpPr>
        <p:sp>
          <p:nvSpPr>
            <p:cNvPr id="295" name=""/>
            <p:cNvSpPr/>
            <p:nvPr/>
          </p:nvSpPr>
          <p:spPr>
            <a:xfrm>
              <a:off x="417600" y="825480"/>
              <a:ext cx="5252400" cy="2520"/>
            </a:xfrm>
            <a:custGeom>
              <a:avLst/>
              <a:gdLst/>
              <a:ahLst/>
              <a:rect l="l" t="t" r="r" b="b"/>
              <a:pathLst>
                <a:path w="1436" h="1">
                  <a:moveTo>
                    <a:pt x="0" y="0"/>
                  </a:moveTo>
                  <a:lnTo>
                    <a:pt x="1436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6400" y="1247400"/>
              <a:ext cx="5223600" cy="2880"/>
            </a:xfrm>
            <a:custGeom>
              <a:avLst/>
              <a:gdLst/>
              <a:ahLst/>
              <a:rect l="l" t="t" r="r" b="b"/>
              <a:pathLst>
                <a:path w="1428" h="1">
                  <a:moveTo>
                    <a:pt x="0" y="0"/>
                  </a:moveTo>
                  <a:lnTo>
                    <a:pt x="1428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17600" y="1698480"/>
            <a:ext cx="5253120" cy="3240"/>
          </a:xfrm>
          <a:custGeom>
            <a:avLst/>
            <a:gdLst/>
            <a:ahLst/>
            <a:rect l="l" t="t" r="r" b="b"/>
            <a:pathLst>
              <a:path w="1436" h="1">
                <a:moveTo>
                  <a:pt x="0" y="0"/>
                </a:moveTo>
                <a:lnTo>
                  <a:pt x="1436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095560"/>
            <a:ext cx="5308560" cy="12600"/>
          </a:xfrm>
          <a:custGeom>
            <a:avLst/>
            <a:gdLst/>
            <a:ahLst/>
            <a:rect l="l" t="t" r="r" b="b"/>
            <a:pathLst>
              <a:path w="3344" h="8">
                <a:moveTo>
                  <a:pt x="0" y="0"/>
                </a:moveTo>
                <a:lnTo>
                  <a:pt x="3344" y="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17600" y="2522520"/>
            <a:ext cx="5252400" cy="424800"/>
            <a:chOff x="417600" y="2522520"/>
            <a:chExt cx="5252400" cy="424800"/>
          </a:xfrm>
        </p:grpSpPr>
        <p:sp>
          <p:nvSpPr>
            <p:cNvPr id="300" name=""/>
            <p:cNvSpPr/>
            <p:nvPr/>
          </p:nvSpPr>
          <p:spPr>
            <a:xfrm>
              <a:off x="417600" y="2522520"/>
              <a:ext cx="5252400" cy="2520"/>
            </a:xfrm>
            <a:custGeom>
              <a:avLst/>
              <a:gdLst/>
              <a:ahLst/>
              <a:rect l="l" t="t" r="r" b="b"/>
              <a:pathLst>
                <a:path w="1436" h="1">
                  <a:moveTo>
                    <a:pt x="0" y="0"/>
                  </a:moveTo>
                  <a:lnTo>
                    <a:pt x="1436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6400" y="2944440"/>
              <a:ext cx="5223600" cy="2880"/>
            </a:xfrm>
            <a:custGeom>
              <a:avLst/>
              <a:gdLst/>
              <a:ahLst/>
              <a:rect l="l" t="t" r="r" b="b"/>
              <a:pathLst>
                <a:path w="1428" h="1">
                  <a:moveTo>
                    <a:pt x="0" y="0"/>
                  </a:moveTo>
                  <a:lnTo>
                    <a:pt x="1428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04640" y="3376440"/>
            <a:ext cx="5295240" cy="443880"/>
            <a:chOff x="404640" y="3376440"/>
            <a:chExt cx="5295240" cy="443880"/>
          </a:xfrm>
        </p:grpSpPr>
        <p:sp>
          <p:nvSpPr>
            <p:cNvPr id="303" name=""/>
            <p:cNvSpPr/>
            <p:nvPr/>
          </p:nvSpPr>
          <p:spPr>
            <a:xfrm>
              <a:off x="404640" y="3376440"/>
              <a:ext cx="5295240" cy="11160"/>
            </a:xfrm>
            <a:custGeom>
              <a:avLst/>
              <a:gdLst/>
              <a:ahLst/>
              <a:rect l="l" t="t" r="r" b="b"/>
              <a:pathLst>
                <a:path w="1448" h="4">
                  <a:moveTo>
                    <a:pt x="0" y="0"/>
                  </a:moveTo>
                  <a:lnTo>
                    <a:pt x="1448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3320" y="3809880"/>
              <a:ext cx="5236560" cy="10440"/>
            </a:xfrm>
            <a:custGeom>
              <a:avLst/>
              <a:gdLst/>
              <a:ahLst/>
              <a:rect l="l" t="t" r="r" b="b"/>
              <a:pathLst>
                <a:path w="1432" h="4">
                  <a:moveTo>
                    <a:pt x="0" y="0"/>
                  </a:moveTo>
                  <a:lnTo>
                    <a:pt x="1432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17600" y="4210200"/>
            <a:ext cx="5295240" cy="443520"/>
            <a:chOff x="417600" y="4210200"/>
            <a:chExt cx="5295240" cy="443520"/>
          </a:xfrm>
        </p:grpSpPr>
        <p:sp>
          <p:nvSpPr>
            <p:cNvPr id="306" name=""/>
            <p:cNvSpPr/>
            <p:nvPr/>
          </p:nvSpPr>
          <p:spPr>
            <a:xfrm>
              <a:off x="417600" y="4210200"/>
              <a:ext cx="5295240" cy="11160"/>
            </a:xfrm>
            <a:custGeom>
              <a:avLst/>
              <a:gdLst/>
              <a:ahLst/>
              <a:rect l="l" t="t" r="r" b="b"/>
              <a:pathLst>
                <a:path w="1448" h="4">
                  <a:moveTo>
                    <a:pt x="0" y="0"/>
                  </a:moveTo>
                  <a:lnTo>
                    <a:pt x="1448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6280" y="4643280"/>
              <a:ext cx="5236560" cy="10440"/>
            </a:xfrm>
            <a:custGeom>
              <a:avLst/>
              <a:gdLst/>
              <a:ahLst/>
              <a:rect l="l" t="t" r="r" b="b"/>
              <a:pathLst>
                <a:path w="1432" h="4">
                  <a:moveTo>
                    <a:pt x="0" y="0"/>
                  </a:moveTo>
                  <a:lnTo>
                    <a:pt x="1432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04640" y="5075280"/>
            <a:ext cx="5308200" cy="453600"/>
            <a:chOff x="404640" y="5075280"/>
            <a:chExt cx="5308200" cy="453600"/>
          </a:xfrm>
        </p:grpSpPr>
        <p:sp>
          <p:nvSpPr>
            <p:cNvPr id="309" name=""/>
            <p:cNvSpPr/>
            <p:nvPr/>
          </p:nvSpPr>
          <p:spPr>
            <a:xfrm>
              <a:off x="404640" y="5075280"/>
              <a:ext cx="5264280" cy="2160"/>
            </a:xfrm>
            <a:custGeom>
              <a:avLst/>
              <a:gdLst/>
              <a:ahLst/>
              <a:rect l="l" t="t" r="r" b="b"/>
              <a:pathLst>
                <a:path w="1440" h="1">
                  <a:moveTo>
                    <a:pt x="0" y="0"/>
                  </a:move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4640" y="5506920"/>
              <a:ext cx="5308200" cy="21960"/>
            </a:xfrm>
            <a:custGeom>
              <a:avLst/>
              <a:gdLst/>
              <a:ahLst/>
              <a:rect l="l" t="t" r="r" b="b"/>
              <a:pathLst>
                <a:path w="1452" h="8">
                  <a:moveTo>
                    <a:pt x="0" y="8"/>
                  </a:moveTo>
                  <a:lnTo>
                    <a:pt x="1452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404640" y="5929200"/>
            <a:ext cx="5266080" cy="12960"/>
          </a:xfrm>
          <a:custGeom>
            <a:avLst/>
            <a:gdLst/>
            <a:ahLst/>
            <a:rect l="l" t="t" r="r" b="b"/>
            <a:pathLst>
              <a:path w="1440" h="4">
                <a:moveTo>
                  <a:pt x="0" y="4"/>
                </a:moveTo>
                <a:lnTo>
                  <a:pt x="1440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04640" y="6362640"/>
            <a:ext cx="5249880" cy="1800"/>
          </a:xfrm>
          <a:custGeom>
            <a:avLst/>
            <a:gdLst/>
            <a:ahLst/>
            <a:rect l="l" t="t" r="r" b="b"/>
            <a:pathLst>
              <a:path w="1436" h="1">
                <a:moveTo>
                  <a:pt x="0" y="0"/>
                </a:moveTo>
                <a:lnTo>
                  <a:pt x="1436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7600" y="392040"/>
            <a:ext cx="5265720" cy="11160"/>
          </a:xfrm>
          <a:custGeom>
            <a:avLst/>
            <a:gdLst/>
            <a:ahLst/>
            <a:rect l="l" t="t" r="r" b="b"/>
            <a:pathLst>
              <a:path w="1440" h="4">
                <a:moveTo>
                  <a:pt x="0" y="4"/>
                </a:moveTo>
                <a:lnTo>
                  <a:pt x="1440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4360" y="392040"/>
            <a:ext cx="4680" cy="5994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63920" y="388800"/>
            <a:ext cx="1800" cy="5994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06720" y="392040"/>
            <a:ext cx="9720" cy="5994360"/>
          </a:xfrm>
          <a:custGeom>
            <a:avLst/>
            <a:gdLst/>
            <a:ahLst/>
            <a:rect l="l" t="t" r="r" b="b"/>
            <a:pathLst>
              <a:path w="4" h="2160">
                <a:moveTo>
                  <a:pt x="4" y="0"/>
                </a:moveTo>
                <a:lnTo>
                  <a:pt x="0" y="216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59240" y="380880"/>
            <a:ext cx="11160" cy="6015240"/>
          </a:xfrm>
          <a:custGeom>
            <a:avLst/>
            <a:gdLst/>
            <a:ahLst/>
            <a:rect l="l" t="t" r="r" b="b"/>
            <a:pathLst>
              <a:path w="4" h="2168">
                <a:moveTo>
                  <a:pt x="0" y="0"/>
                </a:moveTo>
                <a:lnTo>
                  <a:pt x="4" y="216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33720" y="392040"/>
            <a:ext cx="11160" cy="6015240"/>
          </a:xfrm>
          <a:custGeom>
            <a:avLst/>
            <a:gdLst/>
            <a:ahLst/>
            <a:rect l="l" t="t" r="r" b="b"/>
            <a:pathLst>
              <a:path w="4" h="2168">
                <a:moveTo>
                  <a:pt x="0" y="0"/>
                </a:moveTo>
                <a:lnTo>
                  <a:pt x="4" y="216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87680" y="380880"/>
            <a:ext cx="9360" cy="5992920"/>
          </a:xfrm>
          <a:custGeom>
            <a:avLst/>
            <a:gdLst/>
            <a:ahLst/>
            <a:rect l="l" t="t" r="r" b="b"/>
            <a:pathLst>
              <a:path w="4" h="2160">
                <a:moveTo>
                  <a:pt x="0" y="0"/>
                </a:moveTo>
                <a:lnTo>
                  <a:pt x="4" y="216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49560" y="392040"/>
            <a:ext cx="22320" cy="5959440"/>
          </a:xfrm>
          <a:custGeom>
            <a:avLst/>
            <a:gdLst/>
            <a:ahLst/>
            <a:rect l="l" t="t" r="r" b="b"/>
            <a:pathLst>
              <a:path w="8" h="2148">
                <a:moveTo>
                  <a:pt x="0" y="0"/>
                </a:moveTo>
                <a:lnTo>
                  <a:pt x="8" y="214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24040" y="392040"/>
            <a:ext cx="22320" cy="5959440"/>
          </a:xfrm>
          <a:custGeom>
            <a:avLst/>
            <a:gdLst/>
            <a:ahLst/>
            <a:rect l="l" t="t" r="r" b="b"/>
            <a:pathLst>
              <a:path w="8" h="2148">
                <a:moveTo>
                  <a:pt x="0" y="0"/>
                </a:moveTo>
                <a:lnTo>
                  <a:pt x="8" y="214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89160" y="392040"/>
            <a:ext cx="9360" cy="5970600"/>
          </a:xfrm>
          <a:custGeom>
            <a:avLst/>
            <a:gdLst/>
            <a:ahLst/>
            <a:rect l="l" t="t" r="r" b="b"/>
            <a:pathLst>
              <a:path w="4" h="2152">
                <a:moveTo>
                  <a:pt x="0" y="0"/>
                </a:moveTo>
                <a:lnTo>
                  <a:pt x="4" y="2152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41320" y="380880"/>
            <a:ext cx="11160" cy="5992920"/>
          </a:xfrm>
          <a:custGeom>
            <a:avLst/>
            <a:gdLst/>
            <a:ahLst/>
            <a:rect l="l" t="t" r="r" b="b"/>
            <a:pathLst>
              <a:path w="4" h="2160">
                <a:moveTo>
                  <a:pt x="0" y="0"/>
                </a:moveTo>
                <a:lnTo>
                  <a:pt x="4" y="216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3381480"/>
            <a:ext cx="5332680" cy="17280"/>
          </a:xfrm>
          <a:custGeom>
            <a:avLst/>
            <a:gdLst/>
            <a:ahLst/>
            <a:rect l="l" t="t" r="r" b="b"/>
            <a:pathLst>
              <a:path w="2656" h="8">
                <a:moveTo>
                  <a:pt x="0" y="0"/>
                </a:moveTo>
                <a:lnTo>
                  <a:pt x="2656" y="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13200" y="388800"/>
            <a:ext cx="15840" cy="5967720"/>
          </a:xfrm>
          <a:custGeom>
            <a:avLst/>
            <a:gdLst/>
            <a:ahLst/>
            <a:rect l="l" t="t" r="r" b="b"/>
            <a:pathLst>
              <a:path w="8" h="2808">
                <a:moveTo>
                  <a:pt x="0" y="0"/>
                </a:moveTo>
                <a:lnTo>
                  <a:pt x="8" y="280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62480" y="388800"/>
            <a:ext cx="33480" cy="5950080"/>
          </a:xfrm>
          <a:custGeom>
            <a:avLst/>
            <a:gdLst/>
            <a:ahLst/>
            <a:rect l="l" t="t" r="r" b="b"/>
            <a:pathLst>
              <a:path w="16" h="2800">
                <a:moveTo>
                  <a:pt x="0" y="0"/>
                </a:moveTo>
                <a:lnTo>
                  <a:pt x="16" y="280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13560" y="388800"/>
            <a:ext cx="1440" cy="5994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33680" y="334800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14640" y="423720"/>
            <a:ext cx="31680" cy="5983560"/>
          </a:xfrm>
          <a:custGeom>
            <a:avLst/>
            <a:gdLst/>
            <a:ahLst/>
            <a:rect l="l" t="t" r="r" b="b"/>
            <a:pathLst>
              <a:path w="16" h="2816">
                <a:moveTo>
                  <a:pt x="16" y="28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295280" y="3390840"/>
            <a:ext cx="1727280" cy="2133720"/>
            <a:chOff x="1295280" y="3390840"/>
            <a:chExt cx="1727280" cy="2133720"/>
          </a:xfrm>
        </p:grpSpPr>
        <p:sp>
          <p:nvSpPr>
            <p:cNvPr id="331" name=""/>
            <p:cNvSpPr/>
            <p:nvPr/>
          </p:nvSpPr>
          <p:spPr>
            <a:xfrm>
              <a:off x="1295280" y="3390840"/>
              <a:ext cx="1727280" cy="2133720"/>
            </a:xfrm>
            <a:custGeom>
              <a:avLst/>
              <a:gdLst/>
              <a:ahLst/>
              <a:rect l="l" t="t" r="r" b="b"/>
              <a:pathLst>
                <a:path w="1088" h="1344">
                  <a:moveTo>
                    <a:pt x="1088" y="0"/>
                  </a:moveTo>
                  <a:lnTo>
                    <a:pt x="0" y="13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1523880" y="4038480"/>
              <a:ext cx="609840" cy="703440"/>
              <a:chOff x="1523880" y="4038480"/>
              <a:chExt cx="609840" cy="703440"/>
            </a:xfrm>
          </p:grpSpPr>
          <p:sp>
            <p:nvSpPr>
              <p:cNvPr id="333" name=""/>
              <p:cNvSpPr/>
              <p:nvPr/>
            </p:nvSpPr>
            <p:spPr>
              <a:xfrm>
                <a:off x="1523880" y="40384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76520" y="42670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5943600" y="1219320"/>
            <a:ext cx="1904760" cy="703440"/>
            <a:chOff x="5943600" y="1219320"/>
            <a:chExt cx="1904760" cy="703440"/>
          </a:xfrm>
        </p:grpSpPr>
        <p:sp>
          <p:nvSpPr>
            <p:cNvPr id="336" name=""/>
            <p:cNvSpPr/>
            <p:nvPr/>
          </p:nvSpPr>
          <p:spPr>
            <a:xfrm>
              <a:off x="5943600" y="1219320"/>
              <a:ext cx="190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n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4;-5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02000" y="1447920"/>
              <a:ext cx="30384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244520" y="4952880"/>
            <a:ext cx="476280" cy="1068840"/>
            <a:chOff x="1244520" y="4952880"/>
            <a:chExt cx="476280" cy="1068840"/>
          </a:xfrm>
        </p:grpSpPr>
        <p:sp>
          <p:nvSpPr>
            <p:cNvPr id="339" name=""/>
            <p:cNvSpPr/>
            <p:nvPr/>
          </p:nvSpPr>
          <p:spPr>
            <a:xfrm>
              <a:off x="1244520" y="545616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45960" y="4952880"/>
              <a:ext cx="474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3277800" y="335268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45720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N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-4;-5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22560" y="3390840"/>
            <a:ext cx="471600" cy="1800"/>
          </a:xfrm>
          <a:custGeom>
            <a:avLst/>
            <a:gdLst/>
            <a:ahLst/>
            <a:rect l="l" t="t" r="r" b="b"/>
            <a:pathLst>
              <a:path w="297" h="1">
                <a:moveTo>
                  <a:pt x="0" y="0"/>
                </a:moveTo>
                <a:lnTo>
                  <a:pt x="29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895480" y="3397320"/>
            <a:ext cx="609840" cy="642600"/>
            <a:chOff x="2895480" y="3397320"/>
            <a:chExt cx="609840" cy="642600"/>
          </a:xfrm>
        </p:grpSpPr>
        <p:sp>
          <p:nvSpPr>
            <p:cNvPr id="345" name=""/>
            <p:cNvSpPr/>
            <p:nvPr/>
          </p:nvSpPr>
          <p:spPr>
            <a:xfrm>
              <a:off x="2895480" y="33973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124080" y="3543120"/>
              <a:ext cx="225720" cy="612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0"/>
                  </a:moveTo>
                  <a:lnTo>
                    <a:pt x="142" y="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943600" y="2133720"/>
            <a:ext cx="2514600" cy="703440"/>
            <a:chOff x="5943600" y="2133720"/>
            <a:chExt cx="2514600" cy="703440"/>
          </a:xfrm>
        </p:grpSpPr>
        <p:sp>
          <p:nvSpPr>
            <p:cNvPr id="348" name=""/>
            <p:cNvSpPr/>
            <p:nvPr/>
          </p:nvSpPr>
          <p:spPr>
            <a:xfrm>
              <a:off x="5943600" y="213372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n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–4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–5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5880" y="236232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78560" y="2282760"/>
              <a:ext cx="24156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53280" y="227808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498680" y="2743200"/>
            <a:ext cx="1536480" cy="703440"/>
            <a:chOff x="1498680" y="2743200"/>
            <a:chExt cx="1536480" cy="703440"/>
          </a:xfrm>
        </p:grpSpPr>
        <p:sp>
          <p:nvSpPr>
            <p:cNvPr id="353" name=""/>
            <p:cNvSpPr/>
            <p:nvPr/>
          </p:nvSpPr>
          <p:spPr>
            <a:xfrm>
              <a:off x="1498680" y="3378240"/>
              <a:ext cx="1536480" cy="12600"/>
            </a:xfrm>
            <a:custGeom>
              <a:avLst/>
              <a:gdLst/>
              <a:ahLst/>
              <a:rect l="l" t="t" r="r" b="b"/>
              <a:pathLst>
                <a:path w="968" h="8">
                  <a:moveTo>
                    <a:pt x="968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905120" y="2743200"/>
              <a:ext cx="609480" cy="703440"/>
              <a:chOff x="1905120" y="2743200"/>
              <a:chExt cx="609480" cy="703440"/>
            </a:xfrm>
          </p:grpSpPr>
          <p:sp>
            <p:nvSpPr>
              <p:cNvPr id="355" name=""/>
              <p:cNvSpPr/>
              <p:nvPr/>
            </p:nvSpPr>
            <p:spPr>
              <a:xfrm>
                <a:off x="1905120" y="2743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57400" y="297180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3027240" y="2922480"/>
            <a:ext cx="1800" cy="468360"/>
          </a:xfrm>
          <a:custGeom>
            <a:avLst/>
            <a:gdLst/>
            <a:ahLst/>
            <a:rect l="l" t="t" r="r" b="b"/>
            <a:pathLst>
              <a:path w="1" h="295">
                <a:moveTo>
                  <a:pt x="0" y="29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514600" y="2743200"/>
            <a:ext cx="609480" cy="642600"/>
            <a:chOff x="2514600" y="2743200"/>
            <a:chExt cx="609480" cy="642600"/>
          </a:xfrm>
        </p:grpSpPr>
        <p:sp>
          <p:nvSpPr>
            <p:cNvPr id="359" name=""/>
            <p:cNvSpPr/>
            <p:nvPr/>
          </p:nvSpPr>
          <p:spPr>
            <a:xfrm>
              <a:off x="2514600" y="27432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55800" y="2882880"/>
              <a:ext cx="22536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0"/>
                  </a:moveTo>
                  <a:lnTo>
                    <a:pt x="142" y="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220760" y="3306600"/>
            <a:ext cx="452160" cy="581400"/>
            <a:chOff x="1220760" y="3306600"/>
            <a:chExt cx="452160" cy="581400"/>
          </a:xfrm>
        </p:grpSpPr>
        <p:sp>
          <p:nvSpPr>
            <p:cNvPr id="362" name=""/>
            <p:cNvSpPr/>
            <p:nvPr/>
          </p:nvSpPr>
          <p:spPr>
            <a:xfrm>
              <a:off x="1447920" y="332280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20760" y="33066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943600" y="4343400"/>
            <a:ext cx="2286000" cy="703440"/>
            <a:chOff x="5943600" y="4343400"/>
            <a:chExt cx="2286000" cy="703440"/>
          </a:xfrm>
        </p:grpSpPr>
        <p:sp>
          <p:nvSpPr>
            <p:cNvPr id="365" name=""/>
            <p:cNvSpPr/>
            <p:nvPr/>
          </p:nvSpPr>
          <p:spPr>
            <a:xfrm>
              <a:off x="5943600" y="434340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3,5;0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19920" y="45720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943600" y="35812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1" i="1" lang="ru-RU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-3,5;0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943600" y="5257800"/>
            <a:ext cx="2514600" cy="703440"/>
            <a:chOff x="5943600" y="5257800"/>
            <a:chExt cx="2514600" cy="703440"/>
          </a:xfrm>
        </p:grpSpPr>
        <p:sp>
          <p:nvSpPr>
            <p:cNvPr id="369" name=""/>
            <p:cNvSpPr/>
            <p:nvPr/>
          </p:nvSpPr>
          <p:spPr>
            <a:xfrm>
              <a:off x="5943600" y="525780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-3,5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+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0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19920" y="54864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97720" y="5407200"/>
              <a:ext cx="241200" cy="288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53280" y="5402160"/>
              <a:ext cx="228600" cy="504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335200" y="2666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5680" y="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248520" y="5943600"/>
            <a:ext cx="2514600" cy="703440"/>
            <a:chOff x="6248520" y="5943600"/>
            <a:chExt cx="2514600" cy="703440"/>
          </a:xfrm>
        </p:grpSpPr>
        <p:sp>
          <p:nvSpPr>
            <p:cNvPr id="376" name=""/>
            <p:cNvSpPr/>
            <p:nvPr/>
          </p:nvSpPr>
          <p:spPr>
            <a:xfrm>
              <a:off x="6248520" y="594360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-3,5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24480" y="6172200"/>
              <a:ext cx="330480" cy="12600"/>
            </a:xfrm>
            <a:custGeom>
              <a:avLst/>
              <a:gdLst/>
              <a:ahLst/>
              <a:rect l="l" t="t" r="r" b="b"/>
              <a:pathLst>
                <a:path w="208" h="8">
                  <a:moveTo>
                    <a:pt x="0" y="0"/>
                  </a:moveTo>
                  <a:lnTo>
                    <a:pt x="208" y="8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24680" y="6093000"/>
              <a:ext cx="241560" cy="288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80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17600" y="825480"/>
            <a:ext cx="5252400" cy="424800"/>
            <a:chOff x="417600" y="825480"/>
            <a:chExt cx="5252400" cy="424800"/>
          </a:xfrm>
        </p:grpSpPr>
        <p:sp>
          <p:nvSpPr>
            <p:cNvPr id="389" name=""/>
            <p:cNvSpPr/>
            <p:nvPr/>
          </p:nvSpPr>
          <p:spPr>
            <a:xfrm>
              <a:off x="417600" y="825480"/>
              <a:ext cx="5252400" cy="2520"/>
            </a:xfrm>
            <a:custGeom>
              <a:avLst/>
              <a:gdLst/>
              <a:ahLst/>
              <a:rect l="l" t="t" r="r" b="b"/>
              <a:pathLst>
                <a:path w="1436" h="1">
                  <a:moveTo>
                    <a:pt x="0" y="0"/>
                  </a:moveTo>
                  <a:lnTo>
                    <a:pt x="1436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6400" y="1247400"/>
              <a:ext cx="5223600" cy="2880"/>
            </a:xfrm>
            <a:custGeom>
              <a:avLst/>
              <a:gdLst/>
              <a:ahLst/>
              <a:rect l="l" t="t" r="r" b="b"/>
              <a:pathLst>
                <a:path w="1428" h="1">
                  <a:moveTo>
                    <a:pt x="0" y="0"/>
                  </a:moveTo>
                  <a:lnTo>
                    <a:pt x="1428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417600" y="1698480"/>
            <a:ext cx="5253120" cy="3240"/>
          </a:xfrm>
          <a:custGeom>
            <a:avLst/>
            <a:gdLst/>
            <a:ahLst/>
            <a:rect l="l" t="t" r="r" b="b"/>
            <a:pathLst>
              <a:path w="1436" h="1">
                <a:moveTo>
                  <a:pt x="0" y="0"/>
                </a:moveTo>
                <a:lnTo>
                  <a:pt x="1436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0880" y="2095560"/>
            <a:ext cx="5308560" cy="12600"/>
          </a:xfrm>
          <a:custGeom>
            <a:avLst/>
            <a:gdLst/>
            <a:ahLst/>
            <a:rect l="l" t="t" r="r" b="b"/>
            <a:pathLst>
              <a:path w="3344" h="8">
                <a:moveTo>
                  <a:pt x="0" y="0"/>
                </a:moveTo>
                <a:lnTo>
                  <a:pt x="3344" y="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17600" y="2522520"/>
            <a:ext cx="5252400" cy="424800"/>
            <a:chOff x="417600" y="2522520"/>
            <a:chExt cx="5252400" cy="424800"/>
          </a:xfrm>
        </p:grpSpPr>
        <p:sp>
          <p:nvSpPr>
            <p:cNvPr id="394" name=""/>
            <p:cNvSpPr/>
            <p:nvPr/>
          </p:nvSpPr>
          <p:spPr>
            <a:xfrm>
              <a:off x="417600" y="2522520"/>
              <a:ext cx="5252400" cy="2520"/>
            </a:xfrm>
            <a:custGeom>
              <a:avLst/>
              <a:gdLst/>
              <a:ahLst/>
              <a:rect l="l" t="t" r="r" b="b"/>
              <a:pathLst>
                <a:path w="1436" h="1">
                  <a:moveTo>
                    <a:pt x="0" y="0"/>
                  </a:moveTo>
                  <a:lnTo>
                    <a:pt x="1436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6400" y="2944440"/>
              <a:ext cx="5223600" cy="2880"/>
            </a:xfrm>
            <a:custGeom>
              <a:avLst/>
              <a:gdLst/>
              <a:ahLst/>
              <a:rect l="l" t="t" r="r" b="b"/>
              <a:pathLst>
                <a:path w="1428" h="1">
                  <a:moveTo>
                    <a:pt x="0" y="0"/>
                  </a:moveTo>
                  <a:lnTo>
                    <a:pt x="1428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04640" y="3376440"/>
            <a:ext cx="5295240" cy="443880"/>
            <a:chOff x="404640" y="3376440"/>
            <a:chExt cx="5295240" cy="443880"/>
          </a:xfrm>
        </p:grpSpPr>
        <p:sp>
          <p:nvSpPr>
            <p:cNvPr id="397" name=""/>
            <p:cNvSpPr/>
            <p:nvPr/>
          </p:nvSpPr>
          <p:spPr>
            <a:xfrm>
              <a:off x="404640" y="3376440"/>
              <a:ext cx="5295240" cy="11160"/>
            </a:xfrm>
            <a:custGeom>
              <a:avLst/>
              <a:gdLst/>
              <a:ahLst/>
              <a:rect l="l" t="t" r="r" b="b"/>
              <a:pathLst>
                <a:path w="1448" h="4">
                  <a:moveTo>
                    <a:pt x="0" y="0"/>
                  </a:moveTo>
                  <a:lnTo>
                    <a:pt x="1448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320" y="3809880"/>
              <a:ext cx="5236560" cy="10440"/>
            </a:xfrm>
            <a:custGeom>
              <a:avLst/>
              <a:gdLst/>
              <a:ahLst/>
              <a:rect l="l" t="t" r="r" b="b"/>
              <a:pathLst>
                <a:path w="1432" h="4">
                  <a:moveTo>
                    <a:pt x="0" y="0"/>
                  </a:moveTo>
                  <a:lnTo>
                    <a:pt x="1432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17600" y="4210200"/>
            <a:ext cx="5295240" cy="443520"/>
            <a:chOff x="417600" y="4210200"/>
            <a:chExt cx="5295240" cy="443520"/>
          </a:xfrm>
        </p:grpSpPr>
        <p:sp>
          <p:nvSpPr>
            <p:cNvPr id="400" name=""/>
            <p:cNvSpPr/>
            <p:nvPr/>
          </p:nvSpPr>
          <p:spPr>
            <a:xfrm>
              <a:off x="417600" y="4210200"/>
              <a:ext cx="5295240" cy="11160"/>
            </a:xfrm>
            <a:custGeom>
              <a:avLst/>
              <a:gdLst/>
              <a:ahLst/>
              <a:rect l="l" t="t" r="r" b="b"/>
              <a:pathLst>
                <a:path w="1448" h="4">
                  <a:moveTo>
                    <a:pt x="0" y="0"/>
                  </a:moveTo>
                  <a:lnTo>
                    <a:pt x="1448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6280" y="4643280"/>
              <a:ext cx="5236560" cy="10440"/>
            </a:xfrm>
            <a:custGeom>
              <a:avLst/>
              <a:gdLst/>
              <a:ahLst/>
              <a:rect l="l" t="t" r="r" b="b"/>
              <a:pathLst>
                <a:path w="1432" h="4">
                  <a:moveTo>
                    <a:pt x="0" y="0"/>
                  </a:moveTo>
                  <a:lnTo>
                    <a:pt x="1432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04640" y="5075280"/>
            <a:ext cx="5308200" cy="453600"/>
            <a:chOff x="404640" y="5075280"/>
            <a:chExt cx="5308200" cy="453600"/>
          </a:xfrm>
        </p:grpSpPr>
        <p:sp>
          <p:nvSpPr>
            <p:cNvPr id="403" name=""/>
            <p:cNvSpPr/>
            <p:nvPr/>
          </p:nvSpPr>
          <p:spPr>
            <a:xfrm>
              <a:off x="404640" y="5075280"/>
              <a:ext cx="5264280" cy="2160"/>
            </a:xfrm>
            <a:custGeom>
              <a:avLst/>
              <a:gdLst/>
              <a:ahLst/>
              <a:rect l="l" t="t" r="r" b="b"/>
              <a:pathLst>
                <a:path w="1440" h="1">
                  <a:moveTo>
                    <a:pt x="0" y="0"/>
                  </a:move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4640" y="5506920"/>
              <a:ext cx="5308200" cy="21960"/>
            </a:xfrm>
            <a:custGeom>
              <a:avLst/>
              <a:gdLst/>
              <a:ahLst/>
              <a:rect l="l" t="t" r="r" b="b"/>
              <a:pathLst>
                <a:path w="1452" h="8">
                  <a:moveTo>
                    <a:pt x="0" y="8"/>
                  </a:moveTo>
                  <a:lnTo>
                    <a:pt x="1452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404640" y="5929200"/>
            <a:ext cx="5266080" cy="12960"/>
          </a:xfrm>
          <a:custGeom>
            <a:avLst/>
            <a:gdLst/>
            <a:ahLst/>
            <a:rect l="l" t="t" r="r" b="b"/>
            <a:pathLst>
              <a:path w="1440" h="4">
                <a:moveTo>
                  <a:pt x="0" y="4"/>
                </a:moveTo>
                <a:lnTo>
                  <a:pt x="1440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04640" y="6362640"/>
            <a:ext cx="5249880" cy="1800"/>
          </a:xfrm>
          <a:custGeom>
            <a:avLst/>
            <a:gdLst/>
            <a:ahLst/>
            <a:rect l="l" t="t" r="r" b="b"/>
            <a:pathLst>
              <a:path w="1436" h="1">
                <a:moveTo>
                  <a:pt x="0" y="0"/>
                </a:moveTo>
                <a:lnTo>
                  <a:pt x="1436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17600" y="392040"/>
            <a:ext cx="5265720" cy="11160"/>
          </a:xfrm>
          <a:custGeom>
            <a:avLst/>
            <a:gdLst/>
            <a:ahLst/>
            <a:rect l="l" t="t" r="r" b="b"/>
            <a:pathLst>
              <a:path w="1440" h="4">
                <a:moveTo>
                  <a:pt x="0" y="4"/>
                </a:moveTo>
                <a:lnTo>
                  <a:pt x="1440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4360" y="392040"/>
            <a:ext cx="4680" cy="5994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363920" y="388800"/>
            <a:ext cx="1800" cy="5994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06720" y="392040"/>
            <a:ext cx="9720" cy="5994360"/>
          </a:xfrm>
          <a:custGeom>
            <a:avLst/>
            <a:gdLst/>
            <a:ahLst/>
            <a:rect l="l" t="t" r="r" b="b"/>
            <a:pathLst>
              <a:path w="4" h="2160">
                <a:moveTo>
                  <a:pt x="4" y="0"/>
                </a:moveTo>
                <a:lnTo>
                  <a:pt x="0" y="216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59240" y="380880"/>
            <a:ext cx="11160" cy="6015240"/>
          </a:xfrm>
          <a:custGeom>
            <a:avLst/>
            <a:gdLst/>
            <a:ahLst/>
            <a:rect l="l" t="t" r="r" b="b"/>
            <a:pathLst>
              <a:path w="4" h="2168">
                <a:moveTo>
                  <a:pt x="0" y="0"/>
                </a:moveTo>
                <a:lnTo>
                  <a:pt x="4" y="216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33720" y="392040"/>
            <a:ext cx="11160" cy="6015240"/>
          </a:xfrm>
          <a:custGeom>
            <a:avLst/>
            <a:gdLst/>
            <a:ahLst/>
            <a:rect l="l" t="t" r="r" b="b"/>
            <a:pathLst>
              <a:path w="4" h="2168">
                <a:moveTo>
                  <a:pt x="0" y="0"/>
                </a:moveTo>
                <a:lnTo>
                  <a:pt x="4" y="216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87680" y="380880"/>
            <a:ext cx="9360" cy="5992920"/>
          </a:xfrm>
          <a:custGeom>
            <a:avLst/>
            <a:gdLst/>
            <a:ahLst/>
            <a:rect l="l" t="t" r="r" b="b"/>
            <a:pathLst>
              <a:path w="4" h="2160">
                <a:moveTo>
                  <a:pt x="0" y="0"/>
                </a:moveTo>
                <a:lnTo>
                  <a:pt x="4" y="216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149560" y="392040"/>
            <a:ext cx="22320" cy="5959440"/>
          </a:xfrm>
          <a:custGeom>
            <a:avLst/>
            <a:gdLst/>
            <a:ahLst/>
            <a:rect l="l" t="t" r="r" b="b"/>
            <a:pathLst>
              <a:path w="8" h="2148">
                <a:moveTo>
                  <a:pt x="0" y="0"/>
                </a:moveTo>
                <a:lnTo>
                  <a:pt x="8" y="214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24040" y="392040"/>
            <a:ext cx="22320" cy="5959440"/>
          </a:xfrm>
          <a:custGeom>
            <a:avLst/>
            <a:gdLst/>
            <a:ahLst/>
            <a:rect l="l" t="t" r="r" b="b"/>
            <a:pathLst>
              <a:path w="8" h="2148">
                <a:moveTo>
                  <a:pt x="0" y="0"/>
                </a:moveTo>
                <a:lnTo>
                  <a:pt x="8" y="214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289160" y="392040"/>
            <a:ext cx="9360" cy="5970600"/>
          </a:xfrm>
          <a:custGeom>
            <a:avLst/>
            <a:gdLst/>
            <a:ahLst/>
            <a:rect l="l" t="t" r="r" b="b"/>
            <a:pathLst>
              <a:path w="4" h="2152">
                <a:moveTo>
                  <a:pt x="0" y="0"/>
                </a:moveTo>
                <a:lnTo>
                  <a:pt x="4" y="2152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41320" y="380880"/>
            <a:ext cx="11160" cy="5992920"/>
          </a:xfrm>
          <a:custGeom>
            <a:avLst/>
            <a:gdLst/>
            <a:ahLst/>
            <a:rect l="l" t="t" r="r" b="b"/>
            <a:pathLst>
              <a:path w="4" h="2160">
                <a:moveTo>
                  <a:pt x="0" y="0"/>
                </a:moveTo>
                <a:lnTo>
                  <a:pt x="4" y="216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0880" y="3381480"/>
            <a:ext cx="5332680" cy="17280"/>
          </a:xfrm>
          <a:custGeom>
            <a:avLst/>
            <a:gdLst/>
            <a:ahLst/>
            <a:rect l="l" t="t" r="r" b="b"/>
            <a:pathLst>
              <a:path w="2656" h="8">
                <a:moveTo>
                  <a:pt x="0" y="0"/>
                </a:moveTo>
                <a:lnTo>
                  <a:pt x="2656" y="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813200" y="388800"/>
            <a:ext cx="15840" cy="5967720"/>
          </a:xfrm>
          <a:custGeom>
            <a:avLst/>
            <a:gdLst/>
            <a:ahLst/>
            <a:rect l="l" t="t" r="r" b="b"/>
            <a:pathLst>
              <a:path w="8" h="2808">
                <a:moveTo>
                  <a:pt x="0" y="0"/>
                </a:moveTo>
                <a:lnTo>
                  <a:pt x="8" y="280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262480" y="388800"/>
            <a:ext cx="33480" cy="5950080"/>
          </a:xfrm>
          <a:custGeom>
            <a:avLst/>
            <a:gdLst/>
            <a:ahLst/>
            <a:rect l="l" t="t" r="r" b="b"/>
            <a:pathLst>
              <a:path w="16" h="2800">
                <a:moveTo>
                  <a:pt x="0" y="0"/>
                </a:moveTo>
                <a:lnTo>
                  <a:pt x="16" y="280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13560" y="388800"/>
            <a:ext cx="1440" cy="5994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33680" y="334800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14640" y="423720"/>
            <a:ext cx="31680" cy="5983560"/>
          </a:xfrm>
          <a:custGeom>
            <a:avLst/>
            <a:gdLst/>
            <a:ahLst/>
            <a:rect l="l" t="t" r="r" b="b"/>
            <a:pathLst>
              <a:path w="16" h="2816">
                <a:moveTo>
                  <a:pt x="16" y="28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943600" y="1219320"/>
            <a:ext cx="2438280" cy="703440"/>
            <a:chOff x="5943600" y="1219320"/>
            <a:chExt cx="2438280" cy="703440"/>
          </a:xfrm>
        </p:grpSpPr>
        <p:sp>
          <p:nvSpPr>
            <p:cNvPr id="425" name=""/>
            <p:cNvSpPr/>
            <p:nvPr/>
          </p:nvSpPr>
          <p:spPr>
            <a:xfrm>
              <a:off x="5943600" y="121932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0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0;0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46640" y="1371600"/>
              <a:ext cx="3891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3277800" y="335268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67280" y="45720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O</a:t>
            </a:r>
            <a:r>
              <a:rPr b="1" i="1" lang="ru-RU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0; 0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022560" y="3390840"/>
            <a:ext cx="471600" cy="1800"/>
          </a:xfrm>
          <a:custGeom>
            <a:avLst/>
            <a:gdLst/>
            <a:ahLst/>
            <a:rect l="l" t="t" r="r" b="b"/>
            <a:pathLst>
              <a:path w="297" h="1">
                <a:moveTo>
                  <a:pt x="0" y="0"/>
                </a:moveTo>
                <a:lnTo>
                  <a:pt x="29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200400" y="2819520"/>
            <a:ext cx="609480" cy="642600"/>
            <a:chOff x="3200400" y="2819520"/>
            <a:chExt cx="609480" cy="642600"/>
          </a:xfrm>
        </p:grpSpPr>
        <p:sp>
          <p:nvSpPr>
            <p:cNvPr id="431" name=""/>
            <p:cNvSpPr/>
            <p:nvPr/>
          </p:nvSpPr>
          <p:spPr>
            <a:xfrm>
              <a:off x="3200400" y="28195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28640" y="2965320"/>
              <a:ext cx="225360" cy="612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0"/>
                  </a:moveTo>
                  <a:lnTo>
                    <a:pt x="142" y="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943600" y="2133720"/>
            <a:ext cx="2514600" cy="703440"/>
            <a:chOff x="5943600" y="2133720"/>
            <a:chExt cx="2514600" cy="703440"/>
          </a:xfrm>
        </p:grpSpPr>
        <p:sp>
          <p:nvSpPr>
            <p:cNvPr id="434" name=""/>
            <p:cNvSpPr/>
            <p:nvPr/>
          </p:nvSpPr>
          <p:spPr>
            <a:xfrm>
              <a:off x="5943600" y="213372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0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0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0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95880" y="228600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86520" y="228276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94720" y="227808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027240" y="2922480"/>
            <a:ext cx="1800" cy="468360"/>
          </a:xfrm>
          <a:custGeom>
            <a:avLst/>
            <a:gdLst/>
            <a:ahLst/>
            <a:rect l="l" t="t" r="r" b="b"/>
            <a:pathLst>
              <a:path w="1" h="295">
                <a:moveTo>
                  <a:pt x="0" y="29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514600" y="2590920"/>
            <a:ext cx="609480" cy="642600"/>
            <a:chOff x="2514600" y="2590920"/>
            <a:chExt cx="609480" cy="642600"/>
          </a:xfrm>
        </p:grpSpPr>
        <p:sp>
          <p:nvSpPr>
            <p:cNvPr id="440" name=""/>
            <p:cNvSpPr/>
            <p:nvPr/>
          </p:nvSpPr>
          <p:spPr>
            <a:xfrm>
              <a:off x="2514600" y="25909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55800" y="2730240"/>
              <a:ext cx="225360" cy="612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0"/>
                  </a:moveTo>
                  <a:lnTo>
                    <a:pt x="142" y="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5335200" y="2666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15680" y="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71800" y="3276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791320" y="3336840"/>
            <a:ext cx="2438280" cy="703440"/>
            <a:chOff x="5791320" y="3336840"/>
            <a:chExt cx="2438280" cy="703440"/>
          </a:xfrm>
        </p:grpSpPr>
        <p:sp>
          <p:nvSpPr>
            <p:cNvPr id="446" name=""/>
            <p:cNvSpPr/>
            <p:nvPr/>
          </p:nvSpPr>
          <p:spPr>
            <a:xfrm>
              <a:off x="5791320" y="333684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1;0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94360" y="348948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791320" y="4175280"/>
            <a:ext cx="2438280" cy="703440"/>
            <a:chOff x="5791320" y="4175280"/>
            <a:chExt cx="2438280" cy="703440"/>
          </a:xfrm>
        </p:grpSpPr>
        <p:sp>
          <p:nvSpPr>
            <p:cNvPr id="449" name=""/>
            <p:cNvSpPr/>
            <p:nvPr/>
          </p:nvSpPr>
          <p:spPr>
            <a:xfrm>
              <a:off x="5791320" y="417528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0;1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94360" y="432792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514600" y="3413160"/>
            <a:ext cx="609480" cy="779040"/>
            <a:chOff x="2514600" y="3413160"/>
            <a:chExt cx="609480" cy="779040"/>
          </a:xfrm>
        </p:grpSpPr>
        <p:sp>
          <p:nvSpPr>
            <p:cNvPr id="452" name=""/>
            <p:cNvSpPr/>
            <p:nvPr/>
          </p:nvSpPr>
          <p:spPr>
            <a:xfrm>
              <a:off x="3029040" y="3413160"/>
              <a:ext cx="3240" cy="447480"/>
            </a:xfrm>
            <a:custGeom>
              <a:avLst/>
              <a:gdLst/>
              <a:ahLst/>
              <a:rect l="l" t="t" r="r" b="b"/>
              <a:pathLst>
                <a:path w="2" h="282">
                  <a:moveTo>
                    <a:pt x="2" y="0"/>
                  </a:moveTo>
                  <a:lnTo>
                    <a:pt x="0" y="282"/>
                  </a:lnTo>
                </a:path>
              </a:pathLst>
            </a:custGeom>
            <a:noFill/>
            <a:ln w="28440">
              <a:solidFill>
                <a:srgbClr val="660066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514600" y="3549600"/>
              <a:ext cx="609480" cy="642600"/>
              <a:chOff x="2514600" y="3549600"/>
              <a:chExt cx="609480" cy="642600"/>
            </a:xfrm>
          </p:grpSpPr>
          <p:sp>
            <p:nvSpPr>
              <p:cNvPr id="454" name=""/>
              <p:cNvSpPr/>
              <p:nvPr/>
            </p:nvSpPr>
            <p:spPr>
              <a:xfrm>
                <a:off x="2514600" y="354960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660066"/>
                    </a:solidFill>
                    <a:latin typeface="Times New Roman"/>
                  </a:rPr>
                  <a:t>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743200" y="3771720"/>
                <a:ext cx="225360" cy="6480"/>
              </a:xfrm>
              <a:custGeom>
                <a:avLst/>
                <a:gdLst/>
                <a:ahLst/>
                <a:rect l="l" t="t" r="r" b="b"/>
                <a:pathLst>
                  <a:path w="142" h="4">
                    <a:moveTo>
                      <a:pt x="0" y="0"/>
                    </a:moveTo>
                    <a:lnTo>
                      <a:pt x="142" y="4"/>
                    </a:lnTo>
                  </a:path>
                </a:pathLst>
              </a:custGeom>
              <a:noFill/>
              <a:ln w="19080">
                <a:solidFill>
                  <a:srgbClr val="66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6" name=""/>
          <p:cNvGrpSpPr/>
          <p:nvPr/>
        </p:nvGrpSpPr>
        <p:grpSpPr>
          <a:xfrm>
            <a:off x="2133720" y="2895480"/>
            <a:ext cx="869760" cy="642600"/>
            <a:chOff x="2133720" y="2895480"/>
            <a:chExt cx="869760" cy="642600"/>
          </a:xfrm>
        </p:grpSpPr>
        <p:sp>
          <p:nvSpPr>
            <p:cNvPr id="457" name=""/>
            <p:cNvSpPr/>
            <p:nvPr/>
          </p:nvSpPr>
          <p:spPr>
            <a:xfrm>
              <a:off x="2533680" y="3384720"/>
              <a:ext cx="469800" cy="1440"/>
            </a:xfrm>
            <a:custGeom>
              <a:avLst/>
              <a:gdLst/>
              <a:ahLst/>
              <a:rect l="l" t="t" r="r" b="b"/>
              <a:pathLst>
                <a:path w="296" h="1">
                  <a:moveTo>
                    <a:pt x="296" y="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660066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2133720" y="2895480"/>
              <a:ext cx="609480" cy="642600"/>
              <a:chOff x="2133720" y="2895480"/>
              <a:chExt cx="609480" cy="642600"/>
            </a:xfrm>
          </p:grpSpPr>
          <p:sp>
            <p:nvSpPr>
              <p:cNvPr id="459" name=""/>
              <p:cNvSpPr/>
              <p:nvPr/>
            </p:nvSpPr>
            <p:spPr>
              <a:xfrm>
                <a:off x="2133720" y="289548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362320" y="3117600"/>
                <a:ext cx="225360" cy="6480"/>
              </a:xfrm>
              <a:custGeom>
                <a:avLst/>
                <a:gdLst/>
                <a:ahLst/>
                <a:rect l="l" t="t" r="r" b="b"/>
                <a:pathLst>
                  <a:path w="142" h="4">
                    <a:moveTo>
                      <a:pt x="0" y="0"/>
                    </a:moveTo>
                    <a:lnTo>
                      <a:pt x="142" y="4"/>
                    </a:lnTo>
                  </a:path>
                </a:pathLst>
              </a:custGeom>
              <a:noFill/>
              <a:ln w="19080">
                <a:solidFill>
                  <a:srgbClr val="66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5715000" y="5089680"/>
            <a:ext cx="2438280" cy="703440"/>
            <a:chOff x="5715000" y="5089680"/>
            <a:chExt cx="2438280" cy="703440"/>
          </a:xfrm>
        </p:grpSpPr>
        <p:sp>
          <p:nvSpPr>
            <p:cNvPr id="462" name=""/>
            <p:cNvSpPr/>
            <p:nvPr/>
          </p:nvSpPr>
          <p:spPr>
            <a:xfrm>
              <a:off x="5715000" y="508968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660066"/>
                  </a:solidFill>
                  <a:latin typeface="Times New Roman"/>
                </a:rPr>
                <a:t>e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0;-1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18040" y="524232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660066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715000" y="5851440"/>
            <a:ext cx="2438280" cy="703440"/>
            <a:chOff x="5715000" y="5851440"/>
            <a:chExt cx="2438280" cy="703440"/>
          </a:xfrm>
        </p:grpSpPr>
        <p:sp>
          <p:nvSpPr>
            <p:cNvPr id="465" name=""/>
            <p:cNvSpPr/>
            <p:nvPr/>
          </p:nvSpPr>
          <p:spPr>
            <a:xfrm>
              <a:off x="5715000" y="585144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660066"/>
                  </a:solidFill>
                  <a:latin typeface="Times New Roman"/>
                </a:rPr>
                <a:t>r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1;0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18040" y="600408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660066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6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468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6" name=""/>
          <p:cNvGraphicFramePr/>
          <p:nvPr/>
        </p:nvGraphicFramePr>
        <p:xfrm>
          <a:off x="609480" y="304920"/>
          <a:ext cx="8001000" cy="62388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век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ожение вектора по координатным вектор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77" name=""/>
          <p:cNvGrpSpPr/>
          <p:nvPr/>
        </p:nvGrpSpPr>
        <p:grpSpPr>
          <a:xfrm>
            <a:off x="1295280" y="1066680"/>
            <a:ext cx="2286000" cy="703440"/>
            <a:chOff x="1295280" y="1066680"/>
            <a:chExt cx="2286000" cy="703440"/>
          </a:xfrm>
        </p:grpSpPr>
        <p:sp>
          <p:nvSpPr>
            <p:cNvPr id="478" name=""/>
            <p:cNvSpPr/>
            <p:nvPr/>
          </p:nvSpPr>
          <p:spPr>
            <a:xfrm>
              <a:off x="1295280" y="10666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6; 9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71600" y="12952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295280" y="1752480"/>
            <a:ext cx="2286000" cy="703440"/>
            <a:chOff x="1295280" y="1752480"/>
            <a:chExt cx="2286000" cy="703440"/>
          </a:xfrm>
        </p:grpSpPr>
        <p:sp>
          <p:nvSpPr>
            <p:cNvPr id="481" name=""/>
            <p:cNvSpPr/>
            <p:nvPr/>
          </p:nvSpPr>
          <p:spPr>
            <a:xfrm>
              <a:off x="1295280" y="17524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n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8; 0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71600" y="19810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1295280" y="3124080"/>
            <a:ext cx="2286000" cy="703440"/>
            <a:chOff x="1295280" y="3124080"/>
            <a:chExt cx="2286000" cy="703440"/>
          </a:xfrm>
        </p:grpSpPr>
        <p:sp>
          <p:nvSpPr>
            <p:cNvPr id="484" name=""/>
            <p:cNvSpPr/>
            <p:nvPr/>
          </p:nvSpPr>
          <p:spPr>
            <a:xfrm>
              <a:off x="1295280" y="31240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m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4; -3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71600" y="33526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295280" y="2438280"/>
            <a:ext cx="2286000" cy="703440"/>
            <a:chOff x="1295280" y="2438280"/>
            <a:chExt cx="2286000" cy="703440"/>
          </a:xfrm>
        </p:grpSpPr>
        <p:sp>
          <p:nvSpPr>
            <p:cNvPr id="487" name=""/>
            <p:cNvSpPr/>
            <p:nvPr/>
          </p:nvSpPr>
          <p:spPr>
            <a:xfrm>
              <a:off x="1295280" y="24382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0; -7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71600" y="26668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1295280" y="3809880"/>
            <a:ext cx="2286000" cy="703440"/>
            <a:chOff x="1295280" y="3809880"/>
            <a:chExt cx="2286000" cy="703440"/>
          </a:xfrm>
        </p:grpSpPr>
        <p:sp>
          <p:nvSpPr>
            <p:cNvPr id="490" name=""/>
            <p:cNvSpPr/>
            <p:nvPr/>
          </p:nvSpPr>
          <p:spPr>
            <a:xfrm>
              <a:off x="1295280" y="38098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r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5;-8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71600" y="40384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295280" y="4495680"/>
            <a:ext cx="2286000" cy="703440"/>
            <a:chOff x="1295280" y="4495680"/>
            <a:chExt cx="2286000" cy="703440"/>
          </a:xfrm>
        </p:grpSpPr>
        <p:sp>
          <p:nvSpPr>
            <p:cNvPr id="493" name=""/>
            <p:cNvSpPr/>
            <p:nvPr/>
          </p:nvSpPr>
          <p:spPr>
            <a:xfrm>
              <a:off x="1295280" y="44956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s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-7; 0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71600" y="47242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1295280" y="5165640"/>
            <a:ext cx="2286000" cy="703440"/>
            <a:chOff x="1295280" y="5165640"/>
            <a:chExt cx="2286000" cy="703440"/>
          </a:xfrm>
        </p:grpSpPr>
        <p:sp>
          <p:nvSpPr>
            <p:cNvPr id="496" name=""/>
            <p:cNvSpPr/>
            <p:nvPr/>
          </p:nvSpPr>
          <p:spPr>
            <a:xfrm>
              <a:off x="1295280" y="516564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e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0; 21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71600" y="539424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1295280" y="5851440"/>
            <a:ext cx="2286000" cy="703440"/>
            <a:chOff x="1295280" y="5851440"/>
            <a:chExt cx="2286000" cy="703440"/>
          </a:xfrm>
        </p:grpSpPr>
        <p:sp>
          <p:nvSpPr>
            <p:cNvPr id="499" name=""/>
            <p:cNvSpPr/>
            <p:nvPr/>
          </p:nvSpPr>
          <p:spPr>
            <a:xfrm>
              <a:off x="1295280" y="585144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q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0; 0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71600" y="608004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105520" y="3809880"/>
            <a:ext cx="2514600" cy="703440"/>
            <a:chOff x="5105520" y="3809880"/>
            <a:chExt cx="2514600" cy="703440"/>
          </a:xfrm>
        </p:grpSpPr>
        <p:sp>
          <p:nvSpPr>
            <p:cNvPr id="502" name=""/>
            <p:cNvSpPr/>
            <p:nvPr/>
          </p:nvSpPr>
          <p:spPr>
            <a:xfrm>
              <a:off x="5105520" y="380988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r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–5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–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8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57800" y="4038480"/>
              <a:ext cx="29232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77120" y="395928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39240" y="395460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105520" y="1066680"/>
            <a:ext cx="2895480" cy="703440"/>
            <a:chOff x="5105520" y="1066680"/>
            <a:chExt cx="2895480" cy="703440"/>
          </a:xfrm>
        </p:grpSpPr>
        <p:sp>
          <p:nvSpPr>
            <p:cNvPr id="507" name=""/>
            <p:cNvSpPr/>
            <p:nvPr/>
          </p:nvSpPr>
          <p:spPr>
            <a:xfrm>
              <a:off x="5105520" y="1066680"/>
              <a:ext cx="289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– 6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+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9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81840" y="129528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659640" y="121608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15200" y="121140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105520" y="1752480"/>
            <a:ext cx="2895480" cy="703440"/>
            <a:chOff x="5105520" y="1752480"/>
            <a:chExt cx="2895480" cy="703440"/>
          </a:xfrm>
        </p:grpSpPr>
        <p:sp>
          <p:nvSpPr>
            <p:cNvPr id="512" name=""/>
            <p:cNvSpPr/>
            <p:nvPr/>
          </p:nvSpPr>
          <p:spPr>
            <a:xfrm>
              <a:off x="5105520" y="1752480"/>
              <a:ext cx="289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n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– 8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+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0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81840" y="198108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59640" y="190188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5200" y="189720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105520" y="2514600"/>
            <a:ext cx="2514600" cy="703440"/>
            <a:chOff x="5105520" y="2514600"/>
            <a:chExt cx="2514600" cy="703440"/>
          </a:xfrm>
        </p:grpSpPr>
        <p:sp>
          <p:nvSpPr>
            <p:cNvPr id="517" name=""/>
            <p:cNvSpPr/>
            <p:nvPr/>
          </p:nvSpPr>
          <p:spPr>
            <a:xfrm>
              <a:off x="5105520" y="251460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0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–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7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57800" y="274320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35920" y="2664000"/>
              <a:ext cx="241200" cy="288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10640" y="2658960"/>
              <a:ext cx="228600" cy="504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5105520" y="3184560"/>
            <a:ext cx="2514600" cy="703440"/>
            <a:chOff x="5105520" y="3184560"/>
            <a:chExt cx="2514600" cy="703440"/>
          </a:xfrm>
        </p:grpSpPr>
        <p:sp>
          <p:nvSpPr>
            <p:cNvPr id="522" name=""/>
            <p:cNvSpPr/>
            <p:nvPr/>
          </p:nvSpPr>
          <p:spPr>
            <a:xfrm>
              <a:off x="5105520" y="318456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m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4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–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57800" y="341316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48520" y="333360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086600" y="332892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105520" y="4495680"/>
            <a:ext cx="2895480" cy="703440"/>
            <a:chOff x="5105520" y="4495680"/>
            <a:chExt cx="2895480" cy="703440"/>
          </a:xfrm>
        </p:grpSpPr>
        <p:sp>
          <p:nvSpPr>
            <p:cNvPr id="527" name=""/>
            <p:cNvSpPr/>
            <p:nvPr/>
          </p:nvSpPr>
          <p:spPr>
            <a:xfrm>
              <a:off x="5105520" y="4495680"/>
              <a:ext cx="289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s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–7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+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0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81840" y="472428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477120" y="464508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162920" y="464040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105520" y="5181480"/>
            <a:ext cx="2514600" cy="703440"/>
            <a:chOff x="5105520" y="5181480"/>
            <a:chExt cx="2514600" cy="703440"/>
          </a:xfrm>
        </p:grpSpPr>
        <p:sp>
          <p:nvSpPr>
            <p:cNvPr id="532" name=""/>
            <p:cNvSpPr/>
            <p:nvPr/>
          </p:nvSpPr>
          <p:spPr>
            <a:xfrm>
              <a:off x="5105520" y="518148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e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0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21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57800" y="5410080"/>
              <a:ext cx="29232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35920" y="533088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15200" y="532620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181480" y="5851440"/>
            <a:ext cx="2514600" cy="703440"/>
            <a:chOff x="5181480" y="5851440"/>
            <a:chExt cx="2514600" cy="703440"/>
          </a:xfrm>
        </p:grpSpPr>
        <p:sp>
          <p:nvSpPr>
            <p:cNvPr id="537" name=""/>
            <p:cNvSpPr/>
            <p:nvPr/>
          </p:nvSpPr>
          <p:spPr>
            <a:xfrm>
              <a:off x="5181480" y="585144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q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0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0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70400" y="609444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24400" y="600084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32240" y="599616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4650120" y="1143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50120" y="17524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50120" y="25146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650120" y="31845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62120" y="3809880"/>
            <a:ext cx="4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2120" y="4495680"/>
            <a:ext cx="4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62120" y="5181480"/>
            <a:ext cx="4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62120" y="5867280"/>
            <a:ext cx="4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550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609480" y="304920"/>
          <a:ext cx="8001000" cy="62388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век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ожение вектора по координатным вектор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9" name=""/>
          <p:cNvGrpSpPr/>
          <p:nvPr/>
        </p:nvGrpSpPr>
        <p:grpSpPr>
          <a:xfrm>
            <a:off x="1295280" y="1066680"/>
            <a:ext cx="2743200" cy="5488200"/>
            <a:chOff x="1295280" y="1066680"/>
            <a:chExt cx="2743200" cy="5488200"/>
          </a:xfrm>
        </p:grpSpPr>
        <p:grpSp>
          <p:nvGrpSpPr>
            <p:cNvPr id="560" name=""/>
            <p:cNvGrpSpPr/>
            <p:nvPr/>
          </p:nvGrpSpPr>
          <p:grpSpPr>
            <a:xfrm>
              <a:off x="1295280" y="1066680"/>
              <a:ext cx="2286000" cy="703440"/>
              <a:chOff x="1295280" y="1066680"/>
              <a:chExt cx="2286000" cy="703440"/>
            </a:xfrm>
          </p:grpSpPr>
          <p:sp>
            <p:nvSpPr>
              <p:cNvPr id="561" name=""/>
              <p:cNvSpPr/>
              <p:nvPr/>
            </p:nvSpPr>
            <p:spPr>
              <a:xfrm>
                <a:off x="1295280" y="1066680"/>
                <a:ext cx="2286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n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-</a:t>
                </a:r>
                <a:r>
                  <a:rPr b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; </a:t>
                </a:r>
                <a:r>
                  <a:rPr b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3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129528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1295280" y="1752480"/>
              <a:ext cx="2286000" cy="703440"/>
              <a:chOff x="1295280" y="1752480"/>
              <a:chExt cx="2286000" cy="703440"/>
            </a:xfrm>
          </p:grpSpPr>
          <p:sp>
            <p:nvSpPr>
              <p:cNvPr id="564" name=""/>
              <p:cNvSpPr/>
              <p:nvPr/>
            </p:nvSpPr>
            <p:spPr>
              <a:xfrm>
                <a:off x="1295280" y="1752480"/>
                <a:ext cx="2286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k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4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; </a:t>
                </a:r>
                <a:r>
                  <a:rPr b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190512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1295280" y="3124080"/>
              <a:ext cx="2286000" cy="703440"/>
              <a:chOff x="1295280" y="3124080"/>
              <a:chExt cx="2286000" cy="703440"/>
            </a:xfrm>
          </p:grpSpPr>
          <p:sp>
            <p:nvSpPr>
              <p:cNvPr id="567" name=""/>
              <p:cNvSpPr/>
              <p:nvPr/>
            </p:nvSpPr>
            <p:spPr>
              <a:xfrm>
                <a:off x="1295280" y="3124080"/>
                <a:ext cx="2286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d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0; -5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60520" y="3216240"/>
                <a:ext cx="291960" cy="180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295280" y="2438280"/>
              <a:ext cx="2743200" cy="703440"/>
              <a:chOff x="1295280" y="2438280"/>
              <a:chExt cx="2743200" cy="703440"/>
            </a:xfrm>
          </p:grpSpPr>
          <p:sp>
            <p:nvSpPr>
              <p:cNvPr id="570" name=""/>
              <p:cNvSpPr/>
              <p:nvPr/>
            </p:nvSpPr>
            <p:spPr>
              <a:xfrm>
                <a:off x="1295280" y="2438280"/>
                <a:ext cx="2743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m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3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; -</a:t>
                </a:r>
                <a:r>
                  <a:rPr b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0,5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460520" y="266544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1295280" y="3809880"/>
              <a:ext cx="2286000" cy="703440"/>
              <a:chOff x="1295280" y="3809880"/>
              <a:chExt cx="2286000" cy="703440"/>
            </a:xfrm>
          </p:grpSpPr>
          <p:sp>
            <p:nvSpPr>
              <p:cNvPr id="573" name=""/>
              <p:cNvSpPr/>
              <p:nvPr/>
            </p:nvSpPr>
            <p:spPr>
              <a:xfrm>
                <a:off x="1295280" y="3809880"/>
                <a:ext cx="2286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-4; 4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403848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1295280" y="44956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0; 7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71600" y="46483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1295280" y="5165640"/>
              <a:ext cx="2286000" cy="703440"/>
              <a:chOff x="1295280" y="5165640"/>
              <a:chExt cx="2286000" cy="703440"/>
            </a:xfrm>
          </p:grpSpPr>
          <p:sp>
            <p:nvSpPr>
              <p:cNvPr id="578" name=""/>
              <p:cNvSpPr/>
              <p:nvPr/>
            </p:nvSpPr>
            <p:spPr>
              <a:xfrm>
                <a:off x="1295280" y="5165640"/>
                <a:ext cx="2286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-5; 0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539424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1295280" y="5851440"/>
              <a:ext cx="2286000" cy="703440"/>
              <a:chOff x="1295280" y="5851440"/>
              <a:chExt cx="2286000" cy="703440"/>
            </a:xfrm>
          </p:grpSpPr>
          <p:sp>
            <p:nvSpPr>
              <p:cNvPr id="581" name=""/>
              <p:cNvSpPr/>
              <p:nvPr/>
            </p:nvSpPr>
            <p:spPr>
              <a:xfrm>
                <a:off x="1295280" y="5851440"/>
                <a:ext cx="2286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{7; -7}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608004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3" name=""/>
          <p:cNvGrpSpPr/>
          <p:nvPr/>
        </p:nvGrpSpPr>
        <p:grpSpPr>
          <a:xfrm>
            <a:off x="5029200" y="1066680"/>
            <a:ext cx="2895480" cy="5488200"/>
            <a:chOff x="5029200" y="1066680"/>
            <a:chExt cx="2895480" cy="5488200"/>
          </a:xfrm>
        </p:grpSpPr>
        <p:sp>
          <p:nvSpPr>
            <p:cNvPr id="584" name=""/>
            <p:cNvSpPr/>
            <p:nvPr/>
          </p:nvSpPr>
          <p:spPr>
            <a:xfrm>
              <a:off x="5029200" y="380988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–4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4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81480" y="4038480"/>
              <a:ext cx="29232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00800" y="395928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238880" y="395460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5029200" y="1066680"/>
              <a:ext cx="2895480" cy="703440"/>
              <a:chOff x="5029200" y="1066680"/>
              <a:chExt cx="2895480" cy="703440"/>
            </a:xfrm>
          </p:grpSpPr>
          <p:sp>
            <p:nvSpPr>
              <p:cNvPr id="589" name=""/>
              <p:cNvSpPr/>
              <p:nvPr/>
            </p:nvSpPr>
            <p:spPr>
              <a:xfrm>
                <a:off x="5029200" y="1066680"/>
                <a:ext cx="289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n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= – 2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+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3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j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105520" y="1295280"/>
                <a:ext cx="291960" cy="180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583320" y="1216080"/>
                <a:ext cx="241200" cy="3240"/>
              </a:xfrm>
              <a:custGeom>
                <a:avLst/>
                <a:gdLst/>
                <a:ahLst/>
                <a:rect l="l" t="t" r="r" b="b"/>
                <a:pathLst>
                  <a:path w="152" h="2">
                    <a:moveTo>
                      <a:pt x="0" y="0"/>
                    </a:moveTo>
                    <a:lnTo>
                      <a:pt x="152" y="2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38880" y="1211400"/>
                <a:ext cx="228600" cy="4680"/>
              </a:xfrm>
              <a:custGeom>
                <a:avLst/>
                <a:gdLst/>
                <a:ahLst/>
                <a:rect l="l" t="t" r="r" b="b"/>
                <a:pathLst>
                  <a:path w="144" h="3">
                    <a:moveTo>
                      <a:pt x="0" y="0"/>
                    </a:moveTo>
                    <a:lnTo>
                      <a:pt x="144" y="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5029200" y="1752480"/>
              <a:ext cx="289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k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4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+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05520" y="19051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72200" y="190188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27760" y="189720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29200" y="251460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m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3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–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0,5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81480" y="274320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59600" y="2664000"/>
              <a:ext cx="241200" cy="288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658960"/>
              <a:ext cx="228600" cy="504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029200" y="318456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d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0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–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5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81480" y="327672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19920" y="333360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58000" y="332892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29200" y="4495680"/>
              <a:ext cx="289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7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05520" y="46483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72200" y="464508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29200" y="518148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-5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81480" y="5410080"/>
              <a:ext cx="29232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11880" y="533088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5105520" y="5851440"/>
              <a:ext cx="2514600" cy="703440"/>
              <a:chOff x="5105520" y="5851440"/>
              <a:chExt cx="2514600" cy="703440"/>
            </a:xfrm>
          </p:grpSpPr>
          <p:sp>
            <p:nvSpPr>
              <p:cNvPr id="612" name=""/>
              <p:cNvSpPr/>
              <p:nvPr/>
            </p:nvSpPr>
            <p:spPr>
              <a:xfrm>
                <a:off x="5105520" y="5851440"/>
                <a:ext cx="2514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=7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–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7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j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194440" y="609444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148440" y="6000840"/>
                <a:ext cx="241200" cy="3240"/>
              </a:xfrm>
              <a:custGeom>
                <a:avLst/>
                <a:gdLst/>
                <a:ahLst/>
                <a:rect l="l" t="t" r="r" b="b"/>
                <a:pathLst>
                  <a:path w="152" h="2">
                    <a:moveTo>
                      <a:pt x="0" y="0"/>
                    </a:moveTo>
                    <a:lnTo>
                      <a:pt x="152" y="2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956280" y="5996160"/>
                <a:ext cx="228600" cy="4680"/>
              </a:xfrm>
              <a:custGeom>
                <a:avLst/>
                <a:gdLst/>
                <a:ahLst/>
                <a:rect l="l" t="t" r="r" b="b"/>
                <a:pathLst>
                  <a:path w="144" h="3">
                    <a:moveTo>
                      <a:pt x="0" y="0"/>
                    </a:moveTo>
                    <a:lnTo>
                      <a:pt x="144" y="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"/>
          <p:cNvSpPr/>
          <p:nvPr/>
        </p:nvSpPr>
        <p:spPr>
          <a:xfrm flipH="1">
            <a:off x="5029200" y="1066680"/>
            <a:ext cx="4114800" cy="7632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4572000" y="1066680"/>
            <a:ext cx="4038480" cy="2819520"/>
            <a:chOff x="4572000" y="1066680"/>
            <a:chExt cx="4038480" cy="2819520"/>
          </a:xfrm>
        </p:grpSpPr>
        <p:sp>
          <p:nvSpPr>
            <p:cNvPr id="618" name=""/>
            <p:cNvSpPr/>
            <p:nvPr/>
          </p:nvSpPr>
          <p:spPr>
            <a:xfrm>
              <a:off x="4572000" y="1186920"/>
              <a:ext cx="4038480" cy="269928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128200" y="1066680"/>
              <a:ext cx="150120" cy="266760"/>
              <a:chOff x="5128200" y="1066680"/>
              <a:chExt cx="150120" cy="266760"/>
            </a:xfrm>
          </p:grpSpPr>
          <p:sp>
            <p:nvSpPr>
              <p:cNvPr id="620" name=""/>
              <p:cNvSpPr/>
              <p:nvPr/>
            </p:nvSpPr>
            <p:spPr>
              <a:xfrm>
                <a:off x="5185080" y="1267200"/>
                <a:ext cx="44640" cy="66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128200" y="1066680"/>
                <a:ext cx="150120" cy="2548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5634360" y="1067040"/>
              <a:ext cx="151200" cy="267480"/>
              <a:chOff x="5634360" y="1067040"/>
              <a:chExt cx="151200" cy="267480"/>
            </a:xfrm>
          </p:grpSpPr>
          <p:sp>
            <p:nvSpPr>
              <p:cNvPr id="623" name=""/>
              <p:cNvSpPr/>
              <p:nvPr/>
            </p:nvSpPr>
            <p:spPr>
              <a:xfrm>
                <a:off x="5691600" y="1267920"/>
                <a:ext cx="44640" cy="66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34360" y="1067040"/>
                <a:ext cx="151200" cy="2548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6174360" y="1067040"/>
              <a:ext cx="150120" cy="267480"/>
              <a:chOff x="6174360" y="1067040"/>
              <a:chExt cx="150120" cy="267480"/>
            </a:xfrm>
          </p:grpSpPr>
          <p:sp>
            <p:nvSpPr>
              <p:cNvPr id="626" name=""/>
              <p:cNvSpPr/>
              <p:nvPr/>
            </p:nvSpPr>
            <p:spPr>
              <a:xfrm>
                <a:off x="6231240" y="1267920"/>
                <a:ext cx="44640" cy="66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174360" y="1067040"/>
                <a:ext cx="150120" cy="2548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712920" y="1067040"/>
              <a:ext cx="150120" cy="267480"/>
              <a:chOff x="6712920" y="1067040"/>
              <a:chExt cx="150120" cy="267480"/>
            </a:xfrm>
          </p:grpSpPr>
          <p:sp>
            <p:nvSpPr>
              <p:cNvPr id="629" name=""/>
              <p:cNvSpPr/>
              <p:nvPr/>
            </p:nvSpPr>
            <p:spPr>
              <a:xfrm>
                <a:off x="6769800" y="1267920"/>
                <a:ext cx="44640" cy="66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712920" y="1067040"/>
                <a:ext cx="150120" cy="2548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7191000" y="1067040"/>
              <a:ext cx="150120" cy="267480"/>
              <a:chOff x="7191000" y="1067040"/>
              <a:chExt cx="150120" cy="267480"/>
            </a:xfrm>
          </p:grpSpPr>
          <p:sp>
            <p:nvSpPr>
              <p:cNvPr id="632" name=""/>
              <p:cNvSpPr/>
              <p:nvPr/>
            </p:nvSpPr>
            <p:spPr>
              <a:xfrm>
                <a:off x="7247880" y="1267920"/>
                <a:ext cx="44640" cy="66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191000" y="1067040"/>
                <a:ext cx="150120" cy="2548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7730640" y="1067040"/>
              <a:ext cx="150120" cy="267480"/>
              <a:chOff x="7730640" y="1067040"/>
              <a:chExt cx="150120" cy="267480"/>
            </a:xfrm>
          </p:grpSpPr>
          <p:sp>
            <p:nvSpPr>
              <p:cNvPr id="635" name=""/>
              <p:cNvSpPr/>
              <p:nvPr/>
            </p:nvSpPr>
            <p:spPr>
              <a:xfrm>
                <a:off x="7787520" y="1267920"/>
                <a:ext cx="44640" cy="66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730640" y="1067040"/>
                <a:ext cx="150120" cy="2548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7560000" y="2017080"/>
              <a:ext cx="230760" cy="165204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623280" y="2435040"/>
              <a:ext cx="358920" cy="130104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34360" y="2868840"/>
              <a:ext cx="360000" cy="9007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8234640" y="1066680"/>
              <a:ext cx="150120" cy="266760"/>
              <a:chOff x="8234640" y="1066680"/>
              <a:chExt cx="150120" cy="266760"/>
            </a:xfrm>
          </p:grpSpPr>
          <p:sp>
            <p:nvSpPr>
              <p:cNvPr id="641" name=""/>
              <p:cNvSpPr/>
              <p:nvPr/>
            </p:nvSpPr>
            <p:spPr>
              <a:xfrm>
                <a:off x="8291520" y="1267200"/>
                <a:ext cx="44640" cy="66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234640" y="1066680"/>
                <a:ext cx="150120" cy="2548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 flipH="1">
            <a:off x="-720" y="3809880"/>
            <a:ext cx="4419720" cy="7632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04920" y="3809880"/>
            <a:ext cx="4038480" cy="2819520"/>
            <a:chOff x="304920" y="3809880"/>
            <a:chExt cx="4038480" cy="2819520"/>
          </a:xfrm>
        </p:grpSpPr>
        <p:sp>
          <p:nvSpPr>
            <p:cNvPr id="645" name=""/>
            <p:cNvSpPr/>
            <p:nvPr/>
          </p:nvSpPr>
          <p:spPr>
            <a:xfrm>
              <a:off x="304920" y="3930120"/>
              <a:ext cx="4038480" cy="269928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861120" y="3809880"/>
              <a:ext cx="150120" cy="266760"/>
              <a:chOff x="861120" y="3809880"/>
              <a:chExt cx="150120" cy="266760"/>
            </a:xfrm>
          </p:grpSpPr>
          <p:sp>
            <p:nvSpPr>
              <p:cNvPr id="647" name=""/>
              <p:cNvSpPr/>
              <p:nvPr/>
            </p:nvSpPr>
            <p:spPr>
              <a:xfrm>
                <a:off x="918000" y="4010400"/>
                <a:ext cx="44640" cy="66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61120" y="3809880"/>
                <a:ext cx="150120" cy="2548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1367280" y="3810240"/>
              <a:ext cx="151200" cy="267480"/>
              <a:chOff x="1367280" y="3810240"/>
              <a:chExt cx="151200" cy="267480"/>
            </a:xfrm>
          </p:grpSpPr>
          <p:sp>
            <p:nvSpPr>
              <p:cNvPr id="650" name=""/>
              <p:cNvSpPr/>
              <p:nvPr/>
            </p:nvSpPr>
            <p:spPr>
              <a:xfrm>
                <a:off x="1424520" y="4011120"/>
                <a:ext cx="44640" cy="66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67280" y="3810240"/>
                <a:ext cx="151200" cy="2548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1907280" y="3810240"/>
              <a:ext cx="150120" cy="267480"/>
              <a:chOff x="1907280" y="3810240"/>
              <a:chExt cx="150120" cy="267480"/>
            </a:xfrm>
          </p:grpSpPr>
          <p:sp>
            <p:nvSpPr>
              <p:cNvPr id="653" name=""/>
              <p:cNvSpPr/>
              <p:nvPr/>
            </p:nvSpPr>
            <p:spPr>
              <a:xfrm>
                <a:off x="1964160" y="4011120"/>
                <a:ext cx="44640" cy="66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907280" y="3810240"/>
                <a:ext cx="150120" cy="2548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2445840" y="3810240"/>
              <a:ext cx="150120" cy="267480"/>
              <a:chOff x="2445840" y="3810240"/>
              <a:chExt cx="150120" cy="267480"/>
            </a:xfrm>
          </p:grpSpPr>
          <p:sp>
            <p:nvSpPr>
              <p:cNvPr id="656" name=""/>
              <p:cNvSpPr/>
              <p:nvPr/>
            </p:nvSpPr>
            <p:spPr>
              <a:xfrm>
                <a:off x="2502720" y="4011120"/>
                <a:ext cx="44640" cy="66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445840" y="3810240"/>
                <a:ext cx="150120" cy="2548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2923920" y="3810240"/>
              <a:ext cx="150120" cy="267480"/>
              <a:chOff x="2923920" y="3810240"/>
              <a:chExt cx="150120" cy="267480"/>
            </a:xfrm>
          </p:grpSpPr>
          <p:sp>
            <p:nvSpPr>
              <p:cNvPr id="659" name=""/>
              <p:cNvSpPr/>
              <p:nvPr/>
            </p:nvSpPr>
            <p:spPr>
              <a:xfrm>
                <a:off x="2980800" y="4011120"/>
                <a:ext cx="44640" cy="66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23920" y="3810240"/>
                <a:ext cx="150120" cy="2548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3463560" y="3810240"/>
              <a:ext cx="150120" cy="267480"/>
              <a:chOff x="3463560" y="3810240"/>
              <a:chExt cx="150120" cy="267480"/>
            </a:xfrm>
          </p:grpSpPr>
          <p:sp>
            <p:nvSpPr>
              <p:cNvPr id="662" name=""/>
              <p:cNvSpPr/>
              <p:nvPr/>
            </p:nvSpPr>
            <p:spPr>
              <a:xfrm>
                <a:off x="3520440" y="4011120"/>
                <a:ext cx="44640" cy="66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463560" y="3810240"/>
                <a:ext cx="150120" cy="2548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3292920" y="4760280"/>
              <a:ext cx="230760" cy="165204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356200" y="5178240"/>
              <a:ext cx="358920" cy="130104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67280" y="5612040"/>
              <a:ext cx="360000" cy="9007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967560" y="3809880"/>
              <a:ext cx="150120" cy="266760"/>
              <a:chOff x="3967560" y="3809880"/>
              <a:chExt cx="150120" cy="266760"/>
            </a:xfrm>
          </p:grpSpPr>
          <p:sp>
            <p:nvSpPr>
              <p:cNvPr id="668" name=""/>
              <p:cNvSpPr/>
              <p:nvPr/>
            </p:nvSpPr>
            <p:spPr>
              <a:xfrm>
                <a:off x="4024440" y="4010400"/>
                <a:ext cx="44640" cy="66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967560" y="3809880"/>
                <a:ext cx="150120" cy="2548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1080000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0.37917 0.00556 E">
                                      <p:cBhvr>
                                        <p:cTn id="380" dur="3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42084 0.00556 E">
                                      <p:cBhvr>
                                        <p:cTn id="384" dur="3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71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17600" y="825480"/>
            <a:ext cx="5252400" cy="424800"/>
            <a:chOff x="417600" y="825480"/>
            <a:chExt cx="5252400" cy="424800"/>
          </a:xfrm>
        </p:grpSpPr>
        <p:sp>
          <p:nvSpPr>
            <p:cNvPr id="680" name=""/>
            <p:cNvSpPr/>
            <p:nvPr/>
          </p:nvSpPr>
          <p:spPr>
            <a:xfrm>
              <a:off x="417600" y="825480"/>
              <a:ext cx="5252400" cy="2520"/>
            </a:xfrm>
            <a:custGeom>
              <a:avLst/>
              <a:gdLst/>
              <a:ahLst/>
              <a:rect l="l" t="t" r="r" b="b"/>
              <a:pathLst>
                <a:path w="1436" h="1">
                  <a:moveTo>
                    <a:pt x="0" y="0"/>
                  </a:moveTo>
                  <a:lnTo>
                    <a:pt x="1436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6400" y="1247400"/>
              <a:ext cx="5223600" cy="2880"/>
            </a:xfrm>
            <a:custGeom>
              <a:avLst/>
              <a:gdLst/>
              <a:ahLst/>
              <a:rect l="l" t="t" r="r" b="b"/>
              <a:pathLst>
                <a:path w="1428" h="1">
                  <a:moveTo>
                    <a:pt x="0" y="0"/>
                  </a:moveTo>
                  <a:lnTo>
                    <a:pt x="1428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17600" y="1698480"/>
            <a:ext cx="5253120" cy="3240"/>
          </a:xfrm>
          <a:custGeom>
            <a:avLst/>
            <a:gdLst/>
            <a:ahLst/>
            <a:rect l="l" t="t" r="r" b="b"/>
            <a:pathLst>
              <a:path w="1436" h="1">
                <a:moveTo>
                  <a:pt x="0" y="0"/>
                </a:moveTo>
                <a:lnTo>
                  <a:pt x="1436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2095560"/>
            <a:ext cx="5308560" cy="12600"/>
          </a:xfrm>
          <a:custGeom>
            <a:avLst/>
            <a:gdLst/>
            <a:ahLst/>
            <a:rect l="l" t="t" r="r" b="b"/>
            <a:pathLst>
              <a:path w="3344" h="8">
                <a:moveTo>
                  <a:pt x="0" y="0"/>
                </a:moveTo>
                <a:lnTo>
                  <a:pt x="3344" y="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417600" y="2522520"/>
            <a:ext cx="5252400" cy="424800"/>
            <a:chOff x="417600" y="2522520"/>
            <a:chExt cx="5252400" cy="424800"/>
          </a:xfrm>
        </p:grpSpPr>
        <p:sp>
          <p:nvSpPr>
            <p:cNvPr id="685" name=""/>
            <p:cNvSpPr/>
            <p:nvPr/>
          </p:nvSpPr>
          <p:spPr>
            <a:xfrm>
              <a:off x="417600" y="2522520"/>
              <a:ext cx="5252400" cy="2520"/>
            </a:xfrm>
            <a:custGeom>
              <a:avLst/>
              <a:gdLst/>
              <a:ahLst/>
              <a:rect l="l" t="t" r="r" b="b"/>
              <a:pathLst>
                <a:path w="1436" h="1">
                  <a:moveTo>
                    <a:pt x="0" y="0"/>
                  </a:moveTo>
                  <a:lnTo>
                    <a:pt x="1436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6400" y="2944440"/>
              <a:ext cx="5223600" cy="2880"/>
            </a:xfrm>
            <a:custGeom>
              <a:avLst/>
              <a:gdLst/>
              <a:ahLst/>
              <a:rect l="l" t="t" r="r" b="b"/>
              <a:pathLst>
                <a:path w="1428" h="1">
                  <a:moveTo>
                    <a:pt x="0" y="0"/>
                  </a:moveTo>
                  <a:lnTo>
                    <a:pt x="1428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404640" y="3376440"/>
            <a:ext cx="5295240" cy="443880"/>
            <a:chOff x="404640" y="3376440"/>
            <a:chExt cx="5295240" cy="443880"/>
          </a:xfrm>
        </p:grpSpPr>
        <p:sp>
          <p:nvSpPr>
            <p:cNvPr id="688" name=""/>
            <p:cNvSpPr/>
            <p:nvPr/>
          </p:nvSpPr>
          <p:spPr>
            <a:xfrm>
              <a:off x="404640" y="3376440"/>
              <a:ext cx="5295240" cy="11160"/>
            </a:xfrm>
            <a:custGeom>
              <a:avLst/>
              <a:gdLst/>
              <a:ahLst/>
              <a:rect l="l" t="t" r="r" b="b"/>
              <a:pathLst>
                <a:path w="1448" h="4">
                  <a:moveTo>
                    <a:pt x="0" y="0"/>
                  </a:moveTo>
                  <a:lnTo>
                    <a:pt x="1448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3320" y="3809880"/>
              <a:ext cx="5236560" cy="10440"/>
            </a:xfrm>
            <a:custGeom>
              <a:avLst/>
              <a:gdLst/>
              <a:ahLst/>
              <a:rect l="l" t="t" r="r" b="b"/>
              <a:pathLst>
                <a:path w="1432" h="4">
                  <a:moveTo>
                    <a:pt x="0" y="0"/>
                  </a:moveTo>
                  <a:lnTo>
                    <a:pt x="1432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17600" y="4210200"/>
            <a:ext cx="5295240" cy="443520"/>
            <a:chOff x="417600" y="4210200"/>
            <a:chExt cx="5295240" cy="443520"/>
          </a:xfrm>
        </p:grpSpPr>
        <p:sp>
          <p:nvSpPr>
            <p:cNvPr id="691" name=""/>
            <p:cNvSpPr/>
            <p:nvPr/>
          </p:nvSpPr>
          <p:spPr>
            <a:xfrm>
              <a:off x="417600" y="4210200"/>
              <a:ext cx="5295240" cy="11160"/>
            </a:xfrm>
            <a:custGeom>
              <a:avLst/>
              <a:gdLst/>
              <a:ahLst/>
              <a:rect l="l" t="t" r="r" b="b"/>
              <a:pathLst>
                <a:path w="1448" h="4">
                  <a:moveTo>
                    <a:pt x="0" y="0"/>
                  </a:moveTo>
                  <a:lnTo>
                    <a:pt x="1448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6280" y="4643280"/>
              <a:ext cx="5236560" cy="10440"/>
            </a:xfrm>
            <a:custGeom>
              <a:avLst/>
              <a:gdLst/>
              <a:ahLst/>
              <a:rect l="l" t="t" r="r" b="b"/>
              <a:pathLst>
                <a:path w="1432" h="4">
                  <a:moveTo>
                    <a:pt x="0" y="0"/>
                  </a:moveTo>
                  <a:lnTo>
                    <a:pt x="1432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04640" y="5075280"/>
            <a:ext cx="5308200" cy="453600"/>
            <a:chOff x="404640" y="5075280"/>
            <a:chExt cx="5308200" cy="453600"/>
          </a:xfrm>
        </p:grpSpPr>
        <p:sp>
          <p:nvSpPr>
            <p:cNvPr id="694" name=""/>
            <p:cNvSpPr/>
            <p:nvPr/>
          </p:nvSpPr>
          <p:spPr>
            <a:xfrm>
              <a:off x="404640" y="5075280"/>
              <a:ext cx="5264280" cy="2160"/>
            </a:xfrm>
            <a:custGeom>
              <a:avLst/>
              <a:gdLst/>
              <a:ahLst/>
              <a:rect l="l" t="t" r="r" b="b"/>
              <a:pathLst>
                <a:path w="1440" h="1">
                  <a:moveTo>
                    <a:pt x="0" y="0"/>
                  </a:move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4640" y="5506920"/>
              <a:ext cx="5308200" cy="21960"/>
            </a:xfrm>
            <a:custGeom>
              <a:avLst/>
              <a:gdLst/>
              <a:ahLst/>
              <a:rect l="l" t="t" r="r" b="b"/>
              <a:pathLst>
                <a:path w="1452" h="8">
                  <a:moveTo>
                    <a:pt x="0" y="8"/>
                  </a:moveTo>
                  <a:lnTo>
                    <a:pt x="1452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404640" y="5929200"/>
            <a:ext cx="5266080" cy="12960"/>
          </a:xfrm>
          <a:custGeom>
            <a:avLst/>
            <a:gdLst/>
            <a:ahLst/>
            <a:rect l="l" t="t" r="r" b="b"/>
            <a:pathLst>
              <a:path w="1440" h="4">
                <a:moveTo>
                  <a:pt x="0" y="4"/>
                </a:moveTo>
                <a:lnTo>
                  <a:pt x="1440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04640" y="6362640"/>
            <a:ext cx="5249880" cy="1800"/>
          </a:xfrm>
          <a:custGeom>
            <a:avLst/>
            <a:gdLst/>
            <a:ahLst/>
            <a:rect l="l" t="t" r="r" b="b"/>
            <a:pathLst>
              <a:path w="1436" h="1">
                <a:moveTo>
                  <a:pt x="0" y="0"/>
                </a:moveTo>
                <a:lnTo>
                  <a:pt x="1436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17600" y="392040"/>
            <a:ext cx="5265720" cy="11160"/>
          </a:xfrm>
          <a:custGeom>
            <a:avLst/>
            <a:gdLst/>
            <a:ahLst/>
            <a:rect l="l" t="t" r="r" b="b"/>
            <a:pathLst>
              <a:path w="1440" h="4">
                <a:moveTo>
                  <a:pt x="0" y="4"/>
                </a:moveTo>
                <a:lnTo>
                  <a:pt x="1440" y="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4360" y="392040"/>
            <a:ext cx="4680" cy="5994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363920" y="388800"/>
            <a:ext cx="1800" cy="5994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906720" y="392040"/>
            <a:ext cx="9720" cy="5994360"/>
          </a:xfrm>
          <a:custGeom>
            <a:avLst/>
            <a:gdLst/>
            <a:ahLst/>
            <a:rect l="l" t="t" r="r" b="b"/>
            <a:pathLst>
              <a:path w="4" h="2160">
                <a:moveTo>
                  <a:pt x="4" y="0"/>
                </a:moveTo>
                <a:lnTo>
                  <a:pt x="0" y="216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459240" y="380880"/>
            <a:ext cx="11160" cy="6015240"/>
          </a:xfrm>
          <a:custGeom>
            <a:avLst/>
            <a:gdLst/>
            <a:ahLst/>
            <a:rect l="l" t="t" r="r" b="b"/>
            <a:pathLst>
              <a:path w="4" h="2168">
                <a:moveTo>
                  <a:pt x="0" y="0"/>
                </a:moveTo>
                <a:lnTo>
                  <a:pt x="4" y="216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033720" y="392040"/>
            <a:ext cx="11160" cy="6015240"/>
          </a:xfrm>
          <a:custGeom>
            <a:avLst/>
            <a:gdLst/>
            <a:ahLst/>
            <a:rect l="l" t="t" r="r" b="b"/>
            <a:pathLst>
              <a:path w="4" h="2168">
                <a:moveTo>
                  <a:pt x="0" y="0"/>
                </a:moveTo>
                <a:lnTo>
                  <a:pt x="4" y="216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587680" y="380880"/>
            <a:ext cx="9360" cy="5992920"/>
          </a:xfrm>
          <a:custGeom>
            <a:avLst/>
            <a:gdLst/>
            <a:ahLst/>
            <a:rect l="l" t="t" r="r" b="b"/>
            <a:pathLst>
              <a:path w="4" h="2160">
                <a:moveTo>
                  <a:pt x="0" y="0"/>
                </a:moveTo>
                <a:lnTo>
                  <a:pt x="4" y="216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149560" y="392040"/>
            <a:ext cx="22320" cy="5959440"/>
          </a:xfrm>
          <a:custGeom>
            <a:avLst/>
            <a:gdLst/>
            <a:ahLst/>
            <a:rect l="l" t="t" r="r" b="b"/>
            <a:pathLst>
              <a:path w="8" h="2148">
                <a:moveTo>
                  <a:pt x="0" y="0"/>
                </a:moveTo>
                <a:lnTo>
                  <a:pt x="8" y="214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724040" y="392040"/>
            <a:ext cx="22320" cy="5959440"/>
          </a:xfrm>
          <a:custGeom>
            <a:avLst/>
            <a:gdLst/>
            <a:ahLst/>
            <a:rect l="l" t="t" r="r" b="b"/>
            <a:pathLst>
              <a:path w="8" h="2148">
                <a:moveTo>
                  <a:pt x="0" y="0"/>
                </a:moveTo>
                <a:lnTo>
                  <a:pt x="8" y="214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89160" y="392040"/>
            <a:ext cx="9360" cy="5970600"/>
          </a:xfrm>
          <a:custGeom>
            <a:avLst/>
            <a:gdLst/>
            <a:ahLst/>
            <a:rect l="l" t="t" r="r" b="b"/>
            <a:pathLst>
              <a:path w="4" h="2152">
                <a:moveTo>
                  <a:pt x="0" y="0"/>
                </a:moveTo>
                <a:lnTo>
                  <a:pt x="4" y="2152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41320" y="380880"/>
            <a:ext cx="11160" cy="5992920"/>
          </a:xfrm>
          <a:custGeom>
            <a:avLst/>
            <a:gdLst/>
            <a:ahLst/>
            <a:rect l="l" t="t" r="r" b="b"/>
            <a:pathLst>
              <a:path w="4" h="2160">
                <a:moveTo>
                  <a:pt x="0" y="0"/>
                </a:moveTo>
                <a:lnTo>
                  <a:pt x="4" y="216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80880" y="3381480"/>
            <a:ext cx="5332680" cy="17280"/>
          </a:xfrm>
          <a:custGeom>
            <a:avLst/>
            <a:gdLst/>
            <a:ahLst/>
            <a:rect l="l" t="t" r="r" b="b"/>
            <a:pathLst>
              <a:path w="2656" h="8">
                <a:moveTo>
                  <a:pt x="0" y="0"/>
                </a:moveTo>
                <a:lnTo>
                  <a:pt x="2656" y="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813200" y="388800"/>
            <a:ext cx="15840" cy="5967720"/>
          </a:xfrm>
          <a:custGeom>
            <a:avLst/>
            <a:gdLst/>
            <a:ahLst/>
            <a:rect l="l" t="t" r="r" b="b"/>
            <a:pathLst>
              <a:path w="8" h="2808">
                <a:moveTo>
                  <a:pt x="0" y="0"/>
                </a:moveTo>
                <a:lnTo>
                  <a:pt x="8" y="280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262480" y="388800"/>
            <a:ext cx="33480" cy="5950080"/>
          </a:xfrm>
          <a:custGeom>
            <a:avLst/>
            <a:gdLst/>
            <a:ahLst/>
            <a:rect l="l" t="t" r="r" b="b"/>
            <a:pathLst>
              <a:path w="16" h="2800">
                <a:moveTo>
                  <a:pt x="0" y="0"/>
                </a:moveTo>
                <a:lnTo>
                  <a:pt x="16" y="280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713560" y="388800"/>
            <a:ext cx="1440" cy="5994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533680" y="334800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014640" y="423720"/>
            <a:ext cx="31680" cy="5983560"/>
          </a:xfrm>
          <a:custGeom>
            <a:avLst/>
            <a:gdLst/>
            <a:ahLst/>
            <a:rect l="l" t="t" r="r" b="b"/>
            <a:pathLst>
              <a:path w="16" h="2816">
                <a:moveTo>
                  <a:pt x="16" y="28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277800" y="335268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022560" y="3390840"/>
            <a:ext cx="471600" cy="1800"/>
          </a:xfrm>
          <a:custGeom>
            <a:avLst/>
            <a:gdLst/>
            <a:ahLst/>
            <a:rect l="l" t="t" r="r" b="b"/>
            <a:pathLst>
              <a:path w="297" h="1">
                <a:moveTo>
                  <a:pt x="0" y="0"/>
                </a:moveTo>
                <a:lnTo>
                  <a:pt x="29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3200400" y="2819520"/>
            <a:ext cx="609480" cy="642600"/>
            <a:chOff x="3200400" y="2819520"/>
            <a:chExt cx="609480" cy="642600"/>
          </a:xfrm>
        </p:grpSpPr>
        <p:sp>
          <p:nvSpPr>
            <p:cNvPr id="718" name=""/>
            <p:cNvSpPr/>
            <p:nvPr/>
          </p:nvSpPr>
          <p:spPr>
            <a:xfrm>
              <a:off x="3200400" y="28195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428640" y="2965320"/>
              <a:ext cx="225360" cy="612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0"/>
                  </a:moveTo>
                  <a:lnTo>
                    <a:pt x="142" y="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3027240" y="2922480"/>
            <a:ext cx="1800" cy="468360"/>
          </a:xfrm>
          <a:custGeom>
            <a:avLst/>
            <a:gdLst/>
            <a:ahLst/>
            <a:rect l="l" t="t" r="r" b="b"/>
            <a:pathLst>
              <a:path w="1" h="295">
                <a:moveTo>
                  <a:pt x="0" y="29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514600" y="2590920"/>
            <a:ext cx="609480" cy="642600"/>
            <a:chOff x="2514600" y="2590920"/>
            <a:chExt cx="609480" cy="642600"/>
          </a:xfrm>
        </p:grpSpPr>
        <p:sp>
          <p:nvSpPr>
            <p:cNvPr id="722" name=""/>
            <p:cNvSpPr/>
            <p:nvPr/>
          </p:nvSpPr>
          <p:spPr>
            <a:xfrm>
              <a:off x="2514600" y="25909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755800" y="2730240"/>
              <a:ext cx="225360" cy="612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0"/>
                  </a:moveTo>
                  <a:lnTo>
                    <a:pt x="142" y="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5335200" y="2666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515680" y="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3022560" y="1828800"/>
            <a:ext cx="1320840" cy="1562040"/>
            <a:chOff x="3022560" y="1828800"/>
            <a:chExt cx="1320840" cy="1562040"/>
          </a:xfrm>
        </p:grpSpPr>
        <p:sp>
          <p:nvSpPr>
            <p:cNvPr id="727" name=""/>
            <p:cNvSpPr/>
            <p:nvPr/>
          </p:nvSpPr>
          <p:spPr>
            <a:xfrm>
              <a:off x="3022560" y="2108160"/>
              <a:ext cx="876240" cy="1282680"/>
            </a:xfrm>
            <a:custGeom>
              <a:avLst/>
              <a:gdLst/>
              <a:ahLst/>
              <a:rect l="l" t="t" r="r" b="b"/>
              <a:pathLst>
                <a:path w="552" h="808">
                  <a:moveTo>
                    <a:pt x="0" y="808"/>
                  </a:moveTo>
                  <a:lnTo>
                    <a:pt x="55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3733920" y="1828800"/>
              <a:ext cx="609480" cy="703440"/>
              <a:chOff x="3733920" y="1828800"/>
              <a:chExt cx="609480" cy="703440"/>
            </a:xfrm>
          </p:grpSpPr>
          <p:sp>
            <p:nvSpPr>
              <p:cNvPr id="729" name=""/>
              <p:cNvSpPr/>
              <p:nvPr/>
            </p:nvSpPr>
            <p:spPr>
              <a:xfrm>
                <a:off x="3733920" y="18288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886200" y="205740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1" name=""/>
          <p:cNvGrpSpPr/>
          <p:nvPr/>
        </p:nvGrpSpPr>
        <p:grpSpPr>
          <a:xfrm>
            <a:off x="1981080" y="1584360"/>
            <a:ext cx="1067040" cy="1832040"/>
            <a:chOff x="1981080" y="1584360"/>
            <a:chExt cx="1067040" cy="1832040"/>
          </a:xfrm>
        </p:grpSpPr>
        <p:sp>
          <p:nvSpPr>
            <p:cNvPr id="732" name=""/>
            <p:cNvSpPr/>
            <p:nvPr/>
          </p:nvSpPr>
          <p:spPr>
            <a:xfrm>
              <a:off x="2146320" y="2095560"/>
              <a:ext cx="901800" cy="1320840"/>
            </a:xfrm>
            <a:custGeom>
              <a:avLst/>
              <a:gdLst/>
              <a:ahLst/>
              <a:rect l="l" t="t" r="r" b="b"/>
              <a:pathLst>
                <a:path w="568" h="832">
                  <a:moveTo>
                    <a:pt x="568" y="83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660066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81080" y="15843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3720" y="16765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035160" y="1050840"/>
            <a:ext cx="1155960" cy="703440"/>
            <a:chOff x="3035160" y="1050840"/>
            <a:chExt cx="1155960" cy="703440"/>
          </a:xfrm>
        </p:grpSpPr>
        <p:sp>
          <p:nvSpPr>
            <p:cNvPr id="736" name=""/>
            <p:cNvSpPr/>
            <p:nvPr/>
          </p:nvSpPr>
          <p:spPr>
            <a:xfrm>
              <a:off x="3035160" y="1676520"/>
              <a:ext cx="889200" cy="12600"/>
            </a:xfrm>
            <a:custGeom>
              <a:avLst/>
              <a:gdLst/>
              <a:ahLst/>
              <a:rect l="l" t="t" r="r" b="b"/>
              <a:pathLst>
                <a:path w="560" h="8">
                  <a:moveTo>
                    <a:pt x="0" y="8"/>
                  </a:moveTo>
                  <a:lnTo>
                    <a:pt x="5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3581280" y="1050840"/>
              <a:ext cx="609840" cy="703440"/>
              <a:chOff x="3581280" y="1050840"/>
              <a:chExt cx="609840" cy="703440"/>
            </a:xfrm>
          </p:grpSpPr>
          <p:sp>
            <p:nvSpPr>
              <p:cNvPr id="738" name=""/>
              <p:cNvSpPr/>
              <p:nvPr/>
            </p:nvSpPr>
            <p:spPr>
              <a:xfrm>
                <a:off x="3581280" y="10508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920" y="127944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0" name=""/>
          <p:cNvGrpSpPr/>
          <p:nvPr/>
        </p:nvGrpSpPr>
        <p:grpSpPr>
          <a:xfrm>
            <a:off x="3035160" y="3403440"/>
            <a:ext cx="1308240" cy="957600"/>
            <a:chOff x="3035160" y="3403440"/>
            <a:chExt cx="1308240" cy="957600"/>
          </a:xfrm>
        </p:grpSpPr>
        <p:sp>
          <p:nvSpPr>
            <p:cNvPr id="741" name=""/>
            <p:cNvSpPr/>
            <p:nvPr/>
          </p:nvSpPr>
          <p:spPr>
            <a:xfrm>
              <a:off x="3035160" y="3403440"/>
              <a:ext cx="889200" cy="825840"/>
            </a:xfrm>
            <a:custGeom>
              <a:avLst/>
              <a:gdLst/>
              <a:ahLst/>
              <a:rect l="l" t="t" r="r" b="b"/>
              <a:pathLst>
                <a:path w="560" h="520">
                  <a:moveTo>
                    <a:pt x="0" y="0"/>
                  </a:moveTo>
                  <a:lnTo>
                    <a:pt x="560" y="52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3733920" y="3657600"/>
              <a:ext cx="609480" cy="703440"/>
              <a:chOff x="3733920" y="3657600"/>
              <a:chExt cx="609480" cy="703440"/>
            </a:xfrm>
          </p:grpSpPr>
          <p:sp>
            <p:nvSpPr>
              <p:cNvPr id="743" name=""/>
              <p:cNvSpPr/>
              <p:nvPr/>
            </p:nvSpPr>
            <p:spPr>
              <a:xfrm>
                <a:off x="3733920" y="3657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886200" y="388620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5" name=""/>
          <p:cNvGrpSpPr/>
          <p:nvPr/>
        </p:nvGrpSpPr>
        <p:grpSpPr>
          <a:xfrm>
            <a:off x="1295280" y="3441600"/>
            <a:ext cx="1727280" cy="1818000"/>
            <a:chOff x="1295280" y="3441600"/>
            <a:chExt cx="1727280" cy="1818000"/>
          </a:xfrm>
        </p:grpSpPr>
        <p:sp>
          <p:nvSpPr>
            <p:cNvPr id="746" name=""/>
            <p:cNvSpPr/>
            <p:nvPr/>
          </p:nvSpPr>
          <p:spPr>
            <a:xfrm>
              <a:off x="1752480" y="3441600"/>
              <a:ext cx="1270080" cy="1613160"/>
            </a:xfrm>
            <a:custGeom>
              <a:avLst/>
              <a:gdLst/>
              <a:ahLst/>
              <a:rect l="l" t="t" r="r" b="b"/>
              <a:pathLst>
                <a:path w="800" h="1016">
                  <a:moveTo>
                    <a:pt x="800" y="0"/>
                  </a:moveTo>
                  <a:lnTo>
                    <a:pt x="0" y="10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295280" y="4556160"/>
              <a:ext cx="609840" cy="703440"/>
              <a:chOff x="1295280" y="4556160"/>
              <a:chExt cx="609840" cy="703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295280" y="455616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562040" y="4682880"/>
                <a:ext cx="279360" cy="1800"/>
              </a:xfrm>
              <a:custGeom>
                <a:avLst/>
                <a:gdLst/>
                <a:ahLst/>
                <a:rect l="l" t="t" r="r" b="b"/>
                <a:pathLst>
                  <a:path w="176" h="1">
                    <a:moveTo>
                      <a:pt x="0" y="0"/>
                    </a:moveTo>
                    <a:lnTo>
                      <a:pt x="176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0" name=""/>
          <p:cNvGrpSpPr/>
          <p:nvPr/>
        </p:nvGrpSpPr>
        <p:grpSpPr>
          <a:xfrm>
            <a:off x="1219320" y="1219320"/>
            <a:ext cx="1803240" cy="2133360"/>
            <a:chOff x="1219320" y="1219320"/>
            <a:chExt cx="1803240" cy="2133360"/>
          </a:xfrm>
        </p:grpSpPr>
        <p:sp>
          <p:nvSpPr>
            <p:cNvPr id="751" name=""/>
            <p:cNvSpPr/>
            <p:nvPr/>
          </p:nvSpPr>
          <p:spPr>
            <a:xfrm>
              <a:off x="1282680" y="1219320"/>
              <a:ext cx="1739880" cy="2133360"/>
            </a:xfrm>
            <a:custGeom>
              <a:avLst/>
              <a:gdLst/>
              <a:ahLst/>
              <a:rect l="l" t="t" r="r" b="b"/>
              <a:pathLst>
                <a:path w="1096" h="1344">
                  <a:moveTo>
                    <a:pt x="1096" y="0"/>
                  </a:moveTo>
                  <a:lnTo>
                    <a:pt x="0" y="13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1219320" y="2362320"/>
              <a:ext cx="609480" cy="703440"/>
              <a:chOff x="1219320" y="2362320"/>
              <a:chExt cx="609480" cy="703440"/>
            </a:xfrm>
          </p:grpSpPr>
          <p:sp>
            <p:nvSpPr>
              <p:cNvPr id="753" name=""/>
              <p:cNvSpPr/>
              <p:nvPr/>
            </p:nvSpPr>
            <p:spPr>
              <a:xfrm>
                <a:off x="1219320" y="23623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447920" y="25146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5" name=""/>
          <p:cNvGrpSpPr/>
          <p:nvPr/>
        </p:nvGrpSpPr>
        <p:grpSpPr>
          <a:xfrm>
            <a:off x="5715000" y="228600"/>
            <a:ext cx="3200400" cy="2836080"/>
            <a:chOff x="5715000" y="228600"/>
            <a:chExt cx="3200400" cy="2836080"/>
          </a:xfrm>
        </p:grpSpPr>
        <p:sp>
          <p:nvSpPr>
            <p:cNvPr id="756" name=""/>
            <p:cNvSpPr/>
            <p:nvPr/>
          </p:nvSpPr>
          <p:spPr>
            <a:xfrm>
              <a:off x="5715000" y="228600"/>
              <a:ext cx="3200400" cy="28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№ 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918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ложите вектор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координатны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кторам     и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найдите и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ординаты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7010280" y="1415880"/>
              <a:ext cx="609840" cy="642600"/>
              <a:chOff x="7010280" y="1415880"/>
              <a:chExt cx="609840" cy="642600"/>
            </a:xfrm>
          </p:grpSpPr>
          <p:sp>
            <p:nvSpPr>
              <p:cNvPr id="758" name=""/>
              <p:cNvSpPr/>
              <p:nvPr/>
            </p:nvSpPr>
            <p:spPr>
              <a:xfrm>
                <a:off x="7010280" y="1415880"/>
                <a:ext cx="60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238880" y="1562040"/>
                <a:ext cx="225720" cy="6480"/>
              </a:xfrm>
              <a:custGeom>
                <a:avLst/>
                <a:gdLst/>
                <a:ahLst/>
                <a:rect l="l" t="t" r="r" b="b"/>
                <a:pathLst>
                  <a:path w="142" h="4">
                    <a:moveTo>
                      <a:pt x="0" y="0"/>
                    </a:moveTo>
                    <a:lnTo>
                      <a:pt x="142" y="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7620120" y="1447920"/>
              <a:ext cx="609480" cy="642600"/>
              <a:chOff x="7620120" y="1447920"/>
              <a:chExt cx="609480" cy="642600"/>
            </a:xfrm>
          </p:grpSpPr>
          <p:sp>
            <p:nvSpPr>
              <p:cNvPr id="761" name=""/>
              <p:cNvSpPr/>
              <p:nvPr/>
            </p:nvSpPr>
            <p:spPr>
              <a:xfrm>
                <a:off x="7620120" y="144792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j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861320" y="1587240"/>
                <a:ext cx="225360" cy="6120"/>
              </a:xfrm>
              <a:custGeom>
                <a:avLst/>
                <a:gdLst/>
                <a:ahLst/>
                <a:rect l="l" t="t" r="r" b="b"/>
                <a:pathLst>
                  <a:path w="142" h="4">
                    <a:moveTo>
                      <a:pt x="0" y="0"/>
                    </a:moveTo>
                    <a:lnTo>
                      <a:pt x="142" y="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3" name=""/>
          <p:cNvSpPr/>
          <p:nvPr/>
        </p:nvSpPr>
        <p:spPr>
          <a:xfrm>
            <a:off x="3048120" y="1676520"/>
            <a:ext cx="888840" cy="12600"/>
          </a:xfrm>
          <a:custGeom>
            <a:avLst/>
            <a:gdLst/>
            <a:ahLst/>
            <a:rect l="l" t="t" r="r" b="b"/>
            <a:pathLst>
              <a:path w="560" h="8">
                <a:moveTo>
                  <a:pt x="0" y="8"/>
                </a:moveTo>
                <a:lnTo>
                  <a:pt x="5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95280" y="1238400"/>
            <a:ext cx="1729080" cy="2114280"/>
          </a:xfrm>
          <a:custGeom>
            <a:avLst/>
            <a:gdLst/>
            <a:ahLst/>
            <a:rect l="l" t="t" r="r" b="b"/>
            <a:pathLst>
              <a:path w="1089" h="1332">
                <a:moveTo>
                  <a:pt x="1089" y="0"/>
                </a:moveTo>
                <a:lnTo>
                  <a:pt x="0" y="1332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00139 0.10648 L -0.00277 0.24815 E">
                                      <p:cBhvr>
                                        <p:cTn id="414" dur="1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00208 0.18148 L -0.00139 0.31482 E">
                                      <p:cBhvr>
                                        <p:cTn id="448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766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3830760" y="388800"/>
            <a:ext cx="1440" cy="5994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373560" y="392040"/>
            <a:ext cx="9360" cy="5994360"/>
          </a:xfrm>
          <a:custGeom>
            <a:avLst/>
            <a:gdLst/>
            <a:ahLst/>
            <a:rect l="l" t="t" r="r" b="b"/>
            <a:pathLst>
              <a:path w="4" h="2160">
                <a:moveTo>
                  <a:pt x="4" y="0"/>
                </a:moveTo>
                <a:lnTo>
                  <a:pt x="0" y="216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925720" y="380880"/>
            <a:ext cx="11160" cy="6015240"/>
          </a:xfrm>
          <a:custGeom>
            <a:avLst/>
            <a:gdLst/>
            <a:ahLst/>
            <a:rect l="l" t="t" r="r" b="b"/>
            <a:pathLst>
              <a:path w="4" h="2168">
                <a:moveTo>
                  <a:pt x="0" y="0"/>
                </a:moveTo>
                <a:lnTo>
                  <a:pt x="4" y="216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500200" y="392040"/>
            <a:ext cx="11160" cy="6015240"/>
          </a:xfrm>
          <a:custGeom>
            <a:avLst/>
            <a:gdLst/>
            <a:ahLst/>
            <a:rect l="l" t="t" r="r" b="b"/>
            <a:pathLst>
              <a:path w="4" h="2168">
                <a:moveTo>
                  <a:pt x="0" y="0"/>
                </a:moveTo>
                <a:lnTo>
                  <a:pt x="4" y="216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054160" y="380880"/>
            <a:ext cx="9720" cy="5992920"/>
          </a:xfrm>
          <a:custGeom>
            <a:avLst/>
            <a:gdLst/>
            <a:ahLst/>
            <a:rect l="l" t="t" r="r" b="b"/>
            <a:pathLst>
              <a:path w="4" h="2160">
                <a:moveTo>
                  <a:pt x="0" y="0"/>
                </a:moveTo>
                <a:lnTo>
                  <a:pt x="4" y="216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616040" y="392040"/>
            <a:ext cx="22320" cy="5959440"/>
          </a:xfrm>
          <a:custGeom>
            <a:avLst/>
            <a:gdLst/>
            <a:ahLst/>
            <a:rect l="l" t="t" r="r" b="b"/>
            <a:pathLst>
              <a:path w="8" h="2148">
                <a:moveTo>
                  <a:pt x="0" y="0"/>
                </a:moveTo>
                <a:lnTo>
                  <a:pt x="8" y="214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190520" y="392040"/>
            <a:ext cx="22320" cy="5959440"/>
          </a:xfrm>
          <a:custGeom>
            <a:avLst/>
            <a:gdLst/>
            <a:ahLst/>
            <a:rect l="l" t="t" r="r" b="b"/>
            <a:pathLst>
              <a:path w="8" h="2148">
                <a:moveTo>
                  <a:pt x="0" y="0"/>
                </a:moveTo>
                <a:lnTo>
                  <a:pt x="8" y="214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55640" y="392040"/>
            <a:ext cx="9360" cy="5970600"/>
          </a:xfrm>
          <a:custGeom>
            <a:avLst/>
            <a:gdLst/>
            <a:ahLst/>
            <a:rect l="l" t="t" r="r" b="b"/>
            <a:pathLst>
              <a:path w="4" h="2152">
                <a:moveTo>
                  <a:pt x="0" y="0"/>
                </a:moveTo>
                <a:lnTo>
                  <a:pt x="4" y="2152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07800" y="380880"/>
            <a:ext cx="11160" cy="5992920"/>
          </a:xfrm>
          <a:custGeom>
            <a:avLst/>
            <a:gdLst/>
            <a:ahLst/>
            <a:rect l="l" t="t" r="r" b="b"/>
            <a:pathLst>
              <a:path w="4" h="2160">
                <a:moveTo>
                  <a:pt x="0" y="0"/>
                </a:moveTo>
                <a:lnTo>
                  <a:pt x="4" y="216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304920" y="392040"/>
            <a:ext cx="4495680" cy="5972400"/>
            <a:chOff x="304920" y="392040"/>
            <a:chExt cx="4495680" cy="5972400"/>
          </a:xfrm>
        </p:grpSpPr>
        <p:grpSp>
          <p:nvGrpSpPr>
            <p:cNvPr id="784" name=""/>
            <p:cNvGrpSpPr/>
            <p:nvPr/>
          </p:nvGrpSpPr>
          <p:grpSpPr>
            <a:xfrm>
              <a:off x="335520" y="825480"/>
              <a:ext cx="4428000" cy="424800"/>
              <a:chOff x="335520" y="825480"/>
              <a:chExt cx="4428000" cy="424800"/>
            </a:xfrm>
          </p:grpSpPr>
          <p:sp>
            <p:nvSpPr>
              <p:cNvPr id="785" name=""/>
              <p:cNvSpPr/>
              <p:nvPr/>
            </p:nvSpPr>
            <p:spPr>
              <a:xfrm>
                <a:off x="335520" y="825480"/>
                <a:ext cx="4428000" cy="2520"/>
              </a:xfrm>
              <a:custGeom>
                <a:avLst/>
                <a:gdLst/>
                <a:ahLst/>
                <a:rect l="l" t="t" r="r" b="b"/>
                <a:pathLst>
                  <a:path w="1436" h="1">
                    <a:moveTo>
                      <a:pt x="0" y="0"/>
                    </a:moveTo>
                    <a:lnTo>
                      <a:pt x="1436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59640" y="1247400"/>
                <a:ext cx="4403520" cy="2880"/>
              </a:xfrm>
              <a:custGeom>
                <a:avLst/>
                <a:gdLst/>
                <a:ahLst/>
                <a:rect l="l" t="t" r="r" b="b"/>
                <a:pathLst>
                  <a:path w="1428" h="1">
                    <a:moveTo>
                      <a:pt x="0" y="0"/>
                    </a:moveTo>
                    <a:lnTo>
                      <a:pt x="1428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" name=""/>
            <p:cNvSpPr/>
            <p:nvPr/>
          </p:nvSpPr>
          <p:spPr>
            <a:xfrm>
              <a:off x="335520" y="1698480"/>
              <a:ext cx="4428360" cy="3240"/>
            </a:xfrm>
            <a:custGeom>
              <a:avLst/>
              <a:gdLst/>
              <a:ahLst/>
              <a:rect l="l" t="t" r="r" b="b"/>
              <a:pathLst>
                <a:path w="1436" h="1">
                  <a:moveTo>
                    <a:pt x="0" y="0"/>
                  </a:moveTo>
                  <a:lnTo>
                    <a:pt x="1436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04920" y="2095560"/>
              <a:ext cx="4475160" cy="12600"/>
            </a:xfrm>
            <a:custGeom>
              <a:avLst/>
              <a:gdLst/>
              <a:ahLst/>
              <a:rect l="l" t="t" r="r" b="b"/>
              <a:pathLst>
                <a:path w="3344" h="8">
                  <a:moveTo>
                    <a:pt x="0" y="0"/>
                  </a:moveTo>
                  <a:lnTo>
                    <a:pt x="3344" y="8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335520" y="2522520"/>
              <a:ext cx="4428000" cy="424800"/>
              <a:chOff x="335520" y="2522520"/>
              <a:chExt cx="4428000" cy="424800"/>
            </a:xfrm>
          </p:grpSpPr>
          <p:sp>
            <p:nvSpPr>
              <p:cNvPr id="790" name=""/>
              <p:cNvSpPr/>
              <p:nvPr/>
            </p:nvSpPr>
            <p:spPr>
              <a:xfrm>
                <a:off x="335520" y="2522520"/>
                <a:ext cx="4428000" cy="2520"/>
              </a:xfrm>
              <a:custGeom>
                <a:avLst/>
                <a:gdLst/>
                <a:ahLst/>
                <a:rect l="l" t="t" r="r" b="b"/>
                <a:pathLst>
                  <a:path w="1436" h="1">
                    <a:moveTo>
                      <a:pt x="0" y="0"/>
                    </a:moveTo>
                    <a:lnTo>
                      <a:pt x="1436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59640" y="2944440"/>
                <a:ext cx="4403520" cy="2880"/>
              </a:xfrm>
              <a:custGeom>
                <a:avLst/>
                <a:gdLst/>
                <a:ahLst/>
                <a:rect l="l" t="t" r="r" b="b"/>
                <a:pathLst>
                  <a:path w="1428" h="1">
                    <a:moveTo>
                      <a:pt x="0" y="0"/>
                    </a:moveTo>
                    <a:lnTo>
                      <a:pt x="1428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324720" y="3376440"/>
              <a:ext cx="4464360" cy="443880"/>
              <a:chOff x="324720" y="3376440"/>
              <a:chExt cx="4464360" cy="443880"/>
            </a:xfrm>
          </p:grpSpPr>
          <p:sp>
            <p:nvSpPr>
              <p:cNvPr id="793" name=""/>
              <p:cNvSpPr/>
              <p:nvPr/>
            </p:nvSpPr>
            <p:spPr>
              <a:xfrm>
                <a:off x="324720" y="3376440"/>
                <a:ext cx="4464360" cy="11160"/>
              </a:xfrm>
              <a:custGeom>
                <a:avLst/>
                <a:gdLst/>
                <a:ahLst/>
                <a:rect l="l" t="t" r="r" b="b"/>
                <a:pathLst>
                  <a:path w="1448" h="4">
                    <a:moveTo>
                      <a:pt x="0" y="0"/>
                    </a:moveTo>
                    <a:lnTo>
                      <a:pt x="1448" y="4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74040" y="3809880"/>
                <a:ext cx="4414680" cy="10440"/>
              </a:xfrm>
              <a:custGeom>
                <a:avLst/>
                <a:gdLst/>
                <a:ahLst/>
                <a:rect l="l" t="t" r="r" b="b"/>
                <a:pathLst>
                  <a:path w="1432" h="4">
                    <a:moveTo>
                      <a:pt x="0" y="0"/>
                    </a:moveTo>
                    <a:lnTo>
                      <a:pt x="1432" y="4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335520" y="4210200"/>
              <a:ext cx="4464360" cy="443520"/>
              <a:chOff x="335520" y="4210200"/>
              <a:chExt cx="4464360" cy="443520"/>
            </a:xfrm>
          </p:grpSpPr>
          <p:sp>
            <p:nvSpPr>
              <p:cNvPr id="796" name=""/>
              <p:cNvSpPr/>
              <p:nvPr/>
            </p:nvSpPr>
            <p:spPr>
              <a:xfrm>
                <a:off x="335520" y="4210200"/>
                <a:ext cx="4464360" cy="11160"/>
              </a:xfrm>
              <a:custGeom>
                <a:avLst/>
                <a:gdLst/>
                <a:ahLst/>
                <a:rect l="l" t="t" r="r" b="b"/>
                <a:pathLst>
                  <a:path w="1448" h="4">
                    <a:moveTo>
                      <a:pt x="0" y="0"/>
                    </a:moveTo>
                    <a:lnTo>
                      <a:pt x="1448" y="4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84840" y="4643280"/>
                <a:ext cx="4414680" cy="10440"/>
              </a:xfrm>
              <a:custGeom>
                <a:avLst/>
                <a:gdLst/>
                <a:ahLst/>
                <a:rect l="l" t="t" r="r" b="b"/>
                <a:pathLst>
                  <a:path w="1432" h="4">
                    <a:moveTo>
                      <a:pt x="0" y="0"/>
                    </a:moveTo>
                    <a:lnTo>
                      <a:pt x="1432" y="4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324720" y="5075280"/>
              <a:ext cx="4475160" cy="453600"/>
              <a:chOff x="324720" y="5075280"/>
              <a:chExt cx="4475160" cy="453600"/>
            </a:xfrm>
          </p:grpSpPr>
          <p:sp>
            <p:nvSpPr>
              <p:cNvPr id="799" name=""/>
              <p:cNvSpPr/>
              <p:nvPr/>
            </p:nvSpPr>
            <p:spPr>
              <a:xfrm>
                <a:off x="324720" y="5075280"/>
                <a:ext cx="4438080" cy="2160"/>
              </a:xfrm>
              <a:custGeom>
                <a:avLst/>
                <a:gdLst/>
                <a:ahLst/>
                <a:rect l="l" t="t" r="r" b="b"/>
                <a:pathLst>
                  <a:path w="1440" h="1">
                    <a:moveTo>
                      <a:pt x="0" y="0"/>
                    </a:moveTo>
                    <a:lnTo>
                      <a:pt x="1440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24720" y="5506920"/>
                <a:ext cx="4475160" cy="21960"/>
              </a:xfrm>
              <a:custGeom>
                <a:avLst/>
                <a:gdLst/>
                <a:ahLst/>
                <a:rect l="l" t="t" r="r" b="b"/>
                <a:pathLst>
                  <a:path w="1452" h="8">
                    <a:moveTo>
                      <a:pt x="0" y="8"/>
                    </a:moveTo>
                    <a:lnTo>
                      <a:pt x="1452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324720" y="5929200"/>
              <a:ext cx="4439520" cy="12960"/>
            </a:xfrm>
            <a:custGeom>
              <a:avLst/>
              <a:gdLst/>
              <a:ahLst/>
              <a:rect l="l" t="t" r="r" b="b"/>
              <a:pathLst>
                <a:path w="1440" h="4">
                  <a:moveTo>
                    <a:pt x="0" y="4"/>
                  </a:move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4720" y="6362640"/>
              <a:ext cx="4425840" cy="1800"/>
            </a:xfrm>
            <a:custGeom>
              <a:avLst/>
              <a:gdLst/>
              <a:ahLst/>
              <a:rect l="l" t="t" r="r" b="b"/>
              <a:pathLst>
                <a:path w="1436" h="1">
                  <a:moveTo>
                    <a:pt x="0" y="0"/>
                  </a:moveTo>
                  <a:lnTo>
                    <a:pt x="1436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35520" y="392040"/>
              <a:ext cx="4439160" cy="11160"/>
            </a:xfrm>
            <a:custGeom>
              <a:avLst/>
              <a:gdLst/>
              <a:ahLst/>
              <a:rect l="l" t="t" r="r" b="b"/>
              <a:pathLst>
                <a:path w="1440" h="4">
                  <a:moveTo>
                    <a:pt x="0" y="4"/>
                  </a:move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4920" y="3381480"/>
              <a:ext cx="4495680" cy="17280"/>
            </a:xfrm>
            <a:custGeom>
              <a:avLst/>
              <a:gdLst/>
              <a:ahLst/>
              <a:rect l="l" t="t" r="r" b="b"/>
              <a:pathLst>
                <a:path w="2656" h="8">
                  <a:moveTo>
                    <a:pt x="0" y="0"/>
                  </a:moveTo>
                  <a:lnTo>
                    <a:pt x="2656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4280040" y="388800"/>
            <a:ext cx="15840" cy="5967720"/>
          </a:xfrm>
          <a:custGeom>
            <a:avLst/>
            <a:gdLst/>
            <a:ahLst/>
            <a:rect l="l" t="t" r="r" b="b"/>
            <a:pathLst>
              <a:path w="8" h="2808">
                <a:moveTo>
                  <a:pt x="0" y="0"/>
                </a:moveTo>
                <a:lnTo>
                  <a:pt x="8" y="280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729320" y="388800"/>
            <a:ext cx="33120" cy="5950080"/>
          </a:xfrm>
          <a:custGeom>
            <a:avLst/>
            <a:gdLst/>
            <a:ahLst/>
            <a:rect l="l" t="t" r="r" b="b"/>
            <a:pathLst>
              <a:path w="16" h="2800">
                <a:moveTo>
                  <a:pt x="0" y="0"/>
                </a:moveTo>
                <a:lnTo>
                  <a:pt x="16" y="2800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481120" y="423720"/>
            <a:ext cx="32040" cy="5983560"/>
          </a:xfrm>
          <a:custGeom>
            <a:avLst/>
            <a:gdLst/>
            <a:ahLst/>
            <a:rect l="l" t="t" r="r" b="b"/>
            <a:pathLst>
              <a:path w="16" h="2816">
                <a:moveTo>
                  <a:pt x="16" y="28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638360" y="3390840"/>
            <a:ext cx="850680" cy="1689120"/>
          </a:xfrm>
          <a:custGeom>
            <a:avLst/>
            <a:gdLst/>
            <a:ahLst/>
            <a:rect l="l" t="t" r="r" b="b"/>
            <a:pathLst>
              <a:path w="536" h="1064">
                <a:moveTo>
                  <a:pt x="536" y="0"/>
                </a:moveTo>
                <a:lnTo>
                  <a:pt x="0" y="1064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449360" y="4983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4720" y="3378240"/>
            <a:ext cx="1727280" cy="799920"/>
          </a:xfrm>
          <a:custGeom>
            <a:avLst/>
            <a:gdLst/>
            <a:ahLst/>
            <a:rect l="l" t="t" r="r" b="b"/>
            <a:pathLst>
              <a:path w="1088" h="504">
                <a:moveTo>
                  <a:pt x="1088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06360" y="4038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344480" y="2743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982520" y="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62120" y="2514600"/>
            <a:ext cx="1714320" cy="851040"/>
          </a:xfrm>
          <a:custGeom>
            <a:avLst/>
            <a:gdLst/>
            <a:ahLst/>
            <a:rect l="l" t="t" r="r" b="b"/>
            <a:pathLst>
              <a:path w="1080" h="536">
                <a:moveTo>
                  <a:pt x="1080" y="53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82680" y="21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502000" y="2502000"/>
            <a:ext cx="1765080" cy="888840"/>
          </a:xfrm>
          <a:custGeom>
            <a:avLst/>
            <a:gdLst/>
            <a:ahLst/>
            <a:rect l="l" t="t" r="r" b="b"/>
            <a:pathLst>
              <a:path w="1112" h="560">
                <a:moveTo>
                  <a:pt x="0" y="560"/>
                </a:moveTo>
                <a:lnTo>
                  <a:pt x="111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502000" y="1663560"/>
            <a:ext cx="876240" cy="1714680"/>
          </a:xfrm>
          <a:custGeom>
            <a:avLst/>
            <a:gdLst/>
            <a:ahLst/>
            <a:rect l="l" t="t" r="r" b="b"/>
            <a:pathLst>
              <a:path w="552" h="1080">
                <a:moveTo>
                  <a:pt x="0" y="1080"/>
                </a:moveTo>
                <a:lnTo>
                  <a:pt x="55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2476440" y="3351960"/>
            <a:ext cx="876240" cy="1714680"/>
          </a:xfrm>
          <a:custGeom>
            <a:avLst/>
            <a:gdLst/>
            <a:ahLst/>
            <a:rect l="l" t="t" r="r" b="b"/>
            <a:pathLst>
              <a:path w="552" h="1080">
                <a:moveTo>
                  <a:pt x="0" y="1080"/>
                </a:moveTo>
                <a:lnTo>
                  <a:pt x="55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502000" y="3378240"/>
            <a:ext cx="1765080" cy="825480"/>
          </a:xfrm>
          <a:custGeom>
            <a:avLst/>
            <a:gdLst/>
            <a:ahLst/>
            <a:rect l="l" t="t" r="r" b="b"/>
            <a:pathLst>
              <a:path w="1112" h="520">
                <a:moveTo>
                  <a:pt x="0" y="0"/>
                </a:moveTo>
                <a:lnTo>
                  <a:pt x="1112" y="5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125160" y="49528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268880" y="3962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192560" y="21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278160" y="1066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00160" y="334800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744280" y="335268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489040" y="3390840"/>
            <a:ext cx="471600" cy="1800"/>
          </a:xfrm>
          <a:custGeom>
            <a:avLst/>
            <a:gdLst/>
            <a:ahLst/>
            <a:rect l="l" t="t" r="r" b="b"/>
            <a:pathLst>
              <a:path w="297" h="1">
                <a:moveTo>
                  <a:pt x="0" y="0"/>
                </a:moveTo>
                <a:lnTo>
                  <a:pt x="29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2362320" y="3397320"/>
            <a:ext cx="609480" cy="642600"/>
            <a:chOff x="2362320" y="3397320"/>
            <a:chExt cx="609480" cy="642600"/>
          </a:xfrm>
        </p:grpSpPr>
        <p:sp>
          <p:nvSpPr>
            <p:cNvPr id="828" name=""/>
            <p:cNvSpPr/>
            <p:nvPr/>
          </p:nvSpPr>
          <p:spPr>
            <a:xfrm>
              <a:off x="2362320" y="33973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590560" y="3543120"/>
              <a:ext cx="225360" cy="612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0"/>
                  </a:moveTo>
                  <a:lnTo>
                    <a:pt x="142" y="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2494080" y="2922480"/>
            <a:ext cx="1440" cy="468360"/>
          </a:xfrm>
          <a:custGeom>
            <a:avLst/>
            <a:gdLst/>
            <a:ahLst/>
            <a:rect l="l" t="t" r="r" b="b"/>
            <a:pathLst>
              <a:path w="1" h="295">
                <a:moveTo>
                  <a:pt x="0" y="29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981080" y="2743200"/>
            <a:ext cx="609480" cy="642600"/>
            <a:chOff x="1981080" y="2743200"/>
            <a:chExt cx="609480" cy="642600"/>
          </a:xfrm>
        </p:grpSpPr>
        <p:sp>
          <p:nvSpPr>
            <p:cNvPr id="832" name=""/>
            <p:cNvSpPr/>
            <p:nvPr/>
          </p:nvSpPr>
          <p:spPr>
            <a:xfrm>
              <a:off x="1981080" y="27432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222280" y="2882880"/>
              <a:ext cx="22536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0"/>
                  </a:moveTo>
                  <a:lnTo>
                    <a:pt x="142" y="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800600" y="228600"/>
            <a:ext cx="4114800" cy="1465560"/>
            <a:chOff x="4800600" y="228600"/>
            <a:chExt cx="4114800" cy="1465560"/>
          </a:xfrm>
        </p:grpSpPr>
        <p:sp>
          <p:nvSpPr>
            <p:cNvPr id="835" name=""/>
            <p:cNvSpPr/>
            <p:nvPr/>
          </p:nvSpPr>
          <p:spPr>
            <a:xfrm>
              <a:off x="4800600" y="228600"/>
              <a:ext cx="411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)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ой из данных векторов равен вектор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6" name=""/>
            <p:cNvGrpSpPr/>
            <p:nvPr/>
          </p:nvGrpSpPr>
          <p:grpSpPr>
            <a:xfrm>
              <a:off x="6095880" y="990720"/>
              <a:ext cx="1524240" cy="703440"/>
              <a:chOff x="6095880" y="990720"/>
              <a:chExt cx="1524240" cy="703440"/>
            </a:xfrm>
          </p:grpSpPr>
          <p:sp>
            <p:nvSpPr>
              <p:cNvPr id="837" name=""/>
              <p:cNvSpPr/>
              <p:nvPr/>
            </p:nvSpPr>
            <p:spPr>
              <a:xfrm>
                <a:off x="6095880" y="990720"/>
                <a:ext cx="1524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4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–</a:t>
                </a:r>
                <a:r>
                  <a:rPr b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j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464160" y="1140120"/>
                <a:ext cx="241560" cy="3240"/>
              </a:xfrm>
              <a:custGeom>
                <a:avLst/>
                <a:gdLst/>
                <a:ahLst/>
                <a:rect l="l" t="t" r="r" b="b"/>
                <a:pathLst>
                  <a:path w="152" h="2">
                    <a:moveTo>
                      <a:pt x="0" y="0"/>
                    </a:moveTo>
                    <a:lnTo>
                      <a:pt x="152" y="2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238880" y="1135440"/>
                <a:ext cx="228600" cy="4680"/>
              </a:xfrm>
              <a:custGeom>
                <a:avLst/>
                <a:gdLst/>
                <a:ahLst/>
                <a:rect l="l" t="t" r="r" b="b"/>
                <a:pathLst>
                  <a:path w="144" h="3">
                    <a:moveTo>
                      <a:pt x="0" y="0"/>
                    </a:moveTo>
                    <a:lnTo>
                      <a:pt x="144" y="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0" name=""/>
          <p:cNvGrpSpPr/>
          <p:nvPr/>
        </p:nvGrpSpPr>
        <p:grpSpPr>
          <a:xfrm>
            <a:off x="4800600" y="1600200"/>
            <a:ext cx="4114800" cy="1906560"/>
            <a:chOff x="4800600" y="1600200"/>
            <a:chExt cx="4114800" cy="1906560"/>
          </a:xfrm>
        </p:grpSpPr>
        <p:sp>
          <p:nvSpPr>
            <p:cNvPr id="841" name=""/>
            <p:cNvSpPr/>
            <p:nvPr/>
          </p:nvSpPr>
          <p:spPr>
            <a:xfrm>
              <a:off x="4800600" y="1600200"/>
              <a:ext cx="41148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пишите разлож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ктора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Е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координатным вектор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5029200" y="2832120"/>
              <a:ext cx="1219320" cy="674640"/>
              <a:chOff x="5029200" y="2832120"/>
              <a:chExt cx="1219320" cy="674640"/>
            </a:xfrm>
          </p:grpSpPr>
          <p:grpSp>
            <p:nvGrpSpPr>
              <p:cNvPr id="843" name=""/>
              <p:cNvGrpSpPr/>
              <p:nvPr/>
            </p:nvGrpSpPr>
            <p:grpSpPr>
              <a:xfrm>
                <a:off x="5029200" y="2832120"/>
                <a:ext cx="609840" cy="642600"/>
                <a:chOff x="5029200" y="2832120"/>
                <a:chExt cx="609840" cy="64260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5029200" y="2832120"/>
                  <a:ext cx="6098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ff0000"/>
                      </a:solidFill>
                      <a:latin typeface="Times New Roman"/>
                    </a:rPr>
                    <a:t>i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257800" y="2978280"/>
                  <a:ext cx="225720" cy="6480"/>
                </a:xfrm>
                <a:custGeom>
                  <a:avLst/>
                  <a:gdLst/>
                  <a:ahLst/>
                  <a:rect l="l" t="t" r="r" b="b"/>
                  <a:pathLst>
                    <a:path w="142" h="4">
                      <a:moveTo>
                        <a:pt x="0" y="0"/>
                      </a:moveTo>
                      <a:lnTo>
                        <a:pt x="142" y="4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5639040" y="2864160"/>
                <a:ext cx="609480" cy="642600"/>
                <a:chOff x="5639040" y="2864160"/>
                <a:chExt cx="609480" cy="64260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5639040" y="2864160"/>
                  <a:ext cx="609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ff0000"/>
                      </a:solidFill>
                      <a:latin typeface="Times New Roman"/>
                    </a:rPr>
                    <a:t>j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880240" y="3003480"/>
                  <a:ext cx="225360" cy="6120"/>
                </a:xfrm>
                <a:custGeom>
                  <a:avLst/>
                  <a:gdLst/>
                  <a:ahLst/>
                  <a:rect l="l" t="t" r="r" b="b"/>
                  <a:pathLst>
                    <a:path w="142" h="4">
                      <a:moveTo>
                        <a:pt x="0" y="0"/>
                      </a:moveTo>
                      <a:lnTo>
                        <a:pt x="142" y="4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9" name=""/>
            <p:cNvSpPr/>
            <p:nvPr/>
          </p:nvSpPr>
          <p:spPr>
            <a:xfrm>
              <a:off x="6121440" y="2095560"/>
              <a:ext cx="406440" cy="1440"/>
            </a:xfrm>
            <a:custGeom>
              <a:avLst/>
              <a:gdLst/>
              <a:ahLst/>
              <a:rect l="l" t="t" r="r" b="b"/>
              <a:pathLst>
                <a:path w="256" h="1">
                  <a:moveTo>
                    <a:pt x="0" y="0"/>
                  </a:moveTo>
                  <a:lnTo>
                    <a:pt x="25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4800600" y="3537000"/>
            <a:ext cx="4114800" cy="886320"/>
            <a:chOff x="4800600" y="3537000"/>
            <a:chExt cx="4114800" cy="886320"/>
          </a:xfrm>
        </p:grpSpPr>
        <p:sp>
          <p:nvSpPr>
            <p:cNvPr id="851" name=""/>
            <p:cNvSpPr/>
            <p:nvPr/>
          </p:nvSpPr>
          <p:spPr>
            <a:xfrm>
              <a:off x="4800600" y="3537000"/>
              <a:ext cx="41148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йдите координа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ктора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95880" y="3994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800600" y="4495680"/>
            <a:ext cx="4343400" cy="932040"/>
            <a:chOff x="4800600" y="4495680"/>
            <a:chExt cx="4343400" cy="932040"/>
          </a:xfrm>
        </p:grpSpPr>
        <p:sp>
          <p:nvSpPr>
            <p:cNvPr id="854" name=""/>
            <p:cNvSpPr/>
            <p:nvPr/>
          </p:nvSpPr>
          <p:spPr>
            <a:xfrm>
              <a:off x="4800600" y="4495680"/>
              <a:ext cx="41148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ой вектор име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ординат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391520" y="4724280"/>
              <a:ext cx="175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-4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;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800600" y="5638680"/>
            <a:ext cx="4114800" cy="932040"/>
            <a:chOff x="4800600" y="5638680"/>
            <a:chExt cx="4114800" cy="932040"/>
          </a:xfrm>
        </p:grpSpPr>
        <p:sp>
          <p:nvSpPr>
            <p:cNvPr id="857" name=""/>
            <p:cNvSpPr/>
            <p:nvPr/>
          </p:nvSpPr>
          <p:spPr>
            <a:xfrm>
              <a:off x="4800600" y="5638680"/>
              <a:ext cx="41148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тложите от т.О вектор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 координатами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86600" y="5867280"/>
              <a:ext cx="175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;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-4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6477120" y="37339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;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6477120" y="1905120"/>
            <a:ext cx="2438280" cy="703440"/>
            <a:chOff x="6477120" y="1905120"/>
            <a:chExt cx="2438280" cy="703440"/>
          </a:xfrm>
        </p:grpSpPr>
        <p:sp>
          <p:nvSpPr>
            <p:cNvPr id="861" name=""/>
            <p:cNvSpPr/>
            <p:nvPr/>
          </p:nvSpPr>
          <p:spPr>
            <a:xfrm>
              <a:off x="6477120" y="190512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Times New Roman"/>
                </a:rPr>
                <a:t>=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-4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315200" y="2054160"/>
              <a:ext cx="241200" cy="3240"/>
            </a:xfrm>
            <a:custGeom>
              <a:avLst/>
              <a:gdLst/>
              <a:ahLst/>
              <a:rect l="l" t="t" r="r" b="b"/>
              <a:pathLst>
                <a:path w="152" h="2">
                  <a:moveTo>
                    <a:pt x="0" y="0"/>
                  </a:moveTo>
                  <a:lnTo>
                    <a:pt x="152" y="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001000" y="2049480"/>
              <a:ext cx="228600" cy="4680"/>
            </a:xfrm>
            <a:custGeom>
              <a:avLst/>
              <a:gdLst/>
              <a:ahLst/>
              <a:rect l="l" t="t" r="r" b="b"/>
              <a:pathLst>
                <a:path w="144" h="3">
                  <a:moveTo>
                    <a:pt x="0" y="0"/>
                  </a:moveTo>
                  <a:lnTo>
                    <a:pt x="144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5182200" y="1143000"/>
            <a:ext cx="901440" cy="459720"/>
            <a:chOff x="5182200" y="1143000"/>
            <a:chExt cx="901440" cy="459720"/>
          </a:xfrm>
        </p:grpSpPr>
        <p:sp>
          <p:nvSpPr>
            <p:cNvPr id="865" name=""/>
            <p:cNvSpPr/>
            <p:nvPr/>
          </p:nvSpPr>
          <p:spPr>
            <a:xfrm>
              <a:off x="5295960" y="11685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82200" y="1143000"/>
              <a:ext cx="90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С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6675840" y="4952880"/>
            <a:ext cx="867600" cy="459720"/>
            <a:chOff x="6675840" y="4952880"/>
            <a:chExt cx="867600" cy="459720"/>
          </a:xfrm>
        </p:grpSpPr>
        <p:sp>
          <p:nvSpPr>
            <p:cNvPr id="868" name=""/>
            <p:cNvSpPr/>
            <p:nvPr/>
          </p:nvSpPr>
          <p:spPr>
            <a:xfrm>
              <a:off x="6789960" y="49784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675840" y="4952880"/>
              <a:ext cx="86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4192560" y="5867280"/>
            <a:ext cx="637920" cy="459720"/>
            <a:chOff x="4192560" y="5867280"/>
            <a:chExt cx="637920" cy="459720"/>
          </a:xfrm>
        </p:grpSpPr>
        <p:sp>
          <p:nvSpPr>
            <p:cNvPr id="871" name=""/>
            <p:cNvSpPr/>
            <p:nvPr/>
          </p:nvSpPr>
          <p:spPr>
            <a:xfrm>
              <a:off x="4305240" y="589284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192560" y="5867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вченко</cp:lastModifiedBy>
  <dcterms:modified xsi:type="dcterms:W3CDTF">2008-10-12T17:55:08Z</dcterms:modified>
  <cp:revision>5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