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01A8-8637-435B-B69F-F644B87CD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исунки Савченко Е.М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исунки в презентации выполнены с помощью инструментов панели рисования программ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6CB-81B9-43F2-B005-C10EC0D0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20E-CAD6-4597-91F1-8AD7614D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F97-154E-480E-9C08-BA6D7229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E42-476E-40BA-8DE6-E843459E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0F1-E2AB-4157-B762-89162CC4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DE6-E819-42DF-BD07-2DBE67FD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712-FEEE-456F-A5D6-FD1B398B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2D9-1F81-40E7-A1FE-96D4750A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6C1-E829-4BFD-BD67-2D626224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87D-98FE-4971-B281-1AB8752D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9C3-0202-438D-B65D-74AF6CCD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B9B-161A-4695-B3D2-57FAFF3B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F7AC-63BF-4B1D-92AD-D51B4F75E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49" name="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380880" y="198108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остейшие задачи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в координатах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548640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"Геометрия 7-9"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95280" y="457200"/>
            <a:ext cx="8497800" cy="1077480"/>
            <a:chOff x="395280" y="457200"/>
            <a:chExt cx="8497800" cy="1077480"/>
          </a:xfrm>
        </p:grpSpPr>
        <p:sp>
          <p:nvSpPr>
            <p:cNvPr id="60" name=""/>
            <p:cNvSpPr txBox="1"/>
            <p:nvPr/>
          </p:nvSpPr>
          <p:spPr>
            <a:xfrm>
              <a:off x="395280" y="457200"/>
              <a:ext cx="8497800" cy="90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257dff"/>
                  </a:solidFill>
                  <a:latin typeface="Arial"/>
                </a:rPr>
                <a:t>Савченко Е.М., учитель математики,  </a:t>
              </a:r>
              <a:endPara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257dff"/>
                  </a:solidFill>
                  <a:latin typeface="Arial"/>
                </a:rPr>
                <a:t>МОУ гимназия №      , г. Полярные Зори, Мурманской обл. </a:t>
              </a:r>
              <a:endPara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  <a:ea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 rot="21475800">
              <a:off x="2843280" y="790560"/>
              <a:ext cx="633240" cy="732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495680" y="5335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87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09480" y="152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координаты векторов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33520" y="647712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одите ответы в текстовые поля, не делая пробелов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28120" y="685800"/>
            <a:ext cx="4187520" cy="581400"/>
            <a:chOff x="528120" y="685800"/>
            <a:chExt cx="4187520" cy="581400"/>
          </a:xfrm>
        </p:grpSpPr>
        <p:sp>
          <p:nvSpPr>
            <p:cNvPr id="598" name=""/>
            <p:cNvSpPr/>
            <p:nvPr/>
          </p:nvSpPr>
          <p:spPr>
            <a:xfrm>
              <a:off x="528120" y="685800"/>
              <a:ext cx="41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(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M(-2;7);    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38840" y="76176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03000" y="1554120"/>
            <a:ext cx="4051800" cy="581400"/>
            <a:chOff x="603000" y="1554120"/>
            <a:chExt cx="4051800" cy="581400"/>
          </a:xfrm>
        </p:grpSpPr>
        <p:sp>
          <p:nvSpPr>
            <p:cNvPr id="601" name=""/>
            <p:cNvSpPr/>
            <p:nvPr/>
          </p:nvSpPr>
          <p:spPr>
            <a:xfrm>
              <a:off x="603000" y="1554120"/>
              <a:ext cx="405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-5;1)</a:t>
              </a: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D(-5;7);    P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14800" y="163008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660066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21000" y="2514600"/>
            <a:ext cx="4109760" cy="581400"/>
            <a:chOff x="621000" y="2514600"/>
            <a:chExt cx="4109760" cy="581400"/>
          </a:xfrm>
        </p:grpSpPr>
        <p:sp>
          <p:nvSpPr>
            <p:cNvPr id="604" name=""/>
            <p:cNvSpPr/>
            <p:nvPr/>
          </p:nvSpPr>
          <p:spPr>
            <a:xfrm>
              <a:off x="621000" y="2514600"/>
              <a:ext cx="41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ru-RU" sz="3200" spc="-1" strike="noStrike">
                  <a:solidFill>
                    <a:srgbClr val="0066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-3;0)</a:t>
              </a:r>
              <a:r>
                <a:rPr b="1" lang="ru-RU" sz="3200" spc="-1" strike="noStrike">
                  <a:solidFill>
                    <a:srgbClr val="006600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N(0;5);     R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32440" y="259056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64120" y="3535200"/>
            <a:ext cx="4166280" cy="581400"/>
            <a:chOff x="564120" y="3535200"/>
            <a:chExt cx="4166280" cy="581400"/>
          </a:xfrm>
        </p:grpSpPr>
        <p:sp>
          <p:nvSpPr>
            <p:cNvPr id="607" name=""/>
            <p:cNvSpPr/>
            <p:nvPr/>
          </p:nvSpPr>
          <p:spPr>
            <a:xfrm>
              <a:off x="564120" y="3535200"/>
              <a:ext cx="416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r>
                <a:rPr b="1" lang="ru-RU" sz="3200" spc="-1" strike="noStrike">
                  <a:solidFill>
                    <a:srgbClr val="8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0;3)</a:t>
              </a:r>
              <a:r>
                <a:rPr b="1" lang="ru-RU" sz="3200" spc="-1" strike="noStrike">
                  <a:solidFill>
                    <a:srgbClr val="800000"/>
                  </a:solidFill>
                  <a:latin typeface="Times New Roman"/>
                </a:rPr>
                <a:t>; </a:t>
              </a: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B(-4;0);     B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75200" y="361116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99040" y="5486400"/>
            <a:ext cx="4131000" cy="581400"/>
            <a:chOff x="599040" y="5486400"/>
            <a:chExt cx="4131000" cy="581400"/>
          </a:xfrm>
        </p:grpSpPr>
        <p:sp>
          <p:nvSpPr>
            <p:cNvPr id="610" name=""/>
            <p:cNvSpPr/>
            <p:nvPr/>
          </p:nvSpPr>
          <p:spPr>
            <a:xfrm>
              <a:off x="599040" y="5486400"/>
              <a:ext cx="413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7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(-2;-7);   R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10120" y="556236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32520" y="4525920"/>
            <a:ext cx="4097520" cy="581400"/>
            <a:chOff x="632520" y="4525920"/>
            <a:chExt cx="4097520" cy="581400"/>
          </a:xfrm>
        </p:grpSpPr>
        <p:sp>
          <p:nvSpPr>
            <p:cNvPr id="613" name=""/>
            <p:cNvSpPr/>
            <p:nvPr/>
          </p:nvSpPr>
          <p:spPr>
            <a:xfrm>
              <a:off x="632520" y="4525920"/>
              <a:ext cx="40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B(-2;0);    A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43240" y="4601880"/>
              <a:ext cx="48204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4495680" y="14479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23623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0" y="34131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572000" y="53341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572000" y="44197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762120" y="3916440"/>
            <a:ext cx="1746000" cy="581400"/>
            <a:chOff x="762120" y="3916440"/>
            <a:chExt cx="1746000" cy="581400"/>
          </a:xfrm>
        </p:grpSpPr>
        <p:sp>
          <p:nvSpPr>
            <p:cNvPr id="621" name=""/>
            <p:cNvSpPr/>
            <p:nvPr/>
          </p:nvSpPr>
          <p:spPr>
            <a:xfrm>
              <a:off x="762120" y="3916440"/>
              <a:ext cx="174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B{2;-1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14400" y="3992400"/>
              <a:ext cx="482040" cy="108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24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142280" y="2590920"/>
            <a:ext cx="13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;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42640" y="315432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87600" y="2773440"/>
            <a:ext cx="1699920" cy="1066680"/>
            <a:chOff x="687600" y="2773440"/>
            <a:chExt cx="1699920" cy="1066680"/>
          </a:xfrm>
        </p:grpSpPr>
        <p:sp>
          <p:nvSpPr>
            <p:cNvPr id="635" name=""/>
            <p:cNvSpPr/>
            <p:nvPr/>
          </p:nvSpPr>
          <p:spPr>
            <a:xfrm>
              <a:off x="687600" y="27734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66680" y="3838680"/>
              <a:ext cx="1320840" cy="1440"/>
            </a:xfrm>
            <a:custGeom>
              <a:avLst/>
              <a:gdLst/>
              <a:ahLst/>
              <a:rect l="l" t="t" r="r" b="b"/>
              <a:pathLst>
                <a:path w="832" h="1">
                  <a:moveTo>
                    <a:pt x="0" y="0"/>
                  </a:moveTo>
                  <a:lnTo>
                    <a:pt x="8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28600" y="914400"/>
            <a:ext cx="3934080" cy="1343520"/>
            <a:chOff x="228600" y="914400"/>
            <a:chExt cx="3934080" cy="1343520"/>
          </a:xfrm>
        </p:grpSpPr>
        <p:sp>
          <p:nvSpPr>
            <p:cNvPr id="638" name=""/>
            <p:cNvSpPr/>
            <p:nvPr/>
          </p:nvSpPr>
          <p:spPr>
            <a:xfrm>
              <a:off x="228600" y="102240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1066680" y="944640"/>
              <a:ext cx="1848240" cy="581400"/>
              <a:chOff x="1066680" y="944640"/>
              <a:chExt cx="1848240" cy="581400"/>
            </a:xfrm>
          </p:grpSpPr>
          <p:sp>
            <p:nvSpPr>
              <p:cNvPr id="640" name=""/>
              <p:cNvSpPr/>
              <p:nvPr/>
            </p:nvSpPr>
            <p:spPr>
              <a:xfrm>
                <a:off x="1066680" y="944640"/>
                <a:ext cx="1848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B{2;-1}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219320" y="1020600"/>
                <a:ext cx="482400" cy="108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2895120" y="914400"/>
              <a:ext cx="126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;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41080" y="1676520"/>
              <a:ext cx="126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03840" y="495288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–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71500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437200" y="4952880"/>
            <a:ext cx="17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–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20240" y="5745240"/>
            <a:ext cx="10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09680" y="4800600"/>
            <a:ext cx="180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89548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ратные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6026040" y="3840120"/>
            <a:ext cx="1746000" cy="581400"/>
            <a:chOff x="6026040" y="3840120"/>
            <a:chExt cx="1746000" cy="581400"/>
          </a:xfrm>
        </p:grpSpPr>
        <p:sp>
          <p:nvSpPr>
            <p:cNvPr id="651" name=""/>
            <p:cNvSpPr/>
            <p:nvPr/>
          </p:nvSpPr>
          <p:spPr>
            <a:xfrm>
              <a:off x="6026040" y="3840120"/>
              <a:ext cx="174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B{2;-1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178680" y="3916440"/>
              <a:ext cx="48240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6324480" y="251460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323760" y="307800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;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5869080" y="2697120"/>
            <a:ext cx="1699920" cy="1066680"/>
            <a:chOff x="5869080" y="2697120"/>
            <a:chExt cx="1699920" cy="1066680"/>
          </a:xfrm>
        </p:grpSpPr>
        <p:sp>
          <p:nvSpPr>
            <p:cNvPr id="656" name=""/>
            <p:cNvSpPr/>
            <p:nvPr/>
          </p:nvSpPr>
          <p:spPr>
            <a:xfrm>
              <a:off x="5869080" y="26971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48160" y="3762360"/>
              <a:ext cx="1320840" cy="1440"/>
            </a:xfrm>
            <a:custGeom>
              <a:avLst/>
              <a:gdLst/>
              <a:ahLst/>
              <a:rect l="l" t="t" r="r" b="b"/>
              <a:pathLst>
                <a:path w="832" h="1">
                  <a:moveTo>
                    <a:pt x="0" y="0"/>
                  </a:moveTo>
                  <a:lnTo>
                    <a:pt x="8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870440" y="838080"/>
            <a:ext cx="4098600" cy="1343520"/>
            <a:chOff x="4870440" y="838080"/>
            <a:chExt cx="4098600" cy="1343520"/>
          </a:xfrm>
        </p:grpSpPr>
        <p:sp>
          <p:nvSpPr>
            <p:cNvPr id="659" name=""/>
            <p:cNvSpPr/>
            <p:nvPr/>
          </p:nvSpPr>
          <p:spPr>
            <a:xfrm>
              <a:off x="4870440" y="9460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5715000" y="868320"/>
              <a:ext cx="1848240" cy="581400"/>
              <a:chOff x="5715000" y="868320"/>
              <a:chExt cx="1848240" cy="581400"/>
            </a:xfrm>
          </p:grpSpPr>
          <p:sp>
            <p:nvSpPr>
              <p:cNvPr id="661" name=""/>
              <p:cNvSpPr/>
              <p:nvPr/>
            </p:nvSpPr>
            <p:spPr>
              <a:xfrm>
                <a:off x="5715000" y="868320"/>
                <a:ext cx="1848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B{2;-1}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67640" y="944640"/>
                <a:ext cx="482400" cy="144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7543080" y="83808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;-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06960" y="1600200"/>
              <a:ext cx="124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5180400" y="487692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639040" y="563868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08360" y="4876920"/>
            <a:ext cx="16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620120" y="5668920"/>
            <a:ext cx="11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086600" y="4724280"/>
            <a:ext cx="144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673200" y="1893960"/>
            <a:ext cx="4064040" cy="1816200"/>
          </a:xfrm>
          <a:custGeom>
            <a:avLst/>
            <a:gdLst/>
            <a:ahLst/>
            <a:rect l="l" t="t" r="r" b="b"/>
            <a:pathLst>
              <a:path w="2560" h="1144">
                <a:moveTo>
                  <a:pt x="2560" y="0"/>
                </a:moveTo>
                <a:lnTo>
                  <a:pt x="0" y="1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45200" y="1461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73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685800" y="304920"/>
            <a:ext cx="2438280" cy="53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вто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35680" y="3062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467160" y="1906560"/>
            <a:ext cx="1295280" cy="3330720"/>
          </a:xfrm>
          <a:custGeom>
            <a:avLst/>
            <a:gdLst/>
            <a:ahLst/>
            <a:rect l="l" t="t" r="r" b="b"/>
            <a:pathLst>
              <a:path w="816" h="2098">
                <a:moveTo>
                  <a:pt x="816" y="0"/>
                </a:moveTo>
                <a:lnTo>
                  <a:pt x="0" y="2098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lg" type="stealth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5105520" y="4191120"/>
                <a:ext cx="33526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В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647640" y="3722760"/>
            <a:ext cx="2819520" cy="1514520"/>
          </a:xfrm>
          <a:custGeom>
            <a:avLst/>
            <a:gdLst/>
            <a:ahLst/>
            <a:rect l="l" t="t" r="r" b="b"/>
            <a:pathLst>
              <a:path w="1776" h="954">
                <a:moveTo>
                  <a:pt x="0" y="0"/>
                </a:moveTo>
                <a:lnTo>
                  <a:pt x="1776" y="954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lg" type="stealth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717640" y="2782800"/>
            <a:ext cx="747720" cy="2449440"/>
          </a:xfrm>
          <a:custGeom>
            <a:avLst/>
            <a:gdLst/>
            <a:ahLst/>
            <a:rect l="l" t="t" r="r" b="b"/>
            <a:pathLst>
              <a:path w="471" h="1543">
                <a:moveTo>
                  <a:pt x="0" y="0"/>
                </a:moveTo>
                <a:lnTo>
                  <a:pt x="471" y="15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stealth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125880" y="5195880"/>
            <a:ext cx="456480" cy="520560"/>
            <a:chOff x="3125880" y="5195880"/>
            <a:chExt cx="456480" cy="520560"/>
          </a:xfrm>
        </p:grpSpPr>
        <p:sp>
          <p:nvSpPr>
            <p:cNvPr id="688" name=""/>
            <p:cNvSpPr/>
            <p:nvPr/>
          </p:nvSpPr>
          <p:spPr>
            <a:xfrm>
              <a:off x="3125880" y="51958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29000" y="5195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4724280" y="184320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367200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447920" y="2224080"/>
            <a:ext cx="2438280" cy="1143000"/>
            <a:chOff x="1447920" y="2224080"/>
            <a:chExt cx="2438280" cy="1143000"/>
          </a:xfrm>
        </p:grpSpPr>
        <p:sp>
          <p:nvSpPr>
            <p:cNvPr id="693" name=""/>
            <p:cNvSpPr/>
            <p:nvPr/>
          </p:nvSpPr>
          <p:spPr>
            <a:xfrm>
              <a:off x="1447920" y="3214800"/>
              <a:ext cx="22860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57600" y="2224080"/>
              <a:ext cx="22860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2440440" y="2224080"/>
            <a:ext cx="436680" cy="609480"/>
            <a:chOff x="2440440" y="2224080"/>
            <a:chExt cx="436680" cy="609480"/>
          </a:xfrm>
        </p:grpSpPr>
        <p:sp>
          <p:nvSpPr>
            <p:cNvPr id="696" name=""/>
            <p:cNvSpPr/>
            <p:nvPr/>
          </p:nvSpPr>
          <p:spPr>
            <a:xfrm>
              <a:off x="2440440" y="2224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66880" y="275760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5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666880" y="370836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1" lang="ru-RU" sz="3200" spc="-1" strike="noStrike">
                <a:solidFill>
                  <a:srgbClr val="e6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e6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e600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e60000"/>
                </a:solidFill>
                <a:latin typeface="Times New Roman"/>
              </a:rPr>
              <a:t>;y</a:t>
            </a:r>
            <a:r>
              <a:rPr b="1" lang="en-US" sz="3200" spc="-1" strike="noStrike" baseline="-25000">
                <a:solidFill>
                  <a:srgbClr val="e6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e6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825360" y="4983120"/>
            <a:ext cx="150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y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930240" y="2773440"/>
            <a:ext cx="147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y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702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685800" y="685800"/>
                <a:ext cx="30481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В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"/>
          <p:cNvSpPr/>
          <p:nvPr/>
        </p:nvSpPr>
        <p:spPr>
          <a:xfrm>
            <a:off x="4109400" y="54608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06000" y="21844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0880" y="56894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74720" y="2463840"/>
            <a:ext cx="12600" cy="4165560"/>
          </a:xfrm>
          <a:custGeom>
            <a:avLst/>
            <a:gdLst/>
            <a:ahLst/>
            <a:rect l="l" t="t" r="r" b="b"/>
            <a:pathLst>
              <a:path w="8" h="2624">
                <a:moveTo>
                  <a:pt x="8" y="26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79360" y="5664240"/>
            <a:ext cx="4267080" cy="25200"/>
          </a:xfrm>
          <a:custGeom>
            <a:avLst/>
            <a:gdLst/>
            <a:ahLst/>
            <a:rect l="l" t="t" r="r" b="b"/>
            <a:pathLst>
              <a:path w="2688" h="16">
                <a:moveTo>
                  <a:pt x="0" y="16"/>
                </a:moveTo>
                <a:lnTo>
                  <a:pt x="268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3834000">
            <a:off x="2009520" y="3716280"/>
            <a:ext cx="866520" cy="3289320"/>
          </a:xfrm>
          <a:custGeom>
            <a:avLst/>
            <a:gdLst/>
            <a:ahLst/>
            <a:rect l="l" t="t" r="r" b="b"/>
            <a:pathLst>
              <a:path w="816" h="2098">
                <a:moveTo>
                  <a:pt x="816" y="0"/>
                </a:moveTo>
                <a:lnTo>
                  <a:pt x="0" y="2098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lg" type="stealth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74720" y="3327480"/>
            <a:ext cx="482760" cy="2361960"/>
          </a:xfrm>
          <a:custGeom>
            <a:avLst/>
            <a:gdLst/>
            <a:ahLst/>
            <a:rect l="l" t="t" r="r" b="b"/>
            <a:pathLst>
              <a:path w="304" h="1488">
                <a:moveTo>
                  <a:pt x="304" y="0"/>
                </a:moveTo>
                <a:lnTo>
                  <a:pt x="0" y="1488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lg" type="stealth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3834000">
            <a:off x="1504800" y="3725280"/>
            <a:ext cx="500040" cy="2417760"/>
          </a:xfrm>
          <a:custGeom>
            <a:avLst/>
            <a:gdLst/>
            <a:ahLst/>
            <a:rect l="l" t="t" r="r" b="b"/>
            <a:pathLst>
              <a:path w="471" h="1543">
                <a:moveTo>
                  <a:pt x="0" y="0"/>
                </a:moveTo>
                <a:lnTo>
                  <a:pt x="471" y="15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stealth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904400" y="3603960"/>
            <a:ext cx="1596600" cy="1101240"/>
            <a:chOff x="1904400" y="3603960"/>
            <a:chExt cx="1596600" cy="1101240"/>
          </a:xfrm>
        </p:grpSpPr>
        <p:sp>
          <p:nvSpPr>
            <p:cNvPr id="720" name=""/>
            <p:cNvSpPr/>
            <p:nvPr/>
          </p:nvSpPr>
          <p:spPr>
            <a:xfrm flipH="1">
              <a:off x="1904400" y="3603960"/>
              <a:ext cx="6732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3433320" y="4501800"/>
              <a:ext cx="6768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203120" y="2565000"/>
            <a:ext cx="2999520" cy="3229920"/>
            <a:chOff x="1203120" y="2565000"/>
            <a:chExt cx="2999520" cy="3229920"/>
          </a:xfrm>
        </p:grpSpPr>
        <p:sp>
          <p:nvSpPr>
            <p:cNvPr id="723" name=""/>
            <p:cNvSpPr/>
            <p:nvPr/>
          </p:nvSpPr>
          <p:spPr>
            <a:xfrm rot="3834000">
              <a:off x="1351800" y="3282840"/>
              <a:ext cx="2718000" cy="1793880"/>
            </a:xfrm>
            <a:custGeom>
              <a:avLst/>
              <a:gdLst/>
              <a:ahLst/>
              <a:rect l="l" t="t" r="r" b="b"/>
              <a:pathLst>
                <a:path w="2560" h="1144">
                  <a:moveTo>
                    <a:pt x="2560" y="0"/>
                  </a:moveTo>
                  <a:lnTo>
                    <a:pt x="0" y="1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3834000">
              <a:off x="4090320" y="4985640"/>
              <a:ext cx="96840" cy="95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701800" y="4143240"/>
              <a:ext cx="7488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3834000">
              <a:off x="1218600" y="3251880"/>
              <a:ext cx="96840" cy="95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070680" y="380880"/>
            <a:ext cx="1955880" cy="648720"/>
            <a:chOff x="6070680" y="380880"/>
            <a:chExt cx="1955880" cy="648720"/>
          </a:xfrm>
        </p:grpSpPr>
        <p:sp>
          <p:nvSpPr>
            <p:cNvPr id="728" name=""/>
            <p:cNvSpPr/>
            <p:nvPr/>
          </p:nvSpPr>
          <p:spPr>
            <a:xfrm>
              <a:off x="6070680" y="380880"/>
              <a:ext cx="195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A{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97760" y="439560"/>
              <a:ext cx="48276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121440" y="1143000"/>
            <a:ext cx="1955880" cy="648720"/>
            <a:chOff x="6121440" y="1143000"/>
            <a:chExt cx="1955880" cy="648720"/>
          </a:xfrm>
        </p:grpSpPr>
        <p:sp>
          <p:nvSpPr>
            <p:cNvPr id="731" name=""/>
            <p:cNvSpPr/>
            <p:nvPr/>
          </p:nvSpPr>
          <p:spPr>
            <a:xfrm>
              <a:off x="6121440" y="1143000"/>
              <a:ext cx="195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B{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48520" y="1201680"/>
              <a:ext cx="48276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5742720" y="685800"/>
            <a:ext cx="2207520" cy="1143000"/>
            <a:chOff x="5742720" y="685800"/>
            <a:chExt cx="2207520" cy="1143000"/>
          </a:xfrm>
        </p:grpSpPr>
        <p:sp>
          <p:nvSpPr>
            <p:cNvPr id="734" name=""/>
            <p:cNvSpPr/>
            <p:nvPr/>
          </p:nvSpPr>
          <p:spPr>
            <a:xfrm>
              <a:off x="5742720" y="68580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24680" y="1828800"/>
              <a:ext cx="182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343400" y="2011320"/>
            <a:ext cx="4089240" cy="648720"/>
            <a:chOff x="4343400" y="2011320"/>
            <a:chExt cx="4089240" cy="648720"/>
          </a:xfrm>
        </p:grpSpPr>
        <p:sp>
          <p:nvSpPr>
            <p:cNvPr id="737" name=""/>
            <p:cNvSpPr/>
            <p:nvPr/>
          </p:nvSpPr>
          <p:spPr>
            <a:xfrm>
              <a:off x="4343400" y="2011320"/>
              <a:ext cx="4089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A+OB {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95680" y="2087280"/>
              <a:ext cx="48204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33760" y="208728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8305920" y="1965240"/>
            <a:ext cx="1218600" cy="703440"/>
            <a:chOff x="8305920" y="1965240"/>
            <a:chExt cx="1218600" cy="703440"/>
          </a:xfrm>
        </p:grpSpPr>
        <p:sp>
          <p:nvSpPr>
            <p:cNvPr id="741" name=""/>
            <p:cNvSpPr/>
            <p:nvPr/>
          </p:nvSpPr>
          <p:spPr>
            <a:xfrm>
              <a:off x="8381880" y="196524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e60000"/>
                  </a:solidFill>
                  <a:latin typeface="Times New Roman"/>
                </a:rPr>
                <a:t>: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305920" y="2041200"/>
              <a:ext cx="228240" cy="559080"/>
            </a:xfrm>
            <a:custGeom>
              <a:avLst/>
              <a:gdLst/>
              <a:ahLst/>
              <a:rect l="l" t="t" r="r" b="b"/>
              <a:pathLst>
                <a:path w="144" h="352">
                  <a:moveTo>
                    <a:pt x="144" y="0"/>
                  </a:moveTo>
                  <a:lnTo>
                    <a:pt x="0" y="35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4191120" y="2971800"/>
            <a:ext cx="4876200" cy="993240"/>
            <a:chOff x="4191120" y="2971800"/>
            <a:chExt cx="4876200" cy="993240"/>
          </a:xfrm>
        </p:grpSpPr>
        <p:grpSp>
          <p:nvGrpSpPr>
            <p:cNvPr id="744" name=""/>
            <p:cNvGrpSpPr/>
            <p:nvPr/>
          </p:nvGrpSpPr>
          <p:grpSpPr>
            <a:xfrm>
              <a:off x="4191120" y="3048120"/>
              <a:ext cx="380880" cy="840600"/>
              <a:chOff x="4191120" y="3048120"/>
              <a:chExt cx="380880" cy="840600"/>
            </a:xfrm>
          </p:grpSpPr>
          <p:sp>
            <p:nvSpPr>
              <p:cNvPr id="745" name=""/>
              <p:cNvSpPr/>
              <p:nvPr/>
            </p:nvSpPr>
            <p:spPr>
              <a:xfrm>
                <a:off x="4191120" y="3048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6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191120" y="34290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6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203720" y="3454560"/>
                <a:ext cx="355680" cy="1440"/>
              </a:xfrm>
              <a:custGeom>
                <a:avLst/>
                <a:gdLst/>
                <a:ahLst/>
                <a:rect l="l" t="t" r="r" b="b"/>
                <a:pathLst>
                  <a:path w="224" h="1">
                    <a:moveTo>
                      <a:pt x="0" y="0"/>
                    </a:moveTo>
                    <a:lnTo>
                      <a:pt x="224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4495680" y="3200400"/>
              <a:ext cx="45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OA+OB) {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75040" y="3276720"/>
              <a:ext cx="48240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613120" y="3276720"/>
              <a:ext cx="48240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7772400" y="2971800"/>
              <a:ext cx="1066320" cy="993240"/>
              <a:chOff x="7772400" y="2971800"/>
              <a:chExt cx="1066320" cy="993240"/>
            </a:xfrm>
          </p:grpSpPr>
          <p:sp>
            <p:nvSpPr>
              <p:cNvPr id="752" name=""/>
              <p:cNvSpPr/>
              <p:nvPr/>
            </p:nvSpPr>
            <p:spPr>
              <a:xfrm>
                <a:off x="7772400" y="2971800"/>
                <a:ext cx="10663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3" name=""/>
              <p:cNvGrpSpPr/>
              <p:nvPr/>
            </p:nvGrpSpPr>
            <p:grpSpPr>
              <a:xfrm>
                <a:off x="7772400" y="3505320"/>
                <a:ext cx="977400" cy="459720"/>
                <a:chOff x="7772400" y="3505320"/>
                <a:chExt cx="977400" cy="45972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7772400" y="3543480"/>
                  <a:ext cx="977400" cy="144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064360" y="3505320"/>
                  <a:ext cx="532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6" name=""/>
            <p:cNvGrpSpPr/>
            <p:nvPr/>
          </p:nvGrpSpPr>
          <p:grpSpPr>
            <a:xfrm>
              <a:off x="6476760" y="2971800"/>
              <a:ext cx="1218960" cy="993240"/>
              <a:chOff x="6476760" y="2971800"/>
              <a:chExt cx="1218960" cy="993240"/>
            </a:xfrm>
          </p:grpSpPr>
          <p:sp>
            <p:nvSpPr>
              <p:cNvPr id="757" name=""/>
              <p:cNvSpPr/>
              <p:nvPr/>
            </p:nvSpPr>
            <p:spPr>
              <a:xfrm>
                <a:off x="6476760" y="2971800"/>
                <a:ext cx="1218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8" name=""/>
              <p:cNvGrpSpPr/>
              <p:nvPr/>
            </p:nvGrpSpPr>
            <p:grpSpPr>
              <a:xfrm>
                <a:off x="6552720" y="3505320"/>
                <a:ext cx="977400" cy="459720"/>
                <a:chOff x="6552720" y="3505320"/>
                <a:chExt cx="977400" cy="45972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6552720" y="3543480"/>
                  <a:ext cx="977400" cy="144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844680" y="3505320"/>
                  <a:ext cx="532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1" name=""/>
          <p:cNvGrpSpPr/>
          <p:nvPr/>
        </p:nvGrpSpPr>
        <p:grpSpPr>
          <a:xfrm>
            <a:off x="5486400" y="4191120"/>
            <a:ext cx="3505320" cy="992880"/>
            <a:chOff x="5486400" y="4191120"/>
            <a:chExt cx="3505320" cy="992880"/>
          </a:xfrm>
        </p:grpSpPr>
        <p:sp>
          <p:nvSpPr>
            <p:cNvPr id="762" name=""/>
            <p:cNvSpPr/>
            <p:nvPr/>
          </p:nvSpPr>
          <p:spPr>
            <a:xfrm>
              <a:off x="5486400" y="4419360"/>
              <a:ext cx="35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C {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89800" y="4495680"/>
              <a:ext cx="482400" cy="108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7696440" y="4191120"/>
              <a:ext cx="1066680" cy="992880"/>
              <a:chOff x="7696440" y="4191120"/>
              <a:chExt cx="1066680" cy="992880"/>
            </a:xfrm>
          </p:grpSpPr>
          <p:sp>
            <p:nvSpPr>
              <p:cNvPr id="765" name=""/>
              <p:cNvSpPr/>
              <p:nvPr/>
            </p:nvSpPr>
            <p:spPr>
              <a:xfrm>
                <a:off x="7696440" y="4191120"/>
                <a:ext cx="10666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6" name=""/>
              <p:cNvGrpSpPr/>
              <p:nvPr/>
            </p:nvGrpSpPr>
            <p:grpSpPr>
              <a:xfrm>
                <a:off x="7696440" y="4724280"/>
                <a:ext cx="977760" cy="459720"/>
                <a:chOff x="7696440" y="4724280"/>
                <a:chExt cx="977760" cy="4597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7696440" y="4762080"/>
                  <a:ext cx="977760" cy="108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7988400" y="472428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9" name=""/>
            <p:cNvGrpSpPr/>
            <p:nvPr/>
          </p:nvGrpSpPr>
          <p:grpSpPr>
            <a:xfrm>
              <a:off x="6400800" y="4191120"/>
              <a:ext cx="1219320" cy="992880"/>
              <a:chOff x="6400800" y="4191120"/>
              <a:chExt cx="1219320" cy="992880"/>
            </a:xfrm>
          </p:grpSpPr>
          <p:sp>
            <p:nvSpPr>
              <p:cNvPr id="770" name=""/>
              <p:cNvSpPr/>
              <p:nvPr/>
            </p:nvSpPr>
            <p:spPr>
              <a:xfrm>
                <a:off x="6400800" y="4191120"/>
                <a:ext cx="12193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6477120" y="4724280"/>
                <a:ext cx="977760" cy="459720"/>
                <a:chOff x="6477120" y="4724280"/>
                <a:chExt cx="977760" cy="4597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6477120" y="4762080"/>
                  <a:ext cx="977760" cy="108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769080" y="472428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4" name=""/>
          <p:cNvSpPr/>
          <p:nvPr/>
        </p:nvSpPr>
        <p:spPr>
          <a:xfrm>
            <a:off x="610560" y="15228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оординаты середины отре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5029200" y="5562720"/>
            <a:ext cx="1981080" cy="992880"/>
            <a:chOff x="5029200" y="5562720"/>
            <a:chExt cx="1981080" cy="992880"/>
          </a:xfrm>
        </p:grpSpPr>
        <p:sp>
          <p:nvSpPr>
            <p:cNvPr id="776" name=""/>
            <p:cNvSpPr/>
            <p:nvPr/>
          </p:nvSpPr>
          <p:spPr>
            <a:xfrm>
              <a:off x="5029200" y="5821200"/>
              <a:ext cx="1981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e60000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=          </a:t>
              </a:r>
              <a:r>
                <a:rPr b="1" i="1" lang="en-US" sz="1200" spc="-1" strike="noStrike">
                  <a:solidFill>
                    <a:srgbClr val="e6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5638680" y="5562720"/>
              <a:ext cx="1219320" cy="992880"/>
              <a:chOff x="5638680" y="5562720"/>
              <a:chExt cx="1219320" cy="992880"/>
            </a:xfrm>
          </p:grpSpPr>
          <p:sp>
            <p:nvSpPr>
              <p:cNvPr id="778" name=""/>
              <p:cNvSpPr/>
              <p:nvPr/>
            </p:nvSpPr>
            <p:spPr>
              <a:xfrm>
                <a:off x="5638680" y="5562720"/>
                <a:ext cx="12193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"/>
              <p:cNvGrpSpPr/>
              <p:nvPr/>
            </p:nvGrpSpPr>
            <p:grpSpPr>
              <a:xfrm>
                <a:off x="5715000" y="6095880"/>
                <a:ext cx="977760" cy="459720"/>
                <a:chOff x="5715000" y="6095880"/>
                <a:chExt cx="977760" cy="45972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5715000" y="6133680"/>
                  <a:ext cx="977760" cy="108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006960" y="609588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2" name=""/>
          <p:cNvGrpSpPr/>
          <p:nvPr/>
        </p:nvGrpSpPr>
        <p:grpSpPr>
          <a:xfrm>
            <a:off x="7086600" y="5562720"/>
            <a:ext cx="1828800" cy="992880"/>
            <a:chOff x="7086600" y="5562720"/>
            <a:chExt cx="1828800" cy="992880"/>
          </a:xfrm>
        </p:grpSpPr>
        <p:grpSp>
          <p:nvGrpSpPr>
            <p:cNvPr id="783" name=""/>
            <p:cNvGrpSpPr/>
            <p:nvPr/>
          </p:nvGrpSpPr>
          <p:grpSpPr>
            <a:xfrm>
              <a:off x="7848720" y="5562720"/>
              <a:ext cx="1066680" cy="992880"/>
              <a:chOff x="7848720" y="5562720"/>
              <a:chExt cx="1066680" cy="992880"/>
            </a:xfrm>
          </p:grpSpPr>
          <p:sp>
            <p:nvSpPr>
              <p:cNvPr id="784" name=""/>
              <p:cNvSpPr/>
              <p:nvPr/>
            </p:nvSpPr>
            <p:spPr>
              <a:xfrm>
                <a:off x="7848720" y="5562720"/>
                <a:ext cx="10666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" name=""/>
              <p:cNvGrpSpPr/>
              <p:nvPr/>
            </p:nvGrpSpPr>
            <p:grpSpPr>
              <a:xfrm>
                <a:off x="7848720" y="6095880"/>
                <a:ext cx="977760" cy="459720"/>
                <a:chOff x="7848720" y="6095880"/>
                <a:chExt cx="977760" cy="45972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7848720" y="6133680"/>
                  <a:ext cx="977760" cy="108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140680" y="609588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"/>
            <p:cNvSpPr/>
            <p:nvPr/>
          </p:nvSpPr>
          <p:spPr>
            <a:xfrm>
              <a:off x="7086600" y="579096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e60000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 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457200" y="304920"/>
            <a:ext cx="8305920" cy="143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Каждая координата середины отрезка ра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0000"/>
                </a:solidFill>
                <a:latin typeface="Arial"/>
              </a:rPr>
              <a:t>полусумме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оответствующих координат его конц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791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3749400" y="4983120"/>
            <a:ext cx="150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y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930240" y="2773440"/>
            <a:ext cx="147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y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109400" y="54608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06000" y="21844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80880" y="56894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74720" y="2463840"/>
            <a:ext cx="12600" cy="4165560"/>
          </a:xfrm>
          <a:custGeom>
            <a:avLst/>
            <a:gdLst/>
            <a:ahLst/>
            <a:rect l="l" t="t" r="r" b="b"/>
            <a:pathLst>
              <a:path w="8" h="2624">
                <a:moveTo>
                  <a:pt x="8" y="26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79360" y="5664240"/>
            <a:ext cx="4267080" cy="25200"/>
          </a:xfrm>
          <a:custGeom>
            <a:avLst/>
            <a:gdLst/>
            <a:ahLst/>
            <a:rect l="l" t="t" r="r" b="b"/>
            <a:pathLst>
              <a:path w="2688" h="16">
                <a:moveTo>
                  <a:pt x="0" y="16"/>
                </a:moveTo>
                <a:lnTo>
                  <a:pt x="268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rot="3834000">
            <a:off x="2009520" y="3716280"/>
            <a:ext cx="866520" cy="3289320"/>
          </a:xfrm>
          <a:custGeom>
            <a:avLst/>
            <a:gdLst/>
            <a:ahLst/>
            <a:rect l="l" t="t" r="r" b="b"/>
            <a:pathLst>
              <a:path w="816" h="2098">
                <a:moveTo>
                  <a:pt x="816" y="0"/>
                </a:moveTo>
                <a:lnTo>
                  <a:pt x="0" y="2098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lg" type="stealth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74720" y="3327480"/>
            <a:ext cx="482760" cy="2361960"/>
          </a:xfrm>
          <a:custGeom>
            <a:avLst/>
            <a:gdLst/>
            <a:ahLst/>
            <a:rect l="l" t="t" r="r" b="b"/>
            <a:pathLst>
              <a:path w="304" h="1488">
                <a:moveTo>
                  <a:pt x="304" y="0"/>
                </a:moveTo>
                <a:lnTo>
                  <a:pt x="0" y="1488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lg" type="stealth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3834000">
            <a:off x="1504800" y="3725280"/>
            <a:ext cx="500040" cy="2417760"/>
          </a:xfrm>
          <a:custGeom>
            <a:avLst/>
            <a:gdLst/>
            <a:ahLst/>
            <a:rect l="l" t="t" r="r" b="b"/>
            <a:pathLst>
              <a:path w="471" h="1543">
                <a:moveTo>
                  <a:pt x="0" y="0"/>
                </a:moveTo>
                <a:lnTo>
                  <a:pt x="471" y="15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stealth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04400" y="3603960"/>
            <a:ext cx="1596600" cy="1101240"/>
            <a:chOff x="1904400" y="3603960"/>
            <a:chExt cx="1596600" cy="1101240"/>
          </a:xfrm>
        </p:grpSpPr>
        <p:sp>
          <p:nvSpPr>
            <p:cNvPr id="810" name=""/>
            <p:cNvSpPr/>
            <p:nvPr/>
          </p:nvSpPr>
          <p:spPr>
            <a:xfrm flipH="1">
              <a:off x="1904400" y="3603960"/>
              <a:ext cx="6732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433320" y="4501800"/>
              <a:ext cx="6768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1203120" y="2565000"/>
            <a:ext cx="2999520" cy="3229920"/>
            <a:chOff x="1203120" y="2565000"/>
            <a:chExt cx="2999520" cy="3229920"/>
          </a:xfrm>
        </p:grpSpPr>
        <p:sp>
          <p:nvSpPr>
            <p:cNvPr id="813" name=""/>
            <p:cNvSpPr/>
            <p:nvPr/>
          </p:nvSpPr>
          <p:spPr>
            <a:xfrm rot="3834000">
              <a:off x="1351800" y="3282840"/>
              <a:ext cx="2718000" cy="1793880"/>
            </a:xfrm>
            <a:custGeom>
              <a:avLst/>
              <a:gdLst/>
              <a:ahLst/>
              <a:rect l="l" t="t" r="r" b="b"/>
              <a:pathLst>
                <a:path w="2560" h="1144">
                  <a:moveTo>
                    <a:pt x="2560" y="0"/>
                  </a:moveTo>
                  <a:lnTo>
                    <a:pt x="0" y="1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3834000">
              <a:off x="4090320" y="4985640"/>
              <a:ext cx="96840" cy="95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01800" y="4143240"/>
              <a:ext cx="7488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3834000">
              <a:off x="1218600" y="3251880"/>
              <a:ext cx="96840" cy="95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895480" y="1676520"/>
            <a:ext cx="3505320" cy="992880"/>
            <a:chOff x="2895480" y="1676520"/>
            <a:chExt cx="3505320" cy="992880"/>
          </a:xfrm>
        </p:grpSpPr>
        <p:sp>
          <p:nvSpPr>
            <p:cNvPr id="818" name=""/>
            <p:cNvSpPr/>
            <p:nvPr/>
          </p:nvSpPr>
          <p:spPr>
            <a:xfrm>
              <a:off x="2895480" y="1904760"/>
              <a:ext cx="35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C {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98880" y="1981080"/>
              <a:ext cx="482400" cy="108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5105520" y="1676520"/>
              <a:ext cx="1066680" cy="992880"/>
              <a:chOff x="5105520" y="1676520"/>
              <a:chExt cx="1066680" cy="992880"/>
            </a:xfrm>
          </p:grpSpPr>
          <p:sp>
            <p:nvSpPr>
              <p:cNvPr id="821" name=""/>
              <p:cNvSpPr/>
              <p:nvPr/>
            </p:nvSpPr>
            <p:spPr>
              <a:xfrm>
                <a:off x="5105520" y="1676520"/>
                <a:ext cx="10666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"/>
              <p:cNvGrpSpPr/>
              <p:nvPr/>
            </p:nvGrpSpPr>
            <p:grpSpPr>
              <a:xfrm>
                <a:off x="5105520" y="2209680"/>
                <a:ext cx="977760" cy="459720"/>
                <a:chOff x="5105520" y="2209680"/>
                <a:chExt cx="977760" cy="45972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5105520" y="2247480"/>
                  <a:ext cx="977760" cy="108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397480" y="220968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"/>
            <p:cNvGrpSpPr/>
            <p:nvPr/>
          </p:nvGrpSpPr>
          <p:grpSpPr>
            <a:xfrm>
              <a:off x="3809880" y="1676520"/>
              <a:ext cx="1219320" cy="992880"/>
              <a:chOff x="3809880" y="1676520"/>
              <a:chExt cx="1219320" cy="992880"/>
            </a:xfrm>
          </p:grpSpPr>
          <p:sp>
            <p:nvSpPr>
              <p:cNvPr id="826" name=""/>
              <p:cNvSpPr/>
              <p:nvPr/>
            </p:nvSpPr>
            <p:spPr>
              <a:xfrm>
                <a:off x="3809880" y="1676520"/>
                <a:ext cx="12193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3886200" y="2209680"/>
                <a:ext cx="977760" cy="459720"/>
                <a:chOff x="3886200" y="2209680"/>
                <a:chExt cx="977760" cy="45972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3886200" y="2247480"/>
                  <a:ext cx="977760" cy="108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178160" y="220968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0" name=""/>
          <p:cNvGrpSpPr/>
          <p:nvPr/>
        </p:nvGrpSpPr>
        <p:grpSpPr>
          <a:xfrm>
            <a:off x="6248520" y="3733920"/>
            <a:ext cx="1981080" cy="992880"/>
            <a:chOff x="6248520" y="3733920"/>
            <a:chExt cx="1981080" cy="992880"/>
          </a:xfrm>
        </p:grpSpPr>
        <p:sp>
          <p:nvSpPr>
            <p:cNvPr id="831" name=""/>
            <p:cNvSpPr/>
            <p:nvPr/>
          </p:nvSpPr>
          <p:spPr>
            <a:xfrm>
              <a:off x="6248520" y="3992400"/>
              <a:ext cx="1981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e60000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=          </a:t>
              </a:r>
              <a:r>
                <a:rPr b="1" i="1" lang="en-US" sz="1200" spc="-1" strike="noStrike">
                  <a:solidFill>
                    <a:srgbClr val="e6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6858000" y="3733920"/>
              <a:ext cx="1219320" cy="992880"/>
              <a:chOff x="6858000" y="3733920"/>
              <a:chExt cx="1219320" cy="992880"/>
            </a:xfrm>
          </p:grpSpPr>
          <p:sp>
            <p:nvSpPr>
              <p:cNvPr id="833" name=""/>
              <p:cNvSpPr/>
              <p:nvPr/>
            </p:nvSpPr>
            <p:spPr>
              <a:xfrm>
                <a:off x="6858000" y="3733920"/>
                <a:ext cx="12193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6934320" y="4267080"/>
                <a:ext cx="977760" cy="459720"/>
                <a:chOff x="6934320" y="4267080"/>
                <a:chExt cx="977760" cy="45972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6934320" y="4304880"/>
                  <a:ext cx="977760" cy="108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226280" y="426708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7" name=""/>
          <p:cNvGrpSpPr/>
          <p:nvPr/>
        </p:nvGrpSpPr>
        <p:grpSpPr>
          <a:xfrm>
            <a:off x="6324480" y="5410080"/>
            <a:ext cx="1828800" cy="993240"/>
            <a:chOff x="6324480" y="5410080"/>
            <a:chExt cx="1828800" cy="993240"/>
          </a:xfrm>
        </p:grpSpPr>
        <p:grpSp>
          <p:nvGrpSpPr>
            <p:cNvPr id="838" name=""/>
            <p:cNvGrpSpPr/>
            <p:nvPr/>
          </p:nvGrpSpPr>
          <p:grpSpPr>
            <a:xfrm>
              <a:off x="7086600" y="5410080"/>
              <a:ext cx="1066680" cy="993240"/>
              <a:chOff x="7086600" y="5410080"/>
              <a:chExt cx="1066680" cy="993240"/>
            </a:xfrm>
          </p:grpSpPr>
          <p:sp>
            <p:nvSpPr>
              <p:cNvPr id="839" name=""/>
              <p:cNvSpPr/>
              <p:nvPr/>
            </p:nvSpPr>
            <p:spPr>
              <a:xfrm>
                <a:off x="7086600" y="5410080"/>
                <a:ext cx="10666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"/>
              <p:cNvGrpSpPr/>
              <p:nvPr/>
            </p:nvGrpSpPr>
            <p:grpSpPr>
              <a:xfrm>
                <a:off x="7086600" y="5943600"/>
                <a:ext cx="977760" cy="459720"/>
                <a:chOff x="7086600" y="5943600"/>
                <a:chExt cx="977760" cy="45972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7086600" y="5981760"/>
                  <a:ext cx="977760" cy="144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378560" y="594360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3" name=""/>
            <p:cNvSpPr/>
            <p:nvPr/>
          </p:nvSpPr>
          <p:spPr>
            <a:xfrm>
              <a:off x="6324480" y="56386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e60000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5486400" y="3124080"/>
            <a:ext cx="3352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0000"/>
                </a:solidFill>
                <a:latin typeface="Arial"/>
              </a:rPr>
              <a:t>Полусумма абсци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562720" y="4800600"/>
            <a:ext cx="3352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0000"/>
                </a:solidFill>
                <a:latin typeface="Arial"/>
              </a:rPr>
              <a:t>Полусумма 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438280" y="3429000"/>
            <a:ext cx="3276720" cy="993240"/>
            <a:chOff x="2438280" y="3429000"/>
            <a:chExt cx="3276720" cy="993240"/>
          </a:xfrm>
        </p:grpSpPr>
        <p:sp>
          <p:nvSpPr>
            <p:cNvPr id="847" name=""/>
            <p:cNvSpPr/>
            <p:nvPr/>
          </p:nvSpPr>
          <p:spPr>
            <a:xfrm>
              <a:off x="2438280" y="36576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</a:rPr>
                <a:t>C</a:t>
              </a:r>
              <a:r>
                <a:rPr b="1" lang="ru-RU" sz="3200" spc="-1" strike="noStrike">
                  <a:solidFill>
                    <a:srgbClr val="e6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</a:rPr>
                <a:t>; 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         </a:t>
              </a:r>
              <a:r>
                <a:rPr b="1" lang="ru-RU" sz="3200" spc="-1" strike="noStrike">
                  <a:solidFill>
                    <a:srgbClr val="e6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2971800" y="3429000"/>
              <a:ext cx="2209680" cy="993240"/>
              <a:chOff x="2971800" y="3429000"/>
              <a:chExt cx="2209680" cy="99324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4114800" y="3429000"/>
                <a:ext cx="1066680" cy="993240"/>
                <a:chOff x="4114800" y="3429000"/>
                <a:chExt cx="1066680" cy="99324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4114800" y="3429000"/>
                  <a:ext cx="106668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e60000"/>
                      </a:solidFill>
                      <a:latin typeface="Times New Roman"/>
                    </a:rPr>
                    <a:t>y</a:t>
                  </a:r>
                  <a:r>
                    <a:rPr b="1" i="1" lang="en-US" sz="3200" spc="-1" strike="noStrike" baseline="-25000">
                      <a:solidFill>
                        <a:srgbClr val="e60000"/>
                      </a:solidFill>
                      <a:latin typeface="Times New Roman"/>
                    </a:rPr>
                    <a:t>1</a:t>
                  </a:r>
                  <a:r>
                    <a:rPr b="1" lang="en-US" sz="3200" spc="-1" strike="noStrike">
                      <a:solidFill>
                        <a:srgbClr val="e60000"/>
                      </a:solidFill>
                      <a:latin typeface="Times New Roman"/>
                    </a:rPr>
                    <a:t>+</a:t>
                  </a:r>
                  <a:r>
                    <a:rPr b="1" i="1" lang="en-US" sz="3200" spc="-1" strike="noStrike">
                      <a:solidFill>
                        <a:srgbClr val="e60000"/>
                      </a:solidFill>
                      <a:latin typeface="Times New Roman"/>
                    </a:rPr>
                    <a:t>y</a:t>
                  </a:r>
                  <a:r>
                    <a:rPr b="1" i="1" lang="en-US" sz="3200" spc="-1" strike="noStrike" baseline="-25000">
                      <a:solidFill>
                        <a:srgbClr val="e600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1" name=""/>
                <p:cNvGrpSpPr/>
                <p:nvPr/>
              </p:nvGrpSpPr>
              <p:grpSpPr>
                <a:xfrm>
                  <a:off x="4114800" y="3962520"/>
                  <a:ext cx="977760" cy="459720"/>
                  <a:chOff x="4114800" y="3962520"/>
                  <a:chExt cx="977760" cy="45972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>
                    <a:off x="4114800" y="4000680"/>
                    <a:ext cx="9777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1">
                        <a:moveTo>
                          <a:pt x="0" y="0"/>
                        </a:moveTo>
                        <a:lnTo>
                          <a:pt x="616" y="0"/>
                        </a:lnTo>
                      </a:path>
                    </a:pathLst>
                  </a:custGeom>
                  <a:noFill/>
                  <a:ln w="28440">
                    <a:solidFill>
                      <a:srgbClr val="e6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4406760" y="3962520"/>
                    <a:ext cx="53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60000"/>
                        </a:solidFill>
                        <a:latin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4" name=""/>
              <p:cNvGrpSpPr/>
              <p:nvPr/>
            </p:nvGrpSpPr>
            <p:grpSpPr>
              <a:xfrm>
                <a:off x="2971800" y="3429000"/>
                <a:ext cx="1219320" cy="993240"/>
                <a:chOff x="2971800" y="3429000"/>
                <a:chExt cx="1219320" cy="99324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2971800" y="3429000"/>
                  <a:ext cx="12193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e60000"/>
                      </a:solidFill>
                      <a:latin typeface="Times New Roman"/>
                    </a:rPr>
                    <a:t>x</a:t>
                  </a:r>
                  <a:r>
                    <a:rPr b="1" i="1" lang="en-US" sz="3200" spc="-1" strike="noStrike" baseline="-25000">
                      <a:solidFill>
                        <a:srgbClr val="e60000"/>
                      </a:solidFill>
                      <a:latin typeface="Times New Roman"/>
                    </a:rPr>
                    <a:t>1</a:t>
                  </a:r>
                  <a:r>
                    <a:rPr b="1" lang="en-US" sz="3200" spc="-1" strike="noStrike">
                      <a:solidFill>
                        <a:srgbClr val="e60000"/>
                      </a:solidFill>
                      <a:latin typeface="Times New Roman"/>
                    </a:rPr>
                    <a:t>+</a:t>
                  </a:r>
                  <a:r>
                    <a:rPr b="1" i="1" lang="en-US" sz="3200" spc="-1" strike="noStrike">
                      <a:solidFill>
                        <a:srgbClr val="e60000"/>
                      </a:solidFill>
                      <a:latin typeface="Times New Roman"/>
                    </a:rPr>
                    <a:t>x</a:t>
                  </a:r>
                  <a:r>
                    <a:rPr b="1" i="1" lang="en-US" sz="3200" spc="-1" strike="noStrike" baseline="-25000">
                      <a:solidFill>
                        <a:srgbClr val="e600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6" name=""/>
                <p:cNvGrpSpPr/>
                <p:nvPr/>
              </p:nvGrpSpPr>
              <p:grpSpPr>
                <a:xfrm>
                  <a:off x="3048120" y="3962520"/>
                  <a:ext cx="977760" cy="459720"/>
                  <a:chOff x="3048120" y="3962520"/>
                  <a:chExt cx="977760" cy="45972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3048120" y="4000680"/>
                    <a:ext cx="9777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1">
                        <a:moveTo>
                          <a:pt x="0" y="0"/>
                        </a:moveTo>
                        <a:lnTo>
                          <a:pt x="616" y="0"/>
                        </a:lnTo>
                      </a:path>
                    </a:pathLst>
                  </a:custGeom>
                  <a:noFill/>
                  <a:ln w="28440">
                    <a:solidFill>
                      <a:srgbClr val="e6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3340080" y="3962520"/>
                    <a:ext cx="53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60000"/>
                        </a:solidFill>
                        <a:latin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59" name=""/>
          <p:cNvSpPr/>
          <p:nvPr/>
        </p:nvSpPr>
        <p:spPr>
          <a:xfrm>
            <a:off x="243828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861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114480" y="3530520"/>
            <a:ext cx="4749480" cy="12960"/>
          </a:xfrm>
          <a:custGeom>
            <a:avLst/>
            <a:gdLst/>
            <a:ahLst/>
            <a:rect l="l" t="t" r="r" b="b"/>
            <a:pathLst>
              <a:path w="2992" h="8">
                <a:moveTo>
                  <a:pt x="0" y="8"/>
                </a:moveTo>
                <a:lnTo>
                  <a:pt x="299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28800" y="31240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176560" y="573120"/>
            <a:ext cx="31680" cy="5522760"/>
          </a:xfrm>
          <a:custGeom>
            <a:avLst/>
            <a:gdLst/>
            <a:ahLst/>
            <a:rect l="l" t="t" r="r" b="b"/>
            <a:pathLst>
              <a:path w="16" h="2816">
                <a:moveTo>
                  <a:pt x="16" y="28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439720" y="350532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344480" y="2895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677600" y="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517920" y="1384200"/>
            <a:ext cx="927000" cy="470160"/>
          </a:xfrm>
          <a:custGeom>
            <a:avLst/>
            <a:gdLst/>
            <a:ahLst/>
            <a:rect l="l" t="t" r="r" b="b"/>
            <a:pathLst>
              <a:path w="584" h="296">
                <a:moveTo>
                  <a:pt x="0" y="0"/>
                </a:moveTo>
                <a:lnTo>
                  <a:pt x="584" y="2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125880" y="838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428640" y="8380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;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038120" y="1752480"/>
            <a:ext cx="12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;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3060720" y="3581280"/>
            <a:ext cx="2261520" cy="2181600"/>
            <a:chOff x="3060720" y="3581280"/>
            <a:chExt cx="2261520" cy="2181600"/>
          </a:xfrm>
        </p:grpSpPr>
        <p:sp>
          <p:nvSpPr>
            <p:cNvPr id="880" name=""/>
            <p:cNvSpPr/>
            <p:nvPr/>
          </p:nvSpPr>
          <p:spPr>
            <a:xfrm>
              <a:off x="3060720" y="3962520"/>
              <a:ext cx="952560" cy="1269720"/>
            </a:xfrm>
            <a:custGeom>
              <a:avLst/>
              <a:gdLst/>
              <a:ahLst/>
              <a:rect l="l" t="t" r="r" b="b"/>
              <a:pathLst>
                <a:path w="600" h="800">
                  <a:moveTo>
                    <a:pt x="0" y="0"/>
                  </a:moveTo>
                  <a:lnTo>
                    <a:pt x="600" y="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074760" y="35812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888000" y="5181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347280" y="3581280"/>
              <a:ext cx="11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;-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90400" y="5181480"/>
              <a:ext cx="11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;-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458640" y="3543480"/>
            <a:ext cx="1738440" cy="2067120"/>
            <a:chOff x="458640" y="3543480"/>
            <a:chExt cx="1738440" cy="2067120"/>
          </a:xfrm>
        </p:grpSpPr>
        <p:sp>
          <p:nvSpPr>
            <p:cNvPr id="886" name=""/>
            <p:cNvSpPr/>
            <p:nvPr/>
          </p:nvSpPr>
          <p:spPr>
            <a:xfrm>
              <a:off x="914400" y="3543480"/>
              <a:ext cx="1282680" cy="1663560"/>
            </a:xfrm>
            <a:custGeom>
              <a:avLst/>
              <a:gdLst/>
              <a:ahLst/>
              <a:rect l="l" t="t" r="r" b="b"/>
              <a:pathLst>
                <a:path w="808" h="1048">
                  <a:moveTo>
                    <a:pt x="808" y="0"/>
                  </a:moveTo>
                  <a:lnTo>
                    <a:pt x="0" y="10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8640" y="5029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1040" y="5029200"/>
              <a:ext cx="126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;-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136440" y="914400"/>
            <a:ext cx="2988000" cy="3126240"/>
            <a:chOff x="136440" y="914400"/>
            <a:chExt cx="2988000" cy="3126240"/>
          </a:xfrm>
        </p:grpSpPr>
        <p:sp>
          <p:nvSpPr>
            <p:cNvPr id="890" name=""/>
            <p:cNvSpPr/>
            <p:nvPr/>
          </p:nvSpPr>
          <p:spPr>
            <a:xfrm>
              <a:off x="457200" y="1371600"/>
              <a:ext cx="1714680" cy="2158920"/>
            </a:xfrm>
            <a:custGeom>
              <a:avLst/>
              <a:gdLst/>
              <a:ahLst/>
              <a:rect l="l" t="t" r="r" b="b"/>
              <a:pathLst>
                <a:path w="1080" h="1360">
                  <a:moveTo>
                    <a:pt x="1080" y="0"/>
                  </a:moveTo>
                  <a:lnTo>
                    <a:pt x="0" y="1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36440" y="34592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53920" y="944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93120" y="3459240"/>
              <a:ext cx="11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;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28320" y="914400"/>
              <a:ext cx="99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;5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209680" y="2209680"/>
            <a:ext cx="2380320" cy="1333800"/>
            <a:chOff x="2209680" y="2209680"/>
            <a:chExt cx="2380320" cy="1333800"/>
          </a:xfrm>
        </p:grpSpPr>
        <p:sp>
          <p:nvSpPr>
            <p:cNvPr id="896" name=""/>
            <p:cNvSpPr/>
            <p:nvPr/>
          </p:nvSpPr>
          <p:spPr>
            <a:xfrm>
              <a:off x="2209680" y="2692440"/>
              <a:ext cx="1308240" cy="851040"/>
            </a:xfrm>
            <a:custGeom>
              <a:avLst/>
              <a:gdLst/>
              <a:ahLst/>
              <a:rect l="l" t="t" r="r" b="b"/>
              <a:pathLst>
                <a:path w="824" h="536">
                  <a:moveTo>
                    <a:pt x="0" y="536"/>
                  </a:moveTo>
                  <a:lnTo>
                    <a:pt x="8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78160" y="22096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93880" y="2209680"/>
              <a:ext cx="99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;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6705720" y="685800"/>
            <a:ext cx="1981080" cy="992880"/>
            <a:chOff x="6705720" y="685800"/>
            <a:chExt cx="1981080" cy="992880"/>
          </a:xfrm>
        </p:grpSpPr>
        <p:sp>
          <p:nvSpPr>
            <p:cNvPr id="900" name=""/>
            <p:cNvSpPr/>
            <p:nvPr/>
          </p:nvSpPr>
          <p:spPr>
            <a:xfrm>
              <a:off x="6705720" y="944280"/>
              <a:ext cx="1981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e60000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=          </a:t>
              </a:r>
              <a:r>
                <a:rPr b="1" i="1" lang="en-US" sz="1200" spc="-1" strike="noStrike">
                  <a:solidFill>
                    <a:srgbClr val="e6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7315200" y="685800"/>
              <a:ext cx="1219320" cy="992880"/>
              <a:chOff x="7315200" y="685800"/>
              <a:chExt cx="1219320" cy="992880"/>
            </a:xfrm>
          </p:grpSpPr>
          <p:sp>
            <p:nvSpPr>
              <p:cNvPr id="902" name=""/>
              <p:cNvSpPr/>
              <p:nvPr/>
            </p:nvSpPr>
            <p:spPr>
              <a:xfrm>
                <a:off x="7315200" y="685800"/>
                <a:ext cx="12193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"/>
              <p:cNvGrpSpPr/>
              <p:nvPr/>
            </p:nvGrpSpPr>
            <p:grpSpPr>
              <a:xfrm>
                <a:off x="7391520" y="1218960"/>
                <a:ext cx="977760" cy="459720"/>
                <a:chOff x="7391520" y="1218960"/>
                <a:chExt cx="977760" cy="45972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7391520" y="1256760"/>
                  <a:ext cx="977760" cy="108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683480" y="121896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06" name=""/>
          <p:cNvGrpSpPr/>
          <p:nvPr/>
        </p:nvGrpSpPr>
        <p:grpSpPr>
          <a:xfrm>
            <a:off x="6705720" y="2209680"/>
            <a:ext cx="1828800" cy="993240"/>
            <a:chOff x="6705720" y="2209680"/>
            <a:chExt cx="1828800" cy="993240"/>
          </a:xfrm>
        </p:grpSpPr>
        <p:grpSp>
          <p:nvGrpSpPr>
            <p:cNvPr id="907" name=""/>
            <p:cNvGrpSpPr/>
            <p:nvPr/>
          </p:nvGrpSpPr>
          <p:grpSpPr>
            <a:xfrm>
              <a:off x="7467840" y="2209680"/>
              <a:ext cx="1066680" cy="993240"/>
              <a:chOff x="7467840" y="2209680"/>
              <a:chExt cx="1066680" cy="993240"/>
            </a:xfrm>
          </p:grpSpPr>
          <p:sp>
            <p:nvSpPr>
              <p:cNvPr id="908" name=""/>
              <p:cNvSpPr/>
              <p:nvPr/>
            </p:nvSpPr>
            <p:spPr>
              <a:xfrm>
                <a:off x="7467840" y="2209680"/>
                <a:ext cx="10666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9" name=""/>
              <p:cNvGrpSpPr/>
              <p:nvPr/>
            </p:nvGrpSpPr>
            <p:grpSpPr>
              <a:xfrm>
                <a:off x="7467840" y="2743200"/>
                <a:ext cx="977760" cy="459720"/>
                <a:chOff x="7467840" y="2743200"/>
                <a:chExt cx="977760" cy="45972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7467840" y="2781360"/>
                  <a:ext cx="977760" cy="144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759800" y="274320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2" name=""/>
            <p:cNvSpPr/>
            <p:nvPr/>
          </p:nvSpPr>
          <p:spPr>
            <a:xfrm>
              <a:off x="6705720" y="24382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e60000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5486400" y="304920"/>
            <a:ext cx="3352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0000"/>
                </a:solidFill>
                <a:latin typeface="Arial"/>
              </a:rPr>
              <a:t>Полусумма абсци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86400" y="1752480"/>
            <a:ext cx="3352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0000"/>
                </a:solidFill>
                <a:latin typeface="Arial"/>
              </a:rPr>
              <a:t>Полусумма 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181480" y="3809880"/>
            <a:ext cx="3810240" cy="1067040"/>
            <a:chOff x="5181480" y="3809880"/>
            <a:chExt cx="3810240" cy="1067040"/>
          </a:xfrm>
        </p:grpSpPr>
        <p:sp>
          <p:nvSpPr>
            <p:cNvPr id="916" name=""/>
            <p:cNvSpPr/>
            <p:nvPr/>
          </p:nvSpPr>
          <p:spPr>
            <a:xfrm>
              <a:off x="5181480" y="3809880"/>
              <a:ext cx="365760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5257800" y="3809880"/>
              <a:ext cx="1981080" cy="993240"/>
              <a:chOff x="5257800" y="3809880"/>
              <a:chExt cx="1981080" cy="993240"/>
            </a:xfrm>
          </p:grpSpPr>
          <p:sp>
            <p:nvSpPr>
              <p:cNvPr id="918" name=""/>
              <p:cNvSpPr/>
              <p:nvPr/>
            </p:nvSpPr>
            <p:spPr>
              <a:xfrm>
                <a:off x="5257800" y="4068720"/>
                <a:ext cx="1981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e6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=        </a:t>
                </a:r>
                <a:r>
                  <a:rPr b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;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867280" y="3809880"/>
                <a:ext cx="121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 +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943240" y="4381560"/>
                <a:ext cx="749160" cy="1440"/>
              </a:xfrm>
              <a:custGeom>
                <a:avLst/>
                <a:gdLst/>
                <a:ahLst/>
                <a:rect l="l" t="t" r="r" b="b"/>
                <a:pathLst>
                  <a:path w="472" h="1">
                    <a:moveTo>
                      <a:pt x="0" y="0"/>
                    </a:moveTo>
                    <a:lnTo>
                      <a:pt x="4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095880" y="4343400"/>
                <a:ext cx="53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7010280" y="3809880"/>
              <a:ext cx="1981440" cy="993240"/>
              <a:chOff x="7010280" y="3809880"/>
              <a:chExt cx="1981440" cy="993240"/>
            </a:xfrm>
          </p:grpSpPr>
          <p:sp>
            <p:nvSpPr>
              <p:cNvPr id="923" name=""/>
              <p:cNvSpPr/>
              <p:nvPr/>
            </p:nvSpPr>
            <p:spPr>
              <a:xfrm>
                <a:off x="7010280" y="4068720"/>
                <a:ext cx="1981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y</a:t>
                </a:r>
                <a:r>
                  <a:rPr b="1" lang="en-US" sz="3200" spc="-1" strike="noStrike" baseline="-25000">
                    <a:solidFill>
                      <a:srgbClr val="e6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=        </a:t>
                </a:r>
                <a:r>
                  <a:rPr b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;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620120" y="3809880"/>
                <a:ext cx="121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5 +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96080" y="4381560"/>
                <a:ext cx="749520" cy="1440"/>
              </a:xfrm>
              <a:custGeom>
                <a:avLst/>
                <a:gdLst/>
                <a:ahLst/>
                <a:rect l="l" t="t" r="r" b="b"/>
                <a:pathLst>
                  <a:path w="472" h="1">
                    <a:moveTo>
                      <a:pt x="0" y="0"/>
                    </a:moveTo>
                    <a:lnTo>
                      <a:pt x="4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848720" y="4343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7" name=""/>
          <p:cNvGrpSpPr/>
          <p:nvPr/>
        </p:nvGrpSpPr>
        <p:grpSpPr>
          <a:xfrm>
            <a:off x="2515680" y="3002040"/>
            <a:ext cx="656280" cy="581400"/>
            <a:chOff x="2515680" y="3002040"/>
            <a:chExt cx="656280" cy="581400"/>
          </a:xfrm>
        </p:grpSpPr>
        <p:sp>
          <p:nvSpPr>
            <p:cNvPr id="928" name=""/>
            <p:cNvSpPr/>
            <p:nvPr/>
          </p:nvSpPr>
          <p:spPr>
            <a:xfrm>
              <a:off x="2819520" y="307800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515680" y="30020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5867280" y="5181480"/>
            <a:ext cx="2286000" cy="838080"/>
            <a:chOff x="5867280" y="5181480"/>
            <a:chExt cx="2286000" cy="838080"/>
          </a:xfrm>
        </p:grpSpPr>
        <p:sp>
          <p:nvSpPr>
            <p:cNvPr id="931" name=""/>
            <p:cNvSpPr/>
            <p:nvPr/>
          </p:nvSpPr>
          <p:spPr>
            <a:xfrm>
              <a:off x="5867280" y="5181480"/>
              <a:ext cx="22860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70760" y="5333760"/>
              <a:ext cx="167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4; 4,5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5105520" y="3809880"/>
            <a:ext cx="3809520" cy="1067040"/>
            <a:chOff x="5105520" y="3809880"/>
            <a:chExt cx="3809520" cy="1067040"/>
          </a:xfrm>
        </p:grpSpPr>
        <p:sp>
          <p:nvSpPr>
            <p:cNvPr id="934" name=""/>
            <p:cNvSpPr/>
            <p:nvPr/>
          </p:nvSpPr>
          <p:spPr>
            <a:xfrm>
              <a:off x="5105520" y="3809880"/>
              <a:ext cx="365724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5181480" y="3809880"/>
              <a:ext cx="1980720" cy="993240"/>
              <a:chOff x="5181480" y="3809880"/>
              <a:chExt cx="1980720" cy="993240"/>
            </a:xfrm>
          </p:grpSpPr>
          <p:sp>
            <p:nvSpPr>
              <p:cNvPr id="936" name=""/>
              <p:cNvSpPr/>
              <p:nvPr/>
            </p:nvSpPr>
            <p:spPr>
              <a:xfrm>
                <a:off x="5181480" y="4068720"/>
                <a:ext cx="1980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e6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=        </a:t>
                </a:r>
                <a:r>
                  <a:rPr b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;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790960" y="3809880"/>
                <a:ext cx="1218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 +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66920" y="4381560"/>
                <a:ext cx="749160" cy="1440"/>
              </a:xfrm>
              <a:custGeom>
                <a:avLst/>
                <a:gdLst/>
                <a:ahLst/>
                <a:rect l="l" t="t" r="r" b="b"/>
                <a:pathLst>
                  <a:path w="472" h="1">
                    <a:moveTo>
                      <a:pt x="0" y="0"/>
                    </a:moveTo>
                    <a:lnTo>
                      <a:pt x="4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19560" y="4343400"/>
                <a:ext cx="53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6933960" y="3809880"/>
              <a:ext cx="1981080" cy="993240"/>
              <a:chOff x="6933960" y="3809880"/>
              <a:chExt cx="1981080" cy="993240"/>
            </a:xfrm>
          </p:grpSpPr>
          <p:sp>
            <p:nvSpPr>
              <p:cNvPr id="941" name=""/>
              <p:cNvSpPr/>
              <p:nvPr/>
            </p:nvSpPr>
            <p:spPr>
              <a:xfrm>
                <a:off x="6933960" y="4068720"/>
                <a:ext cx="1981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y</a:t>
                </a:r>
                <a:r>
                  <a:rPr b="1" lang="en-US" sz="3200" spc="-1" strike="noStrike" baseline="-25000">
                    <a:solidFill>
                      <a:srgbClr val="e6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=        </a:t>
                </a:r>
                <a:r>
                  <a:rPr b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;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43440" y="3809880"/>
                <a:ext cx="121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 +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19400" y="4381560"/>
                <a:ext cx="749160" cy="1440"/>
              </a:xfrm>
              <a:custGeom>
                <a:avLst/>
                <a:gdLst/>
                <a:ahLst/>
                <a:rect l="l" t="t" r="r" b="b"/>
                <a:pathLst>
                  <a:path w="472" h="1">
                    <a:moveTo>
                      <a:pt x="0" y="0"/>
                    </a:moveTo>
                    <a:lnTo>
                      <a:pt x="4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72040" y="4343400"/>
                <a:ext cx="53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"/>
          <p:cNvGrpSpPr/>
          <p:nvPr/>
        </p:nvGrpSpPr>
        <p:grpSpPr>
          <a:xfrm>
            <a:off x="5867280" y="5257800"/>
            <a:ext cx="2286000" cy="838080"/>
            <a:chOff x="5867280" y="5257800"/>
            <a:chExt cx="2286000" cy="838080"/>
          </a:xfrm>
        </p:grpSpPr>
        <p:sp>
          <p:nvSpPr>
            <p:cNvPr id="946" name=""/>
            <p:cNvSpPr/>
            <p:nvPr/>
          </p:nvSpPr>
          <p:spPr>
            <a:xfrm>
              <a:off x="5867280" y="5257800"/>
              <a:ext cx="22860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70760" y="5410080"/>
              <a:ext cx="167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1,5; 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659400" y="1523880"/>
            <a:ext cx="452160" cy="581400"/>
            <a:chOff x="3659400" y="1523880"/>
            <a:chExt cx="452160" cy="581400"/>
          </a:xfrm>
        </p:grpSpPr>
        <p:sp>
          <p:nvSpPr>
            <p:cNvPr id="949" name=""/>
            <p:cNvSpPr/>
            <p:nvPr/>
          </p:nvSpPr>
          <p:spPr>
            <a:xfrm>
              <a:off x="3962520" y="16002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59400" y="15238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5105520" y="3962520"/>
            <a:ext cx="4038480" cy="1394640"/>
            <a:chOff x="5105520" y="3962520"/>
            <a:chExt cx="4038480" cy="1394640"/>
          </a:xfrm>
        </p:grpSpPr>
        <p:sp>
          <p:nvSpPr>
            <p:cNvPr id="952" name=""/>
            <p:cNvSpPr/>
            <p:nvPr/>
          </p:nvSpPr>
          <p:spPr>
            <a:xfrm>
              <a:off x="5105520" y="3962520"/>
              <a:ext cx="365760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5181480" y="3962520"/>
              <a:ext cx="1981440" cy="992880"/>
              <a:chOff x="5181480" y="3962520"/>
              <a:chExt cx="1981440" cy="992880"/>
            </a:xfrm>
          </p:grpSpPr>
          <p:sp>
            <p:nvSpPr>
              <p:cNvPr id="954" name=""/>
              <p:cNvSpPr/>
              <p:nvPr/>
            </p:nvSpPr>
            <p:spPr>
              <a:xfrm>
                <a:off x="5181480" y="4221000"/>
                <a:ext cx="1981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e6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=        </a:t>
                </a:r>
                <a:r>
                  <a:rPr b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;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791320" y="3962520"/>
                <a:ext cx="121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 +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67280" y="4533840"/>
                <a:ext cx="749520" cy="1080"/>
              </a:xfrm>
              <a:custGeom>
                <a:avLst/>
                <a:gdLst/>
                <a:ahLst/>
                <a:rect l="l" t="t" r="r" b="b"/>
                <a:pathLst>
                  <a:path w="472" h="1">
                    <a:moveTo>
                      <a:pt x="0" y="0"/>
                    </a:moveTo>
                    <a:lnTo>
                      <a:pt x="4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01992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6934320" y="4221000"/>
              <a:ext cx="91440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e60000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=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43800" y="39625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+(-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20120" y="4533840"/>
              <a:ext cx="1206360" cy="12600"/>
            </a:xfrm>
            <a:custGeom>
              <a:avLst/>
              <a:gdLst/>
              <a:ahLst/>
              <a:rect l="l" t="t" r="r" b="b"/>
              <a:pathLst>
                <a:path w="760" h="8">
                  <a:moveTo>
                    <a:pt x="0" y="0"/>
                  </a:moveTo>
                  <a:lnTo>
                    <a:pt x="760" y="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077320" y="4495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5867280" y="5334120"/>
            <a:ext cx="2286000" cy="838080"/>
            <a:chOff x="5867280" y="5334120"/>
            <a:chExt cx="2286000" cy="838080"/>
          </a:xfrm>
        </p:grpSpPr>
        <p:sp>
          <p:nvSpPr>
            <p:cNvPr id="963" name=""/>
            <p:cNvSpPr/>
            <p:nvPr/>
          </p:nvSpPr>
          <p:spPr>
            <a:xfrm>
              <a:off x="5867280" y="5334120"/>
              <a:ext cx="22860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170400" y="5486400"/>
              <a:ext cx="170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3;-2,5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3125880" y="4525920"/>
            <a:ext cx="455400" cy="581400"/>
            <a:chOff x="3125880" y="4525920"/>
            <a:chExt cx="455400" cy="581400"/>
          </a:xfrm>
        </p:grpSpPr>
        <p:sp>
          <p:nvSpPr>
            <p:cNvPr id="966" name=""/>
            <p:cNvSpPr/>
            <p:nvPr/>
          </p:nvSpPr>
          <p:spPr>
            <a:xfrm>
              <a:off x="3505320" y="45720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25880" y="4525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5181480" y="4038480"/>
            <a:ext cx="3733920" cy="1395000"/>
            <a:chOff x="5181480" y="4038480"/>
            <a:chExt cx="3733920" cy="1395000"/>
          </a:xfrm>
        </p:grpSpPr>
        <p:sp>
          <p:nvSpPr>
            <p:cNvPr id="969" name=""/>
            <p:cNvSpPr/>
            <p:nvPr/>
          </p:nvSpPr>
          <p:spPr>
            <a:xfrm>
              <a:off x="5181480" y="4038480"/>
              <a:ext cx="365760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5257800" y="4038480"/>
              <a:ext cx="3657600" cy="1395000"/>
              <a:chOff x="5257800" y="4038480"/>
              <a:chExt cx="3657600" cy="1395000"/>
            </a:xfrm>
          </p:grpSpPr>
          <p:sp>
            <p:nvSpPr>
              <p:cNvPr id="971" name=""/>
              <p:cNvSpPr/>
              <p:nvPr/>
            </p:nvSpPr>
            <p:spPr>
              <a:xfrm>
                <a:off x="5257800" y="4297320"/>
                <a:ext cx="22096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e6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=           </a:t>
                </a:r>
                <a:r>
                  <a:rPr b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;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67280" y="4038480"/>
                <a:ext cx="121932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0+(-4)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943600" y="4610160"/>
                <a:ext cx="1066680" cy="1440"/>
              </a:xfrm>
              <a:custGeom>
                <a:avLst/>
                <a:gdLst/>
                <a:ahLst/>
                <a:rect l="l" t="t" r="r" b="b"/>
                <a:pathLst>
                  <a:path w="672" h="1">
                    <a:moveTo>
                      <a:pt x="0" y="0"/>
                    </a:moveTo>
                    <a:lnTo>
                      <a:pt x="6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324480" y="457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5" name=""/>
              <p:cNvGrpSpPr/>
              <p:nvPr/>
            </p:nvGrpSpPr>
            <p:grpSpPr>
              <a:xfrm>
                <a:off x="7238880" y="4038480"/>
                <a:ext cx="1676520" cy="1395000"/>
                <a:chOff x="7238880" y="4038480"/>
                <a:chExt cx="1676520" cy="13950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7238880" y="4297320"/>
                  <a:ext cx="914400" cy="113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e60000"/>
                      </a:solidFill>
                      <a:latin typeface="Times New Roman"/>
                    </a:rPr>
                    <a:t>y</a:t>
                  </a:r>
                  <a:r>
                    <a:rPr b="1" lang="en-US" sz="3200" spc="-1" strike="noStrike" baseline="-25000">
                      <a:solidFill>
                        <a:srgbClr val="e60000"/>
                      </a:solidFill>
                      <a:latin typeface="Times New Roman"/>
                    </a:rPr>
                    <a:t>0</a:t>
                  </a:r>
                  <a:r>
                    <a:rPr b="1" i="1" lang="en-US" sz="3200" spc="-1" strike="noStrike">
                      <a:solidFill>
                        <a:srgbClr val="e60000"/>
                      </a:solidFill>
                      <a:latin typeface="Times New Roman"/>
                    </a:rPr>
                    <a:t>=        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848720" y="4038480"/>
                  <a:ext cx="106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5+0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924680" y="4610160"/>
                  <a:ext cx="723960" cy="1440"/>
                </a:xfrm>
                <a:custGeom>
                  <a:avLst/>
                  <a:gdLst/>
                  <a:ahLst/>
                  <a:rect l="l" t="t" r="r" b="b"/>
                  <a:pathLst>
                    <a:path w="456" h="1">
                      <a:moveTo>
                        <a:pt x="0" y="0"/>
                      </a:moveTo>
                      <a:lnTo>
                        <a:pt x="45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077320" y="4572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0" name=""/>
          <p:cNvGrpSpPr/>
          <p:nvPr/>
        </p:nvGrpSpPr>
        <p:grpSpPr>
          <a:xfrm>
            <a:off x="5791320" y="5410080"/>
            <a:ext cx="2286000" cy="838080"/>
            <a:chOff x="5791320" y="5410080"/>
            <a:chExt cx="2286000" cy="838080"/>
          </a:xfrm>
        </p:grpSpPr>
        <p:sp>
          <p:nvSpPr>
            <p:cNvPr id="981" name=""/>
            <p:cNvSpPr/>
            <p:nvPr/>
          </p:nvSpPr>
          <p:spPr>
            <a:xfrm>
              <a:off x="5791320" y="5410080"/>
              <a:ext cx="22860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94440" y="5562360"/>
              <a:ext cx="166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-2;2,5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915120" y="2362320"/>
            <a:ext cx="712800" cy="581400"/>
            <a:chOff x="915120" y="2362320"/>
            <a:chExt cx="712800" cy="581400"/>
          </a:xfrm>
        </p:grpSpPr>
        <p:sp>
          <p:nvSpPr>
            <p:cNvPr id="984" name=""/>
            <p:cNvSpPr/>
            <p:nvPr/>
          </p:nvSpPr>
          <p:spPr>
            <a:xfrm>
              <a:off x="1295280" y="2408040"/>
              <a:ext cx="7560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15120" y="236232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5105520" y="4114800"/>
            <a:ext cx="3961800" cy="1394640"/>
            <a:chOff x="5105520" y="4114800"/>
            <a:chExt cx="3961800" cy="1394640"/>
          </a:xfrm>
        </p:grpSpPr>
        <p:sp>
          <p:nvSpPr>
            <p:cNvPr id="987" name=""/>
            <p:cNvSpPr/>
            <p:nvPr/>
          </p:nvSpPr>
          <p:spPr>
            <a:xfrm>
              <a:off x="5105520" y="4114800"/>
              <a:ext cx="365724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81480" y="4373280"/>
              <a:ext cx="220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e60000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=           </a:t>
              </a: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90960" y="4114800"/>
              <a:ext cx="121896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0+(-3)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867280" y="4686120"/>
              <a:ext cx="1066320" cy="1800"/>
            </a:xfrm>
            <a:custGeom>
              <a:avLst/>
              <a:gdLst/>
              <a:ahLst/>
              <a:rect l="l" t="t" r="r" b="b"/>
              <a:pathLst>
                <a:path w="672" h="1">
                  <a:moveTo>
                    <a:pt x="0" y="0"/>
                  </a:moveTo>
                  <a:lnTo>
                    <a:pt x="67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248160" y="4647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162560" y="4373280"/>
              <a:ext cx="91404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e60000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=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114800"/>
              <a:ext cx="129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+(-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48360" y="4673520"/>
              <a:ext cx="1053720" cy="12600"/>
            </a:xfrm>
            <a:custGeom>
              <a:avLst/>
              <a:gdLst/>
              <a:ahLst/>
              <a:rect l="l" t="t" r="r" b="b"/>
              <a:pathLst>
                <a:path w="664" h="8">
                  <a:moveTo>
                    <a:pt x="0" y="8"/>
                  </a:moveTo>
                  <a:lnTo>
                    <a:pt x="66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229600" y="464796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5715000" y="5410080"/>
            <a:ext cx="2286000" cy="838080"/>
            <a:chOff x="5715000" y="5410080"/>
            <a:chExt cx="2286000" cy="838080"/>
          </a:xfrm>
        </p:grpSpPr>
        <p:sp>
          <p:nvSpPr>
            <p:cNvPr id="997" name=""/>
            <p:cNvSpPr/>
            <p:nvPr/>
          </p:nvSpPr>
          <p:spPr>
            <a:xfrm>
              <a:off x="5715000" y="5410080"/>
              <a:ext cx="22860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17760" y="5562360"/>
              <a:ext cx="186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-1,5;-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43720" y="4267080"/>
            <a:ext cx="781200" cy="581400"/>
            <a:chOff x="1143720" y="4267080"/>
            <a:chExt cx="781200" cy="581400"/>
          </a:xfrm>
        </p:grpSpPr>
        <p:sp>
          <p:nvSpPr>
            <p:cNvPr id="1000" name=""/>
            <p:cNvSpPr/>
            <p:nvPr/>
          </p:nvSpPr>
          <p:spPr>
            <a:xfrm>
              <a:off x="1524240" y="43131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43720" y="4267080"/>
              <a:ext cx="78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4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2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6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 flipH="1">
            <a:off x="4342680" y="76320"/>
            <a:ext cx="5334120" cy="7596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004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533520" y="2286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координ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редин отрез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28600" y="990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(-2;7);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21040" y="1859040"/>
            <a:ext cx="44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-5;1)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(-5;7);      C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2120" y="284940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-3;0)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N(0;5); 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22480" y="3840120"/>
            <a:ext cx="40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0;-6)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;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B(-4;2);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22480" y="5791320"/>
            <a:ext cx="39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7;4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(-2;-7);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22480" y="48006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7;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(-2;0); 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191120" y="9907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e6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e60000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e6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e6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e6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77836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3434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0000"/>
                </a:solidFill>
                <a:latin typeface="Arial"/>
              </a:rPr>
              <a:t>2+(-2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432320" y="1308240"/>
            <a:ext cx="965160" cy="12600"/>
          </a:xfrm>
          <a:custGeom>
            <a:avLst/>
            <a:gdLst/>
            <a:ahLst/>
            <a:rect l="l" t="t" r="r" b="b"/>
            <a:pathLst>
              <a:path w="608" h="8">
                <a:moveTo>
                  <a:pt x="0" y="0"/>
                </a:moveTo>
                <a:lnTo>
                  <a:pt x="608" y="8"/>
                </a:lnTo>
              </a:path>
            </a:pathLst>
          </a:custGeom>
          <a:noFill/>
          <a:ln w="28440">
            <a:solidFill>
              <a:srgbClr val="e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572000" y="129528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56272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0000"/>
                </a:solidFill>
                <a:latin typeface="Arial"/>
              </a:rPr>
              <a:t>7 + 7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613480" y="1308240"/>
            <a:ext cx="749160" cy="1440"/>
          </a:xfrm>
          <a:custGeom>
            <a:avLst/>
            <a:gdLst/>
            <a:ahLst/>
            <a:rect l="l" t="t" r="r" b="b"/>
            <a:pathLst>
              <a:path w="472" h="1">
                <a:moveTo>
                  <a:pt x="0" y="0"/>
                </a:moveTo>
                <a:lnTo>
                  <a:pt x="472" y="0"/>
                </a:lnTo>
              </a:path>
            </a:pathLst>
          </a:custGeom>
          <a:noFill/>
          <a:ln w="28440">
            <a:solidFill>
              <a:srgbClr val="e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934320" y="990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e6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e60000"/>
                </a:solidFill>
                <a:latin typeface="Times New Roman"/>
              </a:rPr>
              <a:t>0; 7</a:t>
            </a:r>
            <a:r>
              <a:rPr b="1" lang="ru-RU" sz="3200" spc="-1" strike="noStrike">
                <a:solidFill>
                  <a:srgbClr val="e6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3886200" y="1752480"/>
            <a:ext cx="3276360" cy="840960"/>
            <a:chOff x="3886200" y="1752480"/>
            <a:chExt cx="3276360" cy="840960"/>
          </a:xfrm>
        </p:grpSpPr>
        <p:sp>
          <p:nvSpPr>
            <p:cNvPr id="1028" name=""/>
            <p:cNvSpPr/>
            <p:nvPr/>
          </p:nvSpPr>
          <p:spPr>
            <a:xfrm>
              <a:off x="3886200" y="182880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cc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6600cc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6600cc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6600cc"/>
                  </a:solidFill>
                  <a:latin typeface="Times New Roman"/>
                </a:rPr>
                <a:t>; </a:t>
              </a:r>
              <a:r>
                <a:rPr b="1" i="1" lang="en-US" sz="3200" spc="-1" strike="noStrike">
                  <a:solidFill>
                    <a:srgbClr val="6600cc"/>
                  </a:solidFill>
                  <a:latin typeface="Times New Roman"/>
                </a:rPr>
                <a:t>       </a:t>
              </a:r>
              <a:r>
                <a:rPr b="1" lang="ru-RU" sz="3200" spc="-1" strike="noStrike">
                  <a:solidFill>
                    <a:srgbClr val="6600cc"/>
                  </a:solidFill>
                  <a:latin typeface="Times New Roman"/>
                </a:rPr>
                <a:t>)</a:t>
              </a:r>
              <a:r>
                <a:rPr b="1" lang="en-US" sz="3200" spc="-1" strike="noStrike">
                  <a:solidFill>
                    <a:srgbClr val="6600cc"/>
                  </a:solidFill>
                  <a:latin typeface="Times New Roman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77836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343400" y="175248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-5+(-5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432320" y="2146320"/>
              <a:ext cx="965160" cy="12600"/>
            </a:xfrm>
            <a:custGeom>
              <a:avLst/>
              <a:gdLst/>
              <a:ahLst/>
              <a:rect l="l" t="t" r="r" b="b"/>
              <a:pathLst>
                <a:path w="608" h="8">
                  <a:moveTo>
                    <a:pt x="0" y="0"/>
                  </a:moveTo>
                  <a:lnTo>
                    <a:pt x="608" y="8"/>
                  </a:lnTo>
                </a:path>
              </a:pathLst>
            </a:custGeom>
            <a:noFill/>
            <a:ln w="2844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572000" y="213372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62360" y="1752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 + 7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13120" y="2146320"/>
              <a:ext cx="749520" cy="1440"/>
            </a:xfrm>
            <a:custGeom>
              <a:avLst/>
              <a:gdLst/>
              <a:ahLst/>
              <a:rect l="l" t="t" r="r" b="b"/>
              <a:pathLst>
                <a:path w="472" h="1">
                  <a:moveTo>
                    <a:pt x="0" y="0"/>
                  </a:moveTo>
                  <a:lnTo>
                    <a:pt x="472" y="0"/>
                  </a:lnTo>
                </a:path>
              </a:pathLst>
            </a:custGeom>
            <a:noFill/>
            <a:ln w="2844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6934320" y="18288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-5; 4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3886200" y="2743200"/>
            <a:ext cx="3276360" cy="840600"/>
            <a:chOff x="3886200" y="2743200"/>
            <a:chExt cx="3276360" cy="840600"/>
          </a:xfrm>
        </p:grpSpPr>
        <p:sp>
          <p:nvSpPr>
            <p:cNvPr id="1037" name=""/>
            <p:cNvSpPr/>
            <p:nvPr/>
          </p:nvSpPr>
          <p:spPr>
            <a:xfrm>
              <a:off x="3886200" y="281916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66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; </a:t>
              </a: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</a:rPr>
                <a:t>       </a:t>
              </a:r>
              <a:r>
                <a:rPr b="1" lang="ru-RU" sz="3200" spc="-1" strike="noStrike">
                  <a:solidFill>
                    <a:srgbClr val="006600"/>
                  </a:solidFill>
                  <a:latin typeface="Times New Roman"/>
                </a:rPr>
                <a:t>)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7836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34340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-3 +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432320" y="3136680"/>
              <a:ext cx="965160" cy="12240"/>
            </a:xfrm>
            <a:custGeom>
              <a:avLst/>
              <a:gdLst/>
              <a:ahLst/>
              <a:rect l="l" t="t" r="r" b="b"/>
              <a:pathLst>
                <a:path w="608" h="8">
                  <a:moveTo>
                    <a:pt x="0" y="0"/>
                  </a:moveTo>
                  <a:lnTo>
                    <a:pt x="608" y="8"/>
                  </a:ln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72000" y="312408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56236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0 + 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13120" y="3136680"/>
              <a:ext cx="749520" cy="1080"/>
            </a:xfrm>
            <a:custGeom>
              <a:avLst/>
              <a:gdLst/>
              <a:ahLst/>
              <a:rect l="l" t="t" r="r" b="b"/>
              <a:pathLst>
                <a:path w="472" h="1">
                  <a:moveTo>
                    <a:pt x="0" y="0"/>
                  </a:moveTo>
                  <a:lnTo>
                    <a:pt x="472" y="0"/>
                  </a:ln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6858000" y="2819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-1,5; 2,5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3886200" y="3733920"/>
            <a:ext cx="3276360" cy="840600"/>
            <a:chOff x="3886200" y="3733920"/>
            <a:chExt cx="3276360" cy="840600"/>
          </a:xfrm>
        </p:grpSpPr>
        <p:sp>
          <p:nvSpPr>
            <p:cNvPr id="1046" name=""/>
            <p:cNvSpPr/>
            <p:nvPr/>
          </p:nvSpPr>
          <p:spPr>
            <a:xfrm>
              <a:off x="3886200" y="380988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50021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a50021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a50021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a50021"/>
                  </a:solidFill>
                  <a:latin typeface="Times New Roman"/>
                </a:rPr>
                <a:t>; </a:t>
              </a:r>
              <a:r>
                <a:rPr b="1" i="1" lang="en-US" sz="3200" spc="-1" strike="noStrike">
                  <a:solidFill>
                    <a:srgbClr val="a50021"/>
                  </a:solidFill>
                  <a:latin typeface="Times New Roman"/>
                </a:rPr>
                <a:t>       </a:t>
              </a:r>
              <a:r>
                <a:rPr b="1" lang="ru-RU" sz="3200" spc="-1" strike="noStrike">
                  <a:solidFill>
                    <a:srgbClr val="a50021"/>
                  </a:solidFill>
                  <a:latin typeface="Times New Roman"/>
                </a:rPr>
                <a:t>)</a:t>
              </a:r>
              <a:r>
                <a:rPr b="1" lang="en-US" sz="3200" spc="-1" strike="noStrike">
                  <a:solidFill>
                    <a:srgbClr val="a50021"/>
                  </a:solidFill>
                  <a:latin typeface="Times New Roman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78360" y="4114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343400" y="3733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0+(-4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432320" y="4127400"/>
              <a:ext cx="965160" cy="12240"/>
            </a:xfrm>
            <a:custGeom>
              <a:avLst/>
              <a:gdLst/>
              <a:ahLst/>
              <a:rect l="l" t="t" r="r" b="b"/>
              <a:pathLst>
                <a:path w="608" h="8">
                  <a:moveTo>
                    <a:pt x="0" y="0"/>
                  </a:moveTo>
                  <a:lnTo>
                    <a:pt x="608" y="8"/>
                  </a:ln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72000" y="411480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62360" y="3733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-6+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13120" y="4127400"/>
              <a:ext cx="749520" cy="1080"/>
            </a:xfrm>
            <a:custGeom>
              <a:avLst/>
              <a:gdLst/>
              <a:ahLst/>
              <a:rect l="l" t="t" r="r" b="b"/>
              <a:pathLst>
                <a:path w="472" h="1">
                  <a:moveTo>
                    <a:pt x="0" y="0"/>
                  </a:moveTo>
                  <a:lnTo>
                    <a:pt x="472" y="0"/>
                  </a:ln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6858000" y="3809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-2;-2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886200" y="4724280"/>
            <a:ext cx="3276360" cy="840960"/>
            <a:chOff x="3886200" y="4724280"/>
            <a:chExt cx="3276360" cy="840960"/>
          </a:xfrm>
        </p:grpSpPr>
        <p:sp>
          <p:nvSpPr>
            <p:cNvPr id="1055" name=""/>
            <p:cNvSpPr/>
            <p:nvPr/>
          </p:nvSpPr>
          <p:spPr>
            <a:xfrm>
              <a:off x="3886200" y="480060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; 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       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78360" y="5105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343400" y="4724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+(-2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432320" y="5118120"/>
              <a:ext cx="965160" cy="12600"/>
            </a:xfrm>
            <a:custGeom>
              <a:avLst/>
              <a:gdLst/>
              <a:ahLst/>
              <a:rect l="l" t="t" r="r" b="b"/>
              <a:pathLst>
                <a:path w="608" h="8">
                  <a:moveTo>
                    <a:pt x="0" y="0"/>
                  </a:moveTo>
                  <a:lnTo>
                    <a:pt x="608" y="8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72000" y="510552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562360" y="4724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 + 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613120" y="5118120"/>
              <a:ext cx="749520" cy="1440"/>
            </a:xfrm>
            <a:custGeom>
              <a:avLst/>
              <a:gdLst/>
              <a:ahLst/>
              <a:rect l="l" t="t" r="r" b="b"/>
              <a:pathLst>
                <a:path w="472" h="1">
                  <a:moveTo>
                    <a:pt x="0" y="0"/>
                  </a:moveTo>
                  <a:lnTo>
                    <a:pt x="472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6858000" y="4800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,5; 3,5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3733920" y="5715000"/>
            <a:ext cx="3276360" cy="840600"/>
            <a:chOff x="3733920" y="5715000"/>
            <a:chExt cx="3276360" cy="840600"/>
          </a:xfrm>
        </p:grpSpPr>
        <p:sp>
          <p:nvSpPr>
            <p:cNvPr id="1064" name=""/>
            <p:cNvSpPr/>
            <p:nvPr/>
          </p:nvSpPr>
          <p:spPr>
            <a:xfrm>
              <a:off x="3733920" y="579096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2608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91120" y="571500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7+(-2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80040" y="6108480"/>
              <a:ext cx="965160" cy="12240"/>
            </a:xfrm>
            <a:custGeom>
              <a:avLst/>
              <a:gdLst/>
              <a:ahLst/>
              <a:rect l="l" t="t" r="r" b="b"/>
              <a:pathLst>
                <a:path w="608" h="8">
                  <a:moveTo>
                    <a:pt x="0" y="0"/>
                  </a:moveTo>
                  <a:lnTo>
                    <a:pt x="608" y="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419720" y="609588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410080" y="5715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+(-7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460840" y="6108480"/>
              <a:ext cx="749520" cy="1080"/>
            </a:xfrm>
            <a:custGeom>
              <a:avLst/>
              <a:gdLst/>
              <a:ahLst/>
              <a:rect l="l" t="t" r="r" b="b"/>
              <a:pathLst>
                <a:path w="472" h="1">
                  <a:moveTo>
                    <a:pt x="0" y="0"/>
                  </a:moveTo>
                  <a:lnTo>
                    <a:pt x="47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6629400" y="5791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,5;-1,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3809880" y="0"/>
            <a:ext cx="5334120" cy="6857640"/>
            <a:chOff x="3809880" y="0"/>
            <a:chExt cx="5334120" cy="6857640"/>
          </a:xfrm>
        </p:grpSpPr>
        <p:sp>
          <p:nvSpPr>
            <p:cNvPr id="1073" name=""/>
            <p:cNvSpPr/>
            <p:nvPr/>
          </p:nvSpPr>
          <p:spPr>
            <a:xfrm>
              <a:off x="3809880" y="292320"/>
              <a:ext cx="5334120" cy="65653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>
                    <a:alpha val="99215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bbe0e3">
                    <a:alpha val="99215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4544640" y="0"/>
              <a:ext cx="198360" cy="650160"/>
              <a:chOff x="4544640" y="0"/>
              <a:chExt cx="198360" cy="650160"/>
            </a:xfrm>
          </p:grpSpPr>
          <p:sp>
            <p:nvSpPr>
              <p:cNvPr id="1075" name=""/>
              <p:cNvSpPr/>
              <p:nvPr/>
            </p:nvSpPr>
            <p:spPr>
              <a:xfrm>
                <a:off x="4619520" y="488160"/>
                <a:ext cx="58680" cy="162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544640" y="0"/>
                <a:ext cx="198360" cy="6199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5213160" y="1440"/>
              <a:ext cx="199800" cy="650520"/>
              <a:chOff x="5213160" y="1440"/>
              <a:chExt cx="199800" cy="650520"/>
            </a:xfrm>
          </p:grpSpPr>
          <p:sp>
            <p:nvSpPr>
              <p:cNvPr id="1078" name=""/>
              <p:cNvSpPr/>
              <p:nvPr/>
            </p:nvSpPr>
            <p:spPr>
              <a:xfrm>
                <a:off x="5288760" y="489960"/>
                <a:ext cx="59400" cy="162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213160" y="1440"/>
                <a:ext cx="199800" cy="620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5926320" y="1440"/>
              <a:ext cx="198360" cy="650520"/>
              <a:chOff x="5926320" y="1440"/>
              <a:chExt cx="198360" cy="650520"/>
            </a:xfrm>
          </p:grpSpPr>
          <p:sp>
            <p:nvSpPr>
              <p:cNvPr id="1081" name=""/>
              <p:cNvSpPr/>
              <p:nvPr/>
            </p:nvSpPr>
            <p:spPr>
              <a:xfrm>
                <a:off x="6001200" y="489960"/>
                <a:ext cx="58680" cy="162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926320" y="1440"/>
                <a:ext cx="198360" cy="620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6637320" y="1440"/>
              <a:ext cx="198360" cy="650520"/>
              <a:chOff x="6637320" y="1440"/>
              <a:chExt cx="198360" cy="650520"/>
            </a:xfrm>
          </p:grpSpPr>
          <p:sp>
            <p:nvSpPr>
              <p:cNvPr id="1084" name=""/>
              <p:cNvSpPr/>
              <p:nvPr/>
            </p:nvSpPr>
            <p:spPr>
              <a:xfrm>
                <a:off x="6712200" y="489960"/>
                <a:ext cx="58680" cy="162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637320" y="1440"/>
                <a:ext cx="198360" cy="620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7269120" y="1440"/>
              <a:ext cx="198360" cy="650520"/>
              <a:chOff x="7269120" y="1440"/>
              <a:chExt cx="198360" cy="650520"/>
            </a:xfrm>
          </p:grpSpPr>
          <p:sp>
            <p:nvSpPr>
              <p:cNvPr id="1087" name=""/>
              <p:cNvSpPr/>
              <p:nvPr/>
            </p:nvSpPr>
            <p:spPr>
              <a:xfrm>
                <a:off x="7344000" y="489960"/>
                <a:ext cx="58680" cy="162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269120" y="1440"/>
                <a:ext cx="198360" cy="620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7981920" y="1440"/>
              <a:ext cx="198360" cy="650520"/>
              <a:chOff x="7981920" y="1440"/>
              <a:chExt cx="198360" cy="650520"/>
            </a:xfrm>
          </p:grpSpPr>
          <p:sp>
            <p:nvSpPr>
              <p:cNvPr id="1090" name=""/>
              <p:cNvSpPr/>
              <p:nvPr/>
            </p:nvSpPr>
            <p:spPr>
              <a:xfrm>
                <a:off x="8056800" y="489960"/>
                <a:ext cx="58680" cy="162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81920" y="1440"/>
                <a:ext cx="198360" cy="620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2" name=""/>
            <p:cNvSpPr/>
            <p:nvPr/>
          </p:nvSpPr>
          <p:spPr>
            <a:xfrm>
              <a:off x="7756560" y="2312280"/>
              <a:ext cx="304920" cy="401796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19240" y="3327840"/>
              <a:ext cx="474120" cy="31644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213160" y="4383000"/>
              <a:ext cx="475560" cy="21906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8647560" y="0"/>
              <a:ext cx="198360" cy="650160"/>
              <a:chOff x="8647560" y="0"/>
              <a:chExt cx="198360" cy="650160"/>
            </a:xfrm>
          </p:grpSpPr>
          <p:sp>
            <p:nvSpPr>
              <p:cNvPr id="1096" name=""/>
              <p:cNvSpPr/>
              <p:nvPr/>
            </p:nvSpPr>
            <p:spPr>
              <a:xfrm>
                <a:off x="8722440" y="488160"/>
                <a:ext cx="58680" cy="162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647560" y="0"/>
                <a:ext cx="198360" cy="6199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22222E-006 L 0.5 0.00833 E">
                                      <p:cBhvr>
                                        <p:cTn id="954" dur="2000" fill="hold"/>
                                        <p:tgtEl>
                                          <p:spTgt spid="10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4495680" y="14479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572000" y="23623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0" y="341316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0" y="44197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572000" y="539424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495680" y="5176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106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609480" y="1522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координаты середин отрезков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3520" y="647712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одите ответы в текстовые поля, не делая пробелов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85800" y="639720"/>
            <a:ext cx="40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(-2;7);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55560" y="1600200"/>
            <a:ext cx="422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-5;1)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(-5;7);      C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04880" y="249876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-3;0)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N(0;5); 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09480" y="348948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0;-6)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;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B(-4;2);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09480" y="54403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7;4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(-2;-7);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09480" y="4572000"/>
            <a:ext cx="409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7;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(-2;0);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123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228600" y="10224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137960" y="914400"/>
            <a:ext cx="66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; 4);  C(-3; 2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дина отрез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448280" y="1930320"/>
            <a:ext cx="13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895480" y="152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ратная 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457200" y="2590920"/>
            <a:ext cx="5334120" cy="1068840"/>
            <a:chOff x="457200" y="2590920"/>
            <a:chExt cx="5334120" cy="1068840"/>
          </a:xfrm>
        </p:grpSpPr>
        <p:grpSp>
          <p:nvGrpSpPr>
            <p:cNvPr id="1136" name=""/>
            <p:cNvGrpSpPr/>
            <p:nvPr/>
          </p:nvGrpSpPr>
          <p:grpSpPr>
            <a:xfrm>
              <a:off x="457200" y="2666880"/>
              <a:ext cx="1981080" cy="992880"/>
              <a:chOff x="457200" y="2666880"/>
              <a:chExt cx="1981080" cy="992880"/>
            </a:xfrm>
          </p:grpSpPr>
          <p:sp>
            <p:nvSpPr>
              <p:cNvPr id="1137" name=""/>
              <p:cNvSpPr/>
              <p:nvPr/>
            </p:nvSpPr>
            <p:spPr>
              <a:xfrm>
                <a:off x="457200" y="2925360"/>
                <a:ext cx="1981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e6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=          </a:t>
                </a:r>
                <a:r>
                  <a:rPr b="1" i="1" lang="en-US" sz="1200" spc="-1" strike="noStrike">
                    <a:solidFill>
                      <a:srgbClr val="e6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;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8" name=""/>
              <p:cNvGrpSpPr/>
              <p:nvPr/>
            </p:nvGrpSpPr>
            <p:grpSpPr>
              <a:xfrm>
                <a:off x="1066680" y="2666880"/>
                <a:ext cx="1219320" cy="992880"/>
                <a:chOff x="1066680" y="2666880"/>
                <a:chExt cx="1219320" cy="99288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1066680" y="2666880"/>
                  <a:ext cx="12193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1" i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1" i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0" name=""/>
                <p:cNvGrpSpPr/>
                <p:nvPr/>
              </p:nvGrpSpPr>
              <p:grpSpPr>
                <a:xfrm>
                  <a:off x="1143000" y="3200040"/>
                  <a:ext cx="977760" cy="459720"/>
                  <a:chOff x="1143000" y="3200040"/>
                  <a:chExt cx="977760" cy="45972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>
                    <a:off x="1143000" y="3237840"/>
                    <a:ext cx="9777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1">
                        <a:moveTo>
                          <a:pt x="0" y="0"/>
                        </a:moveTo>
                        <a:lnTo>
                          <a:pt x="616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1434960" y="3200040"/>
                    <a:ext cx="53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43" name=""/>
            <p:cNvGrpSpPr/>
            <p:nvPr/>
          </p:nvGrpSpPr>
          <p:grpSpPr>
            <a:xfrm>
              <a:off x="3962520" y="2590920"/>
              <a:ext cx="1828800" cy="992880"/>
              <a:chOff x="3962520" y="2590920"/>
              <a:chExt cx="1828800" cy="992880"/>
            </a:xfrm>
          </p:grpSpPr>
          <p:grpSp>
            <p:nvGrpSpPr>
              <p:cNvPr id="1144" name=""/>
              <p:cNvGrpSpPr/>
              <p:nvPr/>
            </p:nvGrpSpPr>
            <p:grpSpPr>
              <a:xfrm>
                <a:off x="4724640" y="2590920"/>
                <a:ext cx="1066680" cy="992880"/>
                <a:chOff x="4724640" y="2590920"/>
                <a:chExt cx="1066680" cy="99288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4724640" y="2590920"/>
                  <a:ext cx="106668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i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i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6" name=""/>
                <p:cNvGrpSpPr/>
                <p:nvPr/>
              </p:nvGrpSpPr>
              <p:grpSpPr>
                <a:xfrm>
                  <a:off x="4724640" y="3124080"/>
                  <a:ext cx="977760" cy="459720"/>
                  <a:chOff x="4724640" y="3124080"/>
                  <a:chExt cx="977760" cy="459720"/>
                </a:xfrm>
              </p:grpSpPr>
              <p:sp>
                <p:nvSpPr>
                  <p:cNvPr id="1147" name=""/>
                  <p:cNvSpPr/>
                  <p:nvPr/>
                </p:nvSpPr>
                <p:spPr>
                  <a:xfrm>
                    <a:off x="4724640" y="3161880"/>
                    <a:ext cx="9777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1">
                        <a:moveTo>
                          <a:pt x="0" y="0"/>
                        </a:moveTo>
                        <a:lnTo>
                          <a:pt x="616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016600" y="3124080"/>
                    <a:ext cx="53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49" name=""/>
              <p:cNvSpPr/>
              <p:nvPr/>
            </p:nvSpPr>
            <p:spPr>
              <a:xfrm>
                <a:off x="3962520" y="2819160"/>
                <a:ext cx="9144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y</a:t>
                </a:r>
                <a:r>
                  <a:rPr b="1" lang="en-US" sz="3200" spc="-1" strike="noStrike" baseline="-25000">
                    <a:solidFill>
                      <a:srgbClr val="e6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=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0" name=""/>
          <p:cNvSpPr/>
          <p:nvPr/>
        </p:nvSpPr>
        <p:spPr>
          <a:xfrm>
            <a:off x="327672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457200" y="3809880"/>
            <a:ext cx="1981080" cy="992880"/>
            <a:chOff x="457200" y="3809880"/>
            <a:chExt cx="1981080" cy="992880"/>
          </a:xfrm>
        </p:grpSpPr>
        <p:sp>
          <p:nvSpPr>
            <p:cNvPr id="1152" name=""/>
            <p:cNvSpPr/>
            <p:nvPr/>
          </p:nvSpPr>
          <p:spPr>
            <a:xfrm>
              <a:off x="457200" y="406836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</a:rPr>
                <a:t>-3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=          </a:t>
              </a:r>
              <a:r>
                <a:rPr b="1" i="1" lang="en-US" sz="1200" spc="-1" strike="noStrike">
                  <a:solidFill>
                    <a:srgbClr val="e6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1066680" y="3809880"/>
              <a:ext cx="1219320" cy="992880"/>
              <a:chOff x="1066680" y="3809880"/>
              <a:chExt cx="1219320" cy="992880"/>
            </a:xfrm>
          </p:grpSpPr>
          <p:sp>
            <p:nvSpPr>
              <p:cNvPr id="1154" name=""/>
              <p:cNvSpPr/>
              <p:nvPr/>
            </p:nvSpPr>
            <p:spPr>
              <a:xfrm>
                <a:off x="1066680" y="3809880"/>
                <a:ext cx="121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5 +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5" name=""/>
              <p:cNvGrpSpPr/>
              <p:nvPr/>
            </p:nvGrpSpPr>
            <p:grpSpPr>
              <a:xfrm>
                <a:off x="1143000" y="4343040"/>
                <a:ext cx="977760" cy="459720"/>
                <a:chOff x="1143000" y="4343040"/>
                <a:chExt cx="977760" cy="45972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1143000" y="4380840"/>
                  <a:ext cx="977760" cy="108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1434960" y="434304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58" name=""/>
          <p:cNvGrpSpPr/>
          <p:nvPr/>
        </p:nvGrpSpPr>
        <p:grpSpPr>
          <a:xfrm>
            <a:off x="3886200" y="3733920"/>
            <a:ext cx="1981080" cy="992880"/>
            <a:chOff x="3886200" y="3733920"/>
            <a:chExt cx="1981080" cy="992880"/>
          </a:xfrm>
        </p:grpSpPr>
        <p:sp>
          <p:nvSpPr>
            <p:cNvPr id="1159" name=""/>
            <p:cNvSpPr/>
            <p:nvPr/>
          </p:nvSpPr>
          <p:spPr>
            <a:xfrm>
              <a:off x="3886200" y="39924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=          </a:t>
              </a:r>
              <a:r>
                <a:rPr b="1" i="1" lang="en-US" sz="1200" spc="-1" strike="noStrike">
                  <a:solidFill>
                    <a:srgbClr val="e6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4495680" y="3733920"/>
              <a:ext cx="1219320" cy="992880"/>
              <a:chOff x="4495680" y="3733920"/>
              <a:chExt cx="1219320" cy="992880"/>
            </a:xfrm>
          </p:grpSpPr>
          <p:sp>
            <p:nvSpPr>
              <p:cNvPr id="1161" name=""/>
              <p:cNvSpPr/>
              <p:nvPr/>
            </p:nvSpPr>
            <p:spPr>
              <a:xfrm>
                <a:off x="4495680" y="3733920"/>
                <a:ext cx="121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 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4572000" y="4267080"/>
                <a:ext cx="977760" cy="459720"/>
                <a:chOff x="4572000" y="4267080"/>
                <a:chExt cx="977760" cy="4597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4572000" y="4304880"/>
                  <a:ext cx="977760" cy="1080"/>
                </a:xfrm>
                <a:custGeom>
                  <a:avLst/>
                  <a:gdLst/>
                  <a:ahLst/>
                  <a:rect l="l" t="t" r="r" b="b"/>
                  <a:pathLst>
                    <a:path w="616" h="1">
                      <a:moveTo>
                        <a:pt x="0" y="0"/>
                      </a:moveTo>
                      <a:lnTo>
                        <a:pt x="61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863960" y="426708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5" name=""/>
          <p:cNvGrpSpPr/>
          <p:nvPr/>
        </p:nvGrpSpPr>
        <p:grpSpPr>
          <a:xfrm>
            <a:off x="2361960" y="3962520"/>
            <a:ext cx="1371960" cy="761760"/>
            <a:chOff x="2361960" y="3962520"/>
            <a:chExt cx="1371960" cy="761760"/>
          </a:xfrm>
        </p:grpSpPr>
        <p:sp>
          <p:nvSpPr>
            <p:cNvPr id="1166" name=""/>
            <p:cNvSpPr/>
            <p:nvPr/>
          </p:nvSpPr>
          <p:spPr>
            <a:xfrm flipH="1">
              <a:off x="2361960" y="4038480"/>
              <a:ext cx="304920" cy="6858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7" name=""/>
                <p:cNvSpPr txBox="1"/>
                <p:nvPr/>
              </p:nvSpPr>
              <p:spPr>
                <a:xfrm>
                  <a:off x="2514960" y="4267080"/>
                  <a:ext cx="3283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68" name=""/>
            <p:cNvSpPr/>
            <p:nvPr/>
          </p:nvSpPr>
          <p:spPr>
            <a:xfrm>
              <a:off x="2590920" y="396252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6095520" y="3886200"/>
            <a:ext cx="1371960" cy="761760"/>
            <a:chOff x="6095520" y="3886200"/>
            <a:chExt cx="1371960" cy="761760"/>
          </a:xfrm>
        </p:grpSpPr>
        <p:sp>
          <p:nvSpPr>
            <p:cNvPr id="1170" name=""/>
            <p:cNvSpPr/>
            <p:nvPr/>
          </p:nvSpPr>
          <p:spPr>
            <a:xfrm flipH="1">
              <a:off x="6095520" y="3962160"/>
              <a:ext cx="304920" cy="6858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1" name=""/>
                <p:cNvSpPr txBox="1"/>
                <p:nvPr/>
              </p:nvSpPr>
              <p:spPr>
                <a:xfrm>
                  <a:off x="6248520" y="4190760"/>
                  <a:ext cx="3283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72" name=""/>
            <p:cNvSpPr/>
            <p:nvPr/>
          </p:nvSpPr>
          <p:spPr>
            <a:xfrm>
              <a:off x="6324480" y="38862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456480" y="497844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5 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76880" y="5835600"/>
            <a:ext cx="16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962520" y="495288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207680" y="579132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932880" y="5867280"/>
            <a:ext cx="17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1;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4114080" y="1631880"/>
            <a:ext cx="4851360" cy="1492200"/>
            <a:chOff x="4114080" y="1631880"/>
            <a:chExt cx="4851360" cy="1492200"/>
          </a:xfrm>
        </p:grpSpPr>
        <p:grpSp>
          <p:nvGrpSpPr>
            <p:cNvPr id="1179" name=""/>
            <p:cNvGrpSpPr/>
            <p:nvPr/>
          </p:nvGrpSpPr>
          <p:grpSpPr>
            <a:xfrm>
              <a:off x="4496040" y="2133360"/>
              <a:ext cx="3200400" cy="990720"/>
              <a:chOff x="4496040" y="2133360"/>
              <a:chExt cx="3200400" cy="990720"/>
            </a:xfrm>
          </p:grpSpPr>
          <p:sp>
            <p:nvSpPr>
              <p:cNvPr id="1180" name=""/>
              <p:cNvSpPr/>
              <p:nvPr/>
            </p:nvSpPr>
            <p:spPr>
              <a:xfrm>
                <a:off x="4527720" y="2168280"/>
                <a:ext cx="3137040" cy="914400"/>
              </a:xfrm>
              <a:custGeom>
                <a:avLst/>
                <a:gdLst/>
                <a:ahLst/>
                <a:rect l="l" t="t" r="r" b="b"/>
                <a:pathLst>
                  <a:path w="1976" h="576">
                    <a:moveTo>
                      <a:pt x="0" y="0"/>
                    </a:moveTo>
                    <a:lnTo>
                      <a:pt x="1976" y="5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096240" y="25905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496040" y="21333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620120" y="30477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"/>
            <p:cNvSpPr/>
            <p:nvPr/>
          </p:nvSpPr>
          <p:spPr>
            <a:xfrm>
              <a:off x="4114080" y="1631880"/>
              <a:ext cx="139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; 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866560" y="2057040"/>
              <a:ext cx="152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C(-3; 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572960" y="2469960"/>
              <a:ext cx="139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2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5791320" y="4419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934320" y="4419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990720" y="3886200"/>
            <a:ext cx="2628720" cy="1523880"/>
          </a:xfrm>
          <a:custGeom>
            <a:avLst/>
            <a:gdLst/>
            <a:ahLst/>
            <a:rect l="l" t="t" r="r" b="b"/>
            <a:pathLst>
              <a:path w="1656" h="960">
                <a:moveTo>
                  <a:pt x="0" y="960"/>
                </a:moveTo>
                <a:lnTo>
                  <a:pt x="1656" y="952"/>
                </a:lnTo>
                <a:lnTo>
                  <a:pt x="1656" y="0"/>
                </a:lnTo>
                <a:lnTo>
                  <a:pt x="0" y="960"/>
                </a:lnTo>
                <a:close/>
              </a:path>
            </a:pathLst>
          </a:custGeom>
          <a:solidFill>
            <a:srgbClr val="00ffc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191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4338000" y="5181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4600" y="1905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54100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003320" y="2184480"/>
            <a:ext cx="12600" cy="4165560"/>
          </a:xfrm>
          <a:custGeom>
            <a:avLst/>
            <a:gdLst/>
            <a:ahLst/>
            <a:rect l="l" t="t" r="r" b="b"/>
            <a:pathLst>
              <a:path w="8" h="2624">
                <a:moveTo>
                  <a:pt x="8" y="26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07960" y="5384880"/>
            <a:ext cx="4267080" cy="25200"/>
          </a:xfrm>
          <a:custGeom>
            <a:avLst/>
            <a:gdLst/>
            <a:ahLst/>
            <a:rect l="l" t="t" r="r" b="b"/>
            <a:pathLst>
              <a:path w="2688" h="16">
                <a:moveTo>
                  <a:pt x="0" y="16"/>
                </a:moveTo>
                <a:lnTo>
                  <a:pt x="268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3286080" y="3936960"/>
            <a:ext cx="592200" cy="2071080"/>
            <a:chOff x="3286080" y="3936960"/>
            <a:chExt cx="592200" cy="2071080"/>
          </a:xfrm>
        </p:grpSpPr>
        <p:sp>
          <p:nvSpPr>
            <p:cNvPr id="1205" name=""/>
            <p:cNvSpPr/>
            <p:nvPr/>
          </p:nvSpPr>
          <p:spPr>
            <a:xfrm>
              <a:off x="3286080" y="535932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619440" y="3936960"/>
              <a:ext cx="1800" cy="1435320"/>
            </a:xfrm>
            <a:custGeom>
              <a:avLst/>
              <a:gdLst/>
              <a:ahLst/>
              <a:rect l="l" t="t" r="r" b="b"/>
              <a:pathLst>
                <a:path w="1" h="904">
                  <a:moveTo>
                    <a:pt x="0" y="90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3834000">
              <a:off x="3580200" y="5360040"/>
              <a:ext cx="96840" cy="95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609840" y="152280"/>
            <a:ext cx="75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ычисление длины вектора по его координа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466560" y="3530520"/>
            <a:ext cx="3114720" cy="648720"/>
            <a:chOff x="466560" y="3530520"/>
            <a:chExt cx="3114720" cy="648720"/>
          </a:xfrm>
        </p:grpSpPr>
        <p:sp>
          <p:nvSpPr>
            <p:cNvPr id="1210" name=""/>
            <p:cNvSpPr/>
            <p:nvPr/>
          </p:nvSpPr>
          <p:spPr>
            <a:xfrm>
              <a:off x="1003320" y="3898800"/>
              <a:ext cx="2577960" cy="38160"/>
            </a:xfrm>
            <a:custGeom>
              <a:avLst/>
              <a:gdLst/>
              <a:ahLst/>
              <a:rect l="l" t="t" r="r" b="b"/>
              <a:pathLst>
                <a:path w="1624" h="24">
                  <a:moveTo>
                    <a:pt x="1624" y="0"/>
                  </a:moveTo>
                  <a:lnTo>
                    <a:pt x="0" y="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992160" y="3886200"/>
              <a:ext cx="745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66560" y="353052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1371600" y="2743200"/>
            <a:ext cx="2437920" cy="703440"/>
            <a:chOff x="1371600" y="2743200"/>
            <a:chExt cx="2437920" cy="703440"/>
          </a:xfrm>
        </p:grpSpPr>
        <p:grpSp>
          <p:nvGrpSpPr>
            <p:cNvPr id="1214" name=""/>
            <p:cNvGrpSpPr/>
            <p:nvPr/>
          </p:nvGrpSpPr>
          <p:grpSpPr>
            <a:xfrm>
              <a:off x="2285640" y="2743200"/>
              <a:ext cx="1523880" cy="703440"/>
              <a:chOff x="2285640" y="2743200"/>
              <a:chExt cx="1523880" cy="703440"/>
            </a:xfrm>
          </p:grpSpPr>
          <p:sp>
            <p:nvSpPr>
              <p:cNvPr id="1215" name=""/>
              <p:cNvSpPr/>
              <p:nvPr/>
            </p:nvSpPr>
            <p:spPr>
              <a:xfrm>
                <a:off x="2285640" y="2743200"/>
                <a:ext cx="1523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;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368080" y="2971800"/>
                <a:ext cx="30492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1371600" y="2835360"/>
              <a:ext cx="1218960" cy="581400"/>
              <a:chOff x="1371600" y="2835360"/>
              <a:chExt cx="1218960" cy="581400"/>
            </a:xfrm>
          </p:grpSpPr>
          <p:sp>
            <p:nvSpPr>
              <p:cNvPr id="1218" name=""/>
              <p:cNvSpPr/>
              <p:nvPr/>
            </p:nvSpPr>
            <p:spPr>
              <a:xfrm>
                <a:off x="1371600" y="2835360"/>
                <a:ext cx="121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OA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523880" y="2911320"/>
                <a:ext cx="482040" cy="180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1008000" y="3429000"/>
            <a:ext cx="4249800" cy="1981080"/>
            <a:chOff x="1008000" y="3429000"/>
            <a:chExt cx="4249800" cy="1981080"/>
          </a:xfrm>
        </p:grpSpPr>
        <p:sp>
          <p:nvSpPr>
            <p:cNvPr id="1221" name=""/>
            <p:cNvSpPr/>
            <p:nvPr/>
          </p:nvSpPr>
          <p:spPr>
            <a:xfrm>
              <a:off x="1008000" y="3886200"/>
              <a:ext cx="2611440" cy="1523880"/>
            </a:xfrm>
            <a:custGeom>
              <a:avLst/>
              <a:gdLst/>
              <a:ahLst/>
              <a:rect l="l" t="t" r="r" b="b"/>
              <a:pathLst>
                <a:path w="1645" h="960">
                  <a:moveTo>
                    <a:pt x="1645" y="0"/>
                  </a:moveTo>
                  <a:lnTo>
                    <a:pt x="0" y="9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lg" type="stealth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3581280" y="3429000"/>
              <a:ext cx="1676520" cy="581400"/>
              <a:chOff x="3581280" y="3429000"/>
              <a:chExt cx="1676520" cy="581400"/>
            </a:xfrm>
          </p:grpSpPr>
          <p:sp>
            <p:nvSpPr>
              <p:cNvPr id="1223" name=""/>
              <p:cNvSpPr/>
              <p:nvPr/>
            </p:nvSpPr>
            <p:spPr>
              <a:xfrm>
                <a:off x="3657600" y="3429000"/>
                <a:ext cx="160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A </a:t>
                </a:r>
                <a:r>
                  <a:rPr b="1" lang="ru-RU" sz="3200" spc="-1" strike="noStrike">
                    <a:solidFill>
                      <a:srgbClr val="e60000"/>
                    </a:solidFill>
                    <a:latin typeface="Times New Roman"/>
                  </a:rPr>
                  <a:t>(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x;y</a:t>
                </a:r>
                <a:r>
                  <a:rPr b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581280" y="3863880"/>
                <a:ext cx="7488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1828800" y="4191120"/>
              <a:ext cx="457200" cy="703440"/>
              <a:chOff x="1828800" y="4191120"/>
              <a:chExt cx="457200" cy="703440"/>
            </a:xfrm>
          </p:grpSpPr>
          <p:sp>
            <p:nvSpPr>
              <p:cNvPr id="1226" name=""/>
              <p:cNvSpPr/>
              <p:nvPr/>
            </p:nvSpPr>
            <p:spPr>
              <a:xfrm>
                <a:off x="1828800" y="419112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911600" y="4419720"/>
                <a:ext cx="30456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8" name=""/>
          <p:cNvSpPr/>
          <p:nvPr/>
        </p:nvSpPr>
        <p:spPr>
          <a:xfrm>
            <a:off x="4724280" y="9144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60000"/>
                </a:solidFill>
                <a:latin typeface="Times New Roman"/>
              </a:rPr>
              <a:t>O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e60000"/>
                </a:solidFill>
                <a:latin typeface="Times New Roman"/>
              </a:rPr>
              <a:t>=OA</a:t>
            </a:r>
            <a:r>
              <a:rPr b="1" i="1" lang="en-US" sz="3200" spc="-1" strike="noStrike" baseline="-25000">
                <a:solidFill>
                  <a:srgbClr val="e60000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e6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60000"/>
                </a:solidFill>
                <a:latin typeface="Times New Roman"/>
              </a:rPr>
              <a:t>+ AA</a:t>
            </a:r>
            <a:r>
              <a:rPr b="1" i="1" lang="en-US" sz="3200" spc="-1" strike="noStrike" baseline="-25000">
                <a:solidFill>
                  <a:srgbClr val="e60000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2133720" y="5288040"/>
            <a:ext cx="381960" cy="581400"/>
            <a:chOff x="2133720" y="5288040"/>
            <a:chExt cx="381960" cy="581400"/>
          </a:xfrm>
        </p:grpSpPr>
        <p:sp>
          <p:nvSpPr>
            <p:cNvPr id="1230" name=""/>
            <p:cNvSpPr/>
            <p:nvPr/>
          </p:nvSpPr>
          <p:spPr>
            <a:xfrm>
              <a:off x="2133720" y="528804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133720" y="5440320"/>
              <a:ext cx="108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514240" y="5440320"/>
              <a:ext cx="144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533520" y="4343400"/>
            <a:ext cx="381960" cy="581400"/>
            <a:chOff x="533520" y="4343400"/>
            <a:chExt cx="381960" cy="581400"/>
          </a:xfrm>
        </p:grpSpPr>
        <p:sp>
          <p:nvSpPr>
            <p:cNvPr id="1234" name=""/>
            <p:cNvSpPr/>
            <p:nvPr/>
          </p:nvSpPr>
          <p:spPr>
            <a:xfrm>
              <a:off x="533520" y="4343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33520" y="4495680"/>
              <a:ext cx="14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914400" y="4495680"/>
              <a:ext cx="10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533520" y="4343400"/>
            <a:ext cx="381960" cy="581400"/>
            <a:chOff x="533520" y="4343400"/>
            <a:chExt cx="381960" cy="581400"/>
          </a:xfrm>
        </p:grpSpPr>
        <p:sp>
          <p:nvSpPr>
            <p:cNvPr id="1238" name=""/>
            <p:cNvSpPr/>
            <p:nvPr/>
          </p:nvSpPr>
          <p:spPr>
            <a:xfrm>
              <a:off x="533520" y="4343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33520" y="4495680"/>
              <a:ext cx="14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14400" y="4495680"/>
              <a:ext cx="10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5715000" y="1981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60000"/>
                </a:solidFill>
                <a:latin typeface="Times New Roman"/>
              </a:rPr>
              <a:t>O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e60000"/>
                </a:solidFill>
                <a:latin typeface="Times New Roman"/>
              </a:rPr>
              <a:t>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e6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60000"/>
                </a:solidFill>
                <a:latin typeface="Times New Roman"/>
              </a:rPr>
              <a:t>+ y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5791320" y="3124080"/>
            <a:ext cx="2361960" cy="581400"/>
            <a:chOff x="5791320" y="3124080"/>
            <a:chExt cx="2361960" cy="581400"/>
          </a:xfrm>
        </p:grpSpPr>
        <p:sp>
          <p:nvSpPr>
            <p:cNvPr id="1243" name=""/>
            <p:cNvSpPr/>
            <p:nvPr/>
          </p:nvSpPr>
          <p:spPr>
            <a:xfrm>
              <a:off x="5791320" y="312408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OA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=  x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200" spc="-1" strike="noStrike" baseline="30000">
                  <a:solidFill>
                    <a:srgbClr val="e6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+ y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81680" y="3200400"/>
              <a:ext cx="1219320" cy="419040"/>
            </a:xfrm>
            <a:custGeom>
              <a:avLst/>
              <a:gdLst/>
              <a:ahLst/>
              <a:rect l="l" t="t" r="r" b="b"/>
              <a:pathLst>
                <a:path w="740" h="264">
                  <a:moveTo>
                    <a:pt x="0" y="84"/>
                  </a:moveTo>
                  <a:lnTo>
                    <a:pt x="24" y="66"/>
                  </a:lnTo>
                  <a:lnTo>
                    <a:pt x="40" y="264"/>
                  </a:lnTo>
                  <a:lnTo>
                    <a:pt x="68" y="0"/>
                  </a:lnTo>
                  <a:lnTo>
                    <a:pt x="7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1828800" y="4191120"/>
            <a:ext cx="476280" cy="703440"/>
            <a:chOff x="1828800" y="4191120"/>
            <a:chExt cx="476280" cy="703440"/>
          </a:xfrm>
        </p:grpSpPr>
        <p:grpSp>
          <p:nvGrpSpPr>
            <p:cNvPr id="1246" name=""/>
            <p:cNvGrpSpPr/>
            <p:nvPr/>
          </p:nvGrpSpPr>
          <p:grpSpPr>
            <a:xfrm>
              <a:off x="1828800" y="4191120"/>
              <a:ext cx="457200" cy="703440"/>
              <a:chOff x="1828800" y="4191120"/>
              <a:chExt cx="457200" cy="703440"/>
            </a:xfrm>
          </p:grpSpPr>
          <p:sp>
            <p:nvSpPr>
              <p:cNvPr id="1247" name=""/>
              <p:cNvSpPr/>
              <p:nvPr/>
            </p:nvSpPr>
            <p:spPr>
              <a:xfrm>
                <a:off x="1828800" y="419112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911600" y="4419720"/>
                <a:ext cx="30456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1846440" y="4419720"/>
              <a:ext cx="14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303640" y="4419720"/>
              <a:ext cx="14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6280200" y="4510080"/>
            <a:ext cx="501480" cy="1440"/>
          </a:xfrm>
          <a:custGeom>
            <a:avLst/>
            <a:gdLst/>
            <a:ahLst/>
            <a:rect l="l" t="t" r="r" b="b"/>
            <a:pathLst>
              <a:path w="316" h="1">
                <a:moveTo>
                  <a:pt x="0" y="0"/>
                </a:moveTo>
                <a:lnTo>
                  <a:pt x="316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371600" y="2819520"/>
            <a:ext cx="838080" cy="1068840"/>
            <a:chOff x="1371600" y="2819520"/>
            <a:chExt cx="838080" cy="1068840"/>
          </a:xfrm>
        </p:grpSpPr>
        <p:sp>
          <p:nvSpPr>
            <p:cNvPr id="1253" name=""/>
            <p:cNvSpPr/>
            <p:nvPr/>
          </p:nvSpPr>
          <p:spPr>
            <a:xfrm>
              <a:off x="1371600" y="2819520"/>
              <a:ext cx="838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</a:rPr>
                <a:t>OA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389240" y="2895480"/>
              <a:ext cx="144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133720" y="2895480"/>
              <a:ext cx="144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6777000" y="3124080"/>
            <a:ext cx="2443320" cy="581400"/>
            <a:chOff x="6777000" y="3124080"/>
            <a:chExt cx="2443320" cy="581400"/>
          </a:xfrm>
        </p:grpSpPr>
        <p:sp>
          <p:nvSpPr>
            <p:cNvPr id="1257" name=""/>
            <p:cNvSpPr/>
            <p:nvPr/>
          </p:nvSpPr>
          <p:spPr>
            <a:xfrm>
              <a:off x="6777000" y="3200400"/>
              <a:ext cx="1219320" cy="419040"/>
            </a:xfrm>
            <a:custGeom>
              <a:avLst/>
              <a:gdLst/>
              <a:ahLst/>
              <a:rect l="l" t="t" r="r" b="b"/>
              <a:pathLst>
                <a:path w="740" h="264">
                  <a:moveTo>
                    <a:pt x="0" y="84"/>
                  </a:moveTo>
                  <a:lnTo>
                    <a:pt x="24" y="66"/>
                  </a:lnTo>
                  <a:lnTo>
                    <a:pt x="40" y="264"/>
                  </a:lnTo>
                  <a:lnTo>
                    <a:pt x="68" y="0"/>
                  </a:lnTo>
                  <a:lnTo>
                    <a:pt x="7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58000" y="312408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200" spc="-1" strike="noStrike" baseline="30000">
                  <a:solidFill>
                    <a:srgbClr val="e6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+ y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0.28611 0.00787 L 0.35 0.01111 E">
                                      <p:cBhvr>
                                        <p:cTn id="1055" dur="1000" fill="hold"/>
                                        <p:tgtEl>
                                          <p:spTgt spid="1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6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3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8148E-006 L 0.30868 0.01921 L 0.375 0.02222 E">
                                      <p:cBhvr>
                                        <p:cTn id="1100" dur="1000" fill="hold"/>
                                        <p:tgtEl>
                                          <p:spTgt spid="1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47639 0.20602 L 0.52223 0.2375 E">
                                      <p:cBhvr>
                                        <p:cTn id="1123" dur="2000" fill="hold"/>
                                        <p:tgtEl>
                                          <p:spTgt spid="1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2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1481E-006 L 0.04341 0.1375 L 0.06563 0.1912 E">
                                      <p:cBhvr>
                                        <p:cTn id="1148" dur="1000" fill="hold"/>
                                        <p:tgtEl>
                                          <p:spTgt spid="1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28800" y="2971800"/>
            <a:ext cx="2438280" cy="1828800"/>
          </a:xfrm>
          <a:custGeom>
            <a:avLst/>
            <a:gdLst/>
            <a:ahLst/>
            <a:rect l="l" t="t" r="r" b="b"/>
            <a:pathLst>
              <a:path w="1536" h="1152">
                <a:moveTo>
                  <a:pt x="0" y="1152"/>
                </a:moveTo>
                <a:lnTo>
                  <a:pt x="1536" y="1152"/>
                </a:lnTo>
                <a:lnTo>
                  <a:pt x="0" y="0"/>
                </a:lnTo>
                <a:lnTo>
                  <a:pt x="0" y="115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808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29</a:t>
            </a:r>
            <a:r>
              <a:rPr b="1" lang="en-US" sz="2400" spc="-1" strike="noStrike">
                <a:solidFill>
                  <a:srgbClr val="e6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чка А лежит на положительной полуоси Ох, а точка В – на положительной полуоси ОУ. Найдите координаты вершин треугольника АВО,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5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295280" y="4800600"/>
            <a:ext cx="3721320" cy="22320"/>
          </a:xfrm>
          <a:custGeom>
            <a:avLst/>
            <a:gdLst/>
            <a:ahLst/>
            <a:rect l="l" t="t" r="r" b="b"/>
            <a:pathLst>
              <a:path w="2344" h="14">
                <a:moveTo>
                  <a:pt x="0" y="0"/>
                </a:moveTo>
                <a:lnTo>
                  <a:pt x="2344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5320" y="1830240"/>
            <a:ext cx="20880" cy="3780000"/>
          </a:xfrm>
          <a:custGeom>
            <a:avLst/>
            <a:gdLst/>
            <a:ahLst/>
            <a:rect l="l" t="t" r="r" b="b"/>
            <a:pathLst>
              <a:path w="13" h="2381">
                <a:moveTo>
                  <a:pt x="13" y="238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1680" y="4114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6720" y="1371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3040" y="4772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019400" y="4738680"/>
            <a:ext cx="474840" cy="643320"/>
            <a:chOff x="4019400" y="4738680"/>
            <a:chExt cx="474840" cy="643320"/>
          </a:xfrm>
        </p:grpSpPr>
        <p:sp>
          <p:nvSpPr>
            <p:cNvPr id="79" name=""/>
            <p:cNvSpPr/>
            <p:nvPr/>
          </p:nvSpPr>
          <p:spPr>
            <a:xfrm>
              <a:off x="401940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3834000">
              <a:off x="4190040" y="4755240"/>
              <a:ext cx="96840" cy="95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374840" y="2514600"/>
            <a:ext cx="489240" cy="581400"/>
            <a:chOff x="1374840" y="2514600"/>
            <a:chExt cx="489240" cy="581400"/>
          </a:xfrm>
        </p:grpSpPr>
        <p:sp>
          <p:nvSpPr>
            <p:cNvPr id="82" name=""/>
            <p:cNvSpPr/>
            <p:nvPr/>
          </p:nvSpPr>
          <p:spPr>
            <a:xfrm>
              <a:off x="1374840" y="25146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3834000">
              <a:off x="1751400" y="2926440"/>
              <a:ext cx="96840" cy="95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342680" y="480060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449720" y="3606840"/>
            <a:ext cx="1750320" cy="1663560"/>
            <a:chOff x="1449720" y="3606840"/>
            <a:chExt cx="1750320" cy="1663560"/>
          </a:xfrm>
        </p:grpSpPr>
        <p:sp>
          <p:nvSpPr>
            <p:cNvPr id="86" name=""/>
            <p:cNvSpPr/>
            <p:nvPr/>
          </p:nvSpPr>
          <p:spPr>
            <a:xfrm>
              <a:off x="2821320" y="4749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49720" y="3606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751760" y="251460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21880" y="475452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1905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ОА = 5,  ОВ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2438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А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ОВ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372680" y="3429000"/>
            <a:ext cx="1985040" cy="1983600"/>
            <a:chOff x="1372680" y="3429000"/>
            <a:chExt cx="1985040" cy="1983600"/>
          </a:xfrm>
        </p:grpSpPr>
        <p:sp>
          <p:nvSpPr>
            <p:cNvPr id="93" name=""/>
            <p:cNvSpPr/>
            <p:nvPr/>
          </p:nvSpPr>
          <p:spPr>
            <a:xfrm>
              <a:off x="2896560" y="46483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2680" y="34290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343040" y="4708440"/>
            <a:ext cx="11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73360" y="2422440"/>
            <a:ext cx="10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21880" y="472428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9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260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380880" y="838080"/>
            <a:ext cx="3815280" cy="3962160"/>
            <a:chOff x="380880" y="838080"/>
            <a:chExt cx="3815280" cy="3962160"/>
          </a:xfrm>
        </p:grpSpPr>
        <p:sp>
          <p:nvSpPr>
            <p:cNvPr id="1269" name=""/>
            <p:cNvSpPr/>
            <p:nvPr/>
          </p:nvSpPr>
          <p:spPr>
            <a:xfrm>
              <a:off x="380880" y="3990600"/>
              <a:ext cx="3721320" cy="22320"/>
            </a:xfrm>
            <a:custGeom>
              <a:avLst/>
              <a:gdLst/>
              <a:ahLst/>
              <a:rect l="l" t="t" r="r" b="b"/>
              <a:pathLst>
                <a:path w="2344" h="14">
                  <a:moveTo>
                    <a:pt x="0" y="0"/>
                  </a:moveTo>
                  <a:lnTo>
                    <a:pt x="2344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80920" y="1020600"/>
              <a:ext cx="20880" cy="3779640"/>
            </a:xfrm>
            <a:custGeom>
              <a:avLst/>
              <a:gdLst/>
              <a:ahLst/>
              <a:rect l="l" t="t" r="r" b="b"/>
              <a:pathLst>
                <a:path w="13" h="2381">
                  <a:moveTo>
                    <a:pt x="13" y="2381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735000" y="38098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2320" y="838080"/>
              <a:ext cx="42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8640" y="39621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1523880" y="1803240"/>
            <a:ext cx="1638360" cy="1308240"/>
          </a:xfrm>
          <a:custGeom>
            <a:avLst/>
            <a:gdLst/>
            <a:ahLst/>
            <a:rect l="l" t="t" r="r" b="b"/>
            <a:pathLst>
              <a:path w="1032" h="824">
                <a:moveTo>
                  <a:pt x="1032" y="8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62120" y="380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сстояние между двумя точ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2614680" y="3032280"/>
            <a:ext cx="1709640" cy="740520"/>
            <a:chOff x="2614680" y="3032280"/>
            <a:chExt cx="1709640" cy="740520"/>
          </a:xfrm>
        </p:grpSpPr>
        <p:sp>
          <p:nvSpPr>
            <p:cNvPr id="1277" name=""/>
            <p:cNvSpPr/>
            <p:nvPr/>
          </p:nvSpPr>
          <p:spPr>
            <a:xfrm>
              <a:off x="2614680" y="3124080"/>
              <a:ext cx="170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;y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3834000">
              <a:off x="3123000" y="3048840"/>
              <a:ext cx="96840" cy="95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1090440" y="1219320"/>
            <a:ext cx="1709640" cy="648720"/>
            <a:chOff x="1090440" y="1219320"/>
            <a:chExt cx="1709640" cy="648720"/>
          </a:xfrm>
        </p:grpSpPr>
        <p:sp>
          <p:nvSpPr>
            <p:cNvPr id="1280" name=""/>
            <p:cNvSpPr/>
            <p:nvPr/>
          </p:nvSpPr>
          <p:spPr>
            <a:xfrm>
              <a:off x="1090440" y="1219320"/>
              <a:ext cx="170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;y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rot="3834000">
              <a:off x="1447200" y="1753200"/>
              <a:ext cx="96840" cy="95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5734080" y="1066680"/>
            <a:ext cx="170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y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34080" y="1706400"/>
            <a:ext cx="170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y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4918320" y="2590920"/>
            <a:ext cx="3492720" cy="648720"/>
            <a:chOff x="4918320" y="2590920"/>
            <a:chExt cx="3492720" cy="648720"/>
          </a:xfrm>
        </p:grpSpPr>
        <p:sp>
          <p:nvSpPr>
            <p:cNvPr id="1285" name=""/>
            <p:cNvSpPr/>
            <p:nvPr/>
          </p:nvSpPr>
          <p:spPr>
            <a:xfrm>
              <a:off x="4918320" y="2590920"/>
              <a:ext cx="349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–x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–y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024160" y="2590920"/>
              <a:ext cx="685800" cy="1440"/>
            </a:xfrm>
            <a:custGeom>
              <a:avLst/>
              <a:gdLst/>
              <a:ahLst/>
              <a:rect l="l" t="t" r="r" b="b"/>
              <a:pathLst>
                <a:path w="432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5413680" y="1325520"/>
            <a:ext cx="1699920" cy="1066680"/>
            <a:chOff x="5413680" y="1325520"/>
            <a:chExt cx="1699920" cy="1066680"/>
          </a:xfrm>
        </p:grpSpPr>
        <p:sp>
          <p:nvSpPr>
            <p:cNvPr id="1288" name=""/>
            <p:cNvSpPr/>
            <p:nvPr/>
          </p:nvSpPr>
          <p:spPr>
            <a:xfrm>
              <a:off x="5413680" y="13255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2760" y="2390760"/>
              <a:ext cx="1320840" cy="1440"/>
            </a:xfrm>
            <a:custGeom>
              <a:avLst/>
              <a:gdLst/>
              <a:ahLst/>
              <a:rect l="l" t="t" r="r" b="b"/>
              <a:pathLst>
                <a:path w="832" h="1">
                  <a:moveTo>
                    <a:pt x="0" y="0"/>
                  </a:moveTo>
                  <a:lnTo>
                    <a:pt x="8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5486400" y="3733920"/>
            <a:ext cx="3276720" cy="733680"/>
            <a:chOff x="5486400" y="3733920"/>
            <a:chExt cx="3276720" cy="733680"/>
          </a:xfrm>
        </p:grpSpPr>
        <p:sp>
          <p:nvSpPr>
            <p:cNvPr id="1291" name=""/>
            <p:cNvSpPr/>
            <p:nvPr/>
          </p:nvSpPr>
          <p:spPr>
            <a:xfrm>
              <a:off x="6319800" y="3886560"/>
              <a:ext cx="1219320" cy="419040"/>
            </a:xfrm>
            <a:custGeom>
              <a:avLst/>
              <a:gdLst/>
              <a:ahLst/>
              <a:rect l="l" t="t" r="r" b="b"/>
              <a:pathLst>
                <a:path w="740" h="264">
                  <a:moveTo>
                    <a:pt x="0" y="84"/>
                  </a:moveTo>
                  <a:lnTo>
                    <a:pt x="24" y="66"/>
                  </a:lnTo>
                  <a:lnTo>
                    <a:pt x="40" y="264"/>
                  </a:lnTo>
                  <a:lnTo>
                    <a:pt x="68" y="0"/>
                  </a:lnTo>
                  <a:lnTo>
                    <a:pt x="7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2" name=""/>
            <p:cNvGrpSpPr/>
            <p:nvPr/>
          </p:nvGrpSpPr>
          <p:grpSpPr>
            <a:xfrm>
              <a:off x="5486400" y="3733920"/>
              <a:ext cx="3276720" cy="733680"/>
              <a:chOff x="5486400" y="3733920"/>
              <a:chExt cx="3276720" cy="733680"/>
            </a:xfrm>
          </p:grpSpPr>
          <p:sp>
            <p:nvSpPr>
              <p:cNvPr id="1293" name=""/>
              <p:cNvSpPr/>
              <p:nvPr/>
            </p:nvSpPr>
            <p:spPr>
              <a:xfrm>
                <a:off x="6400800" y="3810240"/>
                <a:ext cx="2362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3200" spc="-1" strike="noStrike" baseline="30000">
                    <a:solidFill>
                      <a:srgbClr val="e6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+ y</a:t>
                </a:r>
                <a:r>
                  <a:rPr b="1" i="1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4" name=""/>
              <p:cNvGrpSpPr/>
              <p:nvPr/>
            </p:nvGrpSpPr>
            <p:grpSpPr>
              <a:xfrm>
                <a:off x="5486400" y="3733920"/>
                <a:ext cx="838080" cy="733680"/>
                <a:chOff x="5486400" y="3733920"/>
                <a:chExt cx="838080" cy="73368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5943600" y="3886200"/>
                  <a:ext cx="380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33ff"/>
                      </a:solidFill>
                      <a:latin typeface="Times New Roman"/>
                    </a:rPr>
                    <a:t>=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486400" y="3733920"/>
                  <a:ext cx="4572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568840" y="3962520"/>
                  <a:ext cx="30492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503680" y="3962520"/>
                  <a:ext cx="180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960880" y="3962520"/>
                  <a:ext cx="180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00" name=""/>
          <p:cNvGrpSpPr/>
          <p:nvPr/>
        </p:nvGrpSpPr>
        <p:grpSpPr>
          <a:xfrm>
            <a:off x="4267080" y="4861080"/>
            <a:ext cx="4526280" cy="648720"/>
            <a:chOff x="4267080" y="4861080"/>
            <a:chExt cx="4526280" cy="648720"/>
          </a:xfrm>
        </p:grpSpPr>
        <p:sp>
          <p:nvSpPr>
            <p:cNvPr id="1301" name=""/>
            <p:cNvSpPr/>
            <p:nvPr/>
          </p:nvSpPr>
          <p:spPr>
            <a:xfrm>
              <a:off x="4419720" y="4861080"/>
              <a:ext cx="723960" cy="12600"/>
            </a:xfrm>
            <a:custGeom>
              <a:avLst/>
              <a:gdLst/>
              <a:ahLst/>
              <a:rect l="l" t="t" r="r" b="b"/>
              <a:pathLst>
                <a:path w="456" h="8">
                  <a:moveTo>
                    <a:pt x="0" y="0"/>
                  </a:moveTo>
                  <a:lnTo>
                    <a:pt x="456" y="8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67080" y="4861080"/>
              <a:ext cx="1752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</a:rPr>
                <a:t>M</a:t>
              </a:r>
              <a:r>
                <a:rPr b="1" lang="en-US" sz="3200" spc="-1" strike="noStrike" baseline="-25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</a:rPr>
                <a:t>M</a:t>
              </a:r>
              <a:r>
                <a:rPr b="1" lang="en-US" sz="3200" spc="-1" strike="noStrike" baseline="-25000">
                  <a:solidFill>
                    <a:srgbClr val="3333ff"/>
                  </a:solidFill>
                  <a:latin typeface="Times New Roman"/>
                </a:rPr>
                <a:t>2 </a:t>
              </a: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</a:rPr>
                <a:t> 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321080" y="4940280"/>
              <a:ext cx="3240" cy="416160"/>
            </a:xfrm>
            <a:custGeom>
              <a:avLst/>
              <a:gdLst/>
              <a:ahLst/>
              <a:rect l="l" t="t" r="r" b="b"/>
              <a:pathLst>
                <a:path w="2" h="262">
                  <a:moveTo>
                    <a:pt x="0" y="0"/>
                  </a:moveTo>
                  <a:lnTo>
                    <a:pt x="2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419800" y="4950000"/>
              <a:ext cx="3240" cy="396720"/>
            </a:xfrm>
            <a:custGeom>
              <a:avLst/>
              <a:gdLst/>
              <a:ahLst/>
              <a:rect l="l" t="t" r="r" b="b"/>
              <a:pathLst>
                <a:path w="2" h="250">
                  <a:moveTo>
                    <a:pt x="0" y="0"/>
                  </a:moveTo>
                  <a:lnTo>
                    <a:pt x="2" y="25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5791320" y="4861080"/>
              <a:ext cx="3002040" cy="648720"/>
              <a:chOff x="5791320" y="4861080"/>
              <a:chExt cx="3002040" cy="648720"/>
            </a:xfrm>
          </p:grpSpPr>
          <p:sp>
            <p:nvSpPr>
              <p:cNvPr id="1306" name=""/>
              <p:cNvSpPr/>
              <p:nvPr/>
            </p:nvSpPr>
            <p:spPr>
              <a:xfrm>
                <a:off x="5954400" y="4861080"/>
                <a:ext cx="2838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–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(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–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i="1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791320" y="4924440"/>
                <a:ext cx="2984400" cy="432000"/>
              </a:xfrm>
              <a:custGeom>
                <a:avLst/>
                <a:gdLst/>
                <a:ahLst/>
                <a:rect l="l" t="t" r="r" b="b"/>
                <a:pathLst>
                  <a:path w="1880" h="272">
                    <a:moveTo>
                      <a:pt x="0" y="92"/>
                    </a:moveTo>
                    <a:lnTo>
                      <a:pt x="36" y="74"/>
                    </a:lnTo>
                    <a:lnTo>
                      <a:pt x="60" y="272"/>
                    </a:lnTo>
                    <a:lnTo>
                      <a:pt x="101" y="8"/>
                    </a:lnTo>
                    <a:lnTo>
                      <a:pt x="18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"/>
          <p:cNvGrpSpPr/>
          <p:nvPr/>
        </p:nvGrpSpPr>
        <p:grpSpPr>
          <a:xfrm>
            <a:off x="4572000" y="5851440"/>
            <a:ext cx="3840120" cy="703440"/>
            <a:chOff x="4572000" y="5851440"/>
            <a:chExt cx="3840120" cy="703440"/>
          </a:xfrm>
        </p:grpSpPr>
        <p:sp>
          <p:nvSpPr>
            <p:cNvPr id="1309" name=""/>
            <p:cNvSpPr/>
            <p:nvPr/>
          </p:nvSpPr>
          <p:spPr>
            <a:xfrm>
              <a:off x="4572000" y="58514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e60000"/>
                  </a:solidFill>
                  <a:latin typeface="Times New Roman"/>
                </a:rPr>
                <a:t>d</a:t>
              </a:r>
              <a:r>
                <a:rPr b="1" lang="en-US" sz="4000" spc="-1" strike="noStrike">
                  <a:solidFill>
                    <a:srgbClr val="e60000"/>
                  </a:solidFill>
                  <a:latin typeface="Times New Roman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5410080" y="5881680"/>
              <a:ext cx="3002040" cy="648720"/>
              <a:chOff x="5410080" y="5881680"/>
              <a:chExt cx="3002040" cy="648720"/>
            </a:xfrm>
          </p:grpSpPr>
          <p:sp>
            <p:nvSpPr>
              <p:cNvPr id="1311" name=""/>
              <p:cNvSpPr/>
              <p:nvPr/>
            </p:nvSpPr>
            <p:spPr>
              <a:xfrm>
                <a:off x="5573160" y="5881680"/>
                <a:ext cx="2838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–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(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–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i="1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410080" y="5945040"/>
                <a:ext cx="2984400" cy="432000"/>
              </a:xfrm>
              <a:custGeom>
                <a:avLst/>
                <a:gdLst/>
                <a:ahLst/>
                <a:rect l="l" t="t" r="r" b="b"/>
                <a:pathLst>
                  <a:path w="1880" h="272">
                    <a:moveTo>
                      <a:pt x="0" y="92"/>
                    </a:moveTo>
                    <a:lnTo>
                      <a:pt x="36" y="74"/>
                    </a:lnTo>
                    <a:lnTo>
                      <a:pt x="60" y="272"/>
                    </a:lnTo>
                    <a:lnTo>
                      <a:pt x="101" y="8"/>
                    </a:lnTo>
                    <a:lnTo>
                      <a:pt x="18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"/>
          <p:cNvSpPr/>
          <p:nvPr/>
        </p:nvSpPr>
        <p:spPr>
          <a:xfrm>
            <a:off x="6095880" y="2127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6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e6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8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4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315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609480" y="228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4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расстояние между точ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990720" y="1981080"/>
            <a:ext cx="3276000" cy="733680"/>
            <a:chOff x="990720" y="1981080"/>
            <a:chExt cx="3276000" cy="733680"/>
          </a:xfrm>
        </p:grpSpPr>
        <p:sp>
          <p:nvSpPr>
            <p:cNvPr id="1325" name=""/>
            <p:cNvSpPr/>
            <p:nvPr/>
          </p:nvSpPr>
          <p:spPr>
            <a:xfrm>
              <a:off x="1823760" y="2133720"/>
              <a:ext cx="1218960" cy="419040"/>
            </a:xfrm>
            <a:custGeom>
              <a:avLst/>
              <a:gdLst/>
              <a:ahLst/>
              <a:rect l="l" t="t" r="r" b="b"/>
              <a:pathLst>
                <a:path w="740" h="264">
                  <a:moveTo>
                    <a:pt x="0" y="84"/>
                  </a:moveTo>
                  <a:lnTo>
                    <a:pt x="24" y="66"/>
                  </a:lnTo>
                  <a:lnTo>
                    <a:pt x="40" y="264"/>
                  </a:lnTo>
                  <a:lnTo>
                    <a:pt x="68" y="0"/>
                  </a:lnTo>
                  <a:lnTo>
                    <a:pt x="7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6" name=""/>
            <p:cNvGrpSpPr/>
            <p:nvPr/>
          </p:nvGrpSpPr>
          <p:grpSpPr>
            <a:xfrm>
              <a:off x="990720" y="1981080"/>
              <a:ext cx="3276000" cy="733680"/>
              <a:chOff x="990720" y="1981080"/>
              <a:chExt cx="3276000" cy="733680"/>
            </a:xfrm>
          </p:grpSpPr>
          <p:sp>
            <p:nvSpPr>
              <p:cNvPr id="1327" name=""/>
              <p:cNvSpPr/>
              <p:nvPr/>
            </p:nvSpPr>
            <p:spPr>
              <a:xfrm>
                <a:off x="1904760" y="2057400"/>
                <a:ext cx="2361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3200" spc="-1" strike="noStrike" baseline="30000">
                    <a:solidFill>
                      <a:srgbClr val="e6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e60000"/>
                    </a:solidFill>
                    <a:latin typeface="Times New Roman"/>
                  </a:rPr>
                  <a:t>+ y</a:t>
                </a:r>
                <a:r>
                  <a:rPr b="1" i="1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8" name=""/>
              <p:cNvGrpSpPr/>
              <p:nvPr/>
            </p:nvGrpSpPr>
            <p:grpSpPr>
              <a:xfrm>
                <a:off x="990720" y="1981080"/>
                <a:ext cx="837360" cy="733680"/>
                <a:chOff x="990720" y="1981080"/>
                <a:chExt cx="837360" cy="73368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1447560" y="2133360"/>
                  <a:ext cx="380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33ff"/>
                      </a:solidFill>
                      <a:latin typeface="Times New Roman"/>
                    </a:rPr>
                    <a:t>=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990720" y="1981080"/>
                  <a:ext cx="456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072800" y="2209680"/>
                  <a:ext cx="3045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007640" y="2209680"/>
                  <a:ext cx="144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1464840" y="2209680"/>
                  <a:ext cx="144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4" name=""/>
          <p:cNvGrpSpPr/>
          <p:nvPr/>
        </p:nvGrpSpPr>
        <p:grpSpPr>
          <a:xfrm>
            <a:off x="4343400" y="1981080"/>
            <a:ext cx="4526280" cy="648720"/>
            <a:chOff x="4343400" y="1981080"/>
            <a:chExt cx="4526280" cy="648720"/>
          </a:xfrm>
        </p:grpSpPr>
        <p:sp>
          <p:nvSpPr>
            <p:cNvPr id="1335" name=""/>
            <p:cNvSpPr/>
            <p:nvPr/>
          </p:nvSpPr>
          <p:spPr>
            <a:xfrm>
              <a:off x="4496040" y="1981080"/>
              <a:ext cx="723960" cy="12600"/>
            </a:xfrm>
            <a:custGeom>
              <a:avLst/>
              <a:gdLst/>
              <a:ahLst/>
              <a:rect l="l" t="t" r="r" b="b"/>
              <a:pathLst>
                <a:path w="456" h="8">
                  <a:moveTo>
                    <a:pt x="0" y="0"/>
                  </a:moveTo>
                  <a:lnTo>
                    <a:pt x="456" y="8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343400" y="1981080"/>
              <a:ext cx="1752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</a:rPr>
                <a:t>M</a:t>
              </a:r>
              <a:r>
                <a:rPr b="1" lang="en-US" sz="3200" spc="-1" strike="noStrike" baseline="-25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</a:rPr>
                <a:t>M</a:t>
              </a:r>
              <a:r>
                <a:rPr b="1" lang="en-US" sz="3200" spc="-1" strike="noStrike" baseline="-25000">
                  <a:solidFill>
                    <a:srgbClr val="3333ff"/>
                  </a:solidFill>
                  <a:latin typeface="Times New Roman"/>
                </a:rPr>
                <a:t>2 </a:t>
              </a: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</a:rPr>
                <a:t> 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397400" y="2060280"/>
              <a:ext cx="3240" cy="416160"/>
            </a:xfrm>
            <a:custGeom>
              <a:avLst/>
              <a:gdLst/>
              <a:ahLst/>
              <a:rect l="l" t="t" r="r" b="b"/>
              <a:pathLst>
                <a:path w="2" h="262">
                  <a:moveTo>
                    <a:pt x="0" y="0"/>
                  </a:moveTo>
                  <a:lnTo>
                    <a:pt x="2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496120" y="2070000"/>
              <a:ext cx="3240" cy="396720"/>
            </a:xfrm>
            <a:custGeom>
              <a:avLst/>
              <a:gdLst/>
              <a:ahLst/>
              <a:rect l="l" t="t" r="r" b="b"/>
              <a:pathLst>
                <a:path w="2" h="250">
                  <a:moveTo>
                    <a:pt x="0" y="0"/>
                  </a:moveTo>
                  <a:lnTo>
                    <a:pt x="2" y="25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9" name=""/>
            <p:cNvGrpSpPr/>
            <p:nvPr/>
          </p:nvGrpSpPr>
          <p:grpSpPr>
            <a:xfrm>
              <a:off x="5867640" y="1981080"/>
              <a:ext cx="3002040" cy="648720"/>
              <a:chOff x="5867640" y="1981080"/>
              <a:chExt cx="3002040" cy="648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6030720" y="1981080"/>
                <a:ext cx="2838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–x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(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–y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i="1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867640" y="2044440"/>
                <a:ext cx="2984400" cy="432000"/>
              </a:xfrm>
              <a:custGeom>
                <a:avLst/>
                <a:gdLst/>
                <a:ahLst/>
                <a:rect l="l" t="t" r="r" b="b"/>
                <a:pathLst>
                  <a:path w="1880" h="272">
                    <a:moveTo>
                      <a:pt x="0" y="92"/>
                    </a:moveTo>
                    <a:lnTo>
                      <a:pt x="36" y="74"/>
                    </a:lnTo>
                    <a:lnTo>
                      <a:pt x="60" y="272"/>
                    </a:lnTo>
                    <a:lnTo>
                      <a:pt x="101" y="8"/>
                    </a:lnTo>
                    <a:lnTo>
                      <a:pt x="18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2" name=""/>
          <p:cNvSpPr/>
          <p:nvPr/>
        </p:nvSpPr>
        <p:spPr>
          <a:xfrm>
            <a:off x="3048120" y="6858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(-2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63200" y="14619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868360" y="14461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1087560" y="4525920"/>
            <a:ext cx="1847880" cy="581400"/>
            <a:chOff x="1087560" y="4525920"/>
            <a:chExt cx="1847880" cy="581400"/>
          </a:xfrm>
        </p:grpSpPr>
        <p:sp>
          <p:nvSpPr>
            <p:cNvPr id="1346" name=""/>
            <p:cNvSpPr/>
            <p:nvPr/>
          </p:nvSpPr>
          <p:spPr>
            <a:xfrm>
              <a:off x="1087560" y="4525920"/>
              <a:ext cx="184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B{-4; 0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240200" y="4602240"/>
              <a:ext cx="48240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8" name=""/>
          <p:cNvSpPr/>
          <p:nvPr/>
        </p:nvSpPr>
        <p:spPr>
          <a:xfrm>
            <a:off x="1467720" y="320040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;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467360" y="3763800"/>
            <a:ext cx="14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;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013040" y="3382920"/>
            <a:ext cx="1699920" cy="1066680"/>
            <a:chOff x="1013040" y="3382920"/>
            <a:chExt cx="1699920" cy="1066680"/>
          </a:xfrm>
        </p:grpSpPr>
        <p:sp>
          <p:nvSpPr>
            <p:cNvPr id="1351" name=""/>
            <p:cNvSpPr/>
            <p:nvPr/>
          </p:nvSpPr>
          <p:spPr>
            <a:xfrm>
              <a:off x="1013040" y="33829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392120" y="4448160"/>
              <a:ext cx="1320840" cy="1440"/>
            </a:xfrm>
            <a:custGeom>
              <a:avLst/>
              <a:gdLst/>
              <a:ahLst/>
              <a:rect l="l" t="t" r="r" b="b"/>
              <a:pathLst>
                <a:path w="832" h="1">
                  <a:moveTo>
                    <a:pt x="0" y="0"/>
                  </a:moveTo>
                  <a:lnTo>
                    <a:pt x="8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1066680" y="5668920"/>
            <a:ext cx="1182960" cy="581400"/>
            <a:chOff x="1066680" y="5668920"/>
            <a:chExt cx="1182960" cy="581400"/>
          </a:xfrm>
        </p:grpSpPr>
        <p:grpSp>
          <p:nvGrpSpPr>
            <p:cNvPr id="1354" name=""/>
            <p:cNvGrpSpPr/>
            <p:nvPr/>
          </p:nvGrpSpPr>
          <p:grpSpPr>
            <a:xfrm>
              <a:off x="1067760" y="5668920"/>
              <a:ext cx="1181880" cy="581400"/>
              <a:chOff x="1067760" y="5668920"/>
              <a:chExt cx="1181880" cy="581400"/>
            </a:xfrm>
          </p:grpSpPr>
          <p:sp>
            <p:nvSpPr>
              <p:cNvPr id="1355" name=""/>
              <p:cNvSpPr/>
              <p:nvPr/>
            </p:nvSpPr>
            <p:spPr>
              <a:xfrm>
                <a:off x="1067760" y="5668920"/>
                <a:ext cx="118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B 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218960" y="5745240"/>
                <a:ext cx="482040" cy="144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1066680" y="5745240"/>
              <a:ext cx="14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828440" y="5745240"/>
              <a:ext cx="1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2209680" y="5668920"/>
            <a:ext cx="1752840" cy="581400"/>
            <a:chOff x="2209680" y="5668920"/>
            <a:chExt cx="1752840" cy="581400"/>
          </a:xfrm>
        </p:grpSpPr>
        <p:sp>
          <p:nvSpPr>
            <p:cNvPr id="1360" name=""/>
            <p:cNvSpPr/>
            <p:nvPr/>
          </p:nvSpPr>
          <p:spPr>
            <a:xfrm>
              <a:off x="2286000" y="566892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</a:rPr>
                <a:t>(-4)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200" spc="-1" strike="noStrike" baseline="30000">
                  <a:solidFill>
                    <a:srgbClr val="e6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e60000"/>
                  </a:solidFill>
                  <a:latin typeface="Times New Roman"/>
                </a:rPr>
                <a:t>+ </a:t>
              </a: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</a:rPr>
                <a:t>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209680" y="5668920"/>
              <a:ext cx="1663920" cy="495360"/>
            </a:xfrm>
            <a:custGeom>
              <a:avLst/>
              <a:gdLst/>
              <a:ahLst/>
              <a:rect l="l" t="t" r="r" b="b"/>
              <a:pathLst>
                <a:path w="1048" h="312">
                  <a:moveTo>
                    <a:pt x="0" y="99"/>
                  </a:moveTo>
                  <a:lnTo>
                    <a:pt x="31" y="78"/>
                  </a:lnTo>
                  <a:lnTo>
                    <a:pt x="52" y="312"/>
                  </a:lnTo>
                  <a:lnTo>
                    <a:pt x="88" y="0"/>
                  </a:lnTo>
                  <a:lnTo>
                    <a:pt x="1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5823000" y="3002040"/>
            <a:ext cx="2851200" cy="581400"/>
            <a:chOff x="5823000" y="3002040"/>
            <a:chExt cx="2851200" cy="581400"/>
          </a:xfrm>
        </p:grpSpPr>
        <p:sp>
          <p:nvSpPr>
            <p:cNvPr id="1363" name=""/>
            <p:cNvSpPr/>
            <p:nvPr/>
          </p:nvSpPr>
          <p:spPr>
            <a:xfrm>
              <a:off x="5952960" y="3002040"/>
              <a:ext cx="272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+(7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)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823000" y="3048120"/>
              <a:ext cx="2844720" cy="449280"/>
            </a:xfrm>
            <a:custGeom>
              <a:avLst/>
              <a:gdLst/>
              <a:ahLst/>
              <a:rect l="l" t="t" r="r" b="b"/>
              <a:pathLst>
                <a:path w="1792" h="283">
                  <a:moveTo>
                    <a:pt x="0" y="103"/>
                  </a:moveTo>
                  <a:lnTo>
                    <a:pt x="36" y="85"/>
                  </a:lnTo>
                  <a:lnTo>
                    <a:pt x="60" y="283"/>
                  </a:lnTo>
                  <a:lnTo>
                    <a:pt x="101" y="19"/>
                  </a:lnTo>
                  <a:lnTo>
                    <a:pt x="179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4756320" y="3048120"/>
            <a:ext cx="1182960" cy="581400"/>
            <a:chOff x="4756320" y="3048120"/>
            <a:chExt cx="1182960" cy="581400"/>
          </a:xfrm>
        </p:grpSpPr>
        <p:grpSp>
          <p:nvGrpSpPr>
            <p:cNvPr id="1366" name=""/>
            <p:cNvGrpSpPr/>
            <p:nvPr/>
          </p:nvGrpSpPr>
          <p:grpSpPr>
            <a:xfrm>
              <a:off x="4757400" y="3048120"/>
              <a:ext cx="1181880" cy="581400"/>
              <a:chOff x="4757400" y="3048120"/>
              <a:chExt cx="1181880" cy="581400"/>
            </a:xfrm>
          </p:grpSpPr>
          <p:sp>
            <p:nvSpPr>
              <p:cNvPr id="1367" name=""/>
              <p:cNvSpPr/>
              <p:nvPr/>
            </p:nvSpPr>
            <p:spPr>
              <a:xfrm>
                <a:off x="4757400" y="3048120"/>
                <a:ext cx="118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B 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908600" y="3124080"/>
                <a:ext cx="482040" cy="108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9" name=""/>
            <p:cNvSpPr/>
            <p:nvPr/>
          </p:nvSpPr>
          <p:spPr>
            <a:xfrm>
              <a:off x="4756320" y="3124080"/>
              <a:ext cx="144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518080" y="3124080"/>
              <a:ext cx="180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3886200" y="5668920"/>
            <a:ext cx="2286000" cy="581400"/>
            <a:chOff x="3886200" y="5668920"/>
            <a:chExt cx="2286000" cy="581400"/>
          </a:xfrm>
        </p:grpSpPr>
        <p:sp>
          <p:nvSpPr>
            <p:cNvPr id="1372" name=""/>
            <p:cNvSpPr/>
            <p:nvPr/>
          </p:nvSpPr>
          <p:spPr>
            <a:xfrm>
              <a:off x="3886200" y="566892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60000"/>
                  </a:solidFill>
                  <a:latin typeface="Times New Roman"/>
                </a:rPr>
                <a:t>=  16  =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267080" y="5707080"/>
              <a:ext cx="609840" cy="495360"/>
            </a:xfrm>
            <a:custGeom>
              <a:avLst/>
              <a:gdLst/>
              <a:ahLst/>
              <a:rect l="l" t="t" r="r" b="b"/>
              <a:pathLst>
                <a:path w="384" h="312">
                  <a:moveTo>
                    <a:pt x="0" y="99"/>
                  </a:moveTo>
                  <a:lnTo>
                    <a:pt x="31" y="78"/>
                  </a:lnTo>
                  <a:lnTo>
                    <a:pt x="52" y="312"/>
                  </a:lnTo>
                  <a:lnTo>
                    <a:pt x="88" y="0"/>
                  </a:lnTo>
                  <a:lnTo>
                    <a:pt x="3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4" name=""/>
          <p:cNvSpPr/>
          <p:nvPr/>
        </p:nvSpPr>
        <p:spPr>
          <a:xfrm>
            <a:off x="306720" y="304812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0400" y="5715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3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1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3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0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7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4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7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888840" y="2768760"/>
            <a:ext cx="1892520" cy="2869920"/>
          </a:xfrm>
          <a:custGeom>
            <a:avLst/>
            <a:gdLst/>
            <a:ahLst/>
            <a:rect l="l" t="t" r="r" b="b"/>
            <a:pathLst>
              <a:path w="1192" h="1808">
                <a:moveTo>
                  <a:pt x="0" y="1808"/>
                </a:moveTo>
                <a:lnTo>
                  <a:pt x="1192" y="1792"/>
                </a:lnTo>
                <a:lnTo>
                  <a:pt x="1192" y="808"/>
                </a:lnTo>
                <a:lnTo>
                  <a:pt x="16" y="0"/>
                </a:lnTo>
                <a:lnTo>
                  <a:pt x="0" y="180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378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4211280" y="5410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07520" y="1371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06440" y="5562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888840" y="1828800"/>
            <a:ext cx="12960" cy="4419720"/>
          </a:xfrm>
          <a:custGeom>
            <a:avLst/>
            <a:gdLst/>
            <a:ahLst/>
            <a:rect l="l" t="t" r="r" b="b"/>
            <a:pathLst>
              <a:path w="8" h="2784">
                <a:moveTo>
                  <a:pt x="0" y="2784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80880" y="5613480"/>
            <a:ext cx="4267440" cy="25200"/>
          </a:xfrm>
          <a:custGeom>
            <a:avLst/>
            <a:gdLst/>
            <a:ahLst/>
            <a:rect l="l" t="t" r="r" b="b"/>
            <a:pathLst>
              <a:path w="2688" h="16">
                <a:moveTo>
                  <a:pt x="0" y="16"/>
                </a:moveTo>
                <a:lnTo>
                  <a:pt x="268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541600" y="558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888840" y="4076640"/>
            <a:ext cx="1866960" cy="1549440"/>
          </a:xfrm>
          <a:custGeom>
            <a:avLst/>
            <a:gdLst/>
            <a:ahLst/>
            <a:rect l="l" t="t" r="r" b="b"/>
            <a:pathLst>
              <a:path w="1176" h="976">
                <a:moveTo>
                  <a:pt x="0" y="976"/>
                </a:moveTo>
                <a:lnTo>
                  <a:pt x="1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rot="3834000">
            <a:off x="2748960" y="5588640"/>
            <a:ext cx="9684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901800" y="2768760"/>
            <a:ext cx="1854000" cy="2819160"/>
          </a:xfrm>
          <a:custGeom>
            <a:avLst/>
            <a:gdLst/>
            <a:ahLst/>
            <a:rect l="l" t="t" r="r" b="b"/>
            <a:pathLst>
              <a:path w="1168" h="1776">
                <a:moveTo>
                  <a:pt x="1168" y="177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865080" y="2743200"/>
            <a:ext cx="748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63320" y="2316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8447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768760" y="4016520"/>
            <a:ext cx="745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8384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626840" y="5562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769840" y="457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228600" y="1522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– прямоугольная трапеция. Найдите координаты точ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еред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она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149280" y="35812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;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858600" y="231624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;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339440" y="1630440"/>
            <a:ext cx="21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(1,5; 1,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653880" y="1630440"/>
            <a:ext cx="19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(1,5; 2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844360" y="55627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258160" y="2849400"/>
            <a:ext cx="11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3; 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258160" y="3535200"/>
            <a:ext cx="11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0; 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7620480" y="2849400"/>
            <a:ext cx="11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3;-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4343400" y="2316240"/>
            <a:ext cx="4572000" cy="1800720"/>
            <a:chOff x="4343400" y="2316240"/>
            <a:chExt cx="4572000" cy="1800720"/>
          </a:xfrm>
        </p:grpSpPr>
        <p:sp>
          <p:nvSpPr>
            <p:cNvPr id="1412" name=""/>
            <p:cNvSpPr/>
            <p:nvPr/>
          </p:nvSpPr>
          <p:spPr>
            <a:xfrm>
              <a:off x="4343400" y="231624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йдите координаты вектор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3" name=""/>
            <p:cNvGrpSpPr/>
            <p:nvPr/>
          </p:nvGrpSpPr>
          <p:grpSpPr>
            <a:xfrm>
              <a:off x="4649400" y="2849760"/>
              <a:ext cx="768960" cy="581400"/>
              <a:chOff x="4649400" y="2849760"/>
              <a:chExt cx="768960" cy="581400"/>
            </a:xfrm>
          </p:grpSpPr>
          <p:sp>
            <p:nvSpPr>
              <p:cNvPr id="1414" name=""/>
              <p:cNvSpPr/>
              <p:nvPr/>
            </p:nvSpPr>
            <p:spPr>
              <a:xfrm>
                <a:off x="4649400" y="2849760"/>
                <a:ext cx="76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O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800600" y="2925720"/>
                <a:ext cx="482760" cy="180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4649760" y="3535560"/>
              <a:ext cx="746280" cy="581400"/>
              <a:chOff x="4649760" y="3535560"/>
              <a:chExt cx="746280" cy="581400"/>
            </a:xfrm>
          </p:grpSpPr>
          <p:sp>
            <p:nvSpPr>
              <p:cNvPr id="1417" name=""/>
              <p:cNvSpPr/>
              <p:nvPr/>
            </p:nvSpPr>
            <p:spPr>
              <a:xfrm>
                <a:off x="4649760" y="3535560"/>
                <a:ext cx="74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800600" y="3611520"/>
                <a:ext cx="482760" cy="180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7011360" y="2849760"/>
              <a:ext cx="768960" cy="581400"/>
              <a:chOff x="7011360" y="2849760"/>
              <a:chExt cx="768960" cy="581400"/>
            </a:xfrm>
          </p:grpSpPr>
          <p:sp>
            <p:nvSpPr>
              <p:cNvPr id="1420" name=""/>
              <p:cNvSpPr/>
              <p:nvPr/>
            </p:nvSpPr>
            <p:spPr>
              <a:xfrm>
                <a:off x="7011360" y="2849760"/>
                <a:ext cx="76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162560" y="2925720"/>
                <a:ext cx="482760" cy="180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7011360" y="3535560"/>
              <a:ext cx="723240" cy="581400"/>
              <a:chOff x="7011360" y="3535560"/>
              <a:chExt cx="723240" cy="581400"/>
            </a:xfrm>
          </p:grpSpPr>
          <p:sp>
            <p:nvSpPr>
              <p:cNvPr id="1423" name=""/>
              <p:cNvSpPr/>
              <p:nvPr/>
            </p:nvSpPr>
            <p:spPr>
              <a:xfrm>
                <a:off x="7011360" y="353556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162560" y="3611520"/>
                <a:ext cx="482760" cy="180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5" name=""/>
          <p:cNvSpPr/>
          <p:nvPr/>
        </p:nvSpPr>
        <p:spPr>
          <a:xfrm>
            <a:off x="7620480" y="3535200"/>
            <a:ext cx="11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0; 1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863640" y="4051440"/>
            <a:ext cx="1930320" cy="1587240"/>
          </a:xfrm>
          <a:custGeom>
            <a:avLst/>
            <a:gdLst/>
            <a:ahLst/>
            <a:rect l="l" t="t" r="r" b="b"/>
            <a:pathLst>
              <a:path w="1216" h="1000">
                <a:moveTo>
                  <a:pt x="0" y="1000"/>
                </a:moveTo>
                <a:lnTo>
                  <a:pt x="121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939960" y="2819520"/>
            <a:ext cx="1803240" cy="2768400"/>
          </a:xfrm>
          <a:custGeom>
            <a:avLst/>
            <a:gdLst/>
            <a:ahLst/>
            <a:rect l="l" t="t" r="r" b="b"/>
            <a:pathLst>
              <a:path w="1136" h="1744">
                <a:moveTo>
                  <a:pt x="0" y="0"/>
                </a:moveTo>
                <a:lnTo>
                  <a:pt x="1136" y="1744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816200" y="4165560"/>
            <a:ext cx="12600" cy="673200"/>
          </a:xfrm>
          <a:custGeom>
            <a:avLst/>
            <a:gdLst/>
            <a:ahLst/>
            <a:rect l="l" t="t" r="r" b="b"/>
            <a:pathLst>
              <a:path w="8" h="424">
                <a:moveTo>
                  <a:pt x="0" y="424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1703160" y="4754520"/>
            <a:ext cx="474840" cy="581400"/>
            <a:chOff x="1703160" y="4754520"/>
            <a:chExt cx="474840" cy="581400"/>
          </a:xfrm>
        </p:grpSpPr>
        <p:sp>
          <p:nvSpPr>
            <p:cNvPr id="1430" name=""/>
            <p:cNvSpPr/>
            <p:nvPr/>
          </p:nvSpPr>
          <p:spPr>
            <a:xfrm rot="3834000">
              <a:off x="1777320" y="4801320"/>
              <a:ext cx="96840" cy="95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703160" y="4754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1761840" y="3733920"/>
            <a:ext cx="471960" cy="581400"/>
            <a:chOff x="1761840" y="3733920"/>
            <a:chExt cx="471960" cy="581400"/>
          </a:xfrm>
        </p:grpSpPr>
        <p:sp>
          <p:nvSpPr>
            <p:cNvPr id="1433" name=""/>
            <p:cNvSpPr/>
            <p:nvPr/>
          </p:nvSpPr>
          <p:spPr>
            <a:xfrm rot="3834000">
              <a:off x="1777320" y="4115520"/>
              <a:ext cx="96840" cy="95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804680" y="37339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5" name=""/>
          <p:cNvSpPr/>
          <p:nvPr/>
        </p:nvSpPr>
        <p:spPr>
          <a:xfrm>
            <a:off x="2793960" y="410220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93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4572000" y="4449600"/>
            <a:ext cx="1523880" cy="2211480"/>
            <a:chOff x="4572000" y="4449600"/>
            <a:chExt cx="1523880" cy="2211480"/>
          </a:xfrm>
        </p:grpSpPr>
        <p:sp>
          <p:nvSpPr>
            <p:cNvPr id="1437" name=""/>
            <p:cNvSpPr/>
            <p:nvPr/>
          </p:nvSpPr>
          <p:spPr>
            <a:xfrm>
              <a:off x="4572000" y="44496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йдит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5105520" y="6079680"/>
              <a:ext cx="761760" cy="581400"/>
              <a:chOff x="5105520" y="6079680"/>
              <a:chExt cx="761760" cy="581400"/>
            </a:xfrm>
          </p:grpSpPr>
          <p:grpSp>
            <p:nvGrpSpPr>
              <p:cNvPr id="1439" name=""/>
              <p:cNvGrpSpPr/>
              <p:nvPr/>
            </p:nvGrpSpPr>
            <p:grpSpPr>
              <a:xfrm>
                <a:off x="5106600" y="6079680"/>
                <a:ext cx="723240" cy="581400"/>
                <a:chOff x="5106600" y="6079680"/>
                <a:chExt cx="723240" cy="58140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5106600" y="6079680"/>
                  <a:ext cx="723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P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257800" y="6155640"/>
                  <a:ext cx="482760" cy="1800"/>
                </a:xfrm>
                <a:custGeom>
                  <a:avLst/>
                  <a:gdLst/>
                  <a:ahLst/>
                  <a:rect l="l" t="t" r="r" b="b"/>
                  <a:pathLst>
                    <a:path w="304" h="1">
                      <a:moveTo>
                        <a:pt x="0" y="0"/>
                      </a:moveTo>
                      <a:lnTo>
                        <a:pt x="304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2" name=""/>
              <p:cNvGrpSpPr/>
              <p:nvPr/>
            </p:nvGrpSpPr>
            <p:grpSpPr>
              <a:xfrm>
                <a:off x="5105520" y="6156000"/>
                <a:ext cx="761760" cy="457200"/>
                <a:chOff x="5105520" y="6156000"/>
                <a:chExt cx="761760" cy="457200"/>
              </a:xfrm>
            </p:grpSpPr>
            <p:sp>
              <p:nvSpPr>
                <p:cNvPr id="1443" name=""/>
                <p:cNvSpPr/>
                <p:nvPr/>
              </p:nvSpPr>
              <p:spPr>
                <a:xfrm>
                  <a:off x="5105520" y="61560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867280" y="61560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"/>
            <p:cNvGrpSpPr/>
            <p:nvPr/>
          </p:nvGrpSpPr>
          <p:grpSpPr>
            <a:xfrm>
              <a:off x="5105520" y="5135400"/>
              <a:ext cx="770040" cy="581400"/>
              <a:chOff x="5105520" y="5135400"/>
              <a:chExt cx="770040" cy="581400"/>
            </a:xfrm>
          </p:grpSpPr>
          <p:grpSp>
            <p:nvGrpSpPr>
              <p:cNvPr id="1446" name=""/>
              <p:cNvGrpSpPr/>
              <p:nvPr/>
            </p:nvGrpSpPr>
            <p:grpSpPr>
              <a:xfrm>
                <a:off x="5106600" y="5135400"/>
                <a:ext cx="768960" cy="581400"/>
                <a:chOff x="5106600" y="5135400"/>
                <a:chExt cx="768960" cy="581400"/>
              </a:xfrm>
            </p:grpSpPr>
            <p:sp>
              <p:nvSpPr>
                <p:cNvPr id="1447" name=""/>
                <p:cNvSpPr/>
                <p:nvPr/>
              </p:nvSpPr>
              <p:spPr>
                <a:xfrm>
                  <a:off x="5106600" y="5135400"/>
                  <a:ext cx="7689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C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257800" y="5211360"/>
                  <a:ext cx="482760" cy="1800"/>
                </a:xfrm>
                <a:custGeom>
                  <a:avLst/>
                  <a:gdLst/>
                  <a:ahLst/>
                  <a:rect l="l" t="t" r="r" b="b"/>
                  <a:pathLst>
                    <a:path w="304" h="1">
                      <a:moveTo>
                        <a:pt x="0" y="0"/>
                      </a:moveTo>
                      <a:lnTo>
                        <a:pt x="304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9" name=""/>
              <p:cNvGrpSpPr/>
              <p:nvPr/>
            </p:nvGrpSpPr>
            <p:grpSpPr>
              <a:xfrm>
                <a:off x="5105520" y="5211360"/>
                <a:ext cx="761760" cy="457200"/>
                <a:chOff x="5105520" y="5211360"/>
                <a:chExt cx="761760" cy="45720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5105520" y="521136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5867280" y="521136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52" name=""/>
          <p:cNvGrpSpPr/>
          <p:nvPr/>
        </p:nvGrpSpPr>
        <p:grpSpPr>
          <a:xfrm>
            <a:off x="5867280" y="5165640"/>
            <a:ext cx="2438640" cy="581400"/>
            <a:chOff x="5867280" y="5165640"/>
            <a:chExt cx="2438640" cy="581400"/>
          </a:xfrm>
        </p:grpSpPr>
        <p:sp>
          <p:nvSpPr>
            <p:cNvPr id="1453" name=""/>
            <p:cNvSpPr/>
            <p:nvPr/>
          </p:nvSpPr>
          <p:spPr>
            <a:xfrm>
              <a:off x="5867280" y="516564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  3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-5)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48520" y="5173920"/>
              <a:ext cx="1663560" cy="495000"/>
            </a:xfrm>
            <a:custGeom>
              <a:avLst/>
              <a:gdLst/>
              <a:ahLst/>
              <a:rect l="l" t="t" r="r" b="b"/>
              <a:pathLst>
                <a:path w="1048" h="312">
                  <a:moveTo>
                    <a:pt x="0" y="99"/>
                  </a:moveTo>
                  <a:lnTo>
                    <a:pt x="31" y="78"/>
                  </a:lnTo>
                  <a:lnTo>
                    <a:pt x="52" y="312"/>
                  </a:lnTo>
                  <a:lnTo>
                    <a:pt x="88" y="0"/>
                  </a:lnTo>
                  <a:lnTo>
                    <a:pt x="1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5867280" y="6126120"/>
            <a:ext cx="2438640" cy="581400"/>
            <a:chOff x="5867280" y="6126120"/>
            <a:chExt cx="2438640" cy="581400"/>
          </a:xfrm>
        </p:grpSpPr>
        <p:sp>
          <p:nvSpPr>
            <p:cNvPr id="1456" name=""/>
            <p:cNvSpPr/>
            <p:nvPr/>
          </p:nvSpPr>
          <p:spPr>
            <a:xfrm>
              <a:off x="5867280" y="612612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  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48520" y="6126120"/>
              <a:ext cx="1371600" cy="503280"/>
            </a:xfrm>
            <a:custGeom>
              <a:avLst/>
              <a:gdLst/>
              <a:ahLst/>
              <a:rect l="l" t="t" r="r" b="b"/>
              <a:pathLst>
                <a:path w="864" h="317">
                  <a:moveTo>
                    <a:pt x="0" y="104"/>
                  </a:moveTo>
                  <a:lnTo>
                    <a:pt x="31" y="83"/>
                  </a:lnTo>
                  <a:lnTo>
                    <a:pt x="52" y="317"/>
                  </a:lnTo>
                  <a:lnTo>
                    <a:pt x="88" y="5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8" name=""/>
          <p:cNvSpPr/>
          <p:nvPr/>
        </p:nvSpPr>
        <p:spPr>
          <a:xfrm>
            <a:off x="7086600" y="3459240"/>
            <a:ext cx="16765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086600" y="4145040"/>
            <a:ext cx="16765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"/>
                            </p:stCondLst>
                            <p:childTnLst>
                              <p:par>
                                <p:cTn id="1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500"/>
                            </p:stCondLst>
                            <p:childTnLst>
                              <p:par>
                                <p:cTn id="1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431640" y="3695760"/>
            <a:ext cx="2971800" cy="1930320"/>
          </a:xfrm>
          <a:custGeom>
            <a:avLst/>
            <a:gdLst/>
            <a:ahLst/>
            <a:rect l="l" t="t" r="r" b="b"/>
            <a:pathLst>
              <a:path w="1872" h="1216">
                <a:moveTo>
                  <a:pt x="1872" y="23"/>
                </a:moveTo>
                <a:lnTo>
                  <a:pt x="1856" y="1215"/>
                </a:lnTo>
                <a:lnTo>
                  <a:pt x="872" y="1216"/>
                </a:lnTo>
                <a:lnTo>
                  <a:pt x="0" y="0"/>
                </a:lnTo>
                <a:lnTo>
                  <a:pt x="1872" y="2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462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"/>
          <p:cNvSpPr/>
          <p:nvPr/>
        </p:nvSpPr>
        <p:spPr>
          <a:xfrm>
            <a:off x="403344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2922120" y="1371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371760" y="5562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403440" y="1828800"/>
            <a:ext cx="12960" cy="4419720"/>
          </a:xfrm>
          <a:custGeom>
            <a:avLst/>
            <a:gdLst/>
            <a:ahLst/>
            <a:rect l="l" t="t" r="r" b="b"/>
            <a:pathLst>
              <a:path w="8" h="2784">
                <a:moveTo>
                  <a:pt x="0" y="2784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" y="5587920"/>
            <a:ext cx="4165560" cy="38160"/>
          </a:xfrm>
          <a:custGeom>
            <a:avLst/>
            <a:gdLst/>
            <a:ahLst/>
            <a:rect l="l" t="t" r="r" b="b"/>
            <a:pathLst>
              <a:path w="2624" h="24">
                <a:moveTo>
                  <a:pt x="0" y="0"/>
                </a:moveTo>
                <a:lnTo>
                  <a:pt x="2624" y="2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952720" y="323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828800" y="3746520"/>
            <a:ext cx="1549440" cy="1841400"/>
          </a:xfrm>
          <a:custGeom>
            <a:avLst/>
            <a:gdLst/>
            <a:ahLst/>
            <a:rect l="l" t="t" r="r" b="b"/>
            <a:pathLst>
              <a:path w="976" h="1160">
                <a:moveTo>
                  <a:pt x="0" y="1160"/>
                </a:moveTo>
                <a:lnTo>
                  <a:pt x="9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rot="3834000">
            <a:off x="3351600" y="365832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469800" y="3708360"/>
            <a:ext cx="2921040" cy="1892520"/>
          </a:xfrm>
          <a:custGeom>
            <a:avLst/>
            <a:gdLst/>
            <a:ahLst/>
            <a:rect l="l" t="t" r="r" b="b"/>
            <a:pathLst>
              <a:path w="1840" h="1192">
                <a:moveTo>
                  <a:pt x="1840" y="119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752480" y="5562720"/>
            <a:ext cx="748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220760" y="5562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52280" y="3124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80880" y="3657600"/>
            <a:ext cx="748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982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243936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353760" y="441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228600" y="1522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– прямоугольная трапеция. Найдите координаты точ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еред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она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56480" y="312408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8;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523160" y="556272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416480" y="163044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(-1; 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731280" y="163044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(-4;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352320" y="323064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;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334480" y="2849400"/>
            <a:ext cx="11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0;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5334480" y="3535200"/>
            <a:ext cx="11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-8;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696440" y="2849400"/>
            <a:ext cx="11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2;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4419720" y="2316240"/>
            <a:ext cx="4572000" cy="1800720"/>
            <a:chOff x="4419720" y="2316240"/>
            <a:chExt cx="4572000" cy="1800720"/>
          </a:xfrm>
        </p:grpSpPr>
        <p:sp>
          <p:nvSpPr>
            <p:cNvPr id="1496" name=""/>
            <p:cNvSpPr/>
            <p:nvPr/>
          </p:nvSpPr>
          <p:spPr>
            <a:xfrm>
              <a:off x="4419720" y="231624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йдите координаты вектор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4725360" y="2849760"/>
              <a:ext cx="792000" cy="581400"/>
              <a:chOff x="4725360" y="2849760"/>
              <a:chExt cx="792000" cy="581400"/>
            </a:xfrm>
          </p:grpSpPr>
          <p:sp>
            <p:nvSpPr>
              <p:cNvPr id="1498" name=""/>
              <p:cNvSpPr/>
              <p:nvPr/>
            </p:nvSpPr>
            <p:spPr>
              <a:xfrm>
                <a:off x="4725360" y="2849760"/>
                <a:ext cx="79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O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876920" y="2925720"/>
                <a:ext cx="482760" cy="180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4726080" y="3535560"/>
              <a:ext cx="746280" cy="581400"/>
              <a:chOff x="4726080" y="3535560"/>
              <a:chExt cx="746280" cy="581400"/>
            </a:xfrm>
          </p:grpSpPr>
          <p:sp>
            <p:nvSpPr>
              <p:cNvPr id="1501" name=""/>
              <p:cNvSpPr/>
              <p:nvPr/>
            </p:nvSpPr>
            <p:spPr>
              <a:xfrm>
                <a:off x="4726080" y="3535560"/>
                <a:ext cx="74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876920" y="3611520"/>
                <a:ext cx="482760" cy="180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7087680" y="2849760"/>
              <a:ext cx="768960" cy="581400"/>
              <a:chOff x="7087680" y="2849760"/>
              <a:chExt cx="768960" cy="581400"/>
            </a:xfrm>
          </p:grpSpPr>
          <p:sp>
            <p:nvSpPr>
              <p:cNvPr id="1504" name=""/>
              <p:cNvSpPr/>
              <p:nvPr/>
            </p:nvSpPr>
            <p:spPr>
              <a:xfrm>
                <a:off x="7087680" y="2849760"/>
                <a:ext cx="76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238880" y="2925720"/>
                <a:ext cx="482760" cy="180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7087680" y="3535560"/>
              <a:ext cx="723240" cy="581400"/>
              <a:chOff x="7087680" y="3535560"/>
              <a:chExt cx="723240" cy="581400"/>
            </a:xfrm>
          </p:grpSpPr>
          <p:sp>
            <p:nvSpPr>
              <p:cNvPr id="1507" name=""/>
              <p:cNvSpPr/>
              <p:nvPr/>
            </p:nvSpPr>
            <p:spPr>
              <a:xfrm>
                <a:off x="7087680" y="353556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238880" y="3611520"/>
                <a:ext cx="482760" cy="180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7696440" y="3535200"/>
            <a:ext cx="11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-3;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403440" y="3733920"/>
            <a:ext cx="12960" cy="1854000"/>
          </a:xfrm>
          <a:custGeom>
            <a:avLst/>
            <a:gdLst/>
            <a:ahLst/>
            <a:rect l="l" t="t" r="r" b="b"/>
            <a:pathLst>
              <a:path w="8" h="1168">
                <a:moveTo>
                  <a:pt x="0" y="1168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57200" y="3695760"/>
            <a:ext cx="2895480" cy="25200"/>
          </a:xfrm>
          <a:custGeom>
            <a:avLst/>
            <a:gdLst/>
            <a:ahLst/>
            <a:rect l="l" t="t" r="r" b="b"/>
            <a:pathLst>
              <a:path w="1824" h="16">
                <a:moveTo>
                  <a:pt x="1824" y="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803240" y="3740040"/>
            <a:ext cx="1568520" cy="1847880"/>
          </a:xfrm>
          <a:custGeom>
            <a:avLst/>
            <a:gdLst/>
            <a:ahLst/>
            <a:rect l="l" t="t" r="r" b="b"/>
            <a:pathLst>
              <a:path w="988" h="1164">
                <a:moveTo>
                  <a:pt x="0" y="1164"/>
                </a:moveTo>
                <a:lnTo>
                  <a:pt x="988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4648320" y="4449600"/>
            <a:ext cx="1523880" cy="2211480"/>
            <a:chOff x="4648320" y="4449600"/>
            <a:chExt cx="1523880" cy="2211480"/>
          </a:xfrm>
        </p:grpSpPr>
        <p:sp>
          <p:nvSpPr>
            <p:cNvPr id="1514" name=""/>
            <p:cNvSpPr/>
            <p:nvPr/>
          </p:nvSpPr>
          <p:spPr>
            <a:xfrm>
              <a:off x="4648320" y="44496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йдит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5" name=""/>
            <p:cNvGrpSpPr/>
            <p:nvPr/>
          </p:nvGrpSpPr>
          <p:grpSpPr>
            <a:xfrm>
              <a:off x="5181840" y="6079680"/>
              <a:ext cx="761760" cy="581400"/>
              <a:chOff x="5181840" y="6079680"/>
              <a:chExt cx="761760" cy="581400"/>
            </a:xfrm>
          </p:grpSpPr>
          <p:grpSp>
            <p:nvGrpSpPr>
              <p:cNvPr id="1516" name=""/>
              <p:cNvGrpSpPr/>
              <p:nvPr/>
            </p:nvGrpSpPr>
            <p:grpSpPr>
              <a:xfrm>
                <a:off x="5182920" y="6079680"/>
                <a:ext cx="723240" cy="581400"/>
                <a:chOff x="5182920" y="6079680"/>
                <a:chExt cx="723240" cy="581400"/>
              </a:xfrm>
            </p:grpSpPr>
            <p:sp>
              <p:nvSpPr>
                <p:cNvPr id="1517" name=""/>
                <p:cNvSpPr/>
                <p:nvPr/>
              </p:nvSpPr>
              <p:spPr>
                <a:xfrm>
                  <a:off x="5182920" y="6079680"/>
                  <a:ext cx="723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P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5334120" y="6155640"/>
                  <a:ext cx="482760" cy="1800"/>
                </a:xfrm>
                <a:custGeom>
                  <a:avLst/>
                  <a:gdLst/>
                  <a:ahLst/>
                  <a:rect l="l" t="t" r="r" b="b"/>
                  <a:pathLst>
                    <a:path w="304" h="1">
                      <a:moveTo>
                        <a:pt x="0" y="0"/>
                      </a:moveTo>
                      <a:lnTo>
                        <a:pt x="304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9" name=""/>
              <p:cNvGrpSpPr/>
              <p:nvPr/>
            </p:nvGrpSpPr>
            <p:grpSpPr>
              <a:xfrm>
                <a:off x="5181840" y="6156000"/>
                <a:ext cx="761760" cy="457200"/>
                <a:chOff x="5181840" y="6156000"/>
                <a:chExt cx="761760" cy="457200"/>
              </a:xfrm>
            </p:grpSpPr>
            <p:sp>
              <p:nvSpPr>
                <p:cNvPr id="1520" name=""/>
                <p:cNvSpPr/>
                <p:nvPr/>
              </p:nvSpPr>
              <p:spPr>
                <a:xfrm>
                  <a:off x="5181840" y="61560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5943600" y="61560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2" name=""/>
            <p:cNvGrpSpPr/>
            <p:nvPr/>
          </p:nvGrpSpPr>
          <p:grpSpPr>
            <a:xfrm>
              <a:off x="5181840" y="5135400"/>
              <a:ext cx="770040" cy="581400"/>
              <a:chOff x="5181840" y="5135400"/>
              <a:chExt cx="770040" cy="581400"/>
            </a:xfrm>
          </p:grpSpPr>
          <p:grpSp>
            <p:nvGrpSpPr>
              <p:cNvPr id="1523" name=""/>
              <p:cNvGrpSpPr/>
              <p:nvPr/>
            </p:nvGrpSpPr>
            <p:grpSpPr>
              <a:xfrm>
                <a:off x="5182920" y="5135400"/>
                <a:ext cx="768960" cy="581400"/>
                <a:chOff x="5182920" y="5135400"/>
                <a:chExt cx="768960" cy="58140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5182920" y="5135400"/>
                  <a:ext cx="7689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C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5334120" y="5211360"/>
                  <a:ext cx="482760" cy="1800"/>
                </a:xfrm>
                <a:custGeom>
                  <a:avLst/>
                  <a:gdLst/>
                  <a:ahLst/>
                  <a:rect l="l" t="t" r="r" b="b"/>
                  <a:pathLst>
                    <a:path w="304" h="1">
                      <a:moveTo>
                        <a:pt x="0" y="0"/>
                      </a:moveTo>
                      <a:lnTo>
                        <a:pt x="304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6" name=""/>
              <p:cNvGrpSpPr/>
              <p:nvPr/>
            </p:nvGrpSpPr>
            <p:grpSpPr>
              <a:xfrm>
                <a:off x="5181840" y="5211360"/>
                <a:ext cx="761760" cy="457200"/>
                <a:chOff x="5181840" y="5211360"/>
                <a:chExt cx="761760" cy="45720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5181840" y="521136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5943600" y="521136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29" name=""/>
          <p:cNvGrpSpPr/>
          <p:nvPr/>
        </p:nvGrpSpPr>
        <p:grpSpPr>
          <a:xfrm>
            <a:off x="5943600" y="5165640"/>
            <a:ext cx="2438280" cy="581400"/>
            <a:chOff x="5943600" y="5165640"/>
            <a:chExt cx="2438280" cy="581400"/>
          </a:xfrm>
        </p:grpSpPr>
        <p:sp>
          <p:nvSpPr>
            <p:cNvPr id="1530" name=""/>
            <p:cNvSpPr/>
            <p:nvPr/>
          </p:nvSpPr>
          <p:spPr>
            <a:xfrm>
              <a:off x="5943600" y="516564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  2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324480" y="5168880"/>
              <a:ext cx="1447200" cy="500040"/>
            </a:xfrm>
            <a:custGeom>
              <a:avLst/>
              <a:gdLst/>
              <a:ahLst/>
              <a:rect l="l" t="t" r="r" b="b"/>
              <a:pathLst>
                <a:path w="912" h="315">
                  <a:moveTo>
                    <a:pt x="0" y="102"/>
                  </a:moveTo>
                  <a:lnTo>
                    <a:pt x="31" y="81"/>
                  </a:lnTo>
                  <a:lnTo>
                    <a:pt x="52" y="315"/>
                  </a:lnTo>
                  <a:lnTo>
                    <a:pt x="88" y="3"/>
                  </a:lnTo>
                  <a:lnTo>
                    <a:pt x="91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5943600" y="6108840"/>
            <a:ext cx="2438280" cy="598680"/>
            <a:chOff x="5943600" y="6108840"/>
            <a:chExt cx="2438280" cy="598680"/>
          </a:xfrm>
        </p:grpSpPr>
        <p:sp>
          <p:nvSpPr>
            <p:cNvPr id="1533" name=""/>
            <p:cNvSpPr/>
            <p:nvPr/>
          </p:nvSpPr>
          <p:spPr>
            <a:xfrm>
              <a:off x="5943600" y="612612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  (-3)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24480" y="6108840"/>
              <a:ext cx="1790280" cy="520560"/>
            </a:xfrm>
            <a:custGeom>
              <a:avLst/>
              <a:gdLst/>
              <a:ahLst/>
              <a:rect l="l" t="t" r="r" b="b"/>
              <a:pathLst>
                <a:path w="1128" h="328">
                  <a:moveTo>
                    <a:pt x="0" y="115"/>
                  </a:moveTo>
                  <a:lnTo>
                    <a:pt x="31" y="94"/>
                  </a:lnTo>
                  <a:lnTo>
                    <a:pt x="52" y="328"/>
                  </a:lnTo>
                  <a:lnTo>
                    <a:pt x="88" y="16"/>
                  </a:lnTo>
                  <a:lnTo>
                    <a:pt x="11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5" name=""/>
          <p:cNvSpPr/>
          <p:nvPr/>
        </p:nvSpPr>
        <p:spPr>
          <a:xfrm>
            <a:off x="7162920" y="3459240"/>
            <a:ext cx="167616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7162920" y="4145040"/>
            <a:ext cx="167616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 flipH="1" flipV="1">
            <a:off x="2056680" y="4673520"/>
            <a:ext cx="546120" cy="12960"/>
          </a:xfrm>
          <a:custGeom>
            <a:avLst/>
            <a:gdLst/>
            <a:ahLst/>
            <a:rect l="l" t="t" r="r" b="b"/>
            <a:pathLst>
              <a:path w="344" h="8">
                <a:moveTo>
                  <a:pt x="0" y="8"/>
                </a:moveTo>
                <a:lnTo>
                  <a:pt x="3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1626840" y="4495680"/>
            <a:ext cx="465840" cy="581400"/>
            <a:chOff x="1626840" y="4495680"/>
            <a:chExt cx="465840" cy="581400"/>
          </a:xfrm>
        </p:grpSpPr>
        <p:sp>
          <p:nvSpPr>
            <p:cNvPr id="1539" name=""/>
            <p:cNvSpPr/>
            <p:nvPr/>
          </p:nvSpPr>
          <p:spPr>
            <a:xfrm rot="3834000">
              <a:off x="1980000" y="4649040"/>
              <a:ext cx="96840" cy="95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626840" y="44956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2516040" y="4572000"/>
            <a:ext cx="474840" cy="581400"/>
            <a:chOff x="2516040" y="4572000"/>
            <a:chExt cx="474840" cy="581400"/>
          </a:xfrm>
        </p:grpSpPr>
        <p:sp>
          <p:nvSpPr>
            <p:cNvPr id="1542" name=""/>
            <p:cNvSpPr/>
            <p:nvPr/>
          </p:nvSpPr>
          <p:spPr>
            <a:xfrm rot="3834000">
              <a:off x="2590200" y="4618800"/>
              <a:ext cx="96840" cy="95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516040" y="4572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8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500"/>
                            </p:stCondLst>
                            <p:childTnLst>
                              <p:par>
                                <p:cTn id="1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1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0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500"/>
                            </p:stCondLst>
                            <p:childTnLst>
                              <p:par>
                                <p:cTn id="1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8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17000" y="2590920"/>
            <a:ext cx="13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,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040" y="4708440"/>
            <a:ext cx="11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946240"/>
            <a:ext cx="2438280" cy="1854360"/>
          </a:xfrm>
          <a:custGeom>
            <a:avLst/>
            <a:gdLst/>
            <a:ahLst/>
            <a:rect l="l" t="t" r="r" b="b"/>
            <a:pathLst>
              <a:path w="1536" h="1168">
                <a:moveTo>
                  <a:pt x="0" y="1168"/>
                </a:moveTo>
                <a:lnTo>
                  <a:pt x="1536" y="1168"/>
                </a:lnTo>
                <a:lnTo>
                  <a:pt x="1528" y="0"/>
                </a:lnTo>
                <a:lnTo>
                  <a:pt x="0" y="16"/>
                </a:lnTo>
                <a:lnTo>
                  <a:pt x="0" y="116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808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ru-RU" sz="2400" spc="-1" strike="noStrike">
                <a:solidFill>
                  <a:srgbClr val="e6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А лежит на положительной полуоси Ох, а точка В – на положительной полуоси ОУ. Найдите координаты вершин прямоугольника ОАСВ,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03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95280" y="4800600"/>
            <a:ext cx="3721320" cy="22320"/>
          </a:xfrm>
          <a:custGeom>
            <a:avLst/>
            <a:gdLst/>
            <a:ahLst/>
            <a:rect l="l" t="t" r="r" b="b"/>
            <a:pathLst>
              <a:path w="2344" h="14">
                <a:moveTo>
                  <a:pt x="0" y="0"/>
                </a:moveTo>
                <a:lnTo>
                  <a:pt x="2344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5320" y="1830240"/>
            <a:ext cx="20880" cy="3780000"/>
          </a:xfrm>
          <a:custGeom>
            <a:avLst/>
            <a:gdLst/>
            <a:ahLst/>
            <a:rect l="l" t="t" r="r" b="b"/>
            <a:pathLst>
              <a:path w="13" h="2381">
                <a:moveTo>
                  <a:pt x="13" y="238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1680" y="4114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1371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3040" y="4772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019400" y="4738680"/>
            <a:ext cx="474840" cy="643320"/>
            <a:chOff x="4019400" y="4738680"/>
            <a:chExt cx="474840" cy="643320"/>
          </a:xfrm>
        </p:grpSpPr>
        <p:sp>
          <p:nvSpPr>
            <p:cNvPr id="117" name=""/>
            <p:cNvSpPr/>
            <p:nvPr/>
          </p:nvSpPr>
          <p:spPr>
            <a:xfrm>
              <a:off x="401940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3834000">
              <a:off x="4190040" y="4755240"/>
              <a:ext cx="96840" cy="95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374840" y="2514600"/>
            <a:ext cx="489240" cy="581400"/>
            <a:chOff x="1374840" y="2514600"/>
            <a:chExt cx="489240" cy="581400"/>
          </a:xfrm>
        </p:grpSpPr>
        <p:sp>
          <p:nvSpPr>
            <p:cNvPr id="120" name=""/>
            <p:cNvSpPr/>
            <p:nvPr/>
          </p:nvSpPr>
          <p:spPr>
            <a:xfrm>
              <a:off x="1374840" y="25146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3834000">
              <a:off x="1751400" y="2926440"/>
              <a:ext cx="96840" cy="95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341960" y="480060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,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449720" y="3606840"/>
            <a:ext cx="2047320" cy="1663560"/>
            <a:chOff x="1449720" y="3606840"/>
            <a:chExt cx="2047320" cy="1663560"/>
          </a:xfrm>
        </p:grpSpPr>
        <p:sp>
          <p:nvSpPr>
            <p:cNvPr id="124" name=""/>
            <p:cNvSpPr/>
            <p:nvPr/>
          </p:nvSpPr>
          <p:spPr>
            <a:xfrm>
              <a:off x="2820960" y="474984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6,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9720" y="3606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751760" y="251460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21880" y="475452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7971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ОА = 6,5,  ОВ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2330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А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ОВ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372680" y="3429000"/>
            <a:ext cx="1985040" cy="1983600"/>
            <a:chOff x="1372680" y="3429000"/>
            <a:chExt cx="1985040" cy="1983600"/>
          </a:xfrm>
        </p:grpSpPr>
        <p:sp>
          <p:nvSpPr>
            <p:cNvPr id="131" name=""/>
            <p:cNvSpPr/>
            <p:nvPr/>
          </p:nvSpPr>
          <p:spPr>
            <a:xfrm>
              <a:off x="2896560" y="46483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2680" y="34290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747440" y="2422440"/>
            <a:ext cx="11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21880" y="472428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174920" y="2590920"/>
            <a:ext cx="568440" cy="581400"/>
            <a:chOff x="4174920" y="2590920"/>
            <a:chExt cx="568440" cy="581400"/>
          </a:xfrm>
        </p:grpSpPr>
        <p:sp>
          <p:nvSpPr>
            <p:cNvPr id="136" name=""/>
            <p:cNvSpPr/>
            <p:nvPr/>
          </p:nvSpPr>
          <p:spPr>
            <a:xfrm>
              <a:off x="4268520" y="2590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3834000">
              <a:off x="4190400" y="2896200"/>
              <a:ext cx="96840" cy="95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43280" y="2438280"/>
            <a:ext cx="11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1522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1" lang="ru-RU" sz="2400" spc="-1" strike="noStrike">
                <a:solidFill>
                  <a:srgbClr val="e6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ертите квадр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P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, чтобы верш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имела координаты (-3; 3), а диагонали квадрата пересекались в начале координат. Найдите координаты точе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21040" y="3243240"/>
            <a:ext cx="2679840" cy="2692440"/>
          </a:xfrm>
          <a:custGeom>
            <a:avLst/>
            <a:gdLst/>
            <a:ahLst/>
            <a:rect l="l" t="t" r="r" b="b"/>
            <a:pathLst>
              <a:path w="1688" h="1696">
                <a:moveTo>
                  <a:pt x="0" y="1696"/>
                </a:moveTo>
                <a:lnTo>
                  <a:pt x="1680" y="1688"/>
                </a:lnTo>
                <a:lnTo>
                  <a:pt x="1688" y="8"/>
                </a:lnTo>
                <a:lnTo>
                  <a:pt x="0" y="0"/>
                </a:lnTo>
                <a:lnTo>
                  <a:pt x="0" y="16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9ffe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42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362320" y="4576680"/>
            <a:ext cx="3873240" cy="12960"/>
          </a:xfrm>
          <a:custGeom>
            <a:avLst/>
            <a:gdLst/>
            <a:ahLst/>
            <a:rect l="l" t="t" r="r" b="b"/>
            <a:pathLst>
              <a:path w="2440" h="8">
                <a:moveTo>
                  <a:pt x="0" y="0"/>
                </a:moveTo>
                <a:lnTo>
                  <a:pt x="2440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27480" y="2152800"/>
            <a:ext cx="20520" cy="4516200"/>
          </a:xfrm>
          <a:custGeom>
            <a:avLst/>
            <a:gdLst/>
            <a:ahLst/>
            <a:rect l="l" t="t" r="r" b="b"/>
            <a:pathLst>
              <a:path w="13" h="2845">
                <a:moveTo>
                  <a:pt x="13" y="284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4680" y="43610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11320" y="1770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5200" y="4560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3834000">
            <a:off x="5562000" y="3218760"/>
            <a:ext cx="9684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684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(-3;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21040" y="3255840"/>
            <a:ext cx="2654280" cy="2667240"/>
          </a:xfrm>
          <a:custGeom>
            <a:avLst/>
            <a:gdLst/>
            <a:ahLst/>
            <a:rect l="l" t="t" r="r" b="b"/>
            <a:pathLst>
              <a:path w="1672" h="1680">
                <a:moveTo>
                  <a:pt x="0" y="0"/>
                </a:moveTo>
                <a:lnTo>
                  <a:pt x="1672" y="16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21040" y="3268800"/>
            <a:ext cx="2654280" cy="2641320"/>
          </a:xfrm>
          <a:custGeom>
            <a:avLst/>
            <a:gdLst/>
            <a:ahLst/>
            <a:rect l="l" t="t" r="r" b="b"/>
            <a:pathLst>
              <a:path w="1672" h="1664">
                <a:moveTo>
                  <a:pt x="1672" y="0"/>
                </a:moveTo>
                <a:lnTo>
                  <a:pt x="0" y="16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3834000">
            <a:off x="2894400" y="588564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3834000">
            <a:off x="5562000" y="5885640"/>
            <a:ext cx="9684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3834000">
            <a:off x="2894400" y="321876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2684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;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59151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(3;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884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2684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5884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3;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4400" y="1752480"/>
            <a:ext cx="754380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00200" y="1752480"/>
            <a:ext cx="5410080" cy="4992480"/>
            <a:chOff x="1600200" y="1752480"/>
            <a:chExt cx="5410080" cy="4992480"/>
          </a:xfrm>
        </p:grpSpPr>
        <p:sp>
          <p:nvSpPr>
            <p:cNvPr id="169" name=""/>
            <p:cNvSpPr/>
            <p:nvPr/>
          </p:nvSpPr>
          <p:spPr>
            <a:xfrm>
              <a:off x="1600200" y="1965240"/>
              <a:ext cx="5410080" cy="47797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45400" y="1752480"/>
              <a:ext cx="201240" cy="473040"/>
              <a:chOff x="2345400" y="1752480"/>
              <a:chExt cx="201240" cy="473040"/>
            </a:xfrm>
          </p:grpSpPr>
          <p:sp>
            <p:nvSpPr>
              <p:cNvPr id="171" name=""/>
              <p:cNvSpPr/>
              <p:nvPr/>
            </p:nvSpPr>
            <p:spPr>
              <a:xfrm>
                <a:off x="2421360" y="2107800"/>
                <a:ext cx="59760" cy="11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45400" y="1752480"/>
                <a:ext cx="201240" cy="4514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023640" y="1753560"/>
              <a:ext cx="202680" cy="473400"/>
              <a:chOff x="3023640" y="1753560"/>
              <a:chExt cx="202680" cy="473400"/>
            </a:xfrm>
          </p:grpSpPr>
          <p:sp>
            <p:nvSpPr>
              <p:cNvPr id="174" name=""/>
              <p:cNvSpPr/>
              <p:nvPr/>
            </p:nvSpPr>
            <p:spPr>
              <a:xfrm>
                <a:off x="3100320" y="2109240"/>
                <a:ext cx="60120" cy="11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023640" y="1753560"/>
                <a:ext cx="202680" cy="4514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746520" y="1753560"/>
              <a:ext cx="201240" cy="473400"/>
              <a:chOff x="3746520" y="1753560"/>
              <a:chExt cx="201240" cy="473400"/>
            </a:xfrm>
          </p:grpSpPr>
          <p:sp>
            <p:nvSpPr>
              <p:cNvPr id="177" name=""/>
              <p:cNvSpPr/>
              <p:nvPr/>
            </p:nvSpPr>
            <p:spPr>
              <a:xfrm>
                <a:off x="3822480" y="2109240"/>
                <a:ext cx="59760" cy="11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46520" y="1753560"/>
                <a:ext cx="201240" cy="4514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467960" y="1753560"/>
              <a:ext cx="201240" cy="473400"/>
              <a:chOff x="4467960" y="1753560"/>
              <a:chExt cx="201240" cy="473400"/>
            </a:xfrm>
          </p:grpSpPr>
          <p:sp>
            <p:nvSpPr>
              <p:cNvPr id="180" name=""/>
              <p:cNvSpPr/>
              <p:nvPr/>
            </p:nvSpPr>
            <p:spPr>
              <a:xfrm>
                <a:off x="4543920" y="2109240"/>
                <a:ext cx="59760" cy="11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67960" y="1753560"/>
                <a:ext cx="201240" cy="4514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108400" y="1753560"/>
              <a:ext cx="201240" cy="473400"/>
              <a:chOff x="5108400" y="1753560"/>
              <a:chExt cx="201240" cy="473400"/>
            </a:xfrm>
          </p:grpSpPr>
          <p:sp>
            <p:nvSpPr>
              <p:cNvPr id="183" name=""/>
              <p:cNvSpPr/>
              <p:nvPr/>
            </p:nvSpPr>
            <p:spPr>
              <a:xfrm>
                <a:off x="5184360" y="2109240"/>
                <a:ext cx="59760" cy="11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08400" y="1753560"/>
                <a:ext cx="201240" cy="4514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1640" y="1753560"/>
              <a:ext cx="201240" cy="473400"/>
              <a:chOff x="5831640" y="1753560"/>
              <a:chExt cx="201240" cy="473400"/>
            </a:xfrm>
          </p:grpSpPr>
          <p:sp>
            <p:nvSpPr>
              <p:cNvPr id="186" name=""/>
              <p:cNvSpPr/>
              <p:nvPr/>
            </p:nvSpPr>
            <p:spPr>
              <a:xfrm>
                <a:off x="5907600" y="2109240"/>
                <a:ext cx="59760" cy="11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31640" y="1753560"/>
                <a:ext cx="201240" cy="4514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603400" y="3435840"/>
              <a:ext cx="309240" cy="292536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8080" y="4175280"/>
              <a:ext cx="480960" cy="230364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3640" y="4943520"/>
              <a:ext cx="482040" cy="15948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506640" y="1752480"/>
              <a:ext cx="201240" cy="473040"/>
              <a:chOff x="6506640" y="1752480"/>
              <a:chExt cx="201240" cy="473040"/>
            </a:xfrm>
          </p:grpSpPr>
          <p:sp>
            <p:nvSpPr>
              <p:cNvPr id="192" name=""/>
              <p:cNvSpPr/>
              <p:nvPr/>
            </p:nvSpPr>
            <p:spPr>
              <a:xfrm>
                <a:off x="6582600" y="2107800"/>
                <a:ext cx="59760" cy="11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06640" y="1752480"/>
                <a:ext cx="201240" cy="4514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49584 0.00278 E">
                                      <p:cBhvr>
                                        <p:cTn id="20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-5.55556E-006 L -0.33333 0.14444 L -0.29166 0.46666 E">
                                      <p:cBhvr>
                                        <p:cTn id="21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29167 -0.11111 L 0.29167 -0.46667 E">
                                      <p:cBhvr>
                                        <p:cTn id="21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33520" y="152280"/>
            <a:ext cx="8381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ru-RU" sz="2400" spc="-1" strike="noStrike">
                <a:solidFill>
                  <a:srgbClr val="e6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координаты вершин 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а АВС, изображенного на рисунке,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=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высота СО равна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44520" y="2971800"/>
            <a:ext cx="2667240" cy="2811600"/>
          </a:xfrm>
          <a:custGeom>
            <a:avLst/>
            <a:gdLst/>
            <a:ahLst/>
            <a:rect l="l" t="t" r="r" b="b"/>
            <a:pathLst>
              <a:path w="1680" h="2035">
                <a:moveTo>
                  <a:pt x="0" y="2035"/>
                </a:moveTo>
                <a:lnTo>
                  <a:pt x="1680" y="2027"/>
                </a:lnTo>
                <a:lnTo>
                  <a:pt x="824" y="0"/>
                </a:lnTo>
                <a:lnTo>
                  <a:pt x="832" y="8"/>
                </a:lnTo>
                <a:lnTo>
                  <a:pt x="0" y="203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9ffe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97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85800" y="5778360"/>
            <a:ext cx="3873600" cy="12960"/>
          </a:xfrm>
          <a:custGeom>
            <a:avLst/>
            <a:gdLst/>
            <a:ahLst/>
            <a:rect l="l" t="t" r="r" b="b"/>
            <a:pathLst>
              <a:path w="2440" h="8">
                <a:moveTo>
                  <a:pt x="0" y="0"/>
                </a:moveTo>
                <a:lnTo>
                  <a:pt x="2440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2760" y="2082960"/>
            <a:ext cx="12600" cy="4101840"/>
          </a:xfrm>
          <a:custGeom>
            <a:avLst/>
            <a:gdLst/>
            <a:ahLst/>
            <a:rect l="l" t="t" r="r" b="b"/>
            <a:pathLst>
              <a:path w="8" h="2584">
                <a:moveTo>
                  <a:pt x="8" y="258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38000" y="5105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17560" y="16765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95160" y="5668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3834000">
            <a:off x="2513520" y="297252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3834000">
            <a:off x="1218600" y="5733360"/>
            <a:ext cx="9684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3834000">
            <a:off x="3885120" y="573336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574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9360" y="99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70360" y="99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9360" y="99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2590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0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5715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56689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6 L -0.27743 0.46436 E">
                                      <p:cBhvr>
                                        <p:cTn id="222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6 L 0.02743 0.61991 E">
                                      <p:cBhvr>
                                        <p:cTn id="226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6 L 0.1691 0.61991 E">
                                      <p:cBhvr>
                                        <p:cTn id="228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5493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3</a:t>
            </a:r>
            <a:r>
              <a:rPr b="1" lang="ru-RU" sz="2400" spc="-1" strike="noStrike">
                <a:solidFill>
                  <a:srgbClr val="e6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йдите координаты верши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раллелограмма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А(0; 0), В(5; 0), С(12; -3).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3600" y="3822840"/>
            <a:ext cx="6108840" cy="1320840"/>
          </a:xfrm>
          <a:custGeom>
            <a:avLst/>
            <a:gdLst/>
            <a:ahLst/>
            <a:rect l="l" t="t" r="r" b="b"/>
            <a:pathLst>
              <a:path w="3848" h="832">
                <a:moveTo>
                  <a:pt x="0" y="0"/>
                </a:moveTo>
                <a:lnTo>
                  <a:pt x="2280" y="832"/>
                </a:lnTo>
                <a:lnTo>
                  <a:pt x="3848" y="832"/>
                </a:lnTo>
                <a:lnTo>
                  <a:pt x="1520" y="1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9ffe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25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857160" y="3822840"/>
            <a:ext cx="6489720" cy="63360"/>
          </a:xfrm>
          <a:custGeom>
            <a:avLst/>
            <a:gdLst/>
            <a:ahLst/>
            <a:rect l="l" t="t" r="r" b="b"/>
            <a:pathLst>
              <a:path w="4088" h="40">
                <a:moveTo>
                  <a:pt x="0" y="0"/>
                </a:moveTo>
                <a:lnTo>
                  <a:pt x="4088" y="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63600" y="2324160"/>
            <a:ext cx="19080" cy="3583080"/>
          </a:xfrm>
          <a:custGeom>
            <a:avLst/>
            <a:gdLst/>
            <a:ahLst/>
            <a:rect l="l" t="t" r="r" b="b"/>
            <a:pathLst>
              <a:path w="12" h="2257">
                <a:moveTo>
                  <a:pt x="12" y="225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9568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5640" y="19810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9880" y="3306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3834000">
            <a:off x="7326720" y="508536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3834000">
            <a:off x="1224360" y="379008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3834000">
            <a:off x="3663360" y="3810600"/>
            <a:ext cx="9684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3834000">
            <a:off x="4812120" y="510624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419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9560" y="3276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43760" y="5105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03600" y="5105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32280" y="5105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5100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4628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4628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46880" y="5105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181480" y="5638680"/>
            <a:ext cx="2667240" cy="763560"/>
            <a:chOff x="5181480" y="5638680"/>
            <a:chExt cx="2667240" cy="763560"/>
          </a:xfrm>
        </p:grpSpPr>
        <p:sp>
          <p:nvSpPr>
            <p:cNvPr id="252" name=""/>
            <p:cNvSpPr/>
            <p:nvPr/>
          </p:nvSpPr>
          <p:spPr>
            <a:xfrm>
              <a:off x="5181480" y="5638680"/>
              <a:ext cx="2667240" cy="304920"/>
            </a:xfrm>
            <a:custGeom>
              <a:avLst/>
              <a:gdLst/>
              <a:ahLst/>
              <a:rect l="l" t="t" r="r" b="b"/>
              <a:pathLst>
                <a:path w="1680" h="192">
                  <a:moveTo>
                    <a:pt x="1680" y="0"/>
                  </a:moveTo>
                  <a:cubicBezTo>
                    <a:pt x="1388" y="96"/>
                    <a:pt x="1096" y="192"/>
                    <a:pt x="816" y="192"/>
                  </a:cubicBezTo>
                  <a:cubicBezTo>
                    <a:pt x="536" y="192"/>
                    <a:pt x="268" y="96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24480" y="5881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 flipV="1">
            <a:off x="-720" y="1981080"/>
            <a:ext cx="990612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1981080"/>
            <a:ext cx="9143640" cy="4647960"/>
            <a:chOff x="0" y="1981080"/>
            <a:chExt cx="9143640" cy="4647960"/>
          </a:xfrm>
        </p:grpSpPr>
        <p:sp>
          <p:nvSpPr>
            <p:cNvPr id="256" name=""/>
            <p:cNvSpPr/>
            <p:nvPr/>
          </p:nvSpPr>
          <p:spPr>
            <a:xfrm>
              <a:off x="0" y="2133000"/>
              <a:ext cx="9143640" cy="4496040"/>
            </a:xfrm>
            <a:custGeom>
              <a:avLst/>
              <a:gdLst/>
              <a:ahLst/>
              <a:rect l="l" t="t" r="r" b="b"/>
              <a:pathLst>
                <a:path w="5649" h="2456">
                  <a:moveTo>
                    <a:pt x="264" y="155"/>
                  </a:moveTo>
                  <a:cubicBezTo>
                    <a:pt x="287" y="140"/>
                    <a:pt x="354" y="57"/>
                    <a:pt x="401" y="57"/>
                  </a:cubicBezTo>
                  <a:cubicBezTo>
                    <a:pt x="449" y="58"/>
                    <a:pt x="496" y="161"/>
                    <a:pt x="548" y="160"/>
                  </a:cubicBezTo>
                  <a:cubicBezTo>
                    <a:pt x="598" y="158"/>
                    <a:pt x="655" y="50"/>
                    <a:pt x="707" y="47"/>
                  </a:cubicBezTo>
                  <a:cubicBezTo>
                    <a:pt x="760" y="45"/>
                    <a:pt x="812" y="143"/>
                    <a:pt x="867" y="145"/>
                  </a:cubicBezTo>
                  <a:cubicBezTo>
                    <a:pt x="921" y="147"/>
                    <a:pt x="977" y="55"/>
                    <a:pt x="1030" y="57"/>
                  </a:cubicBezTo>
                  <a:cubicBezTo>
                    <a:pt x="1084" y="59"/>
                    <a:pt x="1136" y="155"/>
                    <a:pt x="1191" y="155"/>
                  </a:cubicBezTo>
                  <a:cubicBezTo>
                    <a:pt x="1245" y="155"/>
                    <a:pt x="1301" y="57"/>
                    <a:pt x="1354" y="57"/>
                  </a:cubicBezTo>
                  <a:cubicBezTo>
                    <a:pt x="1407" y="58"/>
                    <a:pt x="1459" y="160"/>
                    <a:pt x="1510" y="160"/>
                  </a:cubicBezTo>
                  <a:cubicBezTo>
                    <a:pt x="1561" y="160"/>
                    <a:pt x="1608" y="55"/>
                    <a:pt x="1660" y="57"/>
                  </a:cubicBezTo>
                  <a:cubicBezTo>
                    <a:pt x="1712" y="60"/>
                    <a:pt x="1772" y="175"/>
                    <a:pt x="1824" y="174"/>
                  </a:cubicBezTo>
                  <a:cubicBezTo>
                    <a:pt x="1877" y="173"/>
                    <a:pt x="1921" y="48"/>
                    <a:pt x="1971" y="51"/>
                  </a:cubicBezTo>
                  <a:cubicBezTo>
                    <a:pt x="2021" y="54"/>
                    <a:pt x="2078" y="191"/>
                    <a:pt x="2128" y="191"/>
                  </a:cubicBezTo>
                  <a:cubicBezTo>
                    <a:pt x="2177" y="191"/>
                    <a:pt x="2219" y="51"/>
                    <a:pt x="2268" y="49"/>
                  </a:cubicBezTo>
                  <a:cubicBezTo>
                    <a:pt x="2316" y="47"/>
                    <a:pt x="2369" y="182"/>
                    <a:pt x="2421" y="181"/>
                  </a:cubicBezTo>
                  <a:cubicBezTo>
                    <a:pt x="2472" y="180"/>
                    <a:pt x="2523" y="43"/>
                    <a:pt x="2575" y="45"/>
                  </a:cubicBezTo>
                  <a:cubicBezTo>
                    <a:pt x="2627" y="47"/>
                    <a:pt x="2679" y="193"/>
                    <a:pt x="2735" y="191"/>
                  </a:cubicBezTo>
                  <a:cubicBezTo>
                    <a:pt x="2792" y="189"/>
                    <a:pt x="2856" y="39"/>
                    <a:pt x="2917" y="35"/>
                  </a:cubicBezTo>
                  <a:cubicBezTo>
                    <a:pt x="2978" y="31"/>
                    <a:pt x="3043" y="165"/>
                    <a:pt x="3100" y="165"/>
                  </a:cubicBezTo>
                  <a:cubicBezTo>
                    <a:pt x="3158" y="165"/>
                    <a:pt x="3200" y="30"/>
                    <a:pt x="3261" y="33"/>
                  </a:cubicBezTo>
                  <a:cubicBezTo>
                    <a:pt x="3321" y="36"/>
                    <a:pt x="3398" y="181"/>
                    <a:pt x="3460" y="181"/>
                  </a:cubicBezTo>
                  <a:cubicBezTo>
                    <a:pt x="3522" y="181"/>
                    <a:pt x="3578" y="37"/>
                    <a:pt x="3635" y="35"/>
                  </a:cubicBezTo>
                  <a:cubicBezTo>
                    <a:pt x="3691" y="33"/>
                    <a:pt x="3743" y="167"/>
                    <a:pt x="3798" y="167"/>
                  </a:cubicBezTo>
                  <a:cubicBezTo>
                    <a:pt x="3853" y="167"/>
                    <a:pt x="3906" y="37"/>
                    <a:pt x="3966" y="37"/>
                  </a:cubicBezTo>
                  <a:cubicBezTo>
                    <a:pt x="4025" y="37"/>
                    <a:pt x="4091" y="166"/>
                    <a:pt x="4153" y="165"/>
                  </a:cubicBezTo>
                  <a:cubicBezTo>
                    <a:pt x="4214" y="164"/>
                    <a:pt x="4273" y="35"/>
                    <a:pt x="4331" y="33"/>
                  </a:cubicBezTo>
                  <a:cubicBezTo>
                    <a:pt x="4388" y="31"/>
                    <a:pt x="4439" y="156"/>
                    <a:pt x="4500" y="155"/>
                  </a:cubicBezTo>
                  <a:cubicBezTo>
                    <a:pt x="4560" y="154"/>
                    <a:pt x="4633" y="30"/>
                    <a:pt x="4694" y="29"/>
                  </a:cubicBezTo>
                  <a:cubicBezTo>
                    <a:pt x="4755" y="28"/>
                    <a:pt x="4807" y="150"/>
                    <a:pt x="4865" y="151"/>
                  </a:cubicBezTo>
                  <a:cubicBezTo>
                    <a:pt x="4922" y="152"/>
                    <a:pt x="4979" y="31"/>
                    <a:pt x="5041" y="33"/>
                  </a:cubicBezTo>
                  <a:cubicBezTo>
                    <a:pt x="5103" y="35"/>
                    <a:pt x="5179" y="162"/>
                    <a:pt x="5239" y="163"/>
                  </a:cubicBezTo>
                  <a:cubicBezTo>
                    <a:pt x="5299" y="164"/>
                    <a:pt x="5353" y="0"/>
                    <a:pt x="5404" y="39"/>
                  </a:cubicBezTo>
                  <a:cubicBezTo>
                    <a:pt x="5456" y="78"/>
                    <a:pt x="5545" y="253"/>
                    <a:pt x="5546" y="397"/>
                  </a:cubicBezTo>
                  <a:cubicBezTo>
                    <a:pt x="5547" y="541"/>
                    <a:pt x="5408" y="701"/>
                    <a:pt x="5408" y="901"/>
                  </a:cubicBezTo>
                  <a:cubicBezTo>
                    <a:pt x="5408" y="1101"/>
                    <a:pt x="5529" y="1412"/>
                    <a:pt x="5544" y="1597"/>
                  </a:cubicBezTo>
                  <a:cubicBezTo>
                    <a:pt x="5559" y="1782"/>
                    <a:pt x="5504" y="1908"/>
                    <a:pt x="5496" y="2013"/>
                  </a:cubicBezTo>
                  <a:cubicBezTo>
                    <a:pt x="5488" y="2118"/>
                    <a:pt x="5481" y="2182"/>
                    <a:pt x="5496" y="2229"/>
                  </a:cubicBezTo>
                  <a:cubicBezTo>
                    <a:pt x="5511" y="2276"/>
                    <a:pt x="5560" y="2280"/>
                    <a:pt x="5584" y="2293"/>
                  </a:cubicBezTo>
                  <a:cubicBezTo>
                    <a:pt x="5608" y="2306"/>
                    <a:pt x="5649" y="2296"/>
                    <a:pt x="5640" y="2309"/>
                  </a:cubicBezTo>
                  <a:cubicBezTo>
                    <a:pt x="5631" y="2322"/>
                    <a:pt x="5603" y="2357"/>
                    <a:pt x="5528" y="2373"/>
                  </a:cubicBezTo>
                  <a:cubicBezTo>
                    <a:pt x="5453" y="2389"/>
                    <a:pt x="5326" y="2425"/>
                    <a:pt x="5192" y="2405"/>
                  </a:cubicBezTo>
                  <a:cubicBezTo>
                    <a:pt x="5058" y="2385"/>
                    <a:pt x="4872" y="2246"/>
                    <a:pt x="4726" y="2253"/>
                  </a:cubicBezTo>
                  <a:cubicBezTo>
                    <a:pt x="4580" y="2260"/>
                    <a:pt x="4431" y="2434"/>
                    <a:pt x="4316" y="2445"/>
                  </a:cubicBezTo>
                  <a:cubicBezTo>
                    <a:pt x="4201" y="2456"/>
                    <a:pt x="4135" y="2345"/>
                    <a:pt x="4036" y="2317"/>
                  </a:cubicBezTo>
                  <a:cubicBezTo>
                    <a:pt x="3936" y="2289"/>
                    <a:pt x="3815" y="2262"/>
                    <a:pt x="3719" y="2277"/>
                  </a:cubicBezTo>
                  <a:cubicBezTo>
                    <a:pt x="3623" y="2292"/>
                    <a:pt x="3542" y="2396"/>
                    <a:pt x="3460" y="2405"/>
                  </a:cubicBezTo>
                  <a:cubicBezTo>
                    <a:pt x="3378" y="2414"/>
                    <a:pt x="3305" y="2334"/>
                    <a:pt x="3230" y="2333"/>
                  </a:cubicBezTo>
                  <a:cubicBezTo>
                    <a:pt x="3154" y="2332"/>
                    <a:pt x="3096" y="2412"/>
                    <a:pt x="3007" y="2397"/>
                  </a:cubicBezTo>
                  <a:cubicBezTo>
                    <a:pt x="2918" y="2382"/>
                    <a:pt x="2796" y="2249"/>
                    <a:pt x="2698" y="2245"/>
                  </a:cubicBezTo>
                  <a:cubicBezTo>
                    <a:pt x="2600" y="2241"/>
                    <a:pt x="2497" y="2356"/>
                    <a:pt x="2417" y="2373"/>
                  </a:cubicBezTo>
                  <a:cubicBezTo>
                    <a:pt x="2337" y="2390"/>
                    <a:pt x="2287" y="2374"/>
                    <a:pt x="2216" y="2349"/>
                  </a:cubicBezTo>
                  <a:cubicBezTo>
                    <a:pt x="2145" y="2324"/>
                    <a:pt x="2048" y="2224"/>
                    <a:pt x="1988" y="2223"/>
                  </a:cubicBezTo>
                  <a:cubicBezTo>
                    <a:pt x="1928" y="2222"/>
                    <a:pt x="1902" y="2311"/>
                    <a:pt x="1851" y="2340"/>
                  </a:cubicBezTo>
                  <a:cubicBezTo>
                    <a:pt x="1801" y="2369"/>
                    <a:pt x="1761" y="2408"/>
                    <a:pt x="1687" y="2398"/>
                  </a:cubicBezTo>
                  <a:cubicBezTo>
                    <a:pt x="1615" y="2389"/>
                    <a:pt x="1510" y="2281"/>
                    <a:pt x="1414" y="2281"/>
                  </a:cubicBezTo>
                  <a:cubicBezTo>
                    <a:pt x="1318" y="2281"/>
                    <a:pt x="1227" y="2398"/>
                    <a:pt x="1113" y="2398"/>
                  </a:cubicBezTo>
                  <a:cubicBezTo>
                    <a:pt x="999" y="2398"/>
                    <a:pt x="843" y="2281"/>
                    <a:pt x="729" y="2281"/>
                  </a:cubicBezTo>
                  <a:cubicBezTo>
                    <a:pt x="616" y="2281"/>
                    <a:pt x="511" y="2384"/>
                    <a:pt x="429" y="2398"/>
                  </a:cubicBezTo>
                  <a:cubicBezTo>
                    <a:pt x="346" y="2413"/>
                    <a:pt x="306" y="2393"/>
                    <a:pt x="237" y="2369"/>
                  </a:cubicBezTo>
                  <a:cubicBezTo>
                    <a:pt x="169" y="2345"/>
                    <a:pt x="36" y="2281"/>
                    <a:pt x="19" y="2252"/>
                  </a:cubicBezTo>
                  <a:cubicBezTo>
                    <a:pt x="0" y="2223"/>
                    <a:pt x="95" y="2252"/>
                    <a:pt x="128" y="2194"/>
                  </a:cubicBezTo>
                  <a:cubicBezTo>
                    <a:pt x="160" y="2135"/>
                    <a:pt x="192" y="2022"/>
                    <a:pt x="210" y="1901"/>
                  </a:cubicBezTo>
                  <a:cubicBezTo>
                    <a:pt x="228" y="1780"/>
                    <a:pt x="236" y="1666"/>
                    <a:pt x="241" y="1466"/>
                  </a:cubicBezTo>
                  <a:cubicBezTo>
                    <a:pt x="245" y="1266"/>
                    <a:pt x="239" y="885"/>
                    <a:pt x="237" y="701"/>
                  </a:cubicBezTo>
                  <a:cubicBezTo>
                    <a:pt x="236" y="518"/>
                    <a:pt x="225" y="455"/>
                    <a:pt x="229" y="364"/>
                  </a:cubicBezTo>
                  <a:cubicBezTo>
                    <a:pt x="235" y="272"/>
                    <a:pt x="258" y="196"/>
                    <a:pt x="266" y="152"/>
                  </a:cubicBezTo>
                </a:path>
              </a:pathLst>
            </a:custGeom>
            <a:gradFill rotWithShape="0">
              <a:gsLst>
                <a:gs pos="0">
                  <a:srgbClr val="a6d6da"/>
                </a:gs>
                <a:gs pos="50000">
                  <a:srgbClr val="ffffff"/>
                </a:gs>
                <a:gs pos="100000">
                  <a:srgbClr val="a6d6da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8640" y="2022840"/>
              <a:ext cx="148320" cy="429840"/>
              <a:chOff x="548640" y="2022840"/>
              <a:chExt cx="148320" cy="429840"/>
            </a:xfrm>
          </p:grpSpPr>
          <p:sp>
            <p:nvSpPr>
              <p:cNvPr id="258" name=""/>
              <p:cNvSpPr/>
              <p:nvPr/>
            </p:nvSpPr>
            <p:spPr>
              <a:xfrm>
                <a:off x="604800" y="2345760"/>
                <a:ext cx="43920" cy="106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8640" y="2022840"/>
                <a:ext cx="148320" cy="4100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047240" y="2025000"/>
              <a:ext cx="150480" cy="428040"/>
              <a:chOff x="1047240" y="2025000"/>
              <a:chExt cx="150480" cy="428040"/>
            </a:xfrm>
          </p:grpSpPr>
          <p:sp>
            <p:nvSpPr>
              <p:cNvPr id="261" name=""/>
              <p:cNvSpPr/>
              <p:nvPr/>
            </p:nvSpPr>
            <p:spPr>
              <a:xfrm>
                <a:off x="1104120" y="2346480"/>
                <a:ext cx="4464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047240" y="2025000"/>
                <a:ext cx="1504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1581120" y="2025000"/>
              <a:ext cx="145440" cy="428040"/>
              <a:chOff x="1581120" y="2025000"/>
              <a:chExt cx="145440" cy="428040"/>
            </a:xfrm>
          </p:grpSpPr>
          <p:sp>
            <p:nvSpPr>
              <p:cNvPr id="264" name=""/>
              <p:cNvSpPr/>
              <p:nvPr/>
            </p:nvSpPr>
            <p:spPr>
              <a:xfrm>
                <a:off x="1636200" y="2346480"/>
                <a:ext cx="4320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81120" y="2025000"/>
                <a:ext cx="14544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110680" y="2025000"/>
              <a:ext cx="148680" cy="428040"/>
              <a:chOff x="2110680" y="2025000"/>
              <a:chExt cx="148680" cy="428040"/>
            </a:xfrm>
          </p:grpSpPr>
          <p:sp>
            <p:nvSpPr>
              <p:cNvPr id="267" name=""/>
              <p:cNvSpPr/>
              <p:nvPr/>
            </p:nvSpPr>
            <p:spPr>
              <a:xfrm>
                <a:off x="2166840" y="234648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10680" y="202500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2581560" y="2025000"/>
              <a:ext cx="148680" cy="428040"/>
              <a:chOff x="2581560" y="2025000"/>
              <a:chExt cx="148680" cy="428040"/>
            </a:xfrm>
          </p:grpSpPr>
          <p:sp>
            <p:nvSpPr>
              <p:cNvPr id="270" name=""/>
              <p:cNvSpPr/>
              <p:nvPr/>
            </p:nvSpPr>
            <p:spPr>
              <a:xfrm>
                <a:off x="2637720" y="234648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81560" y="202500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114000" y="2025000"/>
              <a:ext cx="148680" cy="428040"/>
              <a:chOff x="3114000" y="2025000"/>
              <a:chExt cx="148680" cy="428040"/>
            </a:xfrm>
          </p:grpSpPr>
          <p:sp>
            <p:nvSpPr>
              <p:cNvPr id="273" name=""/>
              <p:cNvSpPr/>
              <p:nvPr/>
            </p:nvSpPr>
            <p:spPr>
              <a:xfrm>
                <a:off x="3170160" y="234648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14000" y="202500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945520" y="3549960"/>
              <a:ext cx="228240" cy="265284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23200" y="4219920"/>
              <a:ext cx="352440" cy="208908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47240" y="4917240"/>
              <a:ext cx="356040" cy="1446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611160" y="2022840"/>
              <a:ext cx="148320" cy="429840"/>
              <a:chOff x="3611160" y="2022840"/>
              <a:chExt cx="148320" cy="429840"/>
            </a:xfrm>
          </p:grpSpPr>
          <p:sp>
            <p:nvSpPr>
              <p:cNvPr id="279" name=""/>
              <p:cNvSpPr/>
              <p:nvPr/>
            </p:nvSpPr>
            <p:spPr>
              <a:xfrm>
                <a:off x="3667320" y="2345760"/>
                <a:ext cx="43920" cy="106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11160" y="2022840"/>
                <a:ext cx="148320" cy="4100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051440" y="1981080"/>
              <a:ext cx="148680" cy="429480"/>
              <a:chOff x="4051440" y="1981080"/>
              <a:chExt cx="148680" cy="429480"/>
            </a:xfrm>
          </p:grpSpPr>
          <p:sp>
            <p:nvSpPr>
              <p:cNvPr id="282" name=""/>
              <p:cNvSpPr/>
              <p:nvPr/>
            </p:nvSpPr>
            <p:spPr>
              <a:xfrm>
                <a:off x="4107600" y="2303640"/>
                <a:ext cx="43920" cy="106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51440" y="1981080"/>
                <a:ext cx="148680" cy="4096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611600" y="1981080"/>
              <a:ext cx="146880" cy="428040"/>
              <a:chOff x="4611600" y="1981080"/>
              <a:chExt cx="146880" cy="428040"/>
            </a:xfrm>
          </p:grpSpPr>
          <p:sp>
            <p:nvSpPr>
              <p:cNvPr id="285" name=""/>
              <p:cNvSpPr/>
              <p:nvPr/>
            </p:nvSpPr>
            <p:spPr>
              <a:xfrm>
                <a:off x="4667040" y="2302560"/>
                <a:ext cx="4356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11600" y="1981080"/>
                <a:ext cx="1468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169960" y="1981080"/>
              <a:ext cx="148680" cy="428040"/>
              <a:chOff x="5169960" y="1981080"/>
              <a:chExt cx="148680" cy="428040"/>
            </a:xfrm>
          </p:grpSpPr>
          <p:sp>
            <p:nvSpPr>
              <p:cNvPr id="288" name=""/>
              <p:cNvSpPr/>
              <p:nvPr/>
            </p:nvSpPr>
            <p:spPr>
              <a:xfrm>
                <a:off x="5226120" y="230256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69960" y="198108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789880" y="1981080"/>
              <a:ext cx="148680" cy="428040"/>
              <a:chOff x="5789880" y="1981080"/>
              <a:chExt cx="148680" cy="428040"/>
            </a:xfrm>
          </p:grpSpPr>
          <p:sp>
            <p:nvSpPr>
              <p:cNvPr id="291" name=""/>
              <p:cNvSpPr/>
              <p:nvPr/>
            </p:nvSpPr>
            <p:spPr>
              <a:xfrm>
                <a:off x="5846040" y="230256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89880" y="198108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357960" y="1981080"/>
              <a:ext cx="146880" cy="428040"/>
              <a:chOff x="6357960" y="1981080"/>
              <a:chExt cx="146880" cy="428040"/>
            </a:xfrm>
          </p:grpSpPr>
          <p:sp>
            <p:nvSpPr>
              <p:cNvPr id="294" name=""/>
              <p:cNvSpPr/>
              <p:nvPr/>
            </p:nvSpPr>
            <p:spPr>
              <a:xfrm>
                <a:off x="6413400" y="2302560"/>
                <a:ext cx="4356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57960" y="1981080"/>
                <a:ext cx="1468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916320" y="1981080"/>
              <a:ext cx="148680" cy="428040"/>
              <a:chOff x="6916320" y="1981080"/>
              <a:chExt cx="148680" cy="428040"/>
            </a:xfrm>
          </p:grpSpPr>
          <p:sp>
            <p:nvSpPr>
              <p:cNvPr id="297" name=""/>
              <p:cNvSpPr/>
              <p:nvPr/>
            </p:nvSpPr>
            <p:spPr>
              <a:xfrm>
                <a:off x="6972480" y="230256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16320" y="198108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7546320" y="1981080"/>
              <a:ext cx="146880" cy="428040"/>
              <a:chOff x="7546320" y="1981080"/>
              <a:chExt cx="146880" cy="428040"/>
            </a:xfrm>
          </p:grpSpPr>
          <p:sp>
            <p:nvSpPr>
              <p:cNvPr id="300" name=""/>
              <p:cNvSpPr/>
              <p:nvPr/>
            </p:nvSpPr>
            <p:spPr>
              <a:xfrm>
                <a:off x="7601760" y="2302560"/>
                <a:ext cx="4356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546320" y="1981080"/>
                <a:ext cx="1468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8104680" y="1991520"/>
              <a:ext cx="148680" cy="428040"/>
              <a:chOff x="8104680" y="1991520"/>
              <a:chExt cx="148680" cy="428040"/>
            </a:xfrm>
          </p:grpSpPr>
          <p:sp>
            <p:nvSpPr>
              <p:cNvPr id="303" name=""/>
              <p:cNvSpPr/>
              <p:nvPr/>
            </p:nvSpPr>
            <p:spPr>
              <a:xfrm>
                <a:off x="8160840" y="231300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104680" y="199152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8663400" y="1981080"/>
              <a:ext cx="148320" cy="428040"/>
              <a:chOff x="8663400" y="1981080"/>
              <a:chExt cx="148320" cy="428040"/>
            </a:xfrm>
          </p:grpSpPr>
          <p:sp>
            <p:nvSpPr>
              <p:cNvPr id="306" name=""/>
              <p:cNvSpPr/>
              <p:nvPr/>
            </p:nvSpPr>
            <p:spPr>
              <a:xfrm>
                <a:off x="8719560" y="230256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663400" y="1981080"/>
                <a:ext cx="14832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192200" y="3562560"/>
              <a:ext cx="228240" cy="265284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97800" y="4265640"/>
              <a:ext cx="356040" cy="19735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05200" y="4792680"/>
              <a:ext cx="356040" cy="1446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91667 -0.00555 E">
                                      <p:cBhvr>
                                        <p:cTn id="249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L 0.34653 0.1956 E">
                                      <p:cBhvr>
                                        <p:cTn id="261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457200" y="382680"/>
            <a:ext cx="8381880" cy="825480"/>
            <a:chOff x="457200" y="382680"/>
            <a:chExt cx="8381880" cy="825480"/>
          </a:xfrm>
        </p:grpSpPr>
        <p:sp>
          <p:nvSpPr>
            <p:cNvPr id="312" name=""/>
            <p:cNvSpPr/>
            <p:nvPr/>
          </p:nvSpPr>
          <p:spPr>
            <a:xfrm>
              <a:off x="457200" y="38268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ыразим координаты вектора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В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через координаты его начала А и конца В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52880" y="382680"/>
              <a:ext cx="368280" cy="12600"/>
            </a:xfrm>
            <a:custGeom>
              <a:avLst/>
              <a:gdLst/>
              <a:ahLst/>
              <a:rect l="l" t="t" r="r" b="b"/>
              <a:pathLst>
                <a:path w="232" h="8">
                  <a:moveTo>
                    <a:pt x="0" y="0"/>
                  </a:moveTo>
                  <a:lnTo>
                    <a:pt x="232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505320" y="1220760"/>
            <a:ext cx="1600200" cy="459720"/>
            <a:chOff x="3505320" y="1220760"/>
            <a:chExt cx="1600200" cy="459720"/>
          </a:xfrm>
        </p:grpSpPr>
        <p:sp>
          <p:nvSpPr>
            <p:cNvPr id="315" name=""/>
            <p:cNvSpPr/>
            <p:nvPr/>
          </p:nvSpPr>
          <p:spPr>
            <a:xfrm>
              <a:off x="3505320" y="1220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33920" y="12207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96040" y="12207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80880" y="1220760"/>
                <a:ext cx="16970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А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9" name=""/>
          <p:cNvGrpSpPr/>
          <p:nvPr/>
        </p:nvGrpSpPr>
        <p:grpSpPr>
          <a:xfrm>
            <a:off x="2438280" y="1220760"/>
            <a:ext cx="1219320" cy="459720"/>
            <a:chOff x="2438280" y="1220760"/>
            <a:chExt cx="1219320" cy="459720"/>
          </a:xfrm>
        </p:grpSpPr>
        <p:sp>
          <p:nvSpPr>
            <p:cNvPr id="320" name=""/>
            <p:cNvSpPr/>
            <p:nvPr/>
          </p:nvSpPr>
          <p:spPr>
            <a:xfrm>
              <a:off x="2438280" y="12207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B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122076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876920" y="1220760"/>
            <a:ext cx="2209680" cy="459720"/>
            <a:chOff x="4876920" y="1220760"/>
            <a:chExt cx="2209680" cy="459720"/>
          </a:xfrm>
        </p:grpSpPr>
        <p:sp>
          <p:nvSpPr>
            <p:cNvPr id="323" name=""/>
            <p:cNvSpPr/>
            <p:nvPr/>
          </p:nvSpPr>
          <p:spPr>
            <a:xfrm>
              <a:off x="4876920" y="122076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= – O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680" y="122076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00800" y="122076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Каждая координата вектора равна раз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оответствующих координат его конца и нач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28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80880" y="5514840"/>
            <a:ext cx="3721320" cy="22320"/>
          </a:xfrm>
          <a:custGeom>
            <a:avLst/>
            <a:gdLst/>
            <a:ahLst/>
            <a:rect l="l" t="t" r="r" b="b"/>
            <a:pathLst>
              <a:path w="2344" h="14">
                <a:moveTo>
                  <a:pt x="0" y="0"/>
                </a:moveTo>
                <a:lnTo>
                  <a:pt x="2344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80920" y="2544840"/>
            <a:ext cx="20880" cy="3779640"/>
          </a:xfrm>
          <a:custGeom>
            <a:avLst/>
            <a:gdLst/>
            <a:ahLst/>
            <a:rect l="l" t="t" r="r" b="b"/>
            <a:pathLst>
              <a:path w="13" h="2381">
                <a:moveTo>
                  <a:pt x="13" y="238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35000" y="53341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2320" y="2362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01800" y="3327480"/>
            <a:ext cx="787320" cy="2184480"/>
          </a:xfrm>
          <a:custGeom>
            <a:avLst/>
            <a:gdLst/>
            <a:ahLst/>
            <a:rect l="l" t="t" r="r" b="b"/>
            <a:pathLst>
              <a:path w="496" h="1376">
                <a:moveTo>
                  <a:pt x="0" y="1376"/>
                </a:moveTo>
                <a:lnTo>
                  <a:pt x="496" y="0"/>
                </a:lnTo>
              </a:path>
            </a:pathLst>
          </a:custGeom>
          <a:noFill/>
          <a:ln w="28440">
            <a:solidFill>
              <a:srgbClr val="660066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76240" y="4648320"/>
            <a:ext cx="2425680" cy="863640"/>
          </a:xfrm>
          <a:custGeom>
            <a:avLst/>
            <a:gdLst/>
            <a:ahLst/>
            <a:rect l="l" t="t" r="r" b="b"/>
            <a:pathLst>
              <a:path w="1528" h="544">
                <a:moveTo>
                  <a:pt x="0" y="544"/>
                </a:moveTo>
                <a:lnTo>
                  <a:pt x="1528" y="0"/>
                </a:lnTo>
              </a:path>
            </a:pathLst>
          </a:custGeom>
          <a:noFill/>
          <a:ln w="28440">
            <a:solidFill>
              <a:srgbClr val="660066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8640" y="5486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49360" y="2819520"/>
            <a:ext cx="2052360" cy="2333880"/>
            <a:chOff x="1449360" y="2819520"/>
            <a:chExt cx="2052360" cy="2333880"/>
          </a:xfrm>
        </p:grpSpPr>
        <p:sp>
          <p:nvSpPr>
            <p:cNvPr id="344" name=""/>
            <p:cNvSpPr/>
            <p:nvPr/>
          </p:nvSpPr>
          <p:spPr>
            <a:xfrm>
              <a:off x="1676520" y="3327480"/>
              <a:ext cx="1638360" cy="1307880"/>
            </a:xfrm>
            <a:custGeom>
              <a:avLst/>
              <a:gdLst/>
              <a:ahLst/>
              <a:rect l="l" t="t" r="r" b="b"/>
              <a:pathLst>
                <a:path w="1032" h="824">
                  <a:moveTo>
                    <a:pt x="1032" y="8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49360" y="2819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49560" y="4572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348000" y="4572000"/>
            <a:ext cx="120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y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47800" y="2819520"/>
            <a:ext cx="120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y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400800" y="5181480"/>
            <a:ext cx="2946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816520" y="3459240"/>
            <a:ext cx="2641680" cy="648720"/>
            <a:chOff x="5816520" y="3459240"/>
            <a:chExt cx="2641680" cy="648720"/>
          </a:xfrm>
        </p:grpSpPr>
        <p:sp>
          <p:nvSpPr>
            <p:cNvPr id="351" name=""/>
            <p:cNvSpPr/>
            <p:nvPr/>
          </p:nvSpPr>
          <p:spPr>
            <a:xfrm>
              <a:off x="5816520" y="3459240"/>
              <a:ext cx="264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B{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94360" y="3517560"/>
              <a:ext cx="48276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543440" y="2133720"/>
            <a:ext cx="1371960" cy="761760"/>
            <a:chOff x="7543440" y="2133720"/>
            <a:chExt cx="1371960" cy="761760"/>
          </a:xfrm>
        </p:grpSpPr>
        <p:sp>
          <p:nvSpPr>
            <p:cNvPr id="354" name=""/>
            <p:cNvSpPr/>
            <p:nvPr/>
          </p:nvSpPr>
          <p:spPr>
            <a:xfrm flipH="1">
              <a:off x="7543440" y="2209680"/>
              <a:ext cx="304920" cy="6858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5" name=""/>
                <p:cNvSpPr txBox="1"/>
                <p:nvPr/>
              </p:nvSpPr>
              <p:spPr>
                <a:xfrm>
                  <a:off x="7696440" y="2438280"/>
                  <a:ext cx="3283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6" name=""/>
            <p:cNvSpPr/>
            <p:nvPr/>
          </p:nvSpPr>
          <p:spPr>
            <a:xfrm>
              <a:off x="7772400" y="213372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imes New Roman"/>
                </a:rPr>
                <a:t>(-1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16520" y="2133720"/>
            <a:ext cx="1955880" cy="648720"/>
            <a:chOff x="5816520" y="2133720"/>
            <a:chExt cx="1955880" cy="648720"/>
          </a:xfrm>
        </p:grpSpPr>
        <p:sp>
          <p:nvSpPr>
            <p:cNvPr id="358" name=""/>
            <p:cNvSpPr/>
            <p:nvPr/>
          </p:nvSpPr>
          <p:spPr>
            <a:xfrm>
              <a:off x="5816520" y="2133720"/>
              <a:ext cx="195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A{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43600" y="2192040"/>
              <a:ext cx="48276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183640" y="3733920"/>
            <a:ext cx="2968920" cy="1143000"/>
            <a:chOff x="5183640" y="3733920"/>
            <a:chExt cx="2968920" cy="1143000"/>
          </a:xfrm>
        </p:grpSpPr>
        <p:sp>
          <p:nvSpPr>
            <p:cNvPr id="361" name=""/>
            <p:cNvSpPr/>
            <p:nvPr/>
          </p:nvSpPr>
          <p:spPr>
            <a:xfrm>
              <a:off x="5183640" y="373392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5960" y="4876920"/>
              <a:ext cx="258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419720" y="5334120"/>
            <a:ext cx="2209680" cy="459720"/>
            <a:chOff x="4419720" y="5334120"/>
            <a:chExt cx="2209680" cy="459720"/>
          </a:xfrm>
        </p:grpSpPr>
        <p:sp>
          <p:nvSpPr>
            <p:cNvPr id="364" name=""/>
            <p:cNvSpPr/>
            <p:nvPr/>
          </p:nvSpPr>
          <p:spPr>
            <a:xfrm>
              <a:off x="4419720" y="53341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–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81480" y="533412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43600" y="533412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334120" y="5973840"/>
            <a:ext cx="3504960" cy="648720"/>
            <a:chOff x="5334120" y="5973840"/>
            <a:chExt cx="3504960" cy="648720"/>
          </a:xfrm>
        </p:grpSpPr>
        <p:grpSp>
          <p:nvGrpSpPr>
            <p:cNvPr id="368" name=""/>
            <p:cNvGrpSpPr/>
            <p:nvPr/>
          </p:nvGrpSpPr>
          <p:grpSpPr>
            <a:xfrm>
              <a:off x="5334120" y="6095880"/>
              <a:ext cx="1218960" cy="459720"/>
              <a:chOff x="5334120" y="6095880"/>
              <a:chExt cx="1218960" cy="459720"/>
            </a:xfrm>
          </p:grpSpPr>
          <p:sp>
            <p:nvSpPr>
              <p:cNvPr id="369" name=""/>
              <p:cNvSpPr/>
              <p:nvPr/>
            </p:nvSpPr>
            <p:spPr>
              <a:xfrm>
                <a:off x="5334120" y="609588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B 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562360" y="60958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5892840" y="5973840"/>
              <a:ext cx="2946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-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-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638680" y="2895480"/>
            <a:ext cx="3124080" cy="648720"/>
            <a:chOff x="5638680" y="2895480"/>
            <a:chExt cx="3124080" cy="648720"/>
          </a:xfrm>
        </p:grpSpPr>
        <p:sp>
          <p:nvSpPr>
            <p:cNvPr id="373" name=""/>
            <p:cNvSpPr/>
            <p:nvPr/>
          </p:nvSpPr>
          <p:spPr>
            <a:xfrm>
              <a:off x="5638680" y="2895480"/>
              <a:ext cx="312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A{-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-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94360" y="295416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L 0.00417 0.15601 L 0.00278 0.1949 E">
                                      <p:cBhvr>
                                        <p:cTn id="325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6330960" y="1447920"/>
            <a:ext cx="1746000" cy="581400"/>
            <a:chOff x="6330960" y="1447920"/>
            <a:chExt cx="1746000" cy="581400"/>
          </a:xfrm>
        </p:grpSpPr>
        <p:sp>
          <p:nvSpPr>
            <p:cNvPr id="376" name=""/>
            <p:cNvSpPr/>
            <p:nvPr/>
          </p:nvSpPr>
          <p:spPr>
            <a:xfrm>
              <a:off x="6330960" y="1447920"/>
              <a:ext cx="174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B{2;-1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83600" y="1523880"/>
              <a:ext cx="482400" cy="108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79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28600" y="544680"/>
            <a:ext cx="4645440" cy="5549400"/>
            <a:chOff x="228600" y="544680"/>
            <a:chExt cx="4645440" cy="5549400"/>
          </a:xfrm>
        </p:grpSpPr>
        <p:grpSp>
          <p:nvGrpSpPr>
            <p:cNvPr id="388" name=""/>
            <p:cNvGrpSpPr/>
            <p:nvPr/>
          </p:nvGrpSpPr>
          <p:grpSpPr>
            <a:xfrm>
              <a:off x="260280" y="977760"/>
              <a:ext cx="4576320" cy="424440"/>
              <a:chOff x="260280" y="977760"/>
              <a:chExt cx="4576320" cy="424440"/>
            </a:xfrm>
          </p:grpSpPr>
          <p:sp>
            <p:nvSpPr>
              <p:cNvPr id="389" name=""/>
              <p:cNvSpPr/>
              <p:nvPr/>
            </p:nvSpPr>
            <p:spPr>
              <a:xfrm>
                <a:off x="260280" y="977760"/>
                <a:ext cx="4576320" cy="2160"/>
              </a:xfrm>
              <a:custGeom>
                <a:avLst/>
                <a:gdLst/>
                <a:ahLst/>
                <a:rect l="l" t="t" r="r" b="b"/>
                <a:pathLst>
                  <a:path w="1436" h="1">
                    <a:moveTo>
                      <a:pt x="0" y="0"/>
                    </a:moveTo>
                    <a:lnTo>
                      <a:pt x="1436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5480" y="1399320"/>
                <a:ext cx="4551120" cy="2880"/>
              </a:xfrm>
              <a:custGeom>
                <a:avLst/>
                <a:gdLst/>
                <a:ahLst/>
                <a:rect l="l" t="t" r="r" b="b"/>
                <a:pathLst>
                  <a:path w="1428" h="1">
                    <a:moveTo>
                      <a:pt x="0" y="0"/>
                    </a:moveTo>
                    <a:lnTo>
                      <a:pt x="1428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60280" y="1850760"/>
              <a:ext cx="4577040" cy="2880"/>
            </a:xfrm>
            <a:custGeom>
              <a:avLst/>
              <a:gdLst/>
              <a:ahLst/>
              <a:rect l="l" t="t" r="r" b="b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8600" y="2247840"/>
              <a:ext cx="4625280" cy="12240"/>
            </a:xfrm>
            <a:custGeom>
              <a:avLst/>
              <a:gdLst/>
              <a:ahLst/>
              <a:rect l="l" t="t" r="r" b="b"/>
              <a:pathLst>
                <a:path w="3344" h="8">
                  <a:moveTo>
                    <a:pt x="0" y="0"/>
                  </a:moveTo>
                  <a:lnTo>
                    <a:pt x="3344" y="8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228600" y="2666880"/>
              <a:ext cx="4576320" cy="424440"/>
              <a:chOff x="228600" y="2666880"/>
              <a:chExt cx="4576320" cy="424440"/>
            </a:xfrm>
          </p:grpSpPr>
          <p:sp>
            <p:nvSpPr>
              <p:cNvPr id="394" name=""/>
              <p:cNvSpPr/>
              <p:nvPr/>
            </p:nvSpPr>
            <p:spPr>
              <a:xfrm>
                <a:off x="228600" y="2666880"/>
                <a:ext cx="4576320" cy="2160"/>
              </a:xfrm>
              <a:custGeom>
                <a:avLst/>
                <a:gdLst/>
                <a:ahLst/>
                <a:rect l="l" t="t" r="r" b="b"/>
                <a:pathLst>
                  <a:path w="1436" h="1">
                    <a:moveTo>
                      <a:pt x="0" y="0"/>
                    </a:moveTo>
                    <a:lnTo>
                      <a:pt x="1436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3800" y="3088440"/>
                <a:ext cx="4551120" cy="2880"/>
              </a:xfrm>
              <a:custGeom>
                <a:avLst/>
                <a:gdLst/>
                <a:ahLst/>
                <a:rect l="l" t="t" r="r" b="b"/>
                <a:pathLst>
                  <a:path w="1428" h="1">
                    <a:moveTo>
                      <a:pt x="0" y="0"/>
                    </a:moveTo>
                    <a:lnTo>
                      <a:pt x="1428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49120" y="3528720"/>
              <a:ext cx="4613760" cy="443520"/>
              <a:chOff x="249120" y="3528720"/>
              <a:chExt cx="4613760" cy="443520"/>
            </a:xfrm>
          </p:grpSpPr>
          <p:sp>
            <p:nvSpPr>
              <p:cNvPr id="397" name=""/>
              <p:cNvSpPr/>
              <p:nvPr/>
            </p:nvSpPr>
            <p:spPr>
              <a:xfrm>
                <a:off x="249120" y="3528720"/>
                <a:ext cx="4613760" cy="11160"/>
              </a:xfrm>
              <a:custGeom>
                <a:avLst/>
                <a:gdLst/>
                <a:ahLst/>
                <a:rect l="l" t="t" r="r" b="b"/>
                <a:pathLst>
                  <a:path w="1448" h="4">
                    <a:moveTo>
                      <a:pt x="0" y="0"/>
                    </a:moveTo>
                    <a:lnTo>
                      <a:pt x="1448" y="4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0240" y="3961800"/>
                <a:ext cx="4562640" cy="10440"/>
              </a:xfrm>
              <a:custGeom>
                <a:avLst/>
                <a:gdLst/>
                <a:ahLst/>
                <a:rect l="l" t="t" r="r" b="b"/>
                <a:pathLst>
                  <a:path w="1432" h="4">
                    <a:moveTo>
                      <a:pt x="0" y="0"/>
                    </a:moveTo>
                    <a:lnTo>
                      <a:pt x="1432" y="4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60280" y="4362480"/>
              <a:ext cx="4613760" cy="443160"/>
              <a:chOff x="260280" y="4362480"/>
              <a:chExt cx="4613760" cy="443160"/>
            </a:xfrm>
          </p:grpSpPr>
          <p:sp>
            <p:nvSpPr>
              <p:cNvPr id="400" name=""/>
              <p:cNvSpPr/>
              <p:nvPr/>
            </p:nvSpPr>
            <p:spPr>
              <a:xfrm>
                <a:off x="260280" y="4362480"/>
                <a:ext cx="4613760" cy="11160"/>
              </a:xfrm>
              <a:custGeom>
                <a:avLst/>
                <a:gdLst/>
                <a:ahLst/>
                <a:rect l="l" t="t" r="r" b="b"/>
                <a:pathLst>
                  <a:path w="1448" h="4">
                    <a:moveTo>
                      <a:pt x="0" y="0"/>
                    </a:moveTo>
                    <a:lnTo>
                      <a:pt x="1448" y="4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400" y="4795200"/>
                <a:ext cx="4562640" cy="10440"/>
              </a:xfrm>
              <a:custGeom>
                <a:avLst/>
                <a:gdLst/>
                <a:ahLst/>
                <a:rect l="l" t="t" r="r" b="b"/>
                <a:pathLst>
                  <a:path w="1432" h="4">
                    <a:moveTo>
                      <a:pt x="0" y="0"/>
                    </a:moveTo>
                    <a:lnTo>
                      <a:pt x="1432" y="4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249120" y="5227560"/>
              <a:ext cx="4624920" cy="452880"/>
              <a:chOff x="249120" y="5227560"/>
              <a:chExt cx="4624920" cy="452880"/>
            </a:xfrm>
          </p:grpSpPr>
          <p:sp>
            <p:nvSpPr>
              <p:cNvPr id="403" name=""/>
              <p:cNvSpPr/>
              <p:nvPr/>
            </p:nvSpPr>
            <p:spPr>
              <a:xfrm>
                <a:off x="249120" y="5227560"/>
                <a:ext cx="4586760" cy="2160"/>
              </a:xfrm>
              <a:custGeom>
                <a:avLst/>
                <a:gdLst/>
                <a:ahLst/>
                <a:rect l="l" t="t" r="r" b="b"/>
                <a:pathLst>
                  <a:path w="1440" h="1">
                    <a:moveTo>
                      <a:pt x="0" y="0"/>
                    </a:moveTo>
                    <a:lnTo>
                      <a:pt x="1440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49120" y="5658840"/>
                <a:ext cx="4624920" cy="21600"/>
              </a:xfrm>
              <a:custGeom>
                <a:avLst/>
                <a:gdLst/>
                <a:ahLst/>
                <a:rect l="l" t="t" r="r" b="b"/>
                <a:pathLst>
                  <a:path w="1452" h="8">
                    <a:moveTo>
                      <a:pt x="0" y="8"/>
                    </a:moveTo>
                    <a:lnTo>
                      <a:pt x="1452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249120" y="6081480"/>
              <a:ext cx="4588200" cy="12600"/>
            </a:xfrm>
            <a:custGeom>
              <a:avLst/>
              <a:gdLst/>
              <a:ahLst/>
              <a:rect l="l" t="t" r="r" b="b"/>
              <a:pathLst>
                <a:path w="1440" h="4">
                  <a:moveTo>
                    <a:pt x="0" y="4"/>
                  </a:move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0280" y="544680"/>
              <a:ext cx="4588200" cy="10800"/>
            </a:xfrm>
            <a:custGeom>
              <a:avLst/>
              <a:gdLst/>
              <a:ahLst/>
              <a:rect l="l" t="t" r="r" b="b"/>
              <a:pathLst>
                <a:path w="1440" h="4">
                  <a:moveTo>
                    <a:pt x="0" y="4"/>
                  </a:move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14480" y="3530520"/>
            <a:ext cx="4749480" cy="12960"/>
          </a:xfrm>
          <a:custGeom>
            <a:avLst/>
            <a:gdLst/>
            <a:ahLst/>
            <a:rect l="l" t="t" r="r" b="b"/>
            <a:pathLst>
              <a:path w="2992" h="8">
                <a:moveTo>
                  <a:pt x="0" y="8"/>
                </a:moveTo>
                <a:lnTo>
                  <a:pt x="299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31240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50720" y="533520"/>
            <a:ext cx="4425840" cy="5562000"/>
            <a:chOff x="450720" y="533520"/>
            <a:chExt cx="4425840" cy="5562000"/>
          </a:xfrm>
        </p:grpSpPr>
        <p:sp>
          <p:nvSpPr>
            <p:cNvPr id="410" name=""/>
            <p:cNvSpPr/>
            <p:nvPr/>
          </p:nvSpPr>
          <p:spPr>
            <a:xfrm>
              <a:off x="3525480" y="540720"/>
              <a:ext cx="1800" cy="5532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68280" y="543600"/>
              <a:ext cx="9720" cy="5532480"/>
            </a:xfrm>
            <a:custGeom>
              <a:avLst/>
              <a:gdLst/>
              <a:ahLst/>
              <a:rect l="l" t="t" r="r" b="b"/>
              <a:pathLst>
                <a:path w="4" h="2160">
                  <a:moveTo>
                    <a:pt x="4" y="0"/>
                  </a:moveTo>
                  <a:lnTo>
                    <a:pt x="0" y="216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20800" y="533520"/>
              <a:ext cx="11160" cy="5551920"/>
            </a:xfrm>
            <a:custGeom>
              <a:avLst/>
              <a:gdLst/>
              <a:ahLst/>
              <a:rect l="l" t="t" r="r" b="b"/>
              <a:pathLst>
                <a:path w="4" h="2168">
                  <a:moveTo>
                    <a:pt x="0" y="0"/>
                  </a:moveTo>
                  <a:lnTo>
                    <a:pt x="4" y="2168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49240" y="533520"/>
              <a:ext cx="9360" cy="5531400"/>
            </a:xfrm>
            <a:custGeom>
              <a:avLst/>
              <a:gdLst/>
              <a:ahLst/>
              <a:rect l="l" t="t" r="r" b="b"/>
              <a:pathLst>
                <a:path w="4" h="2160">
                  <a:moveTo>
                    <a:pt x="0" y="0"/>
                  </a:moveTo>
                  <a:lnTo>
                    <a:pt x="4" y="216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11120" y="543600"/>
              <a:ext cx="22320" cy="5500440"/>
            </a:xfrm>
            <a:custGeom>
              <a:avLst/>
              <a:gdLst/>
              <a:ahLst/>
              <a:rect l="l" t="t" r="r" b="b"/>
              <a:pathLst>
                <a:path w="8" h="2148">
                  <a:moveTo>
                    <a:pt x="0" y="0"/>
                  </a:moveTo>
                  <a:lnTo>
                    <a:pt x="8" y="2148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85600" y="543600"/>
              <a:ext cx="22320" cy="5500440"/>
            </a:xfrm>
            <a:custGeom>
              <a:avLst/>
              <a:gdLst/>
              <a:ahLst/>
              <a:rect l="l" t="t" r="r" b="b"/>
              <a:pathLst>
                <a:path w="8" h="2148">
                  <a:moveTo>
                    <a:pt x="0" y="0"/>
                  </a:moveTo>
                  <a:lnTo>
                    <a:pt x="8" y="2148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0720" y="543600"/>
              <a:ext cx="9360" cy="5510880"/>
            </a:xfrm>
            <a:custGeom>
              <a:avLst/>
              <a:gdLst/>
              <a:ahLst/>
              <a:rect l="l" t="t" r="r" b="b"/>
              <a:pathLst>
                <a:path w="4" h="2152">
                  <a:moveTo>
                    <a:pt x="0" y="0"/>
                  </a:moveTo>
                  <a:lnTo>
                    <a:pt x="4" y="2152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74760" y="540720"/>
              <a:ext cx="15840" cy="5508000"/>
            </a:xfrm>
            <a:custGeom>
              <a:avLst/>
              <a:gdLst/>
              <a:ahLst/>
              <a:rect l="l" t="t" r="r" b="b"/>
              <a:pathLst>
                <a:path w="8" h="2808">
                  <a:moveTo>
                    <a:pt x="0" y="0"/>
                  </a:moveTo>
                  <a:lnTo>
                    <a:pt x="8" y="2808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24040" y="540720"/>
              <a:ext cx="33480" cy="5491800"/>
            </a:xfrm>
            <a:custGeom>
              <a:avLst/>
              <a:gdLst/>
              <a:ahLst/>
              <a:rect l="l" t="t" r="r" b="b"/>
              <a:pathLst>
                <a:path w="16" h="2800">
                  <a:moveTo>
                    <a:pt x="0" y="0"/>
                  </a:moveTo>
                  <a:lnTo>
                    <a:pt x="16" y="280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75120" y="540720"/>
              <a:ext cx="1440" cy="5532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6200" y="572760"/>
              <a:ext cx="31680" cy="5522760"/>
            </a:xfrm>
            <a:custGeom>
              <a:avLst/>
              <a:gdLst/>
              <a:ahLst/>
              <a:rect l="l" t="t" r="r" b="b"/>
              <a:pathLst>
                <a:path w="16" h="2816">
                  <a:moveTo>
                    <a:pt x="16" y="28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439720" y="350532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44480" y="2895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77600" y="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197160" y="838080"/>
            <a:ext cx="2446920" cy="1373760"/>
            <a:chOff x="3197160" y="838080"/>
            <a:chExt cx="2446920" cy="1373760"/>
          </a:xfrm>
        </p:grpSpPr>
        <p:sp>
          <p:nvSpPr>
            <p:cNvPr id="425" name=""/>
            <p:cNvSpPr/>
            <p:nvPr/>
          </p:nvSpPr>
          <p:spPr>
            <a:xfrm>
              <a:off x="3517920" y="1384200"/>
              <a:ext cx="927000" cy="470160"/>
            </a:xfrm>
            <a:custGeom>
              <a:avLst/>
              <a:gdLst/>
              <a:ahLst/>
              <a:rect l="l" t="t" r="r" b="b"/>
              <a:pathLst>
                <a:path w="584" h="296">
                  <a:moveTo>
                    <a:pt x="0" y="0"/>
                  </a:moveTo>
                  <a:lnTo>
                    <a:pt x="584" y="2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45200" y="1630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97160" y="838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99920" y="838080"/>
              <a:ext cx="99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;5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47960" y="1630440"/>
              <a:ext cx="99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;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060720" y="3581280"/>
            <a:ext cx="2261520" cy="2181600"/>
            <a:chOff x="3060720" y="3581280"/>
            <a:chExt cx="2261520" cy="2181600"/>
          </a:xfrm>
        </p:grpSpPr>
        <p:sp>
          <p:nvSpPr>
            <p:cNvPr id="431" name=""/>
            <p:cNvSpPr/>
            <p:nvPr/>
          </p:nvSpPr>
          <p:spPr>
            <a:xfrm>
              <a:off x="3060720" y="3962520"/>
              <a:ext cx="952560" cy="1269720"/>
            </a:xfrm>
            <a:custGeom>
              <a:avLst/>
              <a:gdLst/>
              <a:ahLst/>
              <a:rect l="l" t="t" r="r" b="b"/>
              <a:pathLst>
                <a:path w="600" h="800">
                  <a:moveTo>
                    <a:pt x="0" y="0"/>
                  </a:moveTo>
                  <a:lnTo>
                    <a:pt x="600" y="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74760" y="35812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8000" y="5181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47280" y="3581280"/>
              <a:ext cx="11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;-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0400" y="5181480"/>
              <a:ext cx="11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;-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58640" y="3543480"/>
            <a:ext cx="1738440" cy="2067120"/>
            <a:chOff x="458640" y="3543480"/>
            <a:chExt cx="1738440" cy="2067120"/>
          </a:xfrm>
        </p:grpSpPr>
        <p:sp>
          <p:nvSpPr>
            <p:cNvPr id="437" name=""/>
            <p:cNvSpPr/>
            <p:nvPr/>
          </p:nvSpPr>
          <p:spPr>
            <a:xfrm>
              <a:off x="914400" y="3543480"/>
              <a:ext cx="1282680" cy="1663560"/>
            </a:xfrm>
            <a:custGeom>
              <a:avLst/>
              <a:gdLst/>
              <a:ahLst/>
              <a:rect l="l" t="t" r="r" b="b"/>
              <a:pathLst>
                <a:path w="808" h="1048">
                  <a:moveTo>
                    <a:pt x="808" y="0"/>
                  </a:moveTo>
                  <a:lnTo>
                    <a:pt x="0" y="10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8640" y="5029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1040" y="5029200"/>
              <a:ext cx="126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;-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36440" y="914400"/>
            <a:ext cx="2988000" cy="3126240"/>
            <a:chOff x="136440" y="914400"/>
            <a:chExt cx="2988000" cy="3126240"/>
          </a:xfrm>
        </p:grpSpPr>
        <p:sp>
          <p:nvSpPr>
            <p:cNvPr id="441" name=""/>
            <p:cNvSpPr/>
            <p:nvPr/>
          </p:nvSpPr>
          <p:spPr>
            <a:xfrm>
              <a:off x="457200" y="1371600"/>
              <a:ext cx="1714680" cy="2158920"/>
            </a:xfrm>
            <a:custGeom>
              <a:avLst/>
              <a:gdLst/>
              <a:ahLst/>
              <a:rect l="l" t="t" r="r" b="b"/>
              <a:pathLst>
                <a:path w="1080" h="1360">
                  <a:moveTo>
                    <a:pt x="1080" y="0"/>
                  </a:moveTo>
                  <a:lnTo>
                    <a:pt x="0" y="1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6440" y="34592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53920" y="944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3120" y="3459240"/>
              <a:ext cx="11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;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28320" y="914400"/>
              <a:ext cx="99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;5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209680" y="2209680"/>
            <a:ext cx="2380320" cy="1333800"/>
            <a:chOff x="2209680" y="2209680"/>
            <a:chExt cx="2380320" cy="1333800"/>
          </a:xfrm>
        </p:grpSpPr>
        <p:sp>
          <p:nvSpPr>
            <p:cNvPr id="447" name=""/>
            <p:cNvSpPr/>
            <p:nvPr/>
          </p:nvSpPr>
          <p:spPr>
            <a:xfrm>
              <a:off x="2209680" y="2692440"/>
              <a:ext cx="1308240" cy="851040"/>
            </a:xfrm>
            <a:custGeom>
              <a:avLst/>
              <a:gdLst/>
              <a:ahLst/>
              <a:rect l="l" t="t" r="r" b="b"/>
              <a:pathLst>
                <a:path w="824" h="536">
                  <a:moveTo>
                    <a:pt x="0" y="536"/>
                  </a:moveTo>
                  <a:lnTo>
                    <a:pt x="8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78160" y="22096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93880" y="2209680"/>
              <a:ext cx="99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;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711480" y="762120"/>
            <a:ext cx="12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;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711480" y="152280"/>
            <a:ext cx="12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;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332760" y="380880"/>
            <a:ext cx="1699920" cy="1066680"/>
            <a:chOff x="6332760" y="380880"/>
            <a:chExt cx="1699920" cy="1066680"/>
          </a:xfrm>
        </p:grpSpPr>
        <p:sp>
          <p:nvSpPr>
            <p:cNvPr id="453" name=""/>
            <p:cNvSpPr/>
            <p:nvPr/>
          </p:nvSpPr>
          <p:spPr>
            <a:xfrm>
              <a:off x="6332760" y="380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11840" y="1446120"/>
              <a:ext cx="1320840" cy="1440"/>
            </a:xfrm>
            <a:custGeom>
              <a:avLst/>
              <a:gdLst/>
              <a:ahLst/>
              <a:rect l="l" t="t" r="r" b="b"/>
              <a:pathLst>
                <a:path w="832" h="1">
                  <a:moveTo>
                    <a:pt x="0" y="0"/>
                  </a:moveTo>
                  <a:lnTo>
                    <a:pt x="8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031360" y="2133720"/>
            <a:ext cx="3884400" cy="581400"/>
            <a:chOff x="5031360" y="2133720"/>
            <a:chExt cx="3884400" cy="581400"/>
          </a:xfrm>
        </p:grpSpPr>
        <p:grpSp>
          <p:nvGrpSpPr>
            <p:cNvPr id="456" name=""/>
            <p:cNvGrpSpPr/>
            <p:nvPr/>
          </p:nvGrpSpPr>
          <p:grpSpPr>
            <a:xfrm>
              <a:off x="7259760" y="2133720"/>
              <a:ext cx="1656000" cy="581400"/>
              <a:chOff x="7259760" y="2133720"/>
              <a:chExt cx="1656000" cy="581400"/>
            </a:xfrm>
          </p:grpSpPr>
          <p:sp>
            <p:nvSpPr>
              <p:cNvPr id="457" name=""/>
              <p:cNvSpPr/>
              <p:nvPr/>
            </p:nvSpPr>
            <p:spPr>
              <a:xfrm>
                <a:off x="7259760" y="2133720"/>
                <a:ext cx="165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ON{3;2}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412040" y="2209680"/>
                <a:ext cx="482040" cy="108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5031360" y="220968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Радиус-вект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257800" y="4038480"/>
            <a:ext cx="1722960" cy="581400"/>
            <a:chOff x="5257800" y="4038480"/>
            <a:chExt cx="1722960" cy="581400"/>
          </a:xfrm>
        </p:grpSpPr>
        <p:sp>
          <p:nvSpPr>
            <p:cNvPr id="461" name=""/>
            <p:cNvSpPr/>
            <p:nvPr/>
          </p:nvSpPr>
          <p:spPr>
            <a:xfrm>
              <a:off x="5257800" y="4038480"/>
              <a:ext cx="172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C{2;-3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10440" y="4114800"/>
              <a:ext cx="48240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5637960" y="335268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;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37600" y="274320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;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259600" y="2971800"/>
            <a:ext cx="1699920" cy="1066680"/>
            <a:chOff x="5259600" y="2971800"/>
            <a:chExt cx="1699920" cy="1066680"/>
          </a:xfrm>
        </p:grpSpPr>
        <p:sp>
          <p:nvSpPr>
            <p:cNvPr id="466" name=""/>
            <p:cNvSpPr/>
            <p:nvPr/>
          </p:nvSpPr>
          <p:spPr>
            <a:xfrm>
              <a:off x="5259600" y="2971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38680" y="4037040"/>
              <a:ext cx="1320840" cy="1440"/>
            </a:xfrm>
            <a:custGeom>
              <a:avLst/>
              <a:gdLst/>
              <a:ahLst/>
              <a:rect l="l" t="t" r="r" b="b"/>
              <a:pathLst>
                <a:path w="832" h="1">
                  <a:moveTo>
                    <a:pt x="0" y="0"/>
                  </a:moveTo>
                  <a:lnTo>
                    <a:pt x="8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653160" y="5867280"/>
            <a:ext cx="1881360" cy="581400"/>
            <a:chOff x="6653160" y="5867280"/>
            <a:chExt cx="1881360" cy="581400"/>
          </a:xfrm>
        </p:grpSpPr>
        <p:sp>
          <p:nvSpPr>
            <p:cNvPr id="469" name=""/>
            <p:cNvSpPr/>
            <p:nvPr/>
          </p:nvSpPr>
          <p:spPr>
            <a:xfrm>
              <a:off x="6653160" y="5867280"/>
              <a:ext cx="188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R{-4;-5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05800" y="5943600"/>
              <a:ext cx="48240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7033320" y="518148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33320" y="457200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654960" y="4800600"/>
            <a:ext cx="1699920" cy="1066680"/>
            <a:chOff x="6654960" y="4800600"/>
            <a:chExt cx="1699920" cy="1066680"/>
          </a:xfrm>
        </p:grpSpPr>
        <p:sp>
          <p:nvSpPr>
            <p:cNvPr id="474" name=""/>
            <p:cNvSpPr/>
            <p:nvPr/>
          </p:nvSpPr>
          <p:spPr>
            <a:xfrm>
              <a:off x="6654960" y="48006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34040" y="5865840"/>
              <a:ext cx="1320840" cy="1440"/>
            </a:xfrm>
            <a:custGeom>
              <a:avLst/>
              <a:gdLst/>
              <a:ahLst/>
              <a:rect l="l" t="t" r="r" b="b"/>
              <a:pathLst>
                <a:path w="832" h="1">
                  <a:moveTo>
                    <a:pt x="0" y="0"/>
                  </a:moveTo>
                  <a:lnTo>
                    <a:pt x="8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11640" y="6095880"/>
            <a:ext cx="4154760" cy="581400"/>
            <a:chOff x="611640" y="6095880"/>
            <a:chExt cx="4154760" cy="581400"/>
          </a:xfrm>
        </p:grpSpPr>
        <p:grpSp>
          <p:nvGrpSpPr>
            <p:cNvPr id="477" name=""/>
            <p:cNvGrpSpPr/>
            <p:nvPr/>
          </p:nvGrpSpPr>
          <p:grpSpPr>
            <a:xfrm>
              <a:off x="2839320" y="6095880"/>
              <a:ext cx="1927080" cy="581400"/>
              <a:chOff x="2839320" y="6095880"/>
              <a:chExt cx="1927080" cy="581400"/>
            </a:xfrm>
          </p:grpSpPr>
          <p:sp>
            <p:nvSpPr>
              <p:cNvPr id="478" name=""/>
              <p:cNvSpPr/>
              <p:nvPr/>
            </p:nvSpPr>
            <p:spPr>
              <a:xfrm>
                <a:off x="2839320" y="6095880"/>
                <a:ext cx="192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OD{-3;-4}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92680" y="6172200"/>
                <a:ext cx="482400" cy="144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611640" y="617220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Радиус-вект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L 0.11528 0.07407 L 0.00712 0.0875 E">
                                      <p:cBhvr>
                                        <p:cTn id="375" dur="1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1481E-006 L -0.10833 -0.02593 L 0.00156 -0.07547 E">
                                      <p:cBhvr>
                                        <p:cTn id="377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L 0.11528 0.07407 L 0.00712 0.0875 E">
                                      <p:cBhvr>
                                        <p:cTn id="416" dur="1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1481E-006 L -0.10833 -0.02593 L 0.00156 -0.07547 E">
                                      <p:cBhvr>
                                        <p:cTn id="418" dur="1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 flipH="1">
            <a:off x="4723560" y="76320"/>
            <a:ext cx="5334120" cy="7596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83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33520" y="2286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координ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572000" y="1600200"/>
            <a:ext cx="1960920" cy="581400"/>
            <a:chOff x="4572000" y="1600200"/>
            <a:chExt cx="1960920" cy="581400"/>
          </a:xfrm>
        </p:grpSpPr>
        <p:sp>
          <p:nvSpPr>
            <p:cNvPr id="493" name=""/>
            <p:cNvSpPr/>
            <p:nvPr/>
          </p:nvSpPr>
          <p:spPr>
            <a:xfrm>
              <a:off x="4572000" y="1600200"/>
              <a:ext cx="196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M{-4; 0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24640" y="1676520"/>
              <a:ext cx="48240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5081040" y="990720"/>
            <a:ext cx="13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;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028840" y="45720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2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702320" y="685800"/>
            <a:ext cx="1699920" cy="838080"/>
            <a:chOff x="4702320" y="685800"/>
            <a:chExt cx="1699920" cy="838080"/>
          </a:xfrm>
        </p:grpSpPr>
        <p:sp>
          <p:nvSpPr>
            <p:cNvPr id="498" name=""/>
            <p:cNvSpPr/>
            <p:nvPr/>
          </p:nvSpPr>
          <p:spPr>
            <a:xfrm>
              <a:off x="4702320" y="685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81400" y="1522800"/>
              <a:ext cx="1320840" cy="1080"/>
            </a:xfrm>
            <a:custGeom>
              <a:avLst/>
              <a:gdLst/>
              <a:ahLst/>
              <a:rect l="l" t="t" r="r" b="b"/>
              <a:pathLst>
                <a:path w="832" h="1">
                  <a:moveTo>
                    <a:pt x="0" y="0"/>
                  </a:moveTo>
                  <a:lnTo>
                    <a:pt x="8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23200" y="990720"/>
            <a:ext cx="4187520" cy="581400"/>
            <a:chOff x="223200" y="990720"/>
            <a:chExt cx="4187520" cy="581400"/>
          </a:xfrm>
        </p:grpSpPr>
        <p:sp>
          <p:nvSpPr>
            <p:cNvPr id="501" name=""/>
            <p:cNvSpPr/>
            <p:nvPr/>
          </p:nvSpPr>
          <p:spPr>
            <a:xfrm>
              <a:off x="223200" y="990720"/>
              <a:ext cx="41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(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M(-2;7);    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33920" y="106668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22120" y="1859040"/>
            <a:ext cx="4051800" cy="581400"/>
            <a:chOff x="222120" y="1859040"/>
            <a:chExt cx="4051800" cy="581400"/>
          </a:xfrm>
        </p:grpSpPr>
        <p:sp>
          <p:nvSpPr>
            <p:cNvPr id="504" name=""/>
            <p:cNvSpPr/>
            <p:nvPr/>
          </p:nvSpPr>
          <p:spPr>
            <a:xfrm>
              <a:off x="222120" y="1859040"/>
              <a:ext cx="405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-5;1)</a:t>
              </a: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D(-5;7);    P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33920" y="193500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660066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200720" y="1600200"/>
            <a:ext cx="1791720" cy="581400"/>
            <a:chOff x="7200720" y="1600200"/>
            <a:chExt cx="1791720" cy="581400"/>
          </a:xfrm>
        </p:grpSpPr>
        <p:sp>
          <p:nvSpPr>
            <p:cNvPr id="507" name=""/>
            <p:cNvSpPr/>
            <p:nvPr/>
          </p:nvSpPr>
          <p:spPr>
            <a:xfrm>
              <a:off x="7200720" y="1600200"/>
              <a:ext cx="1791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PD{ 0; 6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53360" y="1676520"/>
              <a:ext cx="48204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660066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7542720" y="99072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-5;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543080" y="45720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-5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164720" y="685800"/>
            <a:ext cx="1699920" cy="838080"/>
            <a:chOff x="7164720" y="685800"/>
            <a:chExt cx="1699920" cy="838080"/>
          </a:xfrm>
        </p:grpSpPr>
        <p:sp>
          <p:nvSpPr>
            <p:cNvPr id="512" name=""/>
            <p:cNvSpPr/>
            <p:nvPr/>
          </p:nvSpPr>
          <p:spPr>
            <a:xfrm>
              <a:off x="7164720" y="685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43800" y="1522800"/>
              <a:ext cx="1320840" cy="1080"/>
            </a:xfrm>
            <a:custGeom>
              <a:avLst/>
              <a:gdLst/>
              <a:ahLst/>
              <a:rect l="l" t="t" r="r" b="b"/>
              <a:pathLst>
                <a:path w="832" h="1">
                  <a:moveTo>
                    <a:pt x="0" y="0"/>
                  </a:moveTo>
                  <a:lnTo>
                    <a:pt x="8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22480" y="2849400"/>
            <a:ext cx="4109760" cy="581400"/>
            <a:chOff x="222480" y="2849400"/>
            <a:chExt cx="4109760" cy="581400"/>
          </a:xfrm>
        </p:grpSpPr>
        <p:sp>
          <p:nvSpPr>
            <p:cNvPr id="515" name=""/>
            <p:cNvSpPr/>
            <p:nvPr/>
          </p:nvSpPr>
          <p:spPr>
            <a:xfrm>
              <a:off x="222480" y="2849400"/>
              <a:ext cx="41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ru-RU" sz="3200" spc="-1" strike="noStrike">
                  <a:solidFill>
                    <a:srgbClr val="0066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-3;0)</a:t>
              </a:r>
              <a:r>
                <a:rPr b="1" lang="ru-RU" sz="3200" spc="-1" strike="noStrike">
                  <a:solidFill>
                    <a:srgbClr val="006600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N(0;5);     R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33920" y="292536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22840" y="3840120"/>
            <a:ext cx="4166280" cy="581400"/>
            <a:chOff x="222840" y="3840120"/>
            <a:chExt cx="4166280" cy="581400"/>
          </a:xfrm>
        </p:grpSpPr>
        <p:sp>
          <p:nvSpPr>
            <p:cNvPr id="518" name=""/>
            <p:cNvSpPr/>
            <p:nvPr/>
          </p:nvSpPr>
          <p:spPr>
            <a:xfrm>
              <a:off x="222840" y="3840120"/>
              <a:ext cx="416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r>
                <a:rPr b="1" lang="ru-RU" sz="3200" spc="-1" strike="noStrike">
                  <a:solidFill>
                    <a:srgbClr val="8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0;3)</a:t>
              </a:r>
              <a:r>
                <a:rPr b="1" lang="ru-RU" sz="3200" spc="-1" strike="noStrike">
                  <a:solidFill>
                    <a:srgbClr val="800000"/>
                  </a:solidFill>
                  <a:latin typeface="Times New Roman"/>
                </a:rPr>
                <a:t>; </a:t>
              </a: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B(-4;0);     B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33920" y="391608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22840" y="5791320"/>
            <a:ext cx="4131000" cy="581400"/>
            <a:chOff x="222840" y="5791320"/>
            <a:chExt cx="4131000" cy="581400"/>
          </a:xfrm>
        </p:grpSpPr>
        <p:sp>
          <p:nvSpPr>
            <p:cNvPr id="521" name=""/>
            <p:cNvSpPr/>
            <p:nvPr/>
          </p:nvSpPr>
          <p:spPr>
            <a:xfrm>
              <a:off x="222840" y="5791320"/>
              <a:ext cx="413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7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(-2;-7);   R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33920" y="586728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23200" y="4800600"/>
            <a:ext cx="4097520" cy="581400"/>
            <a:chOff x="223200" y="4800600"/>
            <a:chExt cx="4097520" cy="581400"/>
          </a:xfrm>
        </p:grpSpPr>
        <p:sp>
          <p:nvSpPr>
            <p:cNvPr id="524" name=""/>
            <p:cNvSpPr/>
            <p:nvPr/>
          </p:nvSpPr>
          <p:spPr>
            <a:xfrm>
              <a:off x="223200" y="4800600"/>
              <a:ext cx="40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B(-2;0);    A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33920" y="487656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818240" y="3657600"/>
            <a:ext cx="1735200" cy="581400"/>
            <a:chOff x="4818240" y="3657600"/>
            <a:chExt cx="1735200" cy="581400"/>
          </a:xfrm>
        </p:grpSpPr>
        <p:sp>
          <p:nvSpPr>
            <p:cNvPr id="527" name=""/>
            <p:cNvSpPr/>
            <p:nvPr/>
          </p:nvSpPr>
          <p:spPr>
            <a:xfrm>
              <a:off x="4818240" y="3657600"/>
              <a:ext cx="173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RN{3; 5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70520" y="3733920"/>
              <a:ext cx="48204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5104800" y="304812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-3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04800" y="25146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0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726080" y="2743200"/>
            <a:ext cx="1699920" cy="838080"/>
            <a:chOff x="4726080" y="2743200"/>
            <a:chExt cx="1699920" cy="838080"/>
          </a:xfrm>
        </p:grpSpPr>
        <p:sp>
          <p:nvSpPr>
            <p:cNvPr id="532" name=""/>
            <p:cNvSpPr/>
            <p:nvPr/>
          </p:nvSpPr>
          <p:spPr>
            <a:xfrm>
              <a:off x="4726080" y="2743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05160" y="3580200"/>
              <a:ext cx="1320840" cy="1080"/>
            </a:xfrm>
            <a:custGeom>
              <a:avLst/>
              <a:gdLst/>
              <a:ahLst/>
              <a:rect l="l" t="t" r="r" b="b"/>
              <a:pathLst>
                <a:path w="832" h="1">
                  <a:moveTo>
                    <a:pt x="0" y="0"/>
                  </a:moveTo>
                  <a:lnTo>
                    <a:pt x="8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278840" y="3657600"/>
            <a:ext cx="1712520" cy="581400"/>
            <a:chOff x="7278840" y="3657600"/>
            <a:chExt cx="1712520" cy="581400"/>
          </a:xfrm>
        </p:grpSpPr>
        <p:sp>
          <p:nvSpPr>
            <p:cNvPr id="535" name=""/>
            <p:cNvSpPr/>
            <p:nvPr/>
          </p:nvSpPr>
          <p:spPr>
            <a:xfrm>
              <a:off x="7278840" y="3657600"/>
              <a:ext cx="171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BA{4; 3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31480" y="3733920"/>
              <a:ext cx="48240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7566840" y="304812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-4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566840" y="2514600"/>
            <a:ext cx="13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0;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188480" y="2743200"/>
            <a:ext cx="1699920" cy="838080"/>
            <a:chOff x="7188480" y="2743200"/>
            <a:chExt cx="1699920" cy="838080"/>
          </a:xfrm>
        </p:grpSpPr>
        <p:sp>
          <p:nvSpPr>
            <p:cNvPr id="540" name=""/>
            <p:cNvSpPr/>
            <p:nvPr/>
          </p:nvSpPr>
          <p:spPr>
            <a:xfrm>
              <a:off x="7188480" y="2743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67560" y="3580200"/>
              <a:ext cx="1320840" cy="1080"/>
            </a:xfrm>
            <a:custGeom>
              <a:avLst/>
              <a:gdLst/>
              <a:ahLst/>
              <a:rect l="l" t="t" r="r" b="b"/>
              <a:pathLst>
                <a:path w="832" h="1">
                  <a:moveTo>
                    <a:pt x="0" y="0"/>
                  </a:moveTo>
                  <a:lnTo>
                    <a:pt x="8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4730760" y="5943600"/>
            <a:ext cx="1746000" cy="581400"/>
            <a:chOff x="4730760" y="5943600"/>
            <a:chExt cx="1746000" cy="581400"/>
          </a:xfrm>
        </p:grpSpPr>
        <p:sp>
          <p:nvSpPr>
            <p:cNvPr id="543" name=""/>
            <p:cNvSpPr/>
            <p:nvPr/>
          </p:nvSpPr>
          <p:spPr>
            <a:xfrm>
              <a:off x="4730760" y="5943600"/>
              <a:ext cx="174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B{0;-7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3400" y="6019920"/>
              <a:ext cx="48240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028480" y="533412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2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028480" y="480060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2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650120" y="5029200"/>
            <a:ext cx="1699920" cy="838080"/>
            <a:chOff x="4650120" y="5029200"/>
            <a:chExt cx="1699920" cy="838080"/>
          </a:xfrm>
        </p:grpSpPr>
        <p:sp>
          <p:nvSpPr>
            <p:cNvPr id="548" name=""/>
            <p:cNvSpPr/>
            <p:nvPr/>
          </p:nvSpPr>
          <p:spPr>
            <a:xfrm>
              <a:off x="4650120" y="5029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29200" y="5866200"/>
              <a:ext cx="1320840" cy="1080"/>
            </a:xfrm>
            <a:custGeom>
              <a:avLst/>
              <a:gdLst/>
              <a:ahLst/>
              <a:rect l="l" t="t" r="r" b="b"/>
              <a:pathLst>
                <a:path w="832" h="1">
                  <a:moveTo>
                    <a:pt x="0" y="0"/>
                  </a:moveTo>
                  <a:lnTo>
                    <a:pt x="8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981480" y="5943600"/>
            <a:ext cx="1950120" cy="581400"/>
            <a:chOff x="6981480" y="5943600"/>
            <a:chExt cx="1950120" cy="581400"/>
          </a:xfrm>
        </p:grpSpPr>
        <p:sp>
          <p:nvSpPr>
            <p:cNvPr id="551" name=""/>
            <p:cNvSpPr/>
            <p:nvPr/>
          </p:nvSpPr>
          <p:spPr>
            <a:xfrm>
              <a:off x="6981480" y="5943600"/>
              <a:ext cx="195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T{5;-14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34480" y="6019920"/>
              <a:ext cx="48240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7490520" y="533412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7;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466040" y="4800600"/>
            <a:ext cx="15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;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7112160" y="5029200"/>
            <a:ext cx="1699920" cy="838080"/>
            <a:chOff x="7112160" y="5029200"/>
            <a:chExt cx="1699920" cy="838080"/>
          </a:xfrm>
        </p:grpSpPr>
        <p:sp>
          <p:nvSpPr>
            <p:cNvPr id="556" name=""/>
            <p:cNvSpPr/>
            <p:nvPr/>
          </p:nvSpPr>
          <p:spPr>
            <a:xfrm>
              <a:off x="7112160" y="5029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91240" y="5866200"/>
              <a:ext cx="1320840" cy="1080"/>
            </a:xfrm>
            <a:custGeom>
              <a:avLst/>
              <a:gdLst/>
              <a:ahLst/>
              <a:rect l="l" t="t" r="r" b="b"/>
              <a:pathLst>
                <a:path w="832" h="1">
                  <a:moveTo>
                    <a:pt x="0" y="0"/>
                  </a:moveTo>
                  <a:lnTo>
                    <a:pt x="8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4114800" y="0"/>
            <a:ext cx="5029200" cy="6897240"/>
            <a:chOff x="4114800" y="0"/>
            <a:chExt cx="5029200" cy="6897240"/>
          </a:xfrm>
        </p:grpSpPr>
        <p:sp>
          <p:nvSpPr>
            <p:cNvPr id="559" name=""/>
            <p:cNvSpPr/>
            <p:nvPr/>
          </p:nvSpPr>
          <p:spPr>
            <a:xfrm>
              <a:off x="4114800" y="294120"/>
              <a:ext cx="5029200" cy="66031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>
                    <a:alpha val="99215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bbe0e3">
                    <a:alpha val="99215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4807800" y="0"/>
              <a:ext cx="187200" cy="653760"/>
              <a:chOff x="4807800" y="0"/>
              <a:chExt cx="187200" cy="653760"/>
            </a:xfrm>
          </p:grpSpPr>
          <p:sp>
            <p:nvSpPr>
              <p:cNvPr id="561" name=""/>
              <p:cNvSpPr/>
              <p:nvPr/>
            </p:nvSpPr>
            <p:spPr>
              <a:xfrm>
                <a:off x="4878720" y="491040"/>
                <a:ext cx="55440" cy="16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807800" y="0"/>
                <a:ext cx="187200" cy="6235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5438160" y="1440"/>
              <a:ext cx="188280" cy="654120"/>
              <a:chOff x="5438160" y="1440"/>
              <a:chExt cx="188280" cy="654120"/>
            </a:xfrm>
          </p:grpSpPr>
          <p:sp>
            <p:nvSpPr>
              <p:cNvPr id="564" name=""/>
              <p:cNvSpPr/>
              <p:nvPr/>
            </p:nvSpPr>
            <p:spPr>
              <a:xfrm>
                <a:off x="5509440" y="492840"/>
                <a:ext cx="55800" cy="16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38160" y="1440"/>
                <a:ext cx="188280" cy="623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6110280" y="1440"/>
              <a:ext cx="187200" cy="654120"/>
              <a:chOff x="6110280" y="1440"/>
              <a:chExt cx="187200" cy="654120"/>
            </a:xfrm>
          </p:grpSpPr>
          <p:sp>
            <p:nvSpPr>
              <p:cNvPr id="567" name=""/>
              <p:cNvSpPr/>
              <p:nvPr/>
            </p:nvSpPr>
            <p:spPr>
              <a:xfrm>
                <a:off x="6181200" y="492840"/>
                <a:ext cx="55440" cy="16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110280" y="1440"/>
                <a:ext cx="187200" cy="623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780600" y="1440"/>
              <a:ext cx="187200" cy="654120"/>
              <a:chOff x="6780600" y="1440"/>
              <a:chExt cx="187200" cy="654120"/>
            </a:xfrm>
          </p:grpSpPr>
          <p:sp>
            <p:nvSpPr>
              <p:cNvPr id="570" name=""/>
              <p:cNvSpPr/>
              <p:nvPr/>
            </p:nvSpPr>
            <p:spPr>
              <a:xfrm>
                <a:off x="6851520" y="492840"/>
                <a:ext cx="55440" cy="16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780600" y="1440"/>
                <a:ext cx="187200" cy="623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7376040" y="1440"/>
              <a:ext cx="187200" cy="654120"/>
              <a:chOff x="7376040" y="1440"/>
              <a:chExt cx="187200" cy="654120"/>
            </a:xfrm>
          </p:grpSpPr>
          <p:sp>
            <p:nvSpPr>
              <p:cNvPr id="573" name=""/>
              <p:cNvSpPr/>
              <p:nvPr/>
            </p:nvSpPr>
            <p:spPr>
              <a:xfrm>
                <a:off x="7446960" y="492840"/>
                <a:ext cx="55440" cy="16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376040" y="1440"/>
                <a:ext cx="187200" cy="623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8048160" y="1440"/>
              <a:ext cx="187200" cy="654120"/>
              <a:chOff x="8048160" y="1440"/>
              <a:chExt cx="187200" cy="654120"/>
            </a:xfrm>
          </p:grpSpPr>
          <p:sp>
            <p:nvSpPr>
              <p:cNvPr id="576" name=""/>
              <p:cNvSpPr/>
              <p:nvPr/>
            </p:nvSpPr>
            <p:spPr>
              <a:xfrm>
                <a:off x="8119080" y="492840"/>
                <a:ext cx="55440" cy="16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048160" y="1440"/>
                <a:ext cx="187200" cy="623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7836120" y="2325600"/>
              <a:ext cx="287640" cy="404136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69000" y="3347280"/>
              <a:ext cx="447120" cy="31824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38160" y="4408200"/>
              <a:ext cx="448200" cy="22032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8675640" y="0"/>
              <a:ext cx="187200" cy="653760"/>
              <a:chOff x="8675640" y="0"/>
              <a:chExt cx="187200" cy="653760"/>
            </a:xfrm>
          </p:grpSpPr>
          <p:sp>
            <p:nvSpPr>
              <p:cNvPr id="582" name=""/>
              <p:cNvSpPr/>
              <p:nvPr/>
            </p:nvSpPr>
            <p:spPr>
              <a:xfrm>
                <a:off x="8746560" y="491040"/>
                <a:ext cx="55440" cy="16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675640" y="0"/>
                <a:ext cx="187200" cy="6235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22222E-006 L 0.5 0.00833 E">
                                      <p:cBhvr>
                                        <p:cTn id="466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вченко</cp:lastModifiedBy>
  <dcterms:modified xsi:type="dcterms:W3CDTF">2008-10-15T19:42:22Z</dcterms:modified>
  <cp:revision>5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