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14A-2CA9-4C56-BA73-16CA0695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40F7-9CB6-448C-A57B-F9B3682F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8A73-0C47-4F9C-BD4B-6D3AB022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A672-FC60-4567-82C3-EBE669B5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49C-3E4B-405D-9AC2-C1A6D974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6E6-00C7-4840-A675-B1A0B554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DE4D-5B20-4632-BB11-4DD3A5BA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CB3C-18D0-4245-9ECA-D5FDDBEA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3F95-2EE2-4F15-9A29-FA83A7D5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C1A-8322-4E5B-A3C3-5EA1F58A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B35-849C-4DE9-A48B-6DBDFC70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FB0E-4EC5-4E41-9E02-91F4A07F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B85B-D350-4998-9E62-F93829611E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5 Чередующиеся гласные в корне сло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24000" y="382680"/>
            <a:ext cx="8569080" cy="54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Теперь попробуем усложнит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 каком ряду во всех словах есть гласная, проверяемая ударение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р...битель, ин...циатива, забл...сте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...дент, сол...дарность, апл...дирова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...лчение, нагром...ждение, у...звленное (самолюбие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...мать (словам), д...кламировать, к...рамическ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395280" y="333360"/>
            <a:ext cx="84978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 каком ряду во всех словах пропущена безударная непрове-ряемая гласная корня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кв...рель, сент...ментальный, ун...версит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...щание, ред...ктировать, т...реадор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ш...велюра, предв...рительный, увл...чен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...ликатес, в...негрет, уед...ненны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95280" y="260280"/>
            <a:ext cx="8497800" cy="466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 каком ряду все слова имеют корни с чередующимися гласны-ми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..чонок, п...ртьера, расст...л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...рованный, фл...минго, зад...ржа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ист...рический, см...ртельный, тр...в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л...нение, зам...реть (на секунду), бл...стящ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250920" y="404640"/>
            <a:ext cx="856908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адание А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 задании предлагается опознать слово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 указанной в формулировке орфограммой в корн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79280" y="476280"/>
            <a:ext cx="878544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то должен знать ученик, выполняя задание А5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правописание корней с проверяемой безударной гласно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правописание корней с чередующейся гласно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словарные слова с непроверяемыми безударными гласными в корне, требующими запомин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79280" y="333360"/>
            <a:ext cx="8496360" cy="56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Проверяемые безударные гласные буквы в корне сл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безударном положении в корне слова пишется та же гласная буква, что и под ударением в однокоренных словах или формах этого слов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Безударный гласный зв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ичиняет много му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тобы не было сомненья,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тавим звук под ударень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Ударение над гласн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Может сделать букву ясной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312840" y="115920"/>
            <a:ext cx="8642160" cy="594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Чередующиеся гласные в корне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.1. Корни, в которых правописание гласной зависит от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ударения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Р-ГОР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од ударением - А, без ударения - 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АН-КЛО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без ударения - О, под ударением то, что слышитс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ВАР-ТВОР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з ударения - О, под ударением то, что слышится).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скл.: УТВАРЬ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Р-ЗОР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без ударения - А, под ударением - то, что слышится)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скл.: ЗОРЕВАТЬ, ЗОРЯ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79280" y="260280"/>
            <a:ext cx="8640720" cy="69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2.2. Корни, в которых правописание гласной зависит от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Calibri"/>
              </a:rPr>
              <a:t>следующего за корнем суффикса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ИРа - Б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ИРа - П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Ра - Д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ИРа - Т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Ра - М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ЛИСТа - БЛ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ИЛа - СТ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ИГа - ЖЕ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ИТа - ЧЕТ   Искл.: СОЧЕТАТЬ, СОЧЕТ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ишется 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за корнем следует суффикса -А-;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ишется 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за корнем нет суф-фикса -А-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2.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Са - КОС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ишется 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есть суффикс -А-;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ишется 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нет суффикса -А-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250920" y="260280"/>
            <a:ext cx="8713800" cy="594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.4. Корни, в которых правописание гласной зависит от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последних согласных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АГ - ЛОЖ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еред Г - А, перед Ж - 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Т - РАЩ - РОС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еред СТ и Щ - А, перед С - О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кл.: РОСТОК, РОСТИСЛАВ, РОСТОВ, РОСТОВЩИК, ОТРАС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К - СКОЧ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еред К - А, перед Ч - О) 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кл.: СКАЧОК, СКАЧ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АВ - ПЛОВ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 словах ПЛОВЕЦ, ПЛОВЧИХА, в остальных случаях -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324000" y="260280"/>
            <a:ext cx="856908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2.5. Корни, в которых правописание гласной зависит от смысла слов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К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("погружать в жидкость") -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ОК (МОЧ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("пропускать или не пропускать жидкость"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ВН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("равный, одинаковый") -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ОВН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("ровный, гладкий"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скл.: РАВНИНА, РОВЕСНИК, УРОВЕНЬ, ПОРОВН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79280" y="55440"/>
            <a:ext cx="8785440" cy="67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оверь себя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ажите слово с чередующейся гласной в кор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чищать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делалось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коснулись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лепи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ажите слово с непроверяемой безударной гласной в кор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сничество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бетонировать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зарение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трели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ажите слово с безударной гласной в корне, проверяемой уда-рени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ризонт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ирался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рел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ров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6T07:59:13Z</dcterms:created>
  <dc:creator>Admin</dc:creator>
  <dc:description/>
  <dc:language>en-US</dc:language>
  <cp:lastModifiedBy>Admin</cp:lastModifiedBy>
  <dcterms:modified xsi:type="dcterms:W3CDTF">2013-10-13T15:25:11Z</dcterms:modified>
  <cp:revision>5</cp:revision>
  <dc:subject/>
  <dc:title>А5 Чередующиеся гласные в корне слова</dc:title>
</cp:coreProperties>
</file>