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wmf" ContentType="image/x-wmf"/>
  <Override PartName="/ppt/media/image10.jpeg" ContentType="image/jpeg"/>
  <Override PartName="/ppt/media/image5.jpeg" ContentType="image/jpeg"/>
  <Override PartName="/ppt/media/image7.gif" ContentType="image/gif"/>
  <Override PartName="/ppt/media/image9.jpeg" ContentType="image/jpeg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Гуманитарные и социальные науки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Гуманитарные и социальные науки</c:v>
                </c:pt>
                <c:pt idx="1">
                  <c:v>Естественные и технические науки</c:v>
                </c:pt>
                <c:pt idx="2">
                  <c:v>Медицина. Фармацевтик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Естественные и технические науки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Гуманитарные и социальные науки</c:v>
                </c:pt>
                <c:pt idx="1">
                  <c:v>Естественные и технические науки</c:v>
                </c:pt>
                <c:pt idx="2">
                  <c:v>Медицина. Фармацевтика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Медицина. Фармацевтика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Гуманитарные и социальные науки</c:v>
                </c:pt>
                <c:pt idx="1">
                  <c:v>Естественные и технические науки</c:v>
                </c:pt>
                <c:pt idx="2">
                  <c:v>Медицина. Фармацевтика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3"/>
                <c:pt idx="0">
                  <c:v>4.54</c:v>
                </c:pt>
                <c:pt idx="1">
                  <c:v>9.65</c:v>
                </c:pt>
                <c:pt idx="2">
                  <c:v>1.7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698339483394834"/>
          <c:y val="0.253835890593729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sz="1500" spc="-1" strike="noStrike">
              <a:solidFill>
                <a:srgbClr val="000000"/>
              </a:solidFill>
              <a:latin typeface="Comic Sans MS"/>
            </a:defRPr>
          </a:pPr>
        </a:p>
      </c:txPr>
    </c:legend>
    <c:plotVisOnly val="1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1"/>
      <c:rotY val="25"/>
      <c:rAngAx val="1"/>
      <c:perspective val="4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bar3DChart>
        <c:barDir val="col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нет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multiLvlStrRef>
              <c:f>categories</c:f>
              <c:multiLvlStrCache>
                <c:ptCount val="1"/>
                <c:lvl/>
                <c:lvl>
                  <c:pt idx="0">
                    <c:v>Строка 3</c:v>
                  </c:pt>
                </c:lvl>
              </c:multiLvlStrCache>
            </c:multiLvlStrRef>
          </c:cat>
          <c:val>
            <c:numRef>
              <c:f>0</c:f>
              <c:numCache>
                <c:formatCode>General</c:formatCode>
                <c:ptCount val="1"/>
                <c:pt idx="0">
                  <c:v>1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да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multiLvlStrRef>
              <c:f>categories</c:f>
              <c:multiLvlStrCache>
                <c:ptCount val="1"/>
                <c:lvl/>
                <c:lvl>
                  <c:pt idx="0">
                    <c:v>Строка 3</c:v>
                  </c:pt>
                </c:lvl>
              </c:multiLvlStrCache>
            </c:multiLvlStrRef>
          </c:cat>
          <c:val>
            <c:numRef>
              <c:f>1</c:f>
              <c:numCache>
                <c:formatCode>General</c:formatCode>
                <c:ptCount val="1"/>
                <c:pt idx="0">
                  <c:v>3.7</c:v>
                </c:pt>
              </c:numCache>
            </c:numRef>
          </c:val>
        </c:ser>
        <c:gapWidth val="100"/>
        <c:shape val="box"/>
        <c:axId val="93358062"/>
        <c:axId val="89443537"/>
        <c:axId val="0"/>
      </c:bar3DChart>
      <c:catAx>
        <c:axId val="93358062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43537"/>
        <c:crosses val="autoZero"/>
        <c:auto val="1"/>
        <c:lblAlgn val="ctr"/>
        <c:lblOffset val="100"/>
        <c:noMultiLvlLbl val="0"/>
      </c:catAx>
      <c:valAx>
        <c:axId val="89443537"/>
        <c:scaling>
          <c:orientation val="minMax"/>
        </c:scaling>
        <c:delete val="0"/>
        <c:axPos val="l"/>
        <c:numFmt formatCode="[$-419]0%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58062"/>
        <c:crosses val="autoZero"/>
        <c:crossBetween val="between"/>
      </c:valAx>
    </c:plotArea>
    <c:legend>
      <c:legendPos val="r"/>
      <c:layout>
        <c:manualLayout>
          <c:xMode val="edge"/>
          <c:yMode val="edge"/>
          <c:x val="0.908210332103321"/>
          <c:y val="0.42044696464309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sz="1500" spc="-1" strike="noStrike">
              <a:solidFill>
                <a:srgbClr val="000000"/>
              </a:solidFill>
              <a:latin typeface="Comic Sans MS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Гуманитарные и социальные науки</c:v>
                </c:pt>
                <c:pt idx="1">
                  <c:v>Медицина. Фармацевтика</c:v>
                </c:pt>
                <c:pt idx="2">
                  <c:v>Экономика. Менеджмент</c:v>
                </c:pt>
                <c:pt idx="3">
                  <c:v>Естественные и технические науки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Гуманитарные и социальные науки</c:v>
                </c:pt>
                <c:pt idx="1">
                  <c:v>Медицина. Фармацевтика</c:v>
                </c:pt>
                <c:pt idx="2">
                  <c:v>Экономика. Менеджмент</c:v>
                </c:pt>
                <c:pt idx="3">
                  <c:v>Естественные и технические науки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Гуманитарные и социальные науки</c:v>
                </c:pt>
                <c:pt idx="1">
                  <c:v>Медицина. Фармацевтика</c:v>
                </c:pt>
                <c:pt idx="2">
                  <c:v>Экономика. Менеджмент</c:v>
                </c:pt>
                <c:pt idx="3">
                  <c:v>Естественные и технические науки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23339483394834"/>
          <c:y val="0.22414943295530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sz="1500" spc="-1" strike="noStrike">
              <a:solidFill>
                <a:srgbClr val="000000"/>
              </a:solidFill>
              <a:latin typeface="Comic Sans MS"/>
            </a:defRPr>
          </a:pPr>
        </a:p>
      </c:txPr>
    </c:legend>
    <c:plotVisOnly val="1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1"/>
      <c:rotY val="25"/>
      <c:rAngAx val="1"/>
      <c:perspective val="4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да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multiLvlStrRef>
              <c:f>categories</c:f>
              <c:multiLvlStrCache>
                <c:ptCount val="1"/>
                <c:lvl/>
                <c:lvl>
                  <c:pt idx="0">
                    <c:v>Строка 1</c:v>
                  </c:pt>
                </c:lvl>
              </c:multiLvlStrCache>
            </c:multiLvlStrRef>
          </c:cat>
          <c:val>
            <c:numRef>
              <c:f>0</c:f>
              <c:numCache>
                <c:formatCode>General</c:formatCode>
                <c:ptCount val="1"/>
                <c:pt idx="0">
                  <c:v>1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нет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multiLvlStrRef>
              <c:f>categories</c:f>
              <c:multiLvlStrCache>
                <c:ptCount val="1"/>
                <c:lvl/>
                <c:lvl>
                  <c:pt idx="0">
                    <c:v>Строка 1</c:v>
                  </c:pt>
                </c:lvl>
              </c:multiLvlStrCache>
            </c:multiLvlStrRef>
          </c:cat>
          <c:val>
            <c:numRef>
              <c:f>1</c:f>
              <c:numCache>
                <c:formatCode>General</c:formatCode>
                <c:ptCount val="1"/>
                <c:pt idx="0">
                  <c:v>90</c:v>
                </c:pt>
              </c:numCache>
            </c:numRef>
          </c:val>
        </c:ser>
        <c:gapWidth val="100"/>
        <c:shape val="box"/>
        <c:axId val="91247338"/>
        <c:axId val="11867736"/>
        <c:axId val="0"/>
      </c:bar3DChart>
      <c:catAx>
        <c:axId val="91247338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67736"/>
        <c:crosses val="autoZero"/>
        <c:auto val="1"/>
        <c:lblAlgn val="ctr"/>
        <c:lblOffset val="100"/>
        <c:noMultiLvlLbl val="0"/>
      </c:catAx>
      <c:valAx>
        <c:axId val="11867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47338"/>
        <c:crosses val="autoZero"/>
        <c:crossBetween val="between"/>
      </c:valAx>
    </c:plotArea>
    <c:legend>
      <c:legendPos val="r"/>
      <c:layout>
        <c:manualLayout>
          <c:xMode val="edge"/>
          <c:yMode val="edge"/>
          <c:x val="0.908164206642066"/>
          <c:y val="0.35540360240160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sz="1500" spc="-1" strike="noStrike">
              <a:solidFill>
                <a:srgbClr val="000000"/>
              </a:solidFill>
              <a:latin typeface="Comic Sans MS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1"/>
      <c:rotY val="25"/>
      <c:rAngAx val="1"/>
      <c:perspective val="4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Численность населения (2010 г.)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/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7671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Число рабочих мест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/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126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Численность безработных граждан 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/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580</c:v>
                </c:pt>
              </c:numCache>
            </c:numRef>
          </c:val>
        </c:ser>
        <c:gapWidth val="100"/>
        <c:shape val="box"/>
        <c:axId val="82032604"/>
        <c:axId val="84970083"/>
        <c:axId val="0"/>
      </c:bar3DChart>
      <c:catAx>
        <c:axId val="82032604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70083"/>
        <c:crosses val="autoZero"/>
        <c:auto val="1"/>
        <c:lblAlgn val="ctr"/>
        <c:lblOffset val="100"/>
        <c:noMultiLvlLbl val="0"/>
      </c:catAx>
      <c:valAx>
        <c:axId val="84970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32604"/>
        <c:crosses val="autoZero"/>
        <c:crossBetween val="between"/>
      </c:valAx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1" sz="1500" spc="-1" strike="noStrike">
              <a:solidFill>
                <a:srgbClr val="000000"/>
              </a:solidFill>
              <a:latin typeface="Comic Sans MS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E20-1936-403F-BBFD-AFDBB385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400" y="416052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1CD-FE3A-433C-B997-61F0AE98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56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64D-7A5C-4C7A-9932-5DBCFA99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40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48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756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1B59-D003-4AEC-82D4-B4B46B42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A398-941C-4E1A-ACAE-DE6D5260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384A-E34C-4634-913C-41105BFB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8C9B-4ECF-4772-B4D1-AB6ACCB4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894B-726E-4F61-A87F-FC255EC3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DBB6-D578-4DCE-ADEF-B2FCE486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FC54-B74D-45A3-9872-ED07EDBE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AF01-C447-43AE-873B-29315E07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E62-64AF-44DA-9F13-9997773B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56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997B-9E9E-43A1-B482-566ADF24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1454-33C8-4E8B-9DA0-0EFBA315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71400" y="416052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6DEF-5C65-4FED-A36D-1AD7FB4F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56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5535-B2BF-4060-8C12-D67B06CE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7140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948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756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105F-6E94-41F7-9C77-C23A8FE4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4AB-48DE-4C5E-A8A0-2BD34085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0F8-D5B0-41C0-BC07-620E773F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7106-D2E0-43E4-AFCE-2E29826D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F93-6791-4B64-89BC-0949749F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3C20-8304-4144-B7D2-A286EC7E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56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001-638A-4175-9669-392BEB67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004E-9398-4C23-8CB7-2D9A4DB5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756A8-6B5F-4ADF-80E0-6A7DB86C9BC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F5991D-1260-40C4-B764-6A29793637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000" y="360000"/>
            <a:ext cx="8459640" cy="23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80"/>
                </a:solidFill>
                <a:latin typeface="Comic Sans MS"/>
              </a:rPr>
              <a:t>Безработица: причины и последствия. Пути преодоления. 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600000"/>
            <a:ext cx="953928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omic Sans MS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000080"/>
                </a:solidFill>
                <a:latin typeface="Comic Sans MS"/>
              </a:rPr>
              <a:t>Проект по эконом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omic Sans MS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0080"/>
                </a:solidFill>
                <a:latin typeface="Comic Sans MS"/>
              </a:rPr>
              <a:t>ученицы 11 «А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omic Sans MS"/>
              </a:rPr>
              <a:t>                                                </a:t>
            </a:r>
            <a:r>
              <a:rPr b="1" lang="ru-RU" sz="1800" spc="-1" strike="noStrike">
                <a:solidFill>
                  <a:srgbClr val="000080"/>
                </a:solidFill>
                <a:latin typeface="Comic Sans MS"/>
              </a:rPr>
              <a:t>Кузьменко Елены Александро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omic Sans MS"/>
              </a:rPr>
              <a:t>                                                                      </a:t>
            </a:r>
            <a:r>
              <a:rPr b="1" lang="ru-RU" sz="1800" spc="-1" strike="noStrike">
                <a:solidFill>
                  <a:srgbClr val="000080"/>
                </a:solidFill>
                <a:latin typeface="Comic Sans MS"/>
              </a:rPr>
              <a:t>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omic Sans MS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0080"/>
                </a:solidFill>
                <a:latin typeface="Comic Sans MS"/>
              </a:rPr>
              <a:t>Учитель </a:t>
            </a: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МБОУ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г.Минеральные Воды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omic Sans MS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000080"/>
                </a:solidFill>
                <a:latin typeface="Comic Sans MS"/>
              </a:rPr>
              <a:t>Гарибян Анаит Овик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omic Sans MS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Users\Анаит\Desktop\Безымянный.jpg"/>
          <p:cNvPicPr/>
          <p:nvPr/>
        </p:nvPicPr>
        <p:blipFill>
          <a:blip r:embed="rId1"/>
          <a:stretch/>
        </p:blipFill>
        <p:spPr>
          <a:xfrm>
            <a:off x="468360" y="2924280"/>
            <a:ext cx="447192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"/>
          <p:cNvSpPr/>
          <p:nvPr/>
        </p:nvSpPr>
        <p:spPr>
          <a:xfrm>
            <a:off x="468360" y="907920"/>
            <a:ext cx="8351640" cy="865440"/>
          </a:xfrm>
          <a:prstGeom prst="roundRect">
            <a:avLst>
              <a:gd name="adj" fmla="val 16667"/>
            </a:avLst>
          </a:prstGeom>
          <a:solidFill>
            <a:srgbClr val="5b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ица – социально-экономическое явление, характеризующее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e683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6d2f2"/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66ff"/>
              </a:gs>
              <a:gs pos="100000">
                <a:srgbClr val="d5bae4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5600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икционная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</a:rPr>
              <a:t>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429080" y="5040360"/>
            <a:ext cx="187164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da708e"/>
              </a:gs>
            </a:gsLst>
            <a:lin ang="5400000"/>
          </a:gra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7ec49a"/>
              </a:gs>
            </a:gsLst>
            <a:lin ang="5400000"/>
          </a:gra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d3c4da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4356000" y="2349360"/>
            <a:ext cx="180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AutoShape 12"/>
          <p:cNvCxnSpPr>
            <a:stCxn id="115" idx="3"/>
            <a:endCxn id="116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25" name="Group 13"/>
          <p:cNvGrpSpPr/>
          <p:nvPr/>
        </p:nvGrpSpPr>
        <p:grpSpPr>
          <a:xfrm>
            <a:off x="468360" y="4292640"/>
            <a:ext cx="209520" cy="1147680"/>
            <a:chOff x="468360" y="4292640"/>
            <a:chExt cx="209520" cy="1147680"/>
          </a:xfrm>
        </p:grpSpPr>
        <p:sp>
          <p:nvSpPr>
            <p:cNvPr id="126" name="Line 14"/>
            <p:cNvSpPr/>
            <p:nvPr/>
          </p:nvSpPr>
          <p:spPr>
            <a:xfrm>
              <a:off x="468360" y="5440320"/>
              <a:ext cx="20952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485640" y="4292640"/>
              <a:ext cx="1922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5292000" y="3141720"/>
            <a:ext cx="3528000" cy="1898640"/>
            <a:chOff x="5292000" y="3141720"/>
            <a:chExt cx="3528000" cy="1898640"/>
          </a:xfrm>
        </p:grpSpPr>
        <p:cxnSp>
          <p:nvCxnSpPr>
            <p:cNvPr id="129" name="AutoShape 17"/>
            <p:cNvCxnSpPr>
              <a:stCxn id="116" idx="3"/>
            </p:cNvCxnSpPr>
            <p:nvPr/>
          </p:nvCxnSpPr>
          <p:spPr>
            <a:xfrm>
              <a:off x="7524360" y="3141720"/>
              <a:ext cx="129600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130" name="Line 18"/>
            <p:cNvSpPr/>
            <p:nvPr/>
          </p:nvSpPr>
          <p:spPr>
            <a:xfrm flipH="1">
              <a:off x="5292360" y="4724280"/>
              <a:ext cx="352692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1" name="AutoShape 19"/>
            <p:cNvCxnSpPr>
              <a:stCxn id="119" idx="2"/>
            </p:cNvCxnSpPr>
            <p:nvPr/>
          </p:nvCxnSpPr>
          <p:spPr>
            <a:xfrm flipH="1">
              <a:off x="5292000" y="4508280"/>
              <a:ext cx="1080" cy="53244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2" name="AutoShape 20"/>
            <p:cNvCxnSpPr>
              <a:stCxn id="122" idx="2"/>
              <a:endCxn id="121" idx="0"/>
            </p:cNvCxnSpPr>
            <p:nvPr/>
          </p:nvCxnSpPr>
          <p:spPr>
            <a:xfrm>
              <a:off x="8140320" y="4508280"/>
              <a:ext cx="7920" cy="43236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133" name="AutoShape 21"/>
          <p:cNvCxnSpPr/>
          <p:nvPr/>
        </p:nvCxnSpPr>
        <p:spPr>
          <a:xfrm flipH="1" flipV="1">
            <a:off x="485280" y="3141000"/>
            <a:ext cx="704160" cy="1080"/>
          </a:xfrm>
          <a:prstGeom prst="straightConnector1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134" name="AutoShape 22"/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4500720" y="5040360"/>
            <a:ext cx="180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5" descr=""/>
          <p:cNvPicPr/>
          <p:nvPr/>
        </p:nvPicPr>
        <p:blipFill>
          <a:blip r:embed="rId1"/>
          <a:stretch/>
        </p:blipFill>
        <p:spPr>
          <a:xfrm>
            <a:off x="485640" y="3141720"/>
            <a:ext cx="73836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16165d"/>
                </a:solidFill>
                <a:latin typeface="Comic Sans MS"/>
              </a:rPr>
              <a:t>Фрикционная безработица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 algn="just">
              <a:lnSpc>
                <a:spcPct val="93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Comic Sans MS"/>
              </a:rPr>
              <a:t>Связана с поиском и ожиданием работы по разным причинам, например, переезд в связи с изменением семейного положения, окончанием вуза. Этот вид безработицы предполагает перемещение рабочей силы по отраслям, регионам, в связи с возрастом, переменой професси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355840" y="2708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16165d"/>
                </a:solidFill>
                <a:latin typeface="Comic Sans MS"/>
              </a:rPr>
              <a:t>Особен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63560" y="328464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Comic Sans MS"/>
              </a:rPr>
              <a:t>Работу ищут уже</a:t>
            </a:r>
            <a:r>
              <a:rPr b="0" i="1" lang="ru-RU" sz="2000" spc="-1" strike="noStrike">
                <a:solidFill>
                  <a:srgbClr val="16165d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16165d"/>
                </a:solidFill>
                <a:latin typeface="Comic Sans MS"/>
              </a:rPr>
              <a:t>готовые специалисты</a:t>
            </a:r>
            <a:r>
              <a:rPr b="0" i="1" lang="ru-RU" sz="2000" spc="-1" strike="noStrike">
                <a:solidFill>
                  <a:srgbClr val="16165d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16165d"/>
                </a:solidFill>
                <a:latin typeface="Comic Sans MS"/>
              </a:rPr>
              <a:t>с определённым уровнем профессиональной подготовки и квалифик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755640" y="4199040"/>
            <a:ext cx="784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Comic Sans MS"/>
              </a:rPr>
              <a:t>Безработица этого вида обычно продолжается короткий период времени</a:t>
            </a:r>
            <a:r>
              <a:rPr b="0" lang="ru-RU" sz="2400" spc="-1" strike="noStrike">
                <a:solidFill>
                  <a:srgbClr val="16165d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763560" y="508464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Comic Sans MS"/>
              </a:rPr>
              <a:t>Способствует более рациональному  размещению рабочей силы и более высокой производ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80"/>
                </a:solidFill>
                <a:latin typeface="Comic Sans MS"/>
              </a:rPr>
              <a:t>Структурная безработица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6275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23760" algn="just">
              <a:lnSpc>
                <a:spcPct val="93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Comic Sans MS"/>
              </a:rPr>
              <a:t>Характеризуется несовпадением спроса на труд и предложением в различных фирмах, отраслях, по различным профессиям, происходит «исчезновение» профессии в результате НТ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22360" y="2637000"/>
            <a:ext cx="6281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algn="just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Comic Sans MS"/>
              </a:rPr>
              <a:t>Представлена работниками, которые не в состоянии занять имеющиеся рабочие места вследствие отсутствия необходимых навыков и умений для производства нового вида продукции, имеющего спрос на рынке.</a:t>
            </a:r>
            <a:r>
              <a:rPr b="1" lang="ru-RU" sz="2000" spc="-1" strike="noStrike">
                <a:solidFill>
                  <a:srgbClr val="16165d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16165d"/>
                </a:solidFill>
                <a:latin typeface="Comic Sans MS"/>
              </a:rPr>
              <a:t>Более продолжительна  и дорогостояща, чем фрикционн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80"/>
                </a:solidFill>
                <a:latin typeface="Comic Sans MS"/>
              </a:rPr>
              <a:t>Сезонная безработица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buClr>
                <a:srgbClr val="1a3c18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16165d"/>
                </a:solidFill>
                <a:latin typeface="Comic Sans MS"/>
              </a:rPr>
              <a:t>В результате необходимости в ряде отраслей проводятся сезонные работы (например, в сельском хозяйстве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400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3457440" y="1844640"/>
            <a:ext cx="18702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ктурной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828720" y="1846440"/>
            <a:ext cx="1870200" cy="13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икционн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6084720" y="1844640"/>
            <a:ext cx="18702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ической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698480" y="7635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4284720" y="795240"/>
            <a:ext cx="216000" cy="935280"/>
          </a:xfrm>
          <a:prstGeom prst="downArrow">
            <a:avLst>
              <a:gd name="adj1" fmla="val 50000"/>
              <a:gd name="adj2" fmla="val 108250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6912000" y="822240"/>
            <a:ext cx="216000" cy="935280"/>
          </a:xfrm>
          <a:prstGeom prst="downArrow">
            <a:avLst>
              <a:gd name="adj1" fmla="val 50000"/>
              <a:gd name="adj2" fmla="val 10825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404640" y="3368520"/>
            <a:ext cx="2438640" cy="258156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2581560"/>
              <a:gd name="textAreaBottom" fmla="*/ 2462760 h 2581560"/>
            </a:gdLst>
            <a:ahLst/>
            <a:rect l="textAreaLeft" t="textAreaTop" r="textAreaRight" b="textAreaBottom"/>
            <a:pathLst>
              <a:path w="21600" h="22866">
                <a:moveTo>
                  <a:pt x="3600" y="0"/>
                </a:moveTo>
                <a:arcTo wR="3600" hR="3600" stAng="16200000" swAng="-5400000"/>
                <a:lnTo>
                  <a:pt x="0" y="19266"/>
                </a:lnTo>
                <a:arcTo wR="3600" hR="3600" stAng="10800000" swAng="-5400000"/>
                <a:lnTo>
                  <a:pt x="18000" y="228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улирова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икционной безработиц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информацион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я рынка труд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анение факторо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ающих моби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й си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3024360" y="3378240"/>
            <a:ext cx="2520720" cy="2571840"/>
          </a:xfrm>
          <a:custGeom>
            <a:avLst/>
            <a:gdLst>
              <a:gd name="textAreaLeft" fmla="*/ 122760 w 2520720"/>
              <a:gd name="textAreaRight" fmla="*/ 2397960 w 2520720"/>
              <a:gd name="textAreaTop" fmla="*/ 122760 h 2571840"/>
              <a:gd name="textAreaBottom" fmla="*/ 2449080 h 2571840"/>
            </a:gdLst>
            <a:ahLst/>
            <a:rect l="textAreaLeft" t="textAreaTop" r="textAreaRight" b="textAreaBottom"/>
            <a:pathLst>
              <a:path w="21600" h="22038">
                <a:moveTo>
                  <a:pt x="3600" y="0"/>
                </a:moveTo>
                <a:arcTo wR="3600" hR="3600" stAng="16200000" swAng="-5400000"/>
                <a:lnTo>
                  <a:pt x="0" y="18438"/>
                </a:lnTo>
                <a:arcTo wR="3600" hR="3600" stAng="10800000" swAng="-5400000"/>
                <a:lnTo>
                  <a:pt x="18000" y="220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ул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ой безработиц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истем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уч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квалифик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5724360" y="3284640"/>
            <a:ext cx="2880000" cy="266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етоды регулирования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циклической безработицы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здание условий для роста спроса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а товары (стимулирование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оста экспорта, поддержка инвестиций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реконструкцию предприятий,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ощрение иностранных инвестици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экономику), создание услови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сокращения предложения рабоче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лы (снижение возраста для выхода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а пенсию),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здание условий для роста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амозанятости,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еализация программ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ддержки молодых работников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500040" y="260280"/>
            <a:ext cx="8290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Методы регулирования безработ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80"/>
                </a:solidFill>
                <a:latin typeface="Comic Sans MS"/>
              </a:rPr>
              <a:t>Безработица в России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140000" y="1079640"/>
            <a:ext cx="4546440" cy="50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6165d"/>
                </a:solidFill>
                <a:latin typeface="Comic Sans MS"/>
              </a:rPr>
              <a:t>Если рассматривать изменения безработицы в перспективе последних лет, то число неработающих людей скорее падает, чем растет. Если по данным Росстата в 2003 году безработными были 6,2 миллиона человек, то в 2010-м их число составляло уже 5,6 миллионов. Однако в относительном выражении картина несколько иная. До 2007 года шло снижение уровня безработицы (в 2003 г. 8,6%, в 2007 г. 6,3%), после чего начался рост. В результате, в 2008 году уровень безработицы увеличился до 6,5%, а в 2009-м, в расцвет экономического кризиса, – до 8,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7800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omic Sans MS"/>
              </a:rPr>
              <a:t>Исследование</a:t>
            </a:r>
            <a:br>
              <a:rPr sz="3200"/>
            </a:br>
            <a:r>
              <a:rPr b="1" lang="ru-RU" sz="3200" spc="-1" strike="noStrike">
                <a:solidFill>
                  <a:srgbClr val="000080"/>
                </a:solidFill>
                <a:latin typeface="Comic Sans MS"/>
              </a:rPr>
              <a:t>Тестирование учащихся 9 классов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655560" y="1979640"/>
          <a:ext cx="7804080" cy="4316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9640" y="226800"/>
            <a:ext cx="73800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6165d"/>
                </a:solidFill>
                <a:latin typeface="Comic Sans MS"/>
              </a:rPr>
              <a:t>Планируете ли Вы остаться в </a:t>
            </a:r>
            <a:br>
              <a:rPr sz="3200"/>
            </a:br>
            <a:r>
              <a:rPr b="1" lang="ru-RU" sz="3200" spc="-1" strike="noStrike">
                <a:solidFill>
                  <a:srgbClr val="16165d"/>
                </a:solidFill>
                <a:latin typeface="Comic Sans MS"/>
              </a:rPr>
              <a:t>г.Минеральные Воды?(9кл)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671400" y="1906560"/>
          <a:ext cx="7804440" cy="4316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omic Sans MS"/>
              </a:rPr>
              <a:t>Исследование.</a:t>
            </a:r>
            <a:br>
              <a:rPr sz="3200"/>
            </a:br>
            <a:r>
              <a:rPr b="1" lang="ru-RU" sz="3200" spc="-1" strike="noStrike">
                <a:solidFill>
                  <a:srgbClr val="000080"/>
                </a:solidFill>
                <a:latin typeface="Comic Sans MS"/>
              </a:rPr>
              <a:t>Тестирование учащихся 11 классов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70" name="Object 2"/>
          <p:cNvGraphicFramePr/>
          <p:nvPr/>
        </p:nvGraphicFramePr>
        <p:xfrm>
          <a:off x="671400" y="1906560"/>
          <a:ext cx="7804440" cy="4316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040" y="393480"/>
            <a:ext cx="78044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6165d"/>
                </a:solidFill>
                <a:latin typeface="Comic Sans MS"/>
              </a:rPr>
              <a:t>Планируете ли Вы остаться в </a:t>
            </a:r>
            <a:br>
              <a:rPr sz="3200"/>
            </a:br>
            <a:r>
              <a:rPr b="1" lang="ru-RU" sz="3200" spc="-1" strike="noStrike">
                <a:solidFill>
                  <a:srgbClr val="16165d"/>
                </a:solidFill>
                <a:latin typeface="Comic Sans MS"/>
              </a:rPr>
              <a:t>г. Минеральные Воды?(11кл)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72" name="Object 2"/>
          <p:cNvGraphicFramePr/>
          <p:nvPr/>
        </p:nvGraphicFramePr>
        <p:xfrm>
          <a:off x="671400" y="1906560"/>
          <a:ext cx="7804440" cy="4316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291600"/>
            <a:ext cx="814716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6165d"/>
                </a:solidFill>
                <a:latin typeface="Comic Sans MS"/>
              </a:rPr>
              <a:t>Безработица - наличие в стране людей, которые способны и желают по работать найму, но не могут найти работу по своей специальности с устраивающим их уровнем оплаты трудоустроиться вообще</a:t>
            </a:r>
            <a:r>
              <a:rPr b="0" lang="ru-RU" sz="2800" spc="-1" strike="noStrike">
                <a:solidFill>
                  <a:srgbClr val="16165d"/>
                </a:solidFill>
                <a:latin typeface="Cambria"/>
              </a:rPr>
              <a:t>.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0" name="Picture 5" descr="C:\Users\Анаит\Desktop\Безымянный1.jpg"/>
          <p:cNvPicPr/>
          <p:nvPr/>
        </p:nvPicPr>
        <p:blipFill>
          <a:blip r:embed="rId1"/>
          <a:stretch/>
        </p:blipFill>
        <p:spPr>
          <a:xfrm>
            <a:off x="4932360" y="2565360"/>
            <a:ext cx="3828960" cy="281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Анаит\Desktop\Безымянный2.jpg"/>
          <p:cNvPicPr/>
          <p:nvPr/>
        </p:nvPicPr>
        <p:blipFill>
          <a:blip r:embed="rId2"/>
          <a:stretch/>
        </p:blipFill>
        <p:spPr>
          <a:xfrm>
            <a:off x="468360" y="3213000"/>
            <a:ext cx="4267080" cy="26766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393480"/>
            <a:ext cx="78044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16165d"/>
                </a:solidFill>
                <a:latin typeface="Comic Sans MS"/>
              </a:rPr>
              <a:t>Существует ли в </a:t>
            </a:r>
            <a:br>
              <a:rPr sz="3200"/>
            </a:br>
            <a:r>
              <a:rPr b="1" lang="ru-RU" sz="3200" spc="-1" strike="noStrike">
                <a:solidFill>
                  <a:srgbClr val="16165d"/>
                </a:solidFill>
                <a:latin typeface="Comic Sans MS"/>
              </a:rPr>
              <a:t>г.Минеральные Воды проблема безработицы? Если да,то почему?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5560" y="1979640"/>
            <a:ext cx="7804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мые популярные 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 Да, маленькая заработная плата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ответы 11 и 9 кла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 Да, отсутствуют перспекти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ответ 11 кла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Нет, всегда и везде можно найти работу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ответ 9 кла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5960" y="77760"/>
            <a:ext cx="7804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Comic Sans MS"/>
              </a:rPr>
              <a:t>Численность безработных граждан, зарегистрироваванных в органах службы занятости </a:t>
            </a:r>
            <a:br>
              <a:rPr sz="2800"/>
            </a:br>
            <a:r>
              <a:rPr b="1" lang="ru-RU" sz="2800" spc="-1" strike="noStrike">
                <a:solidFill>
                  <a:srgbClr val="16165d"/>
                </a:solidFill>
                <a:latin typeface="Comic Sans MS"/>
              </a:rPr>
              <a:t>ГКУ «ЦЗН Минераловодского района»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76" name="Object 2"/>
          <p:cNvGraphicFramePr/>
          <p:nvPr/>
        </p:nvGraphicFramePr>
        <p:xfrm>
          <a:off x="671400" y="1906560"/>
          <a:ext cx="7804440" cy="4316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Потребность в работниках, заявленная работодателями в органы службы занятости населения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Объект 5" descr=""/>
          <p:cNvPicPr/>
          <p:nvPr/>
        </p:nvPicPr>
        <p:blipFill>
          <a:blip r:embed="rId1"/>
          <a:stretch/>
        </p:blipFill>
        <p:spPr>
          <a:xfrm>
            <a:off x="620640" y="1855800"/>
            <a:ext cx="790416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71400" y="1906560"/>
            <a:ext cx="7802640" cy="431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Объект 3"/>
          <p:cNvGraphicFramePr/>
          <p:nvPr/>
        </p:nvGraphicFramePr>
        <p:xfrm>
          <a:off x="1440" y="0"/>
          <a:ext cx="9142560" cy="68565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82" name="Объект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0"/>
                    <a:ext cx="91425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71400" y="1906560"/>
            <a:ext cx="7802640" cy="4314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-23760" y="17640"/>
            <a:ext cx="916776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185760"/>
            <a:ext cx="8147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16165d"/>
                </a:solidFill>
                <a:latin typeface="Comic Sans MS"/>
              </a:rPr>
              <a:t>Безработный – это человек, который хочет и может, но не имеет рабочего места, при этом занимается активным поиском работы и готов приступить к ее выполнению. По российскому законодательству безработными признаются трудоспособные граждане, которые не имеют работы и заработка, зарегистрированы в органах службы занятости в целях поиска подходящей работы и готовы приступить к</a:t>
            </a:r>
            <a:r>
              <a:rPr b="1" lang="ru-RU" sz="2600" spc="-1" strike="noStrike">
                <a:solidFill>
                  <a:srgbClr val="16165d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16165d"/>
                </a:solidFill>
                <a:latin typeface="Comic Sans MS"/>
              </a:rPr>
              <a:t>ней.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3" name="Picture 5" descr="C:\Users\Анаит\Desktop\Безымянный3.jpg"/>
          <p:cNvPicPr/>
          <p:nvPr/>
        </p:nvPicPr>
        <p:blipFill>
          <a:blip r:embed="rId1"/>
          <a:stretch/>
        </p:blipFill>
        <p:spPr>
          <a:xfrm>
            <a:off x="1908000" y="3789360"/>
            <a:ext cx="56883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-849600"/>
            <a:ext cx="82296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Oбщее состояние рынка труда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333333"/>
                </a:solidFill>
                <a:latin typeface="Arial"/>
              </a:rPr>
              <a:t>                                 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416560" y="2317680"/>
            <a:ext cx="3693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6165d"/>
                </a:solidFill>
                <a:latin typeface="Comic Sans MS"/>
              </a:rPr>
              <a:t>Рынок труда -</a:t>
            </a:r>
            <a:r>
              <a:rPr b="0" lang="ru-RU" sz="2200" spc="-1" strike="noStrike">
                <a:solidFill>
                  <a:srgbClr val="16165d"/>
                </a:solidFill>
                <a:latin typeface="Comic Sans MS"/>
              </a:rPr>
              <a:t> это сфера   формирования   спроса и предложения  на рабочую сил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C:\Users\Анаит\Desktop\Безымянный4.jpg"/>
          <p:cNvPicPr/>
          <p:nvPr/>
        </p:nvPicPr>
        <p:blipFill>
          <a:blip r:embed="rId1"/>
          <a:stretch/>
        </p:blipFill>
        <p:spPr>
          <a:xfrm>
            <a:off x="611280" y="1268280"/>
            <a:ext cx="4875120" cy="46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16165d"/>
                </a:solidFill>
                <a:latin typeface="Comic Sans MS"/>
              </a:rPr>
              <a:t>Эффективное функционирование рынка труда требует определенных предпосылок</a:t>
            </a:r>
            <a:r>
              <a:rPr b="1" lang="ru-RU" sz="1200" spc="-1" strike="noStrike">
                <a:solidFill>
                  <a:srgbClr val="16165d"/>
                </a:solidFill>
                <a:latin typeface="Comic Sans MS"/>
              </a:rPr>
              <a:t>: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9640" y="1412640"/>
            <a:ext cx="6429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16165d"/>
                </a:solidFill>
                <a:latin typeface="Comic Sans MS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16165d"/>
                </a:solidFill>
                <a:latin typeface="Comic Sans MS"/>
                <a:ea typeface="Times New Roman"/>
              </a:rPr>
              <a:t>.</a:t>
            </a:r>
            <a:r>
              <a:rPr b="1" lang="ru-RU" sz="2200" spc="-1" strike="noStrike">
                <a:solidFill>
                  <a:srgbClr val="16165d"/>
                </a:solidFill>
                <a:latin typeface="Comic Sans MS"/>
              </a:rPr>
              <a:t>отсутствия административных, правовых и экономических ограничений, препятствующих продаже рабочей силы на наиболее выгодных условия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16165d"/>
                </a:solidFill>
                <a:latin typeface="Comic Sans MS"/>
                <a:ea typeface="Times New Roman"/>
              </a:rPr>
              <a:t>2.</a:t>
            </a:r>
            <a:r>
              <a:rPr b="1" lang="ru-RU" sz="2200" spc="-1" strike="noStrike">
                <a:solidFill>
                  <a:srgbClr val="16165d"/>
                </a:solidFill>
                <a:latin typeface="Comic Sans MS"/>
              </a:rPr>
              <a:t>свободного передвижения рабочей силы по территории стран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16165d"/>
                </a:solidFill>
                <a:latin typeface="Comic Sans MS"/>
                <a:ea typeface="Times New Roman"/>
              </a:rPr>
              <a:t>3.</a:t>
            </a:r>
            <a:r>
              <a:rPr b="1" lang="ru-RU" sz="2200" spc="-1" strike="noStrike">
                <a:solidFill>
                  <a:srgbClr val="16165d"/>
                </a:solidFill>
                <a:latin typeface="Comic Sans MS"/>
              </a:rPr>
              <a:t>наличия реального рынка жиль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371600" y="4712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6165d"/>
                </a:solidFill>
                <a:latin typeface="Comic Sans MS"/>
              </a:rPr>
              <a:t>К нетрудоспособному населению относятся люди, которые в силу возраста и состояния здоровья не способны к труду:</a:t>
            </a:r>
            <a:r>
              <a:rPr b="0" lang="ru-RU" sz="2000" spc="-1" strike="noStrike">
                <a:solidFill>
                  <a:srgbClr val="16165d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3880" y="1905120"/>
            <a:ext cx="6759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6165d"/>
                </a:solidFill>
                <a:latin typeface="Comic Sans MS"/>
              </a:rPr>
              <a:t>дети  до 16 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6165d"/>
                </a:solidFill>
                <a:latin typeface="Comic Sans MS"/>
              </a:rPr>
              <a:t>пенсионеры  (мужчины старше 60 лет,  женщины  старше 55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6165d"/>
                </a:solidFill>
                <a:latin typeface="Comic Sans MS"/>
              </a:rPr>
              <a:t>инвал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6165d"/>
                </a:solidFill>
                <a:latin typeface="Comic Sans MS"/>
              </a:rPr>
              <a:t>Трудоспособное насел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6165d"/>
                </a:solidFill>
                <a:latin typeface="Comic Sans MS"/>
              </a:rPr>
              <a:t>(трудовые ресурс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6165d"/>
                </a:solidFill>
                <a:latin typeface="Comic Sans MS"/>
              </a:rPr>
              <a:t>Добровольно незанятые- </a:t>
            </a:r>
            <a:r>
              <a:rPr b="0" i="1" lang="ru-RU" sz="2800" spc="-1" strike="noStrike">
                <a:solidFill>
                  <a:srgbClr val="16165d"/>
                </a:solidFill>
                <a:latin typeface="Comic Sans MS"/>
              </a:rPr>
              <a:t>трудоспособные люди, не занятые в общественном производстве и не стремящиеся получить работу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74760" y="2730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Comic Sans MS"/>
              </a:rPr>
              <a:t>1. студенты дневного от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Comic Sans MS"/>
              </a:rPr>
              <a:t>2. домохозяй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Comic Sans MS"/>
              </a:rPr>
              <a:t>3. бродя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Comic Sans MS"/>
              </a:rPr>
              <a:t>4. люди, искавшие работу, но отчаявшиеся её найти и поэтому прекратившие поиск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4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720720" y="539640"/>
            <a:ext cx="77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Comic Sans MS"/>
              </a:rPr>
              <a:t>Занятые</a:t>
            </a:r>
            <a:r>
              <a:rPr b="0" lang="ru-RU" sz="2800" spc="-1" strike="noStrike">
                <a:solidFill>
                  <a:srgbClr val="16165d"/>
                </a:solidFill>
                <a:latin typeface="Comic Sans MS"/>
              </a:rPr>
              <a:t>-люди, имеющие работу, причем не важно, занят человек полный рабочий день или  неполный, полную рабочую неделю или неполну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16165d"/>
                </a:solidFill>
                <a:latin typeface="Comic Sans MS"/>
              </a:rPr>
              <a:t>    </a:t>
            </a:r>
            <a:r>
              <a:rPr b="0" i="1" lang="ru-RU" sz="2800" spc="-1" strike="noStrike">
                <a:solidFill>
                  <a:srgbClr val="16165d"/>
                </a:solidFill>
                <a:latin typeface="Comic Sans MS"/>
              </a:rPr>
              <a:t>При этом человек считается  занятым, если он  не работает по следующим причина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16165d"/>
                </a:solidFill>
                <a:latin typeface="Comic Sans MS"/>
              </a:rPr>
              <a:t>  </a:t>
            </a:r>
            <a:r>
              <a:rPr b="0" i="1" lang="ru-RU" sz="2800" spc="-1" strike="noStrike">
                <a:solidFill>
                  <a:srgbClr val="16165d"/>
                </a:solidFill>
                <a:latin typeface="Comic Sans MS"/>
              </a:rPr>
              <a:t>боле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16165d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16165d"/>
                </a:solidFill>
                <a:latin typeface="Comic Sans MS"/>
              </a:rPr>
              <a:t>находится в отпуск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16165d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16165d"/>
                </a:solidFill>
                <a:latin typeface="Comic Sans MS"/>
              </a:rPr>
              <a:t>басту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16165d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16165d"/>
                </a:solidFill>
                <a:latin typeface="Comic Sans MS"/>
              </a:rPr>
              <a:t>из-за стихийных бедств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340000" y="5722920"/>
            <a:ext cx="678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4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900000" y="54936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6165d"/>
                </a:solidFill>
                <a:latin typeface="Comic Sans MS"/>
              </a:rPr>
              <a:t>Безработными признаются:</a:t>
            </a:r>
            <a:r>
              <a:rPr b="1" lang="ru-RU" sz="3600" spc="-1" strike="noStrike">
                <a:solidFill>
                  <a:srgbClr val="16165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16165d"/>
                </a:solidFill>
                <a:latin typeface="Comic Sans MS"/>
              </a:rPr>
              <a:t>трудоспособные граждан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16165d"/>
                </a:solidFill>
                <a:latin typeface="Comic Sans MS"/>
              </a:rPr>
              <a:t>не имеющие работы и зарабо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16165d"/>
                </a:solidFill>
                <a:latin typeface="Comic Sans MS"/>
              </a:rPr>
              <a:t>зарегистрированные в службе занят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16165d"/>
                </a:solidFill>
                <a:latin typeface="Comic Sans MS"/>
              </a:rPr>
              <a:t>активно ищущие работу и ожидающие начала трудов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3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3:21:31Z</dcterms:created>
  <dc:creator>Надежда</dc:creator>
  <dc:description/>
  <dc:language>en-US</dc:language>
  <cp:lastModifiedBy>Анаит</cp:lastModifiedBy>
  <dcterms:modified xsi:type="dcterms:W3CDTF">2013-10-21T15:49:05Z</dcterms:modified>
  <cp:revision>21</cp:revision>
  <dc:subject/>
  <dc:title>Слайд 1</dc:title>
</cp:coreProperties>
</file>