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A4BA-361A-485C-8410-7944B85E6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97FF-5A22-4E50-82DC-85F905A5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FD4A-E0B8-4949-AE88-6F854490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77F1-B403-4FC7-B47F-B63DF34F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E084-CD18-45CC-B925-0E2684E5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0D22-5281-4753-9633-82B11462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835C-2F31-4509-B816-AD1EDA22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A17E-2E86-4E94-B6E5-A9EC66E8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7C2E-07D5-4178-B63D-C1B35918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1686-4B59-4AE4-B0CF-1A8550B6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847C-9EE8-4C00-B857-4A192D77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BD17-3BF3-47C1-A577-282A7CDA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9AE6-D323-4BF5-9FC6-494A237076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рейн – ринг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Игра – дело серьёзное!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45964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9649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ограф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какой стране впервые стали производить сахар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) Инд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) Кита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) Ассир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) Япо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ограф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ое озеро самое глубоко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) Ладожск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) Каспийск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) Байк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) Онежск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огаф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ая фаза луны обозначается чёрным круго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новолу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полнолу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первая четвер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 третья четвер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ограф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сква- северо – восток через древнерусские города – Москв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Золотое кольц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Старинный маршр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Славянский пу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Путешеств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3556080" cy="2371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44600" y="330120"/>
            <a:ext cx="8254800" cy="61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иолог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 каких птиц крылья покрыты не перьями, а чешуё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иолог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амый маленький вид обезьянок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) гверец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) мандри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)    коа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) игрун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иолог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де находится погремушка у змеи – на хвосте или в паст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ульту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называются башенные часы с музыко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ульту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я режиссёра, поставившего мультфильм «Ну, погоди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В.М.Котёночк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А.Курлянд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Ф.Кам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А.Хай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иша от дома прошёл 200 метров, затем под прямым углом повернул направо и прошёл ещё 200 метров. Как далеко от дома он оказалс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ульту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называются женские украшения, сделанные из дешёвых камней и металл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терату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то написал сказку «Аленький цветочек»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) братья Грим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) Уолт Дисн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) С.Акса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) А.Толст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терату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называется игра, состоящая в составлении стихов на заданные рифм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бурим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бенеф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репертуа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 квин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терату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средневековой легенде этот призрачный корабль был обречён на вечное плпвание и не мог пристать к берегу, среди моряков было распространено поверье. что встреча с ним предвещает гибель в мо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атематик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гда мы видим цифру два, а называем – четырнадца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темати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 стола 4 угла. сколько углов останется у стола, если один угол отпили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р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в 19 веке называлась станция, где можно было поменять лошадей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) банковск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) почтов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) кабацк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) театральн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р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называется человек, коллекционирующий монет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) филатели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) нумизма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) букини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) флори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роительство именно этой башни способствовало появлению разных языко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) Эйфеле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) Пизанск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) Останкинск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) Вавилонск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аговещенск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овзвод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ск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окольня Ив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003640" y="404640"/>
            <a:ext cx="381024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р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назывался на Руси женский обруч, служивший женским украшение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) гри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) ожерель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) коль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) бар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-3808440" y="2712960"/>
            <a:ext cx="203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ои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6T07:14:49Z</dcterms:created>
  <dc:creator>Пашкова Екатерина</dc:creator>
  <dc:description/>
  <dc:language>en-US</dc:language>
  <cp:lastModifiedBy>1</cp:lastModifiedBy>
  <dcterms:modified xsi:type="dcterms:W3CDTF">2013-10-18T15:09:09Z</dcterms:modified>
  <cp:revision>4</cp:revision>
  <dc:subject/>
  <dc:title>pedsovet.su</dc:title>
</cp:coreProperties>
</file>