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2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5A5-5E22-4C37-A1E2-F62B8378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9C9-A507-49B9-B074-46232DB1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4FA-0DDA-461E-9A15-606F6B4B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449-85DB-4844-97D8-CD101B7F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4083-984A-425F-9504-F1CDB1C2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B094-56CF-47D3-8A07-C3A7AAC0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0DF3-92B9-4D91-957E-0B2A80AD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DD53-A42E-4390-8151-675EABE1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CA71-7ACD-4D62-8C41-470EBB79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F869-F87A-457D-A53A-1469F06C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C09E-74D1-4A72-B9FD-6A76A9CA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65F-890B-4609-B625-0FD21063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CC4A-FD6D-4E93-8C11-CD976D6C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6FA4-CA7E-4411-9EBF-BDAEB78D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A73D-241D-45E0-82D9-FDD34E78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129D-CB16-4029-AB00-7E052384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9BDA-8DB6-4B70-88CF-3A313AA3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4DF-23FD-485F-959D-31F7719C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B1D-DB81-4AEF-A360-F1A787A1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EB1-4257-4D1F-B3B3-B383107B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50E-9220-4641-9A0B-202EA11C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344-7C53-419B-9F4E-80D50EE2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C65-B642-4794-B70A-4CABDA69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7B9-9D31-43EF-871E-64A72F0E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E8FE-0BD3-437F-A058-737254CCFE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C9FC-E5B1-40B5-AEAB-C4245281B9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6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339966"/>
                </a:solidFill>
                <a:latin typeface="Castellar"/>
              </a:rPr>
              <a:t>Дезадаптация</a:t>
            </a:r>
            <a:br>
              <a:rPr sz="5400"/>
            </a:br>
            <a:r>
              <a:rPr b="1" lang="ru-RU" sz="5400" spc="-1" strike="noStrike">
                <a:solidFill>
                  <a:srgbClr val="339966"/>
                </a:solidFill>
                <a:latin typeface="Castellar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astellar"/>
              </a:rPr>
              <a:t>О.А.Томашевская, преподаватель    коррекционной и специальной педагогики</a:t>
            </a:r>
            <a:endParaRPr b="1" lang="en-US" sz="1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0" name="Picture 4" descr="S6304626"/>
          <p:cNvPicPr/>
          <p:nvPr/>
        </p:nvPicPr>
        <p:blipFill>
          <a:blip r:embed="rId1"/>
          <a:stretch/>
        </p:blipFill>
        <p:spPr>
          <a:xfrm>
            <a:off x="1066680" y="1981080"/>
            <a:ext cx="3048120" cy="4343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1" name="Picture 5" descr="S6304606"/>
          <p:cNvPicPr/>
          <p:nvPr/>
        </p:nvPicPr>
        <p:blipFill>
          <a:blip r:embed="rId2"/>
          <a:stretch/>
        </p:blipFill>
        <p:spPr>
          <a:xfrm>
            <a:off x="5791320" y="1981080"/>
            <a:ext cx="2550960" cy="4419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Castellar"/>
              </a:rPr>
              <a:t>Социальная дезадаптация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Castel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stellar"/>
              </a:rPr>
              <a:t>Нарушение детьми и подростками норм морали и права, деформация системы внутренней регуляции, ценностных ориентаций, социальных установ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Социальная дезадаптация – процесс обратим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S6304660"/>
          <p:cNvPicPr/>
          <p:nvPr/>
        </p:nvPicPr>
        <p:blipFill>
          <a:blip r:embed="rId1"/>
          <a:stretch/>
        </p:blipFill>
        <p:spPr>
          <a:xfrm>
            <a:off x="5799240" y="2057400"/>
            <a:ext cx="2811240" cy="388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14400" y="17521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339480">
              <a:lnSpc>
                <a:spcPct val="90000"/>
              </a:lnSpc>
              <a:spcBef>
                <a:spcPts val="700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stellar"/>
              </a:rPr>
              <a:t>Педагогическая запущен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stellar"/>
              </a:rPr>
              <a:t>Педагогически запущенные дети хронически отстают по ряду предметов школьной программы, сопротивляются педагогическому воздействию, демонстрирую различные проявления асоциального поведения: сквернословят, курят, конфликтуют с учителями, родителями и сверстник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066680" y="685800"/>
            <a:ext cx="8077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stellar"/>
              </a:rPr>
              <a:t>В развитии социальной дезадаптации прослеживаются две стади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8" descr="S6304671"/>
          <p:cNvPicPr/>
          <p:nvPr/>
        </p:nvPicPr>
        <p:blipFill>
          <a:blip r:embed="rId1"/>
          <a:stretch/>
        </p:blipFill>
        <p:spPr>
          <a:xfrm>
            <a:off x="5867280" y="2057400"/>
            <a:ext cx="2990880" cy="426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stellar"/>
              </a:rPr>
              <a:t>Социальная запущенность</a:t>
            </a: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stellar"/>
              </a:rPr>
              <a:t>У социально-запущенных детей и подростков все эти негативные проявления отягощены ориентацией на криминогенные группировки, деформацией сознания, ценностных ориентаций, приобщение к бродяжничеству, наркомании, алкоголизму, правонарушения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4" descr="S6304669"/>
          <p:cNvPicPr/>
          <p:nvPr/>
        </p:nvPicPr>
        <p:blipFill>
          <a:blip r:embed="rId1"/>
          <a:stretch/>
        </p:blipFill>
        <p:spPr>
          <a:xfrm>
            <a:off x="5638680" y="3645000"/>
            <a:ext cx="2971800" cy="267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7" name="Picture 5" descr="S6304657"/>
          <p:cNvPicPr/>
          <p:nvPr/>
        </p:nvPicPr>
        <p:blipFill>
          <a:blip r:embed="rId2"/>
          <a:stretch/>
        </p:blipFill>
        <p:spPr>
          <a:xfrm>
            <a:off x="1828800" y="3657600"/>
            <a:ext cx="2819520" cy="2666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8" name="AutoShape 6"/>
          <p:cNvSpPr/>
          <p:nvPr/>
        </p:nvSpPr>
        <p:spPr>
          <a:xfrm>
            <a:off x="8458200" y="647712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c4d6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Castellar"/>
              </a:rPr>
              <a:t>Школьная дезадаптация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Сложная и нестабильна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ситуация в общест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Микроклимат в семь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Атмосфера в школ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Неумение приспособиться к темпу школьной жизни </a:t>
            </a:r>
            <a:r>
              <a:rPr b="0" i="1" lang="ru-RU" sz="2000" spc="-1" strike="noStrike">
                <a:solidFill>
                  <a:srgbClr val="000000"/>
                </a:solidFill>
                <a:latin typeface="Castellar"/>
              </a:rPr>
              <a:t>(торможение, соматические болезн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Ошибки в поведении учителей </a:t>
            </a:r>
            <a:r>
              <a:rPr b="0" i="1" lang="ru-RU" sz="2400" spc="-1" strike="noStrike">
                <a:solidFill>
                  <a:srgbClr val="000000"/>
                </a:solidFill>
                <a:latin typeface="Castellar"/>
              </a:rPr>
              <a:t>(пассивно-отрицательный и активно-отрицательный стили отношения к детям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Традиционная система оценивания ЗУНов </a:t>
            </a:r>
            <a:r>
              <a:rPr b="0" i="1" lang="ru-RU" sz="2400" spc="-1" strike="noStrike">
                <a:solidFill>
                  <a:srgbClr val="000000"/>
                </a:solidFill>
                <a:latin typeface="Castellar"/>
              </a:rPr>
              <a:t>(отрицательна оценочная стимуляц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4" descr="S6304621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943600" y="1371600"/>
            <a:ext cx="2590920" cy="2282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2" name="AutoShape 5"/>
          <p:cNvSpPr/>
          <p:nvPr/>
        </p:nvSpPr>
        <p:spPr>
          <a:xfrm>
            <a:off x="8381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c4d6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66"/>
                </a:solidFill>
                <a:latin typeface="Castellar"/>
              </a:rPr>
              <a:t>Особенности школьной дезадаптации младших школьников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51818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stellar"/>
              </a:rPr>
              <a:t>Невозможность овладеть операционной стороной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stellar"/>
              </a:rPr>
              <a:t>Изменение ведуще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stellar"/>
              </a:rPr>
              <a:t>Определенные физиологические изменения возрастного характе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4" descr="S6304611"/>
          <p:cNvPicPr/>
          <p:nvPr/>
        </p:nvPicPr>
        <p:blipFill>
          <a:blip r:embed="rId1"/>
          <a:stretch/>
        </p:blipFill>
        <p:spPr>
          <a:xfrm>
            <a:off x="6248520" y="2286000"/>
            <a:ext cx="2514600" cy="2514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6" name="Picture 5" descr="S6304614"/>
          <p:cNvPicPr/>
          <p:nvPr/>
        </p:nvPicPr>
        <p:blipFill>
          <a:blip r:embed="rId2"/>
          <a:stretch/>
        </p:blipFill>
        <p:spPr>
          <a:xfrm>
            <a:off x="4191120" y="4559400"/>
            <a:ext cx="2514600" cy="1922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7" name="Picture 6" descr="S6304618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1219320" y="4495680"/>
            <a:ext cx="2438280" cy="194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8" name="AutoShape 7"/>
          <p:cNvSpPr/>
          <p:nvPr/>
        </p:nvSpPr>
        <p:spPr>
          <a:xfrm>
            <a:off x="8381880" y="64008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c4d6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S6304677"/>
          <p:cNvPicPr/>
          <p:nvPr/>
        </p:nvPicPr>
        <p:blipFill>
          <a:blip r:embed="rId1"/>
          <a:stretch/>
        </p:blipFill>
        <p:spPr>
          <a:xfrm>
            <a:off x="4267080" y="4800600"/>
            <a:ext cx="2514600" cy="1844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Castellar"/>
              </a:rPr>
              <a:t>Особенности школьной дезадаптации подростков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5486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stellar"/>
              </a:rPr>
              <a:t>Расширение границ учебной деятельности и смещение акцента с ее предметной стороны на мотивационно-потребностну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stellar"/>
              </a:rPr>
              <a:t>Развитие самосознания подростка, увеличение его активности в оценке себя и други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stellar"/>
              </a:rPr>
              <a:t>Особая роль общения для подрост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4" descr="S6304673"/>
          <p:cNvPicPr/>
          <p:nvPr/>
        </p:nvPicPr>
        <p:blipFill>
          <a:blip r:embed="rId2"/>
          <a:stretch/>
        </p:blipFill>
        <p:spPr>
          <a:xfrm>
            <a:off x="6553080" y="2362320"/>
            <a:ext cx="2286000" cy="3047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AutoShape 7"/>
          <p:cNvSpPr/>
          <p:nvPr/>
        </p:nvSpPr>
        <p:spPr>
          <a:xfrm>
            <a:off x="8229600" y="64008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c4d6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4582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66"/>
                </a:solidFill>
                <a:latin typeface="Castellar"/>
              </a:rPr>
              <a:t>Исследование социальной адаптации в подростковом возрасте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stellar"/>
              </a:rPr>
              <a:t>Социальная адаптация</a:t>
            </a: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  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процесс социально-экономических, физических или организованных изменений в специфическом групповом поведении, социальных отношениях или в культуре в целях улучшения перспектив выживания группы или индивидуу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4" descr="S6304656"/>
          <p:cNvPicPr/>
          <p:nvPr/>
        </p:nvPicPr>
        <p:blipFill>
          <a:blip r:embed="rId1"/>
          <a:stretch/>
        </p:blipFill>
        <p:spPr>
          <a:xfrm>
            <a:off x="5486400" y="4648320"/>
            <a:ext cx="2666880" cy="1904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7" name="Picture 5" descr="S6304720"/>
          <p:cNvPicPr/>
          <p:nvPr/>
        </p:nvPicPr>
        <p:blipFill>
          <a:blip r:embed="rId2"/>
          <a:stretch/>
        </p:blipFill>
        <p:spPr>
          <a:xfrm>
            <a:off x="2209680" y="4876920"/>
            <a:ext cx="2971800" cy="1671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66680" y="182880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stellar"/>
              </a:rPr>
              <a:t>Она включает в себя три аспекта изучени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5760" indent="326160">
              <a:lnSpc>
                <a:spcPct val="9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stellar"/>
              </a:rPr>
              <a:t>Ценностных ориентаций, социальной идентификации, типов социального повед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60" indent="326160">
              <a:lnSpc>
                <a:spcPct val="9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stellar"/>
              </a:rPr>
              <a:t>Материального положения молодых люд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60" indent="326160">
              <a:lnSpc>
                <a:spcPct val="9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stellar"/>
              </a:rPr>
              <a:t>Их социально-психологического состоя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4" descr="S6304672"/>
          <p:cNvPicPr/>
          <p:nvPr/>
        </p:nvPicPr>
        <p:blipFill>
          <a:blip r:embed="rId1"/>
          <a:stretch/>
        </p:blipFill>
        <p:spPr>
          <a:xfrm>
            <a:off x="5486400" y="2133720"/>
            <a:ext cx="3171960" cy="4343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0" name="Rectangle 5"/>
          <p:cNvSpPr/>
          <p:nvPr/>
        </p:nvSpPr>
        <p:spPr>
          <a:xfrm>
            <a:off x="443880" y="609480"/>
            <a:ext cx="7451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Исследовать проблему социально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адаптации нужно комплексно.</a:t>
            </a:r>
            <a:r>
              <a:rPr b="0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66680" y="12949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Своевременная диагностика и коррекция причин дезадаптации очень важна, так как длительное воздействие эмоциональной дезадаптации вдет к серьезным нарушениям в развитии, к формированию устойчиво дезадаптивных патологических чер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4" descr="S6304664"/>
          <p:cNvPicPr/>
          <p:nvPr/>
        </p:nvPicPr>
        <p:blipFill>
          <a:blip r:embed="rId1"/>
          <a:stretch/>
        </p:blipFill>
        <p:spPr>
          <a:xfrm>
            <a:off x="5715000" y="1752480"/>
            <a:ext cx="2824200" cy="4038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66"/>
                </a:solidFill>
                <a:latin typeface="Castellar"/>
              </a:rPr>
              <a:t>Группы дезадаптированных подростков </a:t>
            </a:r>
            <a:r>
              <a:rPr b="0" i="1" lang="ru-RU" sz="3200" spc="-1" strike="noStrike">
                <a:solidFill>
                  <a:srgbClr val="000000"/>
                </a:solidFill>
                <a:latin typeface="Castellar"/>
              </a:rPr>
              <a:t>(в зависимости от степени дезадаптированности)</a:t>
            </a:r>
            <a:endParaRPr b="1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2514600"/>
            <a:ext cx="4876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145800">
              <a:lnSpc>
                <a:spcPct val="100000"/>
              </a:lnSpc>
              <a:spcBef>
                <a:spcPts val="799"/>
              </a:spcBef>
              <a:buClr>
                <a:srgbClr val="339966"/>
              </a:buClr>
              <a:buSzPct val="7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Удовлетворительно адаптирова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145800">
              <a:lnSpc>
                <a:spcPct val="100000"/>
              </a:lnSpc>
              <a:spcBef>
                <a:spcPts val="799"/>
              </a:spcBef>
              <a:buClr>
                <a:srgbClr val="339966"/>
              </a:buClr>
              <a:buSzPct val="7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Слабо адаптирова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145800">
              <a:lnSpc>
                <a:spcPct val="100000"/>
              </a:lnSpc>
              <a:spcBef>
                <a:spcPts val="799"/>
              </a:spcBef>
              <a:buClr>
                <a:srgbClr val="339966"/>
              </a:buClr>
              <a:buSzPct val="7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Дезадаптирова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4" descr="S6304635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2590920"/>
            <a:ext cx="3200400" cy="2247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6" name="Rectangle 5"/>
          <p:cNvSpPr/>
          <p:nvPr/>
        </p:nvSpPr>
        <p:spPr>
          <a:xfrm>
            <a:off x="1143000" y="5410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stellar"/>
              </a:rPr>
              <a:t>Целесообразно проводить диагностику эмоционально-психической дезадаптации на индивидуальном уров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Castellar"/>
              </a:rPr>
              <a:t>Содержание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00"/>
                </a:solidFill>
                <a:uFillTx/>
                <a:latin typeface="Castellar"/>
                <a:hlinkClick r:id="rId1" action="ppaction://hlinksldjump"/>
              </a:rPr>
              <a:t>Понятие вопро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00"/>
                </a:solidFill>
                <a:uFillTx/>
                <a:latin typeface="Castellar"/>
                <a:hlinkClick r:id="rId2" action="ppaction://hlinksldjump"/>
              </a:rPr>
              <a:t>Виды дезадапт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00"/>
                </a:solidFill>
                <a:uFillTx/>
                <a:latin typeface="Castellar"/>
                <a:hlinkClick r:id="rId3" action="ppaction://hlinksldjump"/>
              </a:rPr>
              <a:t>Школьная дезадапта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00"/>
                </a:solidFill>
                <a:uFillTx/>
                <a:latin typeface="Castellar"/>
                <a:hlinkClick r:id="rId4" action="ppaction://hlinksldjump"/>
              </a:rPr>
              <a:t>Особенности школьной дезадаптации младших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00"/>
                </a:solidFill>
                <a:uFillTx/>
                <a:latin typeface="Castellar"/>
                <a:hlinkClick r:id="rId5" action="ppaction://hlinksldjump"/>
              </a:rPr>
              <a:t>Особенности школьной дезадаптации подрост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00"/>
                </a:solidFill>
                <a:uFillTx/>
                <a:latin typeface="Castellar"/>
                <a:hlinkClick r:id="rId6" action="ppaction://hlinksldjump"/>
              </a:rPr>
              <a:t>Исследование социальной адаптации в подростковом возраст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00"/>
                </a:solidFill>
                <a:uFillTx/>
                <a:latin typeface="Castellar"/>
                <a:hlinkClick r:id="rId7" action="ppaction://hlinksldjump"/>
              </a:rPr>
              <a:t>Меры по индивидуальной коррекции дезадапт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Castellar"/>
              </a:rPr>
              <a:t>Этапы диагностики дезадаптации подростков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50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Описательно – симптоматический</a:t>
            </a: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stellar"/>
              </a:rPr>
              <a:t>(выявление степени дезадаптированност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36504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Методы, позволяющие выявить причины дезадапт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Основное направление работы – консультирование самого  подростка, педагога, родителей в процессе решения выявленных пробл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8381880" y="647712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10800"/>
                </a:moveTo>
                <a:lnTo>
                  <a:pt x="25006" y="3794"/>
                </a:lnTo>
                <a:lnTo>
                  <a:pt x="25006" y="17806"/>
                </a:lnTo>
                <a:close/>
              </a:path>
            </a:pathLst>
          </a:custGeom>
          <a:solidFill>
            <a:srgbClr val="c4d6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66"/>
                </a:solidFill>
                <a:latin typeface="Castellar"/>
              </a:rPr>
              <a:t>Меры по индивидуальной коррекции дезадаптации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Педагогические </a:t>
            </a:r>
            <a:r>
              <a:rPr b="0" i="1" lang="ru-RU" sz="2400" spc="-1" strike="noStrike">
                <a:solidFill>
                  <a:srgbClr val="000000"/>
                </a:solidFill>
                <a:latin typeface="Castellar"/>
              </a:rPr>
              <a:t>(метод бесед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Психологические </a:t>
            </a:r>
            <a:r>
              <a:rPr b="0" i="1" lang="ru-RU" sz="2400" spc="-1" strike="noStrike">
                <a:solidFill>
                  <a:srgbClr val="000000"/>
                </a:solidFill>
                <a:latin typeface="Castellar"/>
              </a:rPr>
              <a:t>(групповое и индивидуальное консультирование, различные тренинг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66"/>
                </a:solidFill>
                <a:latin typeface="Castellar"/>
              </a:rPr>
              <a:t>Общепрофилактические мер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Организацион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Анализ (с использованием социологических метод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Порфориентацион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Меры повышения психологической грамот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Castellar"/>
              </a:rPr>
              <a:t>Пути коррекции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Приобретение навыков рефлексии, самоорганизации и дисципли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Развитие эмпат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5" descr="S6304686"/>
          <p:cNvPicPr/>
          <p:nvPr/>
        </p:nvPicPr>
        <p:blipFill>
          <a:blip r:embed="rId1"/>
          <a:stretch/>
        </p:blipFill>
        <p:spPr>
          <a:xfrm>
            <a:off x="1447920" y="3886200"/>
            <a:ext cx="3352680" cy="245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05" name="Picture 7" descr="S6304610"/>
          <p:cNvPicPr/>
          <p:nvPr/>
        </p:nvPicPr>
        <p:blipFill>
          <a:blip r:embed="rId2"/>
          <a:stretch/>
        </p:blipFill>
        <p:spPr>
          <a:xfrm>
            <a:off x="6400800" y="3200400"/>
            <a:ext cx="1925640" cy="3124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6" name="AutoShape 8"/>
          <p:cNvSpPr/>
          <p:nvPr/>
        </p:nvSpPr>
        <p:spPr>
          <a:xfrm>
            <a:off x="8458200" y="6400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c4d6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7543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66"/>
                </a:solidFill>
                <a:latin typeface="Castellar"/>
              </a:rPr>
              <a:t>Дезадаптация</a:t>
            </a:r>
            <a:r>
              <a:rPr b="0" lang="ru-RU" sz="3600" spc="-1" strike="noStrike">
                <a:solidFill>
                  <a:srgbClr val="000000"/>
                </a:solidFill>
                <a:latin typeface="Castellar"/>
              </a:rPr>
              <a:t> –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stellar"/>
              </a:rPr>
              <a:t>психическое состояние, возникающее в результате несоответствия социопсихологического или психофизического статуса ребенка требованиям новой социальной ситуац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7">
            <a:hlinkClick r:id="rId1" action="ppaction://hlinksldjump"/>
          </p:cNvPr>
          <p:cNvSpPr/>
          <p:nvPr/>
        </p:nvSpPr>
        <p:spPr>
          <a:xfrm>
            <a:off x="8305920" y="64008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c4d6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S6304706"/>
          <p:cNvPicPr/>
          <p:nvPr/>
        </p:nvPicPr>
        <p:blipFill>
          <a:blip r:embed="rId1"/>
          <a:stretch/>
        </p:blipFill>
        <p:spPr>
          <a:xfrm>
            <a:off x="4724280" y="1905120"/>
            <a:ext cx="3962520" cy="3371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7" name="Picture 7" descr="S6304702"/>
          <p:cNvPicPr/>
          <p:nvPr/>
        </p:nvPicPr>
        <p:blipFill>
          <a:blip r:embed="rId2"/>
          <a:stretch/>
        </p:blipFill>
        <p:spPr>
          <a:xfrm>
            <a:off x="2971800" y="4191120"/>
            <a:ext cx="3124080" cy="2363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9966"/>
                </a:solidFill>
                <a:latin typeface="Castellar"/>
              </a:rPr>
              <a:t>Виды дезадаптации</a:t>
            </a:r>
            <a:endParaRPr b="1" lang="en-US" sz="4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9" name="Picture 6" descr="S6304689"/>
          <p:cNvPicPr/>
          <p:nvPr/>
        </p:nvPicPr>
        <p:blipFill>
          <a:blip r:embed="rId3"/>
          <a:stretch/>
        </p:blipFill>
        <p:spPr>
          <a:xfrm>
            <a:off x="990720" y="1981080"/>
            <a:ext cx="2171520" cy="3657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3248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Castellar"/>
              </a:rPr>
              <a:t>Виды дезадаптации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Castellar"/>
              </a:rPr>
              <a:t>(в зависимости от природы, характера и степени проявления)</a:t>
            </a:r>
            <a:endParaRPr b="1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stellar"/>
              </a:rPr>
              <a:t>Патогенная дезадаптац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stellar"/>
              </a:rPr>
              <a:t>Психическая дезадаптац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stellar"/>
              </a:rPr>
              <a:t>Социальная дезадаптац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219320" y="21337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339966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295280" y="5334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339966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295280" y="3733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339966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Castellar"/>
              </a:rPr>
              <a:t>Патогенная дезадаптация</a:t>
            </a: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Castel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stellar"/>
              </a:rPr>
              <a:t>Психические состояния, вызванные функционально-органическими поражениями ЦН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В зависимости от степени и глубины поражения патогенная дезадаптация бывает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457200" y="3809880"/>
            <a:ext cx="4191120" cy="2743200"/>
          </a:xfrm>
          <a:prstGeom prst="ellipse">
            <a:avLst/>
          </a:prstGeom>
          <a:solidFill>
            <a:srgbClr val="c4d6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stellar"/>
              </a:rPr>
              <a:t>Устойчивой</a:t>
            </a:r>
            <a:r>
              <a:rPr b="1" lang="ru-RU" sz="1800" spc="-1" strike="noStrike">
                <a:solidFill>
                  <a:srgbClr val="000000"/>
                </a:solidFill>
                <a:latin typeface="Castella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stellar"/>
              </a:rPr>
              <a:t>(психозы, психопатии, органическ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stellar"/>
              </a:rPr>
              <a:t>поражения головного мозга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stellar"/>
              </a:rPr>
              <a:t>отставание в умственном развитии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stellar"/>
              </a:rPr>
              <a:t>дефекты анализаторов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4724280" y="3809880"/>
            <a:ext cx="4191120" cy="2743200"/>
          </a:xfrm>
          <a:prstGeom prst="ellipse">
            <a:avLst/>
          </a:prstGeom>
          <a:solidFill>
            <a:srgbClr val="c4d6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stellar"/>
              </a:rPr>
              <a:t>Имеюще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stellar"/>
              </a:rPr>
              <a:t>пограничный характер</a:t>
            </a: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stellar"/>
              </a:rPr>
              <a:t>(повышенная тревожность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stellar"/>
              </a:rPr>
              <a:t>возбудимость, страхи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stellar"/>
              </a:rPr>
              <a:t>навязчивые дурны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stellar"/>
              </a:rPr>
              <a:t>привычки и т.п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6"/>
          <p:cNvSpPr/>
          <p:nvPr/>
        </p:nvSpPr>
        <p:spPr>
          <a:xfrm flipH="1">
            <a:off x="350496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556272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8458200" y="63244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c4d6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Castellar"/>
              </a:rPr>
              <a:t>Психическая дезадаптация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Castel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stellar"/>
              </a:rPr>
              <a:t>Психические состояния, связанные с половозрастными  индивидуально-психологическими особенностями ребенка, подрост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40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914400" y="3581280"/>
            <a:ext cx="495288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stellar"/>
              </a:rPr>
              <a:t>Обуславливая определенную нестандартность, трудновоспитуемость детей, требует индивидуального педагогического подхода и, в отдельных случаях, специальных психолого-педагогических коррекционных програм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S6304678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2400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6" name="Picture 6" descr="S6304675"/>
          <p:cNvPicPr/>
          <p:nvPr/>
        </p:nvPicPr>
        <p:blipFill>
          <a:blip r:embed="rId2"/>
          <a:stretch/>
        </p:blipFill>
        <p:spPr>
          <a:xfrm>
            <a:off x="5486400" y="4724280"/>
            <a:ext cx="2209680" cy="1828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66"/>
                </a:solidFill>
                <a:latin typeface="Castellar"/>
              </a:rPr>
              <a:t>Формы психической дезадаптации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3200400" y="2819520"/>
            <a:ext cx="31240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stellar"/>
              </a:rPr>
              <a:t>Устойчив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335520" y="2057400"/>
            <a:ext cx="4228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Castella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акцентуация характе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365760" y="3048120"/>
            <a:ext cx="304092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Castella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снижение порог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эмпатийност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5562720" y="1905120"/>
            <a:ext cx="3357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Castella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индифферентност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интере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351360" y="4267080"/>
            <a:ext cx="285840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Castella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низка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познавательна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активност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3124080" y="4267080"/>
            <a:ext cx="53341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Castella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дефекты волевой сферы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импульсивность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расторможенность, безволие, податливость чужому влияни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6705720" y="2971800"/>
            <a:ext cx="21556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Castella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способ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и одарен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де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18"/>
          <p:cNvSpPr/>
          <p:nvPr/>
        </p:nvSpPr>
        <p:spPr>
          <a:xfrm flipH="1">
            <a:off x="1980720" y="380988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19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6172200" y="3733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21"/>
          <p:cNvSpPr/>
          <p:nvPr/>
        </p:nvSpPr>
        <p:spPr>
          <a:xfrm flipH="1" flipV="1">
            <a:off x="2666880" y="3047760"/>
            <a:ext cx="6098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22"/>
          <p:cNvSpPr/>
          <p:nvPr/>
        </p:nvSpPr>
        <p:spPr>
          <a:xfrm flipH="1" flipV="1">
            <a:off x="3657600" y="24379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23"/>
          <p:cNvSpPr/>
          <p:nvPr/>
        </p:nvSpPr>
        <p:spPr>
          <a:xfrm flipV="1">
            <a:off x="5181480" y="2362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4"/>
          <p:cNvSpPr/>
          <p:nvPr/>
        </p:nvSpPr>
        <p:spPr>
          <a:xfrm>
            <a:off x="914400" y="762120"/>
            <a:ext cx="358128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stellar"/>
              </a:rPr>
              <a:t>Неустойчив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447080" y="2743200"/>
            <a:ext cx="47264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90360">
              <a:lnSpc>
                <a:spcPct val="100000"/>
              </a:lnSpc>
              <a:buClr>
                <a:srgbClr val="339966"/>
              </a:buClr>
              <a:buFont typeface="Castella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психофизическ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половозраст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особенности отдель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кризисных период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развития реб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и подрост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635720" y="1523880"/>
            <a:ext cx="4290840" cy="828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9966"/>
              </a:buClr>
              <a:buSzPct val="85000"/>
              <a:buFont typeface="Castella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неравномерно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психическое  развитие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751680" y="3657600"/>
            <a:ext cx="4014720" cy="24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9966"/>
              </a:buClr>
              <a:buSzPct val="70000"/>
              <a:buFont typeface="Castella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состояния, вызван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психотравмирующи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обстоятельствам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влюбленность, разво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родителей, конфлик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с родителями и 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59092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3581280" y="228600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4343400" y="19810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12"/>
          <p:cNvSpPr/>
          <p:nvPr/>
        </p:nvSpPr>
        <p:spPr>
          <a:xfrm>
            <a:off x="830592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c4d6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10-20T15:13:4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