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157-5473-4A5F-A372-E1120CAC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A25-6A58-457B-B437-C45AC633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D76-5300-4388-9142-5B98983E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2F7-BC35-4EB9-8F8E-508BE68E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09B5-17D5-44D3-9DB9-0ED9124C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3FED-8B63-41BF-B6DC-EB797426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6978-2E9F-4E1F-B9FF-03963444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56AF-6610-4AE4-A3CF-1531EE14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C2CC-FABF-46C7-9CE9-8B6F31E8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A3C9-0EE0-47A8-B43C-AB4CFDAF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6A21-FD19-4B3E-99FB-7C6FB0DA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9B4-812F-4B36-869F-6D08551A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0D4F-2FDA-4FB6-AB90-5D70BD44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E389-0AA0-4CE3-B3D6-3E935782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7E26-4BCF-4FC5-9634-F0861EFD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16CF-3EA3-4FA4-9FAC-6004BD4B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15A8-C2CB-4514-B966-1545E8D0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FB3-31CD-4263-96BE-E360C226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BC2-6F0A-4AAB-9586-64950584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26B-B536-4F2F-88AB-FA380D6A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008-48A3-449C-A334-32742963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3CA-C54E-48E8-AE5B-4CD2B7A7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ABD-3484-4837-B0AF-A3A19C8E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1F8-E2F0-4DEC-9133-7200A9B1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90C9-AD62-46AC-B9C8-0B2ADDE6C5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88C9-217C-4B58-B6EA-9F7610F8C0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88;&#1086;&#1074;&#1100;" TargetMode="External"/><Relationship Id="rId3" Type="http://schemas.openxmlformats.org/officeDocument/2006/relationships/hyperlink" Target="http://ru.wikipedia.org/wiki/&#1041;&#1080;&#1086;&#1093;&#1080;&#1084;&#1080;&#1103;" TargetMode="External"/><Relationship Id="rId4" Type="http://schemas.openxmlformats.org/officeDocument/2006/relationships/hyperlink" Target="http://ru.wikipedia.org/w/index.php?title=&#1058;&#1086;&#1084;&#1072;&#1089;_&#1043;&#1088;&#1101;&#1093;&#1101;&#1084;&amp;action=edit&amp;redlink=1" TargetMode="External"/><Relationship Id="rId5" Type="http://schemas.openxmlformats.org/officeDocument/2006/relationships/hyperlink" Target="http://ru.wikipedia.org/w/index.php?title=&#1058;&#1086;&#1084;&#1072;&#1089;_&#1043;&#1088;&#1101;&#1093;&#1101;&#1084;&amp;action=edit&amp;redlink=1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26920" y="476280"/>
            <a:ext cx="7345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ффузи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овательский проек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работала: Шалыева Аэли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3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3816360" cy="1209600"/>
          </a:xfrm>
          <a:prstGeom prst="rect">
            <a:avLst/>
          </a:prstGeom>
          <a:ln w="0">
            <a:noFill/>
          </a:ln>
        </p:spPr>
      </p:pic>
      <p:pic>
        <p:nvPicPr>
          <p:cNvPr id="101" name="4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3333960" cy="1190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35640"/>
            <a:ext cx="864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ыт 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. Возьмём 2 стакана, в один из них нальём холодную воду, в другой – горячую равного объёма.  Термометром  измерим начальную температуру холодной и горячей воды: tx = 6,4 °C, tг = 65,8 °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. Леденцы красного и жёлтого цветов разложим в два тонкостенных стакана с водой. Объём воды в обоих стаканах равный. В этом эксперименте мы исключили объём. Изменяются три параметра: время, температура и высота столба окрашенной жидкости.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строим гистограммы, на которых покажем, как через равные интервалы времени изменяется температура и при этом увеличивается высота окрашенной жидк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939400"/>
            <a:ext cx="871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пециально стакан не нагревали, вода нагревалась за счёт теплообмена с окружающей средо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–2 – происходил нагрев самого стакана; 2–3 – при незначительном увеличении температуры резко увеличивалась высота окрашенной жидкости, т.к. стакан, вероятно, уже нагрелся до температуры окружающей среды и отбираемое  тепло шло на нагревание воды; 3–8 – процесс диффузии шёл почти равномерн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За 55 мин вода окрасилась не полностью. Это говорит о том, что диффузия зависит от температур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5390280"/>
            <a:ext cx="896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На гистограмме 2 показано остывание воды через равные интервалы времени в течение 55 мин и изменение высоты окрашенной в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–2 – резкое увеличение столба окрашенной жидкости. Это, вероятно, можно объяснить тем, что сначала растворяются леденцы; 2–3 – нагреваются стакан и окружающая среда, поэтому происходит понижение температуры; 3–8 – процесс диффузии происходит относительно равномерно, и за 55 мин вода в стакане окрашивается полность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 rot="10800000">
            <a:off x="247320" y="1314000"/>
            <a:ext cx="8574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во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Мы наблюдали процесс диффузии. Диффузия – временной процесс. Продолжительность диффузии зависит от температуры и рода вещества: чем выше температура, тем быстрее протекает процесс диффузии. В твёрдых веществах диффузия протекает медленнее, чем в жидкостях. Явление диффузии сопровождалось капиллярными явле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накомьтесь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1174680"/>
            <a:ext cx="619308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flipV="1" rot="10800000">
            <a:off x="1114560" y="30708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иффузия – проникновение молекул одного вещества в промежутки между молекулами другого веще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03280" y="2589120"/>
            <a:ext cx="66978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 rot="10800000">
            <a:off x="2484000" y="574200"/>
            <a:ext cx="59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ипотез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процесс диффузии зависит от температуры и рода ве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43909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ыбор и обоснование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3168720" cy="2951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651640" y="1125360"/>
            <a:ext cx="3166920" cy="2954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987640" y="4222800"/>
            <a:ext cx="3816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вление диффузии широко применяется на производстве, в медицине, для создания микросхем. Гемодиализ спас жизнь многим б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блема очищени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кров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нимала медицинскую науку ещё с античных времен. В древности считалось, что многие болезни происходят от смешения телесных жидкостей. Для их очистки применялись различные отвары и смеси растений и минералов. Данные действия были в массе своей неэффективны или даже вредны для больного. Интерес к очищению крови то вспыхивал, то угасал. На качественно новый уровень проблема очищения крови вышла в начале XIX века, когда с развитием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биохим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али понятны многие процессы, протекающие в организме человека. Физические основы гемодиализа заложил в 1854 году шотландский ученый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Томас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Грэхэ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своей работе он экспериментально доказал классические в настоящее время законы диффузии . Процесс диффузии кристаллоидных растворов был назван им «диализом». В своей работе он также доказал связь размеров молекулы и скорости диффузии. Чем молекула больше, тем меньше скорость диффузии. Во время гемодиализа происходит удаление находящихся в крови веществ путём диффузии и конвекции, а также удаление лишней воды из организма (ультрафильтрац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2741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a4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5651640" cy="5445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же в глубокой древности, за 2500 тыс. лет до нашего времени, зародилось представление, что все окружающие нас тела состоят из мельчайших частиц. Однако лишь за последние 150 лет развилось и было экспериментально обосновано современное учение о молекулах и атомах – молекулярная теория. Одним из основателей молекулярной теории был Демокрит. Суть учения Демокрита сводилась к следующему: не существует ничего, кроме атомов; атомы бесконечны по числу и бесконечно разнообразны по форме. Учение Демокрита существует давно, однако и нынешнее учение основано на предположениях того времени. В основе современного положения молекулярно-кинетической лежат три утвержде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 вещество состоит из частиц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эти частицы хаотически движутс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частицы взаимодействуют друг с друг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 учения Демокрита следует, что все тела состоят из атомов, однако атомы могут образовывать молекулы. Молекулами называют мельчайшие частицы, из которых состоят различные вещества и которые обладают свойствами этого вещества.  Все частицы находятся в непрерывном движении. Одним из проявлений теплового движения является процесс диффузии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3000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" descr=""/>
          <p:cNvPicPr/>
          <p:nvPr/>
        </p:nvPicPr>
        <p:blipFill>
          <a:blip r:embed="rId2"/>
          <a:stretch/>
        </p:blipFill>
        <p:spPr>
          <a:xfrm>
            <a:off x="1476360" y="3213000"/>
            <a:ext cx="4968720" cy="1471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4779360"/>
            <a:ext cx="741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атем свернём бумагу в цилиндр . В тарелку нальём воду (высотой примерно 2,5 см). Опустим нижнюю часть цилиндра с пятнами краски в тарелку с водой. Бумага начала впитывать воду, и вода поднимается вверх по бумаге . Подъём воды происходит за счёт сил притяжения молекул воды и бумаги. Эти силы больше, чем силы притяжения между частицами воды. Поэтому пятна краски постепенно размываются, их площадь увеличивается, они одновременно становятся светлее, продолжается подъём краски вместе с водой . Это явление называется капиллярностью, оно сопровождает диффуз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260280"/>
            <a:ext cx="83534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Опыт 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Положим в каждое блюдце по 3 леденца одинакового цвета. Нальём в каждое блюдце одинаковое количество воды при температуре t = 13 °C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Вода в блюдцах начинала окрашиваться в цвет леденцов через несколько минут, т.е. началось растворение леденцов. Вода является хорошим растворителем. Под действием молекул воды происходит разрушение связей между молекулами веществ твёрдых леденцов. В результате молекулы воды начинают проникать в промежутки между молекулами твёрдых веществ, нарушая силы притяжения. Одновременно начинают действовать силы отталкивания и, как следствие, происходит разрушение кристаллической решётки твёрдого вещества. Однако размеры молекул воды и окрашенных леденцов настолько малы  и их так много, что проследить за движением одной молекулы невозможно.  Наблюдаемое явление называется диффузией. Процесс растворения леденцов закончился, вода полностью окрасилась в цвет леденцов, находящихся в блюдцах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Возьмём лист промокательной бумаги, проведём на нём карандашную линию на расстоянии 3 см от края. Капнем получившимся раствором краски на карандашную линию. Будем делать это до тех пор, пока пятна не станут ярки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8:26:59Z</dcterms:created>
  <dc:creator>елена</dc:creator>
  <dc:description/>
  <dc:language>en-US</dc:language>
  <cp:lastModifiedBy>Катя</cp:lastModifiedBy>
  <dcterms:modified xsi:type="dcterms:W3CDTF">2013-04-22T19:06:57Z</dcterms:modified>
  <cp:revision>18</cp:revision>
  <dc:subject/>
  <dc:title>Слайд 1</dc:title>
</cp:coreProperties>
</file>