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92D-55BA-4703-8A17-63E28EBA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94C-0341-4A74-8C99-5790A25A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E38-D8FF-4CC3-AEB0-112B9DC5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F08-0F58-4175-8439-ED5A356D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A5B-88AB-4277-AD11-B9EDFAF1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920-E3E3-4380-8BCE-88E1240C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E4D-8EF8-46C5-AEAA-EC26327C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CB9-3B42-4C55-B480-AA6B83A5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F0C-E281-4BEB-9EE1-205E59E1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970-5A99-4E7A-8B7D-2E09A8D1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3FD3-3C19-4BC5-AA71-4A4C6F98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008-DA28-417A-BA75-D1E730CD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9798-0DB9-4C7E-8CB3-0004B522E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42560" y="2781360"/>
            <a:ext cx="94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-proje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Discovering ancient civil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35120" y="366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30600" y="3716280"/>
            <a:ext cx="273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laddin"/>
              </a:rPr>
              <a:t>Egypt</a:t>
            </a:r>
            <a:r>
              <a:rPr b="0" lang="ru-RU" sz="3600" spc="-1" strike="noStrike">
                <a:solidFill>
                  <a:srgbClr val="000000"/>
                </a:solidFill>
                <a:latin typeface="Aladdi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3680" y="6156360"/>
            <a:ext cx="423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Подготовил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lako-Bold"/>
              </a:rPr>
              <a:t>Карпец Васил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lako-Bold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lako-Bold"/>
              </a:rPr>
              <a:t>10 </a:t>
            </a:r>
            <a:r>
              <a:rPr b="0" lang="en-US" sz="2000" spc="-1" strike="noStrike">
                <a:solidFill>
                  <a:srgbClr val="000000"/>
                </a:solidFill>
                <a:latin typeface="Alako-Bold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lako-Bold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lako-Bold"/>
              </a:rPr>
              <a:t>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067280" cy="3595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91200" y="333360"/>
            <a:ext cx="6398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addin"/>
              </a:rPr>
              <a:t>Ancient Egypt was an anc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addin"/>
              </a:rPr>
              <a:t>civilization of eastern North Afric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addi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laddin"/>
              </a:rPr>
              <a:t>concentrated along the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addi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laddin"/>
              </a:rPr>
              <a:t>reaches of the Nile River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addin"/>
              </a:rPr>
              <a:t>what is now the mod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addi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laddin"/>
              </a:rPr>
              <a:t>country of Egy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3844800"/>
            <a:ext cx="766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addin"/>
              </a:rPr>
              <a:t>Egypt's history is split into several different periods according to the dyna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add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laddin"/>
              </a:rPr>
              <a:t>of the ruling of each pharaoh. The dating of events is still a subject of re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add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laddin"/>
              </a:rPr>
              <a:t>The conservative dates are not supported by any reliable absolute dat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addin"/>
              </a:rPr>
              <a:t>a span of about three millennia. The following is the list accor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addin"/>
              </a:rPr>
              <a:t>to conventional Egyptian chro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223040" y="5335560"/>
            <a:ext cx="1920960" cy="1522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73080" y="189000"/>
            <a:ext cx="92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lako-Bold"/>
              </a:rPr>
              <a:t>The Egyptian pyramids are ancient pyramid-shaped masonry structures located in Egypt</a:t>
            </a:r>
            <a:r>
              <a:rPr b="0" lang="en-US" sz="2400" spc="-1" strike="noStrike">
                <a:solidFill>
                  <a:srgbClr val="9ab02a"/>
                </a:solidFill>
                <a:latin typeface="Alako-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289080" y="5950080"/>
            <a:ext cx="796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ere are 138 pyramids discovered in Egypt as of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Most were built as tombs for the country's Pharaohs and their cons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during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ako-Bold"/>
              </a:rPr>
              <a:t>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ako-Bold"/>
              </a:rPr>
              <a:t>Middle King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200480" cy="5705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5480" y="5576760"/>
            <a:ext cx="9131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ako-Bold"/>
              </a:rPr>
              <a:t>Egyptian hieroglyphs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(pronounced /ˈhaɪ(ə)roʊɡlɪf/; from Greek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ἱερογλύφος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sacred carving", itself pronounced [ˌhieroˈɡlypʰos]) was a formal 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system used by the ancient Egyptians that contained a combina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ogographic and alphabetic el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55000" y="836640"/>
            <a:ext cx="39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laddin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06:16Z</dcterms:created>
  <dc:creator>Ирина</dc:creator>
  <dc:description/>
  <dc:language>en-US</dc:language>
  <cp:lastModifiedBy>Ирина</cp:lastModifiedBy>
  <dcterms:modified xsi:type="dcterms:W3CDTF">2002-12-31T21:32:43Z</dcterms:modified>
  <cp:revision>3</cp:revision>
  <dc:subject/>
  <dc:title>Слайд 1</dc:title>
</cp:coreProperties>
</file>