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3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7E1-5D53-4158-B080-7BB1541E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B8B-8424-49D0-A104-D43D1557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406-61E2-4DE4-888F-6B2D832A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2B7-5D15-4184-BB18-3E0BEF9E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964-2F5A-466C-9F29-C993C131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6C2-9AC9-448D-BA6A-D9D146A1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9B6-7262-4834-90A0-825D0A56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A74-DECC-4C57-BB4E-530A468B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1B2-38CF-4E9F-BA4A-BF081C00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E30-F514-4F40-BDC5-1CAAE456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B50-7E49-43D4-8D30-04E64E81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D4F-52B5-4F1A-880C-F0FD19C3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5FC0-ED8A-4D75-8BF7-04A8A66E67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лес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0" y="22096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Природные зоны Африки:</a:t>
            </a:r>
            <a:br>
              <a:rPr sz="5400"/>
            </a:b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Экваториальные</a:t>
            </a:r>
            <a:br>
              <a:rPr sz="5400"/>
            </a:b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 лес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экваториальных лесов характерна многоярусность. Одних только деревьев насчитывается около 1000 видов. Верхний ярус образуют фикусы, пальмы. В нижних ярусах растут бананы, древовидные папоротники, лианы, которые свисая гирляндами с деревьев, делают лес местами непроходим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56200" cy="5793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5105520" y="1143000"/>
            <a:ext cx="316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ревья- великаны, точно колонны, подпирающие небесный свод. Почти непроходимая стена из деревьев, кустарников, трав, бамбука, перевитых лианами разной толщины и длины. Стволы покрыты эпифитами – мхами, лишайни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РГАНИЧЕСКИЙ МИР ГИЛЕ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12" descr="che3"/>
          <p:cNvPicPr/>
          <p:nvPr/>
        </p:nvPicPr>
        <p:blipFill>
          <a:blip r:embed="rId1"/>
          <a:stretch/>
        </p:blipFill>
        <p:spPr>
          <a:xfrm>
            <a:off x="304920" y="12952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попугай"/>
          <p:cNvPicPr/>
          <p:nvPr/>
        </p:nvPicPr>
        <p:blipFill>
          <a:blip r:embed="rId2"/>
          <a:stretch/>
        </p:blipFill>
        <p:spPr>
          <a:xfrm>
            <a:off x="4191120" y="1066680"/>
            <a:ext cx="1815840" cy="20955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4"/>
          <p:cNvSpPr/>
          <p:nvPr/>
        </p:nvSpPr>
        <p:spPr>
          <a:xfrm>
            <a:off x="2971800" y="2286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гори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533520" y="2514600"/>
            <a:ext cx="12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шимпан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8"/>
          <p:cNvSpPr/>
          <p:nvPr/>
        </p:nvSpPr>
        <p:spPr>
          <a:xfrm>
            <a:off x="4572000" y="342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попуг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2" descr="черная мамба змея"/>
          <p:cNvPicPr/>
          <p:nvPr/>
        </p:nvPicPr>
        <p:blipFill>
          <a:blip r:embed="rId3"/>
          <a:stretch/>
        </p:blipFill>
        <p:spPr>
          <a:xfrm>
            <a:off x="457200" y="5181480"/>
            <a:ext cx="1924200" cy="15242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4"/>
          <p:cNvSpPr/>
          <p:nvPr/>
        </p:nvSpPr>
        <p:spPr>
          <a:xfrm>
            <a:off x="457200" y="4800600"/>
            <a:ext cx="169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черная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мам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8"/>
          <p:cNvSpPr/>
          <p:nvPr/>
        </p:nvSpPr>
        <p:spPr>
          <a:xfrm>
            <a:off x="716292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леопар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0"/>
          <p:cNvSpPr/>
          <p:nvPr/>
        </p:nvSpPr>
        <p:spPr>
          <a:xfrm>
            <a:off x="4343400" y="6247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окап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6707880" y="57150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кистеухая свин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6" descr="окапи"/>
          <p:cNvPicPr/>
          <p:nvPr/>
        </p:nvPicPr>
        <p:blipFill>
          <a:blip r:embed="rId4"/>
          <a:stretch/>
        </p:blipFill>
        <p:spPr>
          <a:xfrm>
            <a:off x="3200400" y="38862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7" descr="горилла"/>
          <p:cNvPicPr/>
          <p:nvPr/>
        </p:nvPicPr>
        <p:blipFill>
          <a:blip r:embed="rId5"/>
          <a:stretch/>
        </p:blipFill>
        <p:spPr>
          <a:xfrm>
            <a:off x="2057400" y="838080"/>
            <a:ext cx="1828800" cy="1370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8" descr="Рисунок1апра"/>
          <p:cNvPicPr/>
          <p:nvPr/>
        </p:nvPicPr>
        <p:blipFill>
          <a:blip r:embed="rId6"/>
          <a:stretch/>
        </p:blipFill>
        <p:spPr>
          <a:xfrm>
            <a:off x="6781680" y="4114800"/>
            <a:ext cx="1981440" cy="1595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9" descr="леопард"/>
          <p:cNvPicPr/>
          <p:nvPr/>
        </p:nvPicPr>
        <p:blipFill>
          <a:blip r:embed="rId7"/>
          <a:stretch/>
        </p:blipFill>
        <p:spPr>
          <a:xfrm>
            <a:off x="6629400" y="1143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4-4"/>
          <p:cNvPicPr/>
          <p:nvPr/>
        </p:nvPicPr>
        <p:blipFill>
          <a:blip r:embed="rId8"/>
          <a:stretch/>
        </p:blipFill>
        <p:spPr>
          <a:xfrm>
            <a:off x="533520" y="3048120"/>
            <a:ext cx="2303280" cy="1676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  <p:sndAc>
      <p:stSnd>
        <p:snd r:embed="rId9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Особенности экваториального леса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Многоярус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Вечнозеле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Густ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Бедность поч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Богатый животный м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Огромное количество раст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Влажный экваториальный лес"/>
          <p:cNvPicPr/>
          <p:nvPr/>
        </p:nvPicPr>
        <p:blipFill>
          <a:blip r:embed="rId1"/>
          <a:stretch/>
        </p:blipFill>
        <p:spPr>
          <a:xfrm>
            <a:off x="152280" y="18288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6" descr="лес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«Экваториальные леса Африки»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571760"/>
          <a:ext cx="9144000" cy="4143240"/>
        </p:xfrm>
        <a:graphic>
          <a:graphicData uri="http://schemas.openxmlformats.org/drawingml/2006/table">
            <a:tbl>
              <a:tblPr/>
              <a:tblGrid>
                <a:gridCol w="1143000"/>
                <a:gridCol w="1428840"/>
                <a:gridCol w="1357200"/>
                <a:gridCol w="1071720"/>
                <a:gridCol w="1571400"/>
                <a:gridCol w="1357560"/>
                <a:gridCol w="1214280"/>
              </a:tblGrid>
              <a:tr h="15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ч. поло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лия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остоян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Влаж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ле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о обе стороны от Экватора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-8 С.Ш.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-8 Ю.Ш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Бассейн реки Конго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обережье Гвинейского залив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Экваториальный пояс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Январь +25</a:t>
                      </a:r>
                      <a:r>
                        <a:rPr b="0" lang="en-US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Июнь +24</a:t>
                      </a:r>
                      <a:r>
                        <a:rPr b="0" lang="en-US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Красно-желт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ферралли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Характеристика ярусная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Фикусы, пальмы, бананы, лианы, папоротник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Муравьи, гориллы, шимпанзе, окапи, бегемоты, мухи цеце, леопарды, кистеухие свиньи, рептилии, гекон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Вырубка лесов, исчезновение ценных пород деревьев и редких видов животны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6" descr="лес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Домашнее задание: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28 до стр. 1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аблица «Экваториальные леса Афр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нтурная карта в тетради: стр. 29 – нанести зону экваториальных лесов (зеленым 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лес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роверка домашнего задания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 контурной карте нанести следующие объек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ка Конго (Заи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ка Н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ка Ниг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ка Замбез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зеро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зеро Ч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зеро Тангань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зеро Нья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6" descr="лес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85716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закрепить понятие «природные зон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показать разнообразие природных зон Африки, их зависимость от клим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показать особенности природы экваториальных ле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дать характеристику климата, почв, растительности, животного мира этой з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рассмотреть влияние человека на природу лесов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лес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ктуализация знаний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76312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Что назыв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родной зоной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По карте «Природные зоны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определите, в ка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родных зонах располож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этот материк?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Как называется зако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по которому происходит см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ПЗ от экватора к полюса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числите приро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компоненты в соста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родного комплекс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5" descr="Рисунок5"/>
          <p:cNvPicPr/>
          <p:nvPr/>
        </p:nvPicPr>
        <p:blipFill>
          <a:blip r:embed="rId2"/>
          <a:stretch/>
        </p:blipFill>
        <p:spPr>
          <a:xfrm>
            <a:off x="4724280" y="990720"/>
            <a:ext cx="426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Рисунок2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лажные экваториальные леса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Африки называют - ГИЛЕ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Рисунок 4" descr="i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324480" y="4267080"/>
            <a:ext cx="2500560" cy="2357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1186573713_4.jpg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04920" y="22096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3651.jpg"/>
          <p:cNvPicPr/>
          <p:nvPr/>
        </p:nvPicPr>
        <p:blipFill>
          <a:blip r:embed="rId4"/>
          <a:stretch/>
        </p:blipFill>
        <p:spPr>
          <a:xfrm>
            <a:off x="304920" y="4876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Джунгли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3809880" y="2514600"/>
            <a:ext cx="2286000" cy="3486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QXGMPFCANT3HALCA9S8852CAZFTA00CA1SYCUDCAXBR63BCANNVFPMCABSBA3CCAVHLFADCAZTT8XNCAKDP22XCAI2H6Q9CAA55CIJCATK9DBKCA1VZS0TCAEKEP00CAZ57C2SCAG1I0TTCAXZNIXICAMQRR3C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Географическое положение зоны влажных экваториальных ле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228600" y="1317600"/>
            <a:ext cx="8458200" cy="5159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148360" y="335772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600200" y="16765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00"/>
                </a:solidFill>
                <a:latin typeface="Arial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b000"/>
                </a:solidFill>
                <a:latin typeface="Arial"/>
              </a:rPr>
              <a:t>обе стороны от эква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QXGMPFCANT3HALCA9S8852CAZFTA00CA1SYCUDCAXBR63BCANNVFPMCABSBA3CCAVHLFADCAZTT8XNCAKDP22XCAI2H6Q9CAA55CIJCATK9DBKCA1VZS0TCAEKEP00CAZ57C2SCAG1I0TTCAXZNIXICAMQRR3C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Характеристика климата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2504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QXGMPFCANT3HALCA9S8852CAZFTA00CA1SYCUDCAXBR63BCANNVFPMCABSBA3CCAVHLFADCAZTT8XNCAKDP22XCAI2H6Q9CAA55CIJCATK9DBKCA1VZS0TCAEKEP00CAZ57C2SCAG1I0TTCAXZNIXICAMQRR3C.jpg"/>
          <p:cNvPicPr/>
          <p:nvPr/>
        </p:nvPicPr>
        <p:blipFill>
          <a:blip r:embed="rId1">
            <a:lum contrast="-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расно-желтые ферраллитные почвы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Picture 5" descr="C:\Users\Денис\Desktop\5555.jpg"/>
          <p:cNvPicPr/>
          <p:nvPr/>
        </p:nvPicPr>
        <p:blipFill>
          <a:blip r:embed="rId2"/>
          <a:stretch/>
        </p:blipFill>
        <p:spPr>
          <a:xfrm>
            <a:off x="228600" y="1676520"/>
            <a:ext cx="86104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РГАНИЧЕСКИЙ МИР ГИЛЕ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2" name="Picture 4" descr="Дождевой эвкалиптовый лес"/>
          <p:cNvPicPr/>
          <p:nvPr/>
        </p:nvPicPr>
        <p:blipFill>
          <a:blip r:embed="rId1"/>
          <a:stretch/>
        </p:blipFill>
        <p:spPr>
          <a:xfrm>
            <a:off x="228600" y="1676520"/>
            <a:ext cx="3429000" cy="37144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380880" y="5485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сейба, фикусы, паль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0" y="685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ваториальные  леса вечнозеленые и имеют  несколько ярусов, развиваются на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расно - желтых ферраллитных почв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0" descr="Джунгли"/>
          <p:cNvPicPr/>
          <p:nvPr/>
        </p:nvPicPr>
        <p:blipFill>
          <a:blip r:embed="rId2"/>
          <a:stretch/>
        </p:blipFill>
        <p:spPr>
          <a:xfrm>
            <a:off x="6629400" y="3124080"/>
            <a:ext cx="2286000" cy="3486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1"/>
          <p:cNvSpPr/>
          <p:nvPr/>
        </p:nvSpPr>
        <p:spPr>
          <a:xfrm>
            <a:off x="6934320" y="2361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древовидные папорот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12" descr="agr6"/>
          <p:cNvPicPr/>
          <p:nvPr/>
        </p:nvPicPr>
        <p:blipFill>
          <a:blip r:embed="rId3"/>
          <a:stretch/>
        </p:blipFill>
        <p:spPr>
          <a:xfrm>
            <a:off x="4267080" y="2057400"/>
            <a:ext cx="2210040" cy="21906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4649760" y="43434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бан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9:39:12Z</dcterms:created>
  <dc:creator>Admin</dc:creator>
  <dc:description/>
  <dc:language>en-US</dc:language>
  <cp:lastModifiedBy>Vertical</cp:lastModifiedBy>
  <dcterms:modified xsi:type="dcterms:W3CDTF">2011-12-05T10:47:19Z</dcterms:modified>
  <cp:revision>19</cp:revision>
  <dc:subject/>
  <dc:title>Тема урока ПРИРОДНЫЕ ЗОНЫ АФРИКИ</dc:title>
</cp:coreProperties>
</file>