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5D7-4567-4735-B0E3-3679C29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05D-6391-4B15-8376-9BB2B5DE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8D8-AAAE-4629-AB31-CEE33C6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6F4-98A2-4905-9D15-F99CFFA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616-80C8-493B-92FA-4E26C049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7787-B468-4DE8-B8F4-7A4EBAC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965-C3EE-46B6-BF4A-CEEEE61B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F5DD-D94B-479A-A1F3-7AED5B57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8ED-BC5F-431D-9007-5F44D3BE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98F-084F-42E3-8D69-0A502FD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BF8-E498-45E9-9CA9-823C54F4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979-8B3F-42D1-BC46-394A5E7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59D-3F94-42CB-A221-1DBF1BA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149-F199-470F-B07F-05B6755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508-01EC-499B-96A2-8802F10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64E0-C50F-4B87-AB9F-E82E86D4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E49-59B5-40DD-B516-CFC80E3B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1DD-D0B8-4D3A-B7C2-1EB5B96C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ABC-C658-4186-97F1-A603C39C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FA3-A04D-45D5-9DB6-41C5145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D0D-93BE-45B1-B027-F11110E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84F-B95A-4923-86FE-AB1F76B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48F-F724-46F9-B113-82A5327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120-FCEA-43F7-8C1D-F1F5C6B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2C2E-F35D-4842-87DF-044112BE4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0CA-66F3-421F-B64F-F34C13DC2C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нтегрированные уроки–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редство повышения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мотивации к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учебной деятельност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948240"/>
            <a:ext cx="12708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вариант 4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>
            <a:off x="7848720" y="6019920"/>
            <a:ext cx="585720" cy="304560"/>
          </a:xfrm>
          <a:custGeom>
            <a:avLst/>
            <a:gdLst>
              <a:gd name="textAreaLeft" fmla="*/ 19440 w 585720"/>
              <a:gd name="textAreaRight" fmla="*/ 566280 w 585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1517" h="21600">
                <a:moveTo>
                  <a:pt x="0" y="0"/>
                </a:moveTo>
                <a:lnTo>
                  <a:pt x="41517" y="0"/>
                </a:lnTo>
                <a:lnTo>
                  <a:pt x="41517" y="21600"/>
                </a:lnTo>
                <a:lnTo>
                  <a:pt x="0" y="21600"/>
                </a:lnTo>
                <a:close/>
              </a:path>
              <a:path fill="lightenLess" w="41517" h="21600">
                <a:moveTo>
                  <a:pt x="0" y="0"/>
                </a:moveTo>
                <a:lnTo>
                  <a:pt x="41517" y="0"/>
                </a:lnTo>
                <a:lnTo>
                  <a:pt x="40117" y="1400"/>
                </a:lnTo>
                <a:lnTo>
                  <a:pt x="1400" y="1400"/>
                </a:lnTo>
                <a:close/>
              </a:path>
              <a:path fill="darken" w="41517" h="21600">
                <a:moveTo>
                  <a:pt x="41517" y="0"/>
                </a:moveTo>
                <a:lnTo>
                  <a:pt x="41517" y="21600"/>
                </a:lnTo>
                <a:lnTo>
                  <a:pt x="40117" y="20200"/>
                </a:lnTo>
                <a:lnTo>
                  <a:pt x="40117" y="1400"/>
                </a:lnTo>
                <a:close/>
              </a:path>
              <a:path fill="darkenLess" w="41517" h="21600">
                <a:moveTo>
                  <a:pt x="41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17" y="20200"/>
                </a:lnTo>
                <a:close/>
              </a:path>
              <a:path fill="lighten" w="41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17" h="21600">
                <a:moveTo>
                  <a:pt x="13752" y="7493"/>
                </a:moveTo>
                <a:lnTo>
                  <a:pt x="17260" y="7493"/>
                </a:lnTo>
                <a:lnTo>
                  <a:pt x="17260" y="12828"/>
                </a:lnTo>
                <a:cubicBezTo>
                  <a:pt x="17260" y="13751"/>
                  <a:pt x="18060" y="14482"/>
                  <a:pt x="19096" y="14482"/>
                </a:cubicBezTo>
                <a:lnTo>
                  <a:pt x="20758" y="14482"/>
                </a:lnTo>
                <a:cubicBezTo>
                  <a:pt x="21794" y="14482"/>
                  <a:pt x="22595" y="13751"/>
                  <a:pt x="22595" y="12828"/>
                </a:cubicBezTo>
                <a:lnTo>
                  <a:pt x="22595" y="7493"/>
                </a:lnTo>
                <a:lnTo>
                  <a:pt x="20758" y="7493"/>
                </a:lnTo>
                <a:lnTo>
                  <a:pt x="24266" y="3985"/>
                </a:lnTo>
                <a:lnTo>
                  <a:pt x="27939" y="7493"/>
                </a:lnTo>
                <a:lnTo>
                  <a:pt x="26103" y="7493"/>
                </a:lnTo>
                <a:lnTo>
                  <a:pt x="26103" y="12828"/>
                </a:lnTo>
                <a:cubicBezTo>
                  <a:pt x="26103" y="15596"/>
                  <a:pt x="23526" y="18155"/>
                  <a:pt x="20758" y="18155"/>
                </a:cubicBezTo>
                <a:lnTo>
                  <a:pt x="19096" y="18155"/>
                </a:lnTo>
                <a:cubicBezTo>
                  <a:pt x="16328" y="18155"/>
                  <a:pt x="13752" y="15596"/>
                  <a:pt x="137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7176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отивация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Классификация интегрированных уроков по способу их организ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ровни интегр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Структура  интегрированных уро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Принципы интегрированного об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Условия интегр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Цели интегрированных уроков .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нтервью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отивация учебной деятельн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тив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то, что в данный момент времени побуждает человека действовать определенным образом, делает его активность целенаправленной и поддерживает ее на определенном уровн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это процесс образования мотива. Отсюда мотив – продукт мотивации, т.е. психической деятельности, конечной целью которой является формирование основания активности человека и побуждения к достижению выбранной ц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467480" y="60199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7493"/>
                </a:moveTo>
                <a:lnTo>
                  <a:pt x="10904" y="7493"/>
                </a:lnTo>
                <a:lnTo>
                  <a:pt x="10904" y="12828"/>
                </a:lnTo>
                <a:cubicBezTo>
                  <a:pt x="10904" y="13751"/>
                  <a:pt x="11705" y="14482"/>
                  <a:pt x="12740" y="14482"/>
                </a:cubicBezTo>
                <a:lnTo>
                  <a:pt x="14403" y="14482"/>
                </a:lnTo>
                <a:cubicBezTo>
                  <a:pt x="15439" y="14482"/>
                  <a:pt x="16239" y="13751"/>
                  <a:pt x="16239" y="12828"/>
                </a:cubicBezTo>
                <a:lnTo>
                  <a:pt x="16239" y="7493"/>
                </a:lnTo>
                <a:lnTo>
                  <a:pt x="14403" y="7493"/>
                </a:lnTo>
                <a:lnTo>
                  <a:pt x="17910" y="3985"/>
                </a:lnTo>
                <a:lnTo>
                  <a:pt x="21583" y="7493"/>
                </a:lnTo>
                <a:lnTo>
                  <a:pt x="19747" y="7493"/>
                </a:lnTo>
                <a:lnTo>
                  <a:pt x="19747" y="12828"/>
                </a:lnTo>
                <a:cubicBezTo>
                  <a:pt x="19747" y="15596"/>
                  <a:pt x="17171" y="18155"/>
                  <a:pt x="14403" y="18155"/>
                </a:cubicBezTo>
                <a:lnTo>
                  <a:pt x="12740" y="18155"/>
                </a:lnTo>
                <a:cubicBezTo>
                  <a:pt x="9973" y="18155"/>
                  <a:pt x="7396" y="15596"/>
                  <a:pt x="7396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Классификация интегрированных уроков по способу их организ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струирование и проведение урока двумя и более преподавателями  разных дисциплин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струирование    и    проведение интегрированного      урока       одним преподавателем,      имеющим       базовую подготовку по соответствующим дисциплин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интегрированных тем, разделов и кур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77724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ровни интеграци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Первый  уровен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 межпредметные связ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торой  уровен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 объединение понятийно-информационной сферы учебных предме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ретий уровен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- связан с задачами сравнительно-обобщающего изучения материала и выражается в умении учащихся  сопоставлять и противопоставлять явления и объект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Четвертый уровень интеграц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щиеся  сами начинают сопоставлять факты, суждения об одних и тех же явлениях, события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анавливать связи и закономерности между н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меняют совместно выработанные учебные ум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84872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труктура </a:t>
            </a:r>
            <a:br>
              <a:rPr sz="3600"/>
            </a:b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интегрированных урок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ается от обычных уроков следующими особенностя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ельной четкостью, компактностью, сжатостью учебного материа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гической взаимообусловленностью, взаимообязанностью материала интегрируемых предметов на каждом этапе уро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ьшой информативной ёмкостью учебного материала, используемого на уро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9246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7493"/>
                </a:moveTo>
                <a:lnTo>
                  <a:pt x="13787" y="7493"/>
                </a:lnTo>
                <a:lnTo>
                  <a:pt x="13787" y="12828"/>
                </a:lnTo>
                <a:cubicBezTo>
                  <a:pt x="13787" y="13751"/>
                  <a:pt x="14588" y="14482"/>
                  <a:pt x="15624" y="14482"/>
                </a:cubicBezTo>
                <a:lnTo>
                  <a:pt x="17286" y="14482"/>
                </a:lnTo>
                <a:cubicBezTo>
                  <a:pt x="18322" y="14482"/>
                  <a:pt x="19123" y="13751"/>
                  <a:pt x="19123" y="12828"/>
                </a:cubicBezTo>
                <a:lnTo>
                  <a:pt x="19123" y="7493"/>
                </a:lnTo>
                <a:lnTo>
                  <a:pt x="17286" y="7493"/>
                </a:lnTo>
                <a:lnTo>
                  <a:pt x="20794" y="3985"/>
                </a:lnTo>
                <a:lnTo>
                  <a:pt x="24467" y="7493"/>
                </a:lnTo>
                <a:lnTo>
                  <a:pt x="22630" y="7493"/>
                </a:lnTo>
                <a:lnTo>
                  <a:pt x="22630" y="12828"/>
                </a:lnTo>
                <a:cubicBezTo>
                  <a:pt x="22630" y="15596"/>
                  <a:pt x="20054" y="18155"/>
                  <a:pt x="17286" y="18155"/>
                </a:cubicBezTo>
                <a:lnTo>
                  <a:pt x="15624" y="18155"/>
                </a:lnTo>
                <a:cubicBezTo>
                  <a:pt x="12856" y="18155"/>
                  <a:pt x="10280" y="15596"/>
                  <a:pt x="10280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нципы интегрированного обуч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званы работать на достижение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лавной цели интегрированного обучения — развитие мышления учащихс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Синтезированность знан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развитию широты мышления. целенаправленность и активность мыш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Углублённость изучен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развитие глубины мыш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Актуальность проблемы, или практическая 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облемы - усиливает практическую направленность обучения, что развивает критичность мышления, способность сопоставлять теорию с практик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Альтернативнос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развитие гибкости мышления, развивают оригинальность мышления, развивает активность, критичность, организованность мышления, развивается целенаправленность, рациональность, экономия мыш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493"/>
                </a:moveTo>
                <a:lnTo>
                  <a:pt x="15376" y="7493"/>
                </a:lnTo>
                <a:lnTo>
                  <a:pt x="15376" y="12828"/>
                </a:lnTo>
                <a:cubicBezTo>
                  <a:pt x="15376" y="13751"/>
                  <a:pt x="16176" y="14482"/>
                  <a:pt x="17212" y="14482"/>
                </a:cubicBezTo>
                <a:lnTo>
                  <a:pt x="18875" y="14482"/>
                </a:lnTo>
                <a:cubicBezTo>
                  <a:pt x="19910" y="14482"/>
                  <a:pt x="20711" y="13751"/>
                  <a:pt x="20711" y="12828"/>
                </a:cubicBezTo>
                <a:lnTo>
                  <a:pt x="20711" y="7493"/>
                </a:lnTo>
                <a:lnTo>
                  <a:pt x="18875" y="7493"/>
                </a:lnTo>
                <a:lnTo>
                  <a:pt x="22382" y="3985"/>
                </a:lnTo>
                <a:lnTo>
                  <a:pt x="26055" y="7493"/>
                </a:lnTo>
                <a:lnTo>
                  <a:pt x="24219" y="7493"/>
                </a:lnTo>
                <a:lnTo>
                  <a:pt x="24219" y="12828"/>
                </a:lnTo>
                <a:cubicBezTo>
                  <a:pt x="24219" y="15596"/>
                  <a:pt x="21642" y="18155"/>
                  <a:pt x="18875" y="18155"/>
                </a:cubicBezTo>
                <a:lnTo>
                  <a:pt x="17212" y="18155"/>
                </a:lnTo>
                <a:cubicBezTo>
                  <a:pt x="14444" y="18155"/>
                  <a:pt x="11868" y="15596"/>
                  <a:pt x="11868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планировании и организации уроков важно учитывать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слов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Правильно определить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главную це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нтегрированного уро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Тщательное определение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птимальной нагрузк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азличными видами деятельности учащихся на уро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Тщательная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координация действий преподавателе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на уро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Интегрированным уроком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может быть любой урок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о своей структурой, если для его проведения привлекаются знания, умения и результаты анализа изучаемого материала методами других наук, других учебных предмет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В интегрированном уроке из нескольких предметов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дин является ведущи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Интегрированные уроки необходимо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давать периодическ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азличных предметов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 информатико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бладает большим потенциало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7848720" y="62485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6" h="21600">
                <a:moveTo>
                  <a:pt x="17297" y="7493"/>
                </a:moveTo>
                <a:lnTo>
                  <a:pt x="20804" y="7493"/>
                </a:lnTo>
                <a:lnTo>
                  <a:pt x="20804" y="12828"/>
                </a:lnTo>
                <a:cubicBezTo>
                  <a:pt x="20804" y="13751"/>
                  <a:pt x="21605" y="14482"/>
                  <a:pt x="22641" y="14482"/>
                </a:cubicBezTo>
                <a:lnTo>
                  <a:pt x="24303" y="14482"/>
                </a:lnTo>
                <a:cubicBezTo>
                  <a:pt x="25339" y="14482"/>
                  <a:pt x="26140" y="13751"/>
                  <a:pt x="26140" y="12828"/>
                </a:cubicBezTo>
                <a:lnTo>
                  <a:pt x="26140" y="7493"/>
                </a:lnTo>
                <a:lnTo>
                  <a:pt x="24303" y="7493"/>
                </a:lnTo>
                <a:lnTo>
                  <a:pt x="27811" y="3985"/>
                </a:lnTo>
                <a:lnTo>
                  <a:pt x="31484" y="7493"/>
                </a:lnTo>
                <a:lnTo>
                  <a:pt x="29647" y="7493"/>
                </a:lnTo>
                <a:lnTo>
                  <a:pt x="29647" y="12828"/>
                </a:lnTo>
                <a:cubicBezTo>
                  <a:pt x="29647" y="15596"/>
                  <a:pt x="27071" y="18155"/>
                  <a:pt x="24303" y="18155"/>
                </a:cubicBezTo>
                <a:lnTo>
                  <a:pt x="22641" y="18155"/>
                </a:lnTo>
                <a:cubicBezTo>
                  <a:pt x="19873" y="18155"/>
                  <a:pt x="17297" y="15596"/>
                  <a:pt x="17297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Цели интегрированных уроков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1. Познавательны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ть искать связи между фактами, событиями,   явлениями, делать вывод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2. Развивающ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ть анализировать, сравнивать, сопоставлять и обобщать</a:t>
            </a:r>
            <a:br>
              <a:rPr sz="2400"/>
            </a:b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3. Воспитательны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ть ребят  извлекать нравственные уроки из осмысления событий и явл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79246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3-10-21T15:46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