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2.gif" ContentType="image/gif"/>
  <Override PartName="/ppt/media/image13.png" ContentType="image/png"/>
  <Override PartName="/ppt/media/chimes.wav" ContentType="audio/x-wav"/>
  <Override PartName="/ppt/media/image7.wmf" ContentType="image/x-wmf"/>
  <Override PartName="/ppt/media/image12.gif" ContentType="image/gif"/>
  <Override PartName="/ppt/media/image1.jpeg" ContentType="image/jpeg"/>
  <Override PartName="/ppt/media/image4.wmf" ContentType="image/x-wmf"/>
  <Override PartName="/ppt/media/image5.wmf" ContentType="image/x-wmf"/>
  <Override PartName="/ppt/media/type.wav" ContentType="audio/x-wav"/>
  <Override PartName="/ppt/media/image6.wmf" ContentType="image/x-wmf"/>
  <Override PartName="/ppt/media/image11.wmf" ContentType="image/x-wmf"/>
  <Override PartName="/ppt/media/image3.png" ContentType="image/png"/>
  <Override PartName="/ppt/media/image8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C45-A761-40B5-8A19-BE6D8FF9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CD6-9B14-4B09-A066-AA077422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DFE-8072-4468-98B9-8E4E868E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FE3-99D0-456E-AF4E-044C954D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545A-A5E5-41B6-A61C-AA134483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BB8A-97EE-420D-844C-EF0D8BBE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AE27-0609-44CE-A5C5-BCDECE96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EB5F-984A-411A-8B6C-81703239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DDA0-5894-4797-845F-053FAEBB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12D8-74A6-45F9-8875-4D0828EF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CCEA-A9F4-4B67-AC4C-3778563A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003-7815-42C1-81E3-4917A18A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DFCE-4DAC-4B72-81AC-807EF27A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B271-800B-42BE-829C-456A1868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88D4-753D-4A4D-8314-CBFD4509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4109-4667-486A-8790-B0CC5181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0FEE-4255-491A-924A-050DC0EC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228-FFDA-418A-A69B-74997B1E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0DA-D790-43C6-A3FD-3B1010A6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5EA-1335-4319-A577-1D4C8C01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A19-8ADA-4D1D-B8B9-AF8534B7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3B8-4EAA-465A-B098-5D463B7C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0E8-54EF-47BF-88B1-86EB2CD0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6B7-8A58-44F2-9059-86BE1447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9A11-C6C8-422F-8887-0208E1101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4D07-EC49-4979-8BB1-641935259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7.wm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1280" y="692280"/>
            <a:ext cx="6408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оррекция недостатков письма и чтения у учащихся начальных классов с использованием информационных технолог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30920" y="4149360"/>
            <a:ext cx="3744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ротова Майя Григор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учитель-логоп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4941720"/>
            <a:ext cx="22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уль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775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275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775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рекция письма и ч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699624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ейный наста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ба – Яга учится чи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м и Тома в старом зам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м и Тома. Каникулы на тропическом остр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рфилд второклассникам. Чт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ёлая азб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73040" y="1052280"/>
            <a:ext cx="6870600" cy="1600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32000" y="3860640"/>
            <a:ext cx="45468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с УИОП №28 им.Октябрьской револю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Ки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10004 г.Киров ул. Ленина 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/факс (8332)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9-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school 28-Kirov@yandex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1944360" cy="1873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964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745"/>
                            </p:stCondLst>
                            <p:childTnLst>
                              <p:par>
                                <p:cTn id="25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745"/>
                            </p:stCondLst>
                            <p:childTnLst>
                              <p:par>
                                <p:cTn id="2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745"/>
                            </p:stCondLst>
                            <p:childTnLst>
                              <p:par>
                                <p:cTn id="2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745"/>
                            </p:stCondLst>
                            <p:childTnLst>
                              <p:par>
                                <p:cTn id="27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745"/>
                            </p:stCondLst>
                            <p:childTnLst>
                              <p:par>
                                <p:cTn id="27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745"/>
                            </p:stCondLst>
                            <p:childTnLst>
                              <p:par>
                                <p:cTn id="2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1944360" cy="6480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74560" y="40464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 учителей и родителей  с нарушениями письменной речи у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1081080" cy="1250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74920" y="1844640"/>
            <a:ext cx="67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Показать возможности использования информационных технологий в работе по коррекции письма и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3716280"/>
            <a:ext cx="676908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уализировать результативность совместной деятельности учителя, логопеда и родителей, направ-ленную на успешность усвоения детьми программы по родному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7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75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75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11280" y="269640"/>
            <a:ext cx="6553440" cy="11430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ы логопедического об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080" y="2204640"/>
            <a:ext cx="24112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следовано детей: 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явлено с  отклонениями в развитии речи:                           99 (3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дифферен-циальной диагно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448240" y="5367240"/>
          <a:ext cx="215424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48240" y="5367240"/>
                    <a:ext cx="21542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440160" y="4465800"/>
          <a:ext cx="150480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40160" y="4465800"/>
                    <a:ext cx="15048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490840" y="1596960"/>
          <a:ext cx="6621480" cy="231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90840" y="1596960"/>
                    <a:ext cx="662148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343240" y="3930480"/>
          <a:ext cx="6537240" cy="283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43240" y="3930480"/>
                    <a:ext cx="653724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755640" y="620640"/>
            <a:ext cx="873000" cy="15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836640"/>
          <a:ext cx="8642160" cy="5824440"/>
        </p:xfrm>
        <a:graphic>
          <a:graphicData uri="http://schemas.openxmlformats.org/drawingml/2006/table">
            <a:tbl>
              <a:tblPr/>
              <a:tblGrid>
                <a:gridCol w="1592280"/>
                <a:gridCol w="2224080"/>
                <a:gridCol w="2665440"/>
                <a:gridCol w="2160360"/>
              </a:tblGrid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ая форма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вая сторона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овая сторона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произно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матическое вос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сический зап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й стр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екты произношения звуко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а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различения оппо-зиционных зву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й словарный запас ограничен рам-ками обиходнобытовой тематики. Качественно и количественно неполноцен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сложных синтаксических конструкций. Синтаксические и морфологические аграмматиз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. Недостаточная сформиро-ванность звуковой стороны речи приводит к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лноценному овладению грамотой, чтением и письмом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ю специфических дисграфи-ческих ошибок на фоне большого количества разнообразных других (орфографически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. Недостаточная сформированность смысловой стороны речи приводит к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ому пониманию инструкций учителя, учебных заданий;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ностям формирования и формулирования собственных мыслей недостаточному развитию связной речи (устный и письменный дискурс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1041480" y="268920"/>
            <a:ext cx="7421400" cy="398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явления недостатков письма и чтения у детей с ОН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7960" y="340200"/>
            <a:ext cx="7421400" cy="398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явления недостатков письма и чтения у детей с ОН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981000"/>
          <a:ext cx="8713800" cy="6072120"/>
        </p:xfrm>
        <a:graphic>
          <a:graphicData uri="http://schemas.openxmlformats.org/drawingml/2006/table">
            <a:tbl>
              <a:tblPr/>
              <a:tblGrid>
                <a:gridCol w="1944720"/>
                <a:gridCol w="1800000"/>
                <a:gridCol w="2859120"/>
                <a:gridCol w="2109960"/>
              </a:tblGrid>
              <a:tr h="343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ая форма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8920"/>
                          <a:tab algn="l" pos="3057480"/>
                          <a:tab algn="l" pos="4586400"/>
                          <a:tab algn="l" pos="6114960"/>
                          <a:tab algn="l" pos="7643880"/>
                          <a:tab algn="l" pos="9172440"/>
                          <a:tab algn="l" pos="10701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графические) ошиб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фографические ошиб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графические) ошиб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фографические ошиб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уск гласных бу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ные искажения звукобук-венного состава слова (перестановки, пропуск, лишние, недописывани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Раздельное написание частей сло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мены и смешения оппозиционных букв по акустическому и артикуляционному сходству (ларек — ралек, щенок — сенок,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Графические ошибки (Б-Д, Л-М, П-Т,Ш-Щ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равописание парных звонких и глухих согласны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бозначение твердости и мягкос-ти согласных на письме при помощи мягкого знака и гласных второго ряда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равописание разделительного мягкого зна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Правописание твердого раздели-тельного зна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Правописание непроизносимых согласных летч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Правописание двойных согласных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Правописание ЧА-ЩА, ЧУ-ЩУ, ЖИ-ШИ, ЧК-Ч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.Замены и смешения слов по смыслу и акустическому сходств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80" indent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еправильное согласование в роде, числе и падеж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80" indent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Неправильное предложно-падеж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80" indent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Слитное написание предлогов со словами пропуски предлогов, союзов и союзных сл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80" indent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Раздельное написание, пропуски пристав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80" indent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Усечение слов (пропуск окончания, суффикс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80" indent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Различные деформации в построении простых предложений (нарушение порядка слов, пропуск слова, нарушение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80" indent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80" indent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Различные искажения в предложениях сложных синтаксических конструк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80" indent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Трудности построения связного письменного высказы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равописание звонких и глухих согласных, безударных гласных в корне сло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авописание родовых и надежных оконча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авописание союзов, союзных слов, предлогов, приставок, суффикс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бозначение начала и конца предлож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ыделение на письме знаками препинания однородных членов предложени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ых предлож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5280" y="456120"/>
            <a:ext cx="8209080" cy="7034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рушение письменной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3141720"/>
            <a:ext cx="2087280" cy="3456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сграф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ецифическое нарушение процесс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ись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1222560" y="1737360"/>
            <a:ext cx="936720" cy="718920"/>
          </a:xfrm>
          <a:custGeom>
            <a:avLst/>
            <a:gdLst>
              <a:gd name="textAreaLeft" fmla="*/ 146160 w 936720"/>
              <a:gd name="textAreaRight" fmla="*/ 819720 w 936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030920" y="1737360"/>
            <a:ext cx="936720" cy="718920"/>
          </a:xfrm>
          <a:custGeom>
            <a:avLst/>
            <a:gdLst>
              <a:gd name="textAreaLeft" fmla="*/ 146160 w 936720"/>
              <a:gd name="textAreaRight" fmla="*/ 819720 w 936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3068640"/>
            <a:ext cx="2087640" cy="3456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слекс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ециф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ру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цесса ч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3068640"/>
            <a:ext cx="2232000" cy="3456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зорфограф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ой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усво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фограф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7200000" y="1737360"/>
            <a:ext cx="936720" cy="719280"/>
          </a:xfrm>
          <a:custGeom>
            <a:avLst/>
            <a:gdLst>
              <a:gd name="textAreaLeft" fmla="*/ 146160 w 936720"/>
              <a:gd name="textAreaRight" fmla="*/ 819720 w 93672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151560"/>
            <a:ext cx="8209080" cy="1312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 коррекции письменной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141720"/>
            <a:ext cx="1439640" cy="3456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сш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сих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унк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574920" y="1737360"/>
            <a:ext cx="936720" cy="718920"/>
          </a:xfrm>
          <a:custGeom>
            <a:avLst/>
            <a:gdLst>
              <a:gd name="textAreaLeft" fmla="*/ 146160 w 936720"/>
              <a:gd name="textAreaRight" fmla="*/ 819720 w 936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303640" y="1737360"/>
            <a:ext cx="936720" cy="718920"/>
          </a:xfrm>
          <a:custGeom>
            <a:avLst/>
            <a:gdLst>
              <a:gd name="textAreaLeft" fmla="*/ 146160 w 936720"/>
              <a:gd name="textAreaRight" fmla="*/ 819720 w 936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5758560" y="1737360"/>
            <a:ext cx="936720" cy="719280"/>
          </a:xfrm>
          <a:custGeom>
            <a:avLst/>
            <a:gdLst>
              <a:gd name="textAreaLeft" fmla="*/ 146160 w 936720"/>
              <a:gd name="textAreaRight" fmla="*/ 819720 w 93672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3141720"/>
            <a:ext cx="1440000" cy="3456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зык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инте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3141720"/>
            <a:ext cx="1439640" cy="3456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ммат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оя р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3141720"/>
            <a:ext cx="1439640" cy="3456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ксичес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а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08720" y="3141720"/>
            <a:ext cx="1440000" cy="3456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вяз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558920" y="1737360"/>
            <a:ext cx="936720" cy="719280"/>
          </a:xfrm>
          <a:custGeom>
            <a:avLst/>
            <a:gdLst>
              <a:gd name="textAreaLeft" fmla="*/ 146160 w 936720"/>
              <a:gd name="textAreaRight" fmla="*/ 819720 w 93672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030920" y="1737360"/>
            <a:ext cx="936720" cy="718920"/>
          </a:xfrm>
          <a:custGeom>
            <a:avLst/>
            <a:gdLst>
              <a:gd name="textAreaLeft" fmla="*/ 146160 w 936720"/>
              <a:gd name="textAreaRight" fmla="*/ 819720 w 936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47160" cy="10843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витие высших псих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416720" cy="46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ерия программ «Тренировка ума»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держит систему развивающих упражнений – тренингов для развития высших психических функций, необходимых человеку для полноценного формирования речи в целом и письменной речи в част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истема Суперпамять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для развития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хники скоростного запоминания цифр, имен, лиц, телефонов, формул, дат, лекций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истема Супервнимание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для развития различны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аметров внимания: объема, устойчивости, концентрации, переключения, распределения, избира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истема Скорочтения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, содержащая эффек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ёмы развития скоростного чт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ия программ «Тренировка ума»выпущена ЗАО Фирмой «Зеленый остров»,автор проекта Сергей Гмыра, сайт фирм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6//www.g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рекция письма и ч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8400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емейный настав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аба – Яга учится чит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1735200" cy="1782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724360" y="4149720"/>
            <a:ext cx="2211480" cy="2187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8360" y="299736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3:34:07Z</dcterms:created>
  <dc:creator>Maya</dc:creator>
  <dc:description/>
  <cp:keywords/>
  <dc:language>en-US</dc:language>
  <cp:lastModifiedBy>Krotova</cp:lastModifiedBy>
  <dcterms:modified xsi:type="dcterms:W3CDTF">2013-10-21T11:06:19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91049</vt:lpwstr>
  </property>
</Properties>
</file>