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600-551D-41B3-A280-5EBB9E20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FB1-7228-40A2-9539-56A822C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CB7-14AE-4362-B3E1-06E60C6C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5AF-51CE-4FE3-8EE6-C28A8EC3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FEF0-CF1D-41FB-A6F0-194E846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27B1-3744-4887-A933-B98BED9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5C70-B31D-4AF1-8FA7-7843ACD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F434-0914-4462-8921-62C41DC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20F8-1C38-4837-808B-B81D8B1F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E5D6-2EF7-4DA3-AC57-5224B42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84B3-3DE2-46C6-9D5D-839CD30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813-EF42-4C62-A8D9-FAFE4A0E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FB5-D24E-41DF-8A1E-5AC947C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ED3D-EC38-4012-8251-5B83FEE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2D02-54C8-453D-A6DE-B580BFD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38E-F3A4-4D32-89CD-468F96C2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D0D4-771B-4426-A3A7-190AE8D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B1C-54A2-41B5-8CC3-FED875B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087-8894-485B-A8D4-BD1D530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438-5234-49E2-A643-86130AB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80B-A354-434D-B896-2A96DF22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012-E592-4CA4-BD07-89F1F80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C10-1CE2-490F-A50A-5696F1B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73D-B1CE-44FE-9647-55F1A57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387-1067-4EAF-8EDF-470A8AF131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5A60-2A73-4879-8C75-370622BFE3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tvet.mail.ru/" TargetMode="External"/><Relationship Id="rId2" Type="http://schemas.openxmlformats.org/officeDocument/2006/relationships/hyperlink" Target="http://allforchildren.ru/" TargetMode="External"/><Relationship Id="rId3" Type="http://schemas.openxmlformats.org/officeDocument/2006/relationships/hyperlink" Target="http://frazbook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lid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714680" y="364320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Козынченко Елена 11 «Б»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0020-020-Frazeologicheskie-vyrazhen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воре шапка горит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таясь что-то скрыть, отвести от себя подозрения, кто-л. словами или поступками невольно выдает свою тайну. Пословица известна и некоторым другим языкам, напр.: украл. Na ziodzieju czapkagore. Она восходит к старинному народному анекдоту о том, как знахарь нашел на рынке вора. Однажды после напрасных попыток поймать вора люди обратились к знахарю за помощью. Тот вывел их на рынок, где собралась большая толпа, и громко выкрикнул: «Смотрите! На воре-то шапка горит!» И вдруг все увидели, как какой-то человек схватился за шапку. Так вор был пойман и ули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otvet.mail.ru</a:t>
            </a:r>
            <a:br>
              <a:rPr sz="3800"/>
            </a:b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allforchildren.ru</a:t>
            </a:r>
            <a:br>
              <a:rPr sz="3800"/>
            </a:b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frazbook.r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Что называют фразеологизмам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еологизмы (фразеологические обороты) - это устойчивые сочетания слов, равные по значению либо одному слову, либо целому предложению. Во весь дух очень быстро Водить за нос обманывать Набрать в рот воды молчать Куры не клюют много В языке каждого народа есть устойчивые образные обороты, которые воспроизводятся в речи подобно слову, а не строятся, подобно словосочетаниям и предложениям. Такие обороты называются фразеологизмами. Другое важное свойство фразеологизмов: смысл целого фразеологизма не складывается из смыслов входящих в него слов, например выражение собаку съел, обозначающее быть мастером в каком-нибудь деле», совершенно не связано со значением входящих в него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оисхождение фразеологизм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часть фразеологизмов русского языка исконно русского происхождения, источником их являются: профессиональная речь (точить лясы, бить баклуши, без сучка и задоринки, снять стружку, сесть на мель, играть первую скрипку) жаргон (втирать очки, карта бита, идти ва-банк у картежников) и разговорная речь. диалекты (связаны с трудом крестьянства) (поворачивать оглобли, из кулька в рогожку, на воде вилами написано). богослужебные книги (святая святых, исчадие ада, по образу и подобию, глас вопиющего в пустыне, земля обетованна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мотреть как баран на новые воро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лядеть растерянным, сконфуженным; глазеть с глупым видом Этимология В деревнях скот с утра выгонялся на выпас под присмотром пастухов; вечером стадо возвращалось в деревню, и животных загоняли каждое в соответствующий двор. Животные за долгое время привыкали к определённому внешнему виду «своих» ворот, и зачастую впадали в ступор, если их пытались загнать в незнакомые, ранее не виденные (новые) вор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 заметк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 слово, фразеологизм может иметь синонимы и антонимы. Фразеологизмы – синонимы: два сапога пара – одного поля ягода (один другого не лучше); перековать мечи на орала - вложить меч в ножны (закончить войну, распрю). Фразеологизмы - антонимы: засучив рукава – спустя рукава; заварить кашу – расхлёбывать кашу; тяжёл на подъём – лёгок на подъём. Фразеологизм кот наплакал имеет синоним мало и антоним 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ричит во всю ивановску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скве указы русских царей зачитывались на Ивановской площади в Кремле (у колокольни Ивана Великого). Площадь была шумная, многолюдная. Дьяки, читавшие царёвы указы, старались своим голосом заглушить гомон толпы. Им приходилось не читать, а кричать на всю площадь, во всю Ивановскую. С тех пор и пошло выражение: кричит во всю ивановскую. Во всю ивановскую значит «что есть мочи, изо всех сил». Очень давно, в XVI – XVII веках, указы русских царей зачитывались на городских площад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Rus190_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rus4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8:21:10Z</dcterms:created>
  <dc:creator>лена</dc:creator>
  <dc:description/>
  <dc:language>en-US</dc:language>
  <cp:lastModifiedBy>Админ</cp:lastModifiedBy>
  <dcterms:modified xsi:type="dcterms:W3CDTF">2013-10-21T18:44:48Z</dcterms:modified>
  <cp:revision>5</cp:revision>
  <dc:subject/>
  <dc:title>Слайд 1</dc:title>
</cp:coreProperties>
</file>