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wind.wav" ContentType="audio/x-wav"/>
  <Override PartName="/ppt/media/image7.png" ContentType="image/png"/>
  <Override PartName="/ppt/media/image8.png" ContentType="image/png"/>
  <Override PartName="/ppt/media/image9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FC8-E2EC-4DBD-8C84-4395AB4C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382-BD54-40C5-8F01-15AFC987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65E-5587-4B88-927D-D8FA2707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535-D874-4693-B162-06881B9D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80A-B82C-4A14-9B17-BAB9C4C5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9AB-56AF-4CAC-BCB9-E06C7407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6E6-3970-4AF2-86EC-897EB4D2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4DA-0F07-42DD-BF19-DAE2E946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668-0523-4225-AA59-0F863F0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9B8-1F72-4893-A6DE-BADF820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11A-E657-4D22-89BE-D39BA784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D79-39AC-48CA-B66C-1E48094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6A33-40EE-4D9F-B25A-714ACBC32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applause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applause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applause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applause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applause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audio" Target="../media/applaus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428640" y="3214800"/>
            <a:ext cx="33577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5323"/>
                </a:solidFill>
                <a:latin typeface="Calibri"/>
              </a:rPr>
              <a:t>Чижова И. 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5323"/>
                </a:solidFill>
                <a:latin typeface="Calibri"/>
              </a:rPr>
              <a:t>МБОУ гимн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5323"/>
                </a:solidFill>
                <a:latin typeface="Calibri"/>
              </a:rPr>
              <a:t>г. Узл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5323"/>
                </a:solidFill>
                <a:latin typeface="Calibri"/>
              </a:rPr>
              <a:t>Туль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5640" y="571680"/>
            <a:ext cx="478620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95323"/>
                </a:solidFill>
                <a:latin typeface="Calibri"/>
              </a:rPr>
              <a:t>На   полянке</a:t>
            </a:r>
            <a:br>
              <a:rPr sz="4800"/>
            </a:br>
            <a:r>
              <a:rPr b="1" lang="ru-RU" sz="2800" spc="-1" strike="noStrike">
                <a:solidFill>
                  <a:srgbClr val="07c10b"/>
                </a:solidFill>
                <a:latin typeface="Calibri"/>
              </a:rPr>
              <a:t>Устный счёт   </a:t>
            </a:r>
            <a:br>
              <a:rPr sz="2800"/>
            </a:br>
            <a:r>
              <a:rPr b="1" i="1" lang="ru-RU" sz="2800" spc="-1" strike="noStrike">
                <a:solidFill>
                  <a:srgbClr val="07c10b"/>
                </a:solidFill>
                <a:latin typeface="Calibri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с вырезом 8"/>
          <p:cNvSpPr/>
          <p:nvPr/>
        </p:nvSpPr>
        <p:spPr>
          <a:xfrm>
            <a:off x="8001000" y="600084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5143680"/>
            <a:ext cx="1096920" cy="143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715080" y="1357200"/>
            <a:ext cx="986040" cy="986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643800" y="2500200"/>
            <a:ext cx="214308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5     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Управляющая кнопка: домой 15">
            <a:hlinkClick r:id="rId8" action="ppaction://hlinksldjump"/>
          </p:cNvPr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3.88889E-006 -3.7037E-006 L 0.05799 -0.55254 E">
                                      <p:cBhvr>
                                        <p:cTn id="20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9     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домой 15">
            <a:hlinkClick r:id="rId8" action="ppaction://hlinksldjump"/>
          </p:cNvPr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0.00382 0.00556 L -0.0434 -0.75046 E">
                                      <p:cBhvr>
                                        <p:cTn id="21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4     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домой 15">
            <a:hlinkClick r:id="rId8" action="ppaction://hlinksldjump"/>
          </p:cNvPr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0.00278 0.01436 L 0.05799 -0.55254 E">
                                      <p:cBhvr>
                                        <p:cTn id="23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3     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правляющая кнопка: домой 15"/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0.00278 0.01436 L 0.05799 -0.55254 E">
                                      <p:cBhvr>
                                        <p:cTn id="25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7     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правляющая кнопка: домой 15"/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-2.22222E-006 7.40741E-007 L -0.04722 -0.7456 E">
                                      <p:cBhvr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43120" y="274320"/>
            <a:ext cx="47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5 + 3     6 + 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домой 15"/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1.66667E-006 3.7037E-006 L -0.00799 -0.42014 E">
                                      <p:cBhvr>
                                        <p:cTn id="28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43120" y="274320"/>
            <a:ext cx="47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2 + 3     4 + 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правляющая кнопка: домой 15"/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0.01858 0.00394 L 0.10521 -0.55254 E">
                                      <p:cBhvr>
                                        <p:cTn id="298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0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43120" y="274320"/>
            <a:ext cx="47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8 + 1     4 + 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Управляющая кнопка: домой 15"/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1.66667E-006 3.7037E-006 L 1.66667E-006 -0.40949 E">
                                      <p:cBhvr>
                                        <p:cTn id="31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2785680"/>
            <a:ext cx="4786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Documents and Settings\Admin\Рабочий стол\картинки к презентациям\1211950292_a6.jpg"/>
          <p:cNvPicPr/>
          <p:nvPr/>
        </p:nvPicPr>
        <p:blipFill>
          <a:blip r:embed="rId4"/>
          <a:srcRect l="14000" t="6733" r="12503" b="9356"/>
          <a:stretch/>
        </p:blipFill>
        <p:spPr>
          <a:xfrm>
            <a:off x="5857920" y="5143680"/>
            <a:ext cx="1096920" cy="143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5"/>
          <a:stretch/>
        </p:blipFill>
        <p:spPr>
          <a:xfrm>
            <a:off x="6715080" y="1357200"/>
            <a:ext cx="986040" cy="9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Admin\Рабочий стол\картинки к презентациям\delowap_ru-8xw4.gif"/>
          <p:cNvPicPr/>
          <p:nvPr/>
        </p:nvPicPr>
        <p:blipFill>
          <a:blip r:embed="rId6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Admin\Мои документы\НГ\elka79.gif"/>
          <p:cNvPicPr/>
          <p:nvPr/>
        </p:nvPicPr>
        <p:blipFill>
          <a:blip r:embed="rId7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яблоня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643800" y="2500200"/>
            <a:ext cx="2143080" cy="281304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7">
            <a:hlinkClick r:id="rId9" action="ppaction://hlinksldjump"/>
          </p:cNvPr>
          <p:cNvSpPr/>
          <p:nvPr/>
        </p:nvSpPr>
        <p:spPr>
          <a:xfrm>
            <a:off x="2330280" y="588960"/>
            <a:ext cx="4786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С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5 + 2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с вырезом 8">
            <a:hlinkClick r:id="" action="ppaction://hlinkshowjump?jump=nextslide"/>
          </p:cNvPr>
          <p:cNvSpPr/>
          <p:nvPr/>
        </p:nvSpPr>
        <p:spPr>
          <a:xfrm>
            <a:off x="8001000" y="600084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9"/>
          <p:cNvSpPr/>
          <p:nvPr/>
        </p:nvSpPr>
        <p:spPr>
          <a:xfrm>
            <a:off x="4790520" y="5500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0"/>
          <p:cNvSpPr/>
          <p:nvPr/>
        </p:nvSpPr>
        <p:spPr>
          <a:xfrm>
            <a:off x="1861560" y="5357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1"/>
          <p:cNvSpPr/>
          <p:nvPr/>
        </p:nvSpPr>
        <p:spPr>
          <a:xfrm>
            <a:off x="4507200" y="32148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2"/>
          <p:cNvSpPr/>
          <p:nvPr/>
        </p:nvSpPr>
        <p:spPr>
          <a:xfrm>
            <a:off x="3719160" y="41432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3330000" y="56037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домой 25">
            <a:hlinkClick r:id="rId8" action="ppaction://hlinksldjump"/>
          </p:cNvPr>
          <p:cNvSpPr/>
          <p:nvPr/>
        </p:nvSpPr>
        <p:spPr>
          <a:xfrm>
            <a:off x="700092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8.33333E-007 3.33333E-006 L 0.26597 -0.76551 E"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4 + 1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право с вырезом 8">
            <a:hlinkClick r:id="" action="ppaction://hlinkshowjump?jump=nextslide"/>
          </p:cNvPr>
          <p:cNvSpPr/>
          <p:nvPr/>
        </p:nvSpPr>
        <p:spPr>
          <a:xfrm>
            <a:off x="8001000" y="600084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9"/>
          <p:cNvSpPr/>
          <p:nvPr/>
        </p:nvSpPr>
        <p:spPr>
          <a:xfrm>
            <a:off x="4790520" y="5500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0"/>
          <p:cNvSpPr/>
          <p:nvPr/>
        </p:nvSpPr>
        <p:spPr>
          <a:xfrm>
            <a:off x="1861560" y="5357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1"/>
          <p:cNvSpPr/>
          <p:nvPr/>
        </p:nvSpPr>
        <p:spPr>
          <a:xfrm>
            <a:off x="4740480" y="3214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2"/>
          <p:cNvSpPr/>
          <p:nvPr/>
        </p:nvSpPr>
        <p:spPr>
          <a:xfrm>
            <a:off x="3719160" y="41432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3330000" y="56037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омой 15">
            <a:hlinkClick r:id="rId8" action="ppaction://hlinksldjump"/>
          </p:cNvPr>
          <p:cNvSpPr/>
          <p:nvPr/>
        </p:nvSpPr>
        <p:spPr>
          <a:xfrm>
            <a:off x="6929280" y="5857920"/>
            <a:ext cx="714600" cy="78588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53">
                <a:moveTo>
                  <a:pt x="0" y="0"/>
                </a:moveTo>
                <a:lnTo>
                  <a:pt x="21600" y="0"/>
                </a:lnTo>
                <a:lnTo>
                  <a:pt x="21600" y="23753"/>
                </a:lnTo>
                <a:lnTo>
                  <a:pt x="0" y="23753"/>
                </a:lnTo>
                <a:close/>
              </a:path>
              <a:path fill="lightenLess" w="21600" h="237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3">
                <a:moveTo>
                  <a:pt x="21600" y="0"/>
                </a:moveTo>
                <a:lnTo>
                  <a:pt x="21600" y="23753"/>
                </a:lnTo>
                <a:lnTo>
                  <a:pt x="20200" y="22353"/>
                </a:lnTo>
                <a:lnTo>
                  <a:pt x="20200" y="1400"/>
                </a:lnTo>
                <a:close/>
              </a:path>
              <a:path fill="darkenLess" w="21600" h="23753">
                <a:moveTo>
                  <a:pt x="21600" y="23753"/>
                </a:moveTo>
                <a:lnTo>
                  <a:pt x="0" y="23753"/>
                </a:lnTo>
                <a:lnTo>
                  <a:pt x="1400" y="22353"/>
                </a:lnTo>
                <a:lnTo>
                  <a:pt x="20200" y="22353"/>
                </a:lnTo>
                <a:close/>
              </a:path>
              <a:path fill="lighten" w="21600" h="23753">
                <a:moveTo>
                  <a:pt x="0" y="237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3"/>
                </a:lnTo>
                <a:close/>
              </a:path>
              <a:path fill="darken" w="21600" h="23753">
                <a:moveTo>
                  <a:pt x="10800" y="4914"/>
                </a:moveTo>
                <a:lnTo>
                  <a:pt x="13376" y="7525"/>
                </a:ln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lnTo>
                  <a:pt x="17763" y="11877"/>
                </a:lnTo>
                <a:lnTo>
                  <a:pt x="16109" y="11877"/>
                </a:lnTo>
                <a:lnTo>
                  <a:pt x="16109" y="19066"/>
                </a:lnTo>
                <a:lnTo>
                  <a:pt x="5491" y="19066"/>
                </a:lnTo>
                <a:lnTo>
                  <a:pt x="5491" y="11877"/>
                </a:lnTo>
                <a:lnTo>
                  <a:pt x="3837" y="11877"/>
                </a:lnTo>
                <a:close/>
              </a:path>
              <a:path fill="darkenLess" w="21600" h="23753">
                <a:moveTo>
                  <a:pt x="13376" y="7525"/>
                </a:move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close/>
              </a:path>
              <a:path fill="darkenLess" w="21600" h="23753">
                <a:moveTo>
                  <a:pt x="9877" y="15376"/>
                </a:moveTo>
                <a:lnTo>
                  <a:pt x="11723" y="15376"/>
                </a:lnTo>
                <a:lnTo>
                  <a:pt x="11723" y="19066"/>
                </a:lnTo>
                <a:lnTo>
                  <a:pt x="16109" y="19066"/>
                </a:lnTo>
                <a:lnTo>
                  <a:pt x="16109" y="11877"/>
                </a:lnTo>
                <a:lnTo>
                  <a:pt x="5491" y="11877"/>
                </a:lnTo>
                <a:lnTo>
                  <a:pt x="5491" y="19066"/>
                </a:lnTo>
                <a:lnTo>
                  <a:pt x="9877" y="19066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0.00139 0.01342 L 0.11944 -0.42755 E">
                                      <p:cBhvr>
                                        <p:cTn id="3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1 + 1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право с вырезом 8">
            <a:hlinkClick r:id="" action="ppaction://hlinkshowjump?jump=nextslide"/>
          </p:cNvPr>
          <p:cNvSpPr/>
          <p:nvPr/>
        </p:nvSpPr>
        <p:spPr>
          <a:xfrm>
            <a:off x="8001000" y="600084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9"/>
          <p:cNvSpPr/>
          <p:nvPr/>
        </p:nvSpPr>
        <p:spPr>
          <a:xfrm>
            <a:off x="4790520" y="5500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0"/>
          <p:cNvSpPr/>
          <p:nvPr/>
        </p:nvSpPr>
        <p:spPr>
          <a:xfrm>
            <a:off x="1861560" y="5357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1"/>
          <p:cNvSpPr/>
          <p:nvPr/>
        </p:nvSpPr>
        <p:spPr>
          <a:xfrm>
            <a:off x="4740480" y="3214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2"/>
          <p:cNvSpPr/>
          <p:nvPr/>
        </p:nvSpPr>
        <p:spPr>
          <a:xfrm>
            <a:off x="3719160" y="41432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3"/>
          <p:cNvSpPr/>
          <p:nvPr/>
        </p:nvSpPr>
        <p:spPr>
          <a:xfrm>
            <a:off x="3330000" y="56037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омой 15">
            <a:hlinkClick r:id="rId8" action="ppaction://hlinksldjump"/>
          </p:cNvPr>
          <p:cNvSpPr/>
          <p:nvPr/>
        </p:nvSpPr>
        <p:spPr>
          <a:xfrm>
            <a:off x="6929280" y="5929200"/>
            <a:ext cx="714600" cy="78588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53">
                <a:moveTo>
                  <a:pt x="0" y="0"/>
                </a:moveTo>
                <a:lnTo>
                  <a:pt x="21600" y="0"/>
                </a:lnTo>
                <a:lnTo>
                  <a:pt x="21600" y="23753"/>
                </a:lnTo>
                <a:lnTo>
                  <a:pt x="0" y="23753"/>
                </a:lnTo>
                <a:close/>
              </a:path>
              <a:path fill="lightenLess" w="21600" h="237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3">
                <a:moveTo>
                  <a:pt x="21600" y="0"/>
                </a:moveTo>
                <a:lnTo>
                  <a:pt x="21600" y="23753"/>
                </a:lnTo>
                <a:lnTo>
                  <a:pt x="20200" y="22353"/>
                </a:lnTo>
                <a:lnTo>
                  <a:pt x="20200" y="1400"/>
                </a:lnTo>
                <a:close/>
              </a:path>
              <a:path fill="darkenLess" w="21600" h="23753">
                <a:moveTo>
                  <a:pt x="21600" y="23753"/>
                </a:moveTo>
                <a:lnTo>
                  <a:pt x="0" y="23753"/>
                </a:lnTo>
                <a:lnTo>
                  <a:pt x="1400" y="22353"/>
                </a:lnTo>
                <a:lnTo>
                  <a:pt x="20200" y="22353"/>
                </a:lnTo>
                <a:close/>
              </a:path>
              <a:path fill="lighten" w="21600" h="23753">
                <a:moveTo>
                  <a:pt x="0" y="237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3"/>
                </a:lnTo>
                <a:close/>
              </a:path>
              <a:path fill="darken" w="21600" h="23753">
                <a:moveTo>
                  <a:pt x="10800" y="4914"/>
                </a:moveTo>
                <a:lnTo>
                  <a:pt x="13376" y="7525"/>
                </a:ln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lnTo>
                  <a:pt x="17763" y="11877"/>
                </a:lnTo>
                <a:lnTo>
                  <a:pt x="16109" y="11877"/>
                </a:lnTo>
                <a:lnTo>
                  <a:pt x="16109" y="19066"/>
                </a:lnTo>
                <a:lnTo>
                  <a:pt x="5491" y="19066"/>
                </a:lnTo>
                <a:lnTo>
                  <a:pt x="5491" y="11877"/>
                </a:lnTo>
                <a:lnTo>
                  <a:pt x="3837" y="11877"/>
                </a:lnTo>
                <a:close/>
              </a:path>
              <a:path fill="darkenLess" w="21600" h="23753">
                <a:moveTo>
                  <a:pt x="13376" y="7525"/>
                </a:move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close/>
              </a:path>
              <a:path fill="darkenLess" w="21600" h="23753">
                <a:moveTo>
                  <a:pt x="9877" y="15376"/>
                </a:moveTo>
                <a:lnTo>
                  <a:pt x="11723" y="15376"/>
                </a:lnTo>
                <a:lnTo>
                  <a:pt x="11723" y="19066"/>
                </a:lnTo>
                <a:lnTo>
                  <a:pt x="16109" y="19066"/>
                </a:lnTo>
                <a:lnTo>
                  <a:pt x="16109" y="11877"/>
                </a:lnTo>
                <a:lnTo>
                  <a:pt x="5491" y="11877"/>
                </a:lnTo>
                <a:lnTo>
                  <a:pt x="5491" y="19066"/>
                </a:lnTo>
                <a:lnTo>
                  <a:pt x="9877" y="19066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3.88889E-006 -3.7037E-006 L 0.23907 -0.54189 E">
                                      <p:cBhvr>
                                        <p:cTn id="6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1 + 2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право с вырезом 8">
            <a:hlinkClick r:id="" action="ppaction://hlinkshowjump?jump=nextslide"/>
          </p:cNvPr>
          <p:cNvSpPr/>
          <p:nvPr/>
        </p:nvSpPr>
        <p:spPr>
          <a:xfrm>
            <a:off x="8001000" y="600084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9"/>
          <p:cNvSpPr/>
          <p:nvPr/>
        </p:nvSpPr>
        <p:spPr>
          <a:xfrm>
            <a:off x="4790520" y="5500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1861560" y="5357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4740480" y="3214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3719160" y="41432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3330000" y="56037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омой 15">
            <a:hlinkClick r:id="rId8" action="ppaction://hlinksldjump"/>
          </p:cNvPr>
          <p:cNvSpPr/>
          <p:nvPr/>
        </p:nvSpPr>
        <p:spPr>
          <a:xfrm>
            <a:off x="6929280" y="5857920"/>
            <a:ext cx="714600" cy="78588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53">
                <a:moveTo>
                  <a:pt x="0" y="0"/>
                </a:moveTo>
                <a:lnTo>
                  <a:pt x="21600" y="0"/>
                </a:lnTo>
                <a:lnTo>
                  <a:pt x="21600" y="23753"/>
                </a:lnTo>
                <a:lnTo>
                  <a:pt x="0" y="23753"/>
                </a:lnTo>
                <a:close/>
              </a:path>
              <a:path fill="lightenLess" w="21600" h="237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3">
                <a:moveTo>
                  <a:pt x="21600" y="0"/>
                </a:moveTo>
                <a:lnTo>
                  <a:pt x="21600" y="23753"/>
                </a:lnTo>
                <a:lnTo>
                  <a:pt x="20200" y="22353"/>
                </a:lnTo>
                <a:lnTo>
                  <a:pt x="20200" y="1400"/>
                </a:lnTo>
                <a:close/>
              </a:path>
              <a:path fill="darkenLess" w="21600" h="23753">
                <a:moveTo>
                  <a:pt x="21600" y="23753"/>
                </a:moveTo>
                <a:lnTo>
                  <a:pt x="0" y="23753"/>
                </a:lnTo>
                <a:lnTo>
                  <a:pt x="1400" y="22353"/>
                </a:lnTo>
                <a:lnTo>
                  <a:pt x="20200" y="22353"/>
                </a:lnTo>
                <a:close/>
              </a:path>
              <a:path fill="lighten" w="21600" h="23753">
                <a:moveTo>
                  <a:pt x="0" y="237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3"/>
                </a:lnTo>
                <a:close/>
              </a:path>
              <a:path fill="darken" w="21600" h="23753">
                <a:moveTo>
                  <a:pt x="10800" y="4914"/>
                </a:moveTo>
                <a:lnTo>
                  <a:pt x="13376" y="7525"/>
                </a:ln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lnTo>
                  <a:pt x="17763" y="11877"/>
                </a:lnTo>
                <a:lnTo>
                  <a:pt x="16109" y="11877"/>
                </a:lnTo>
                <a:lnTo>
                  <a:pt x="16109" y="19066"/>
                </a:lnTo>
                <a:lnTo>
                  <a:pt x="5491" y="19066"/>
                </a:lnTo>
                <a:lnTo>
                  <a:pt x="5491" y="11877"/>
                </a:lnTo>
                <a:lnTo>
                  <a:pt x="3837" y="11877"/>
                </a:lnTo>
                <a:close/>
              </a:path>
              <a:path fill="darkenLess" w="21600" h="23753">
                <a:moveTo>
                  <a:pt x="13376" y="7525"/>
                </a:move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close/>
              </a:path>
              <a:path fill="darkenLess" w="21600" h="23753">
                <a:moveTo>
                  <a:pt x="9877" y="15376"/>
                </a:moveTo>
                <a:lnTo>
                  <a:pt x="11723" y="15376"/>
                </a:lnTo>
                <a:lnTo>
                  <a:pt x="11723" y="19066"/>
                </a:lnTo>
                <a:lnTo>
                  <a:pt x="16109" y="19066"/>
                </a:lnTo>
                <a:lnTo>
                  <a:pt x="16109" y="11877"/>
                </a:lnTo>
                <a:lnTo>
                  <a:pt x="5491" y="11877"/>
                </a:lnTo>
                <a:lnTo>
                  <a:pt x="5491" y="19066"/>
                </a:lnTo>
                <a:lnTo>
                  <a:pt x="9877" y="19066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3.88889E-006 -3.7037E-006 L 0.23907 -0.54189 E">
                                      <p:cBhvr>
                                        <p:cTn id="9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2 + 2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право с вырезом 8">
            <a:hlinkClick r:id="" action="ppaction://hlinkshowjump?jump=nextslide"/>
          </p:cNvPr>
          <p:cNvSpPr/>
          <p:nvPr/>
        </p:nvSpPr>
        <p:spPr>
          <a:xfrm>
            <a:off x="8001000" y="600084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9"/>
          <p:cNvSpPr/>
          <p:nvPr/>
        </p:nvSpPr>
        <p:spPr>
          <a:xfrm>
            <a:off x="4790520" y="5500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1861560" y="5357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1"/>
          <p:cNvSpPr/>
          <p:nvPr/>
        </p:nvSpPr>
        <p:spPr>
          <a:xfrm>
            <a:off x="4740480" y="3214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2"/>
          <p:cNvSpPr/>
          <p:nvPr/>
        </p:nvSpPr>
        <p:spPr>
          <a:xfrm>
            <a:off x="3719160" y="41432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3330000" y="56037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домой 15">
            <a:hlinkClick r:id="rId8" action="ppaction://hlinksldjump"/>
          </p:cNvPr>
          <p:cNvSpPr/>
          <p:nvPr/>
        </p:nvSpPr>
        <p:spPr>
          <a:xfrm>
            <a:off x="7072200" y="5857920"/>
            <a:ext cx="714600" cy="78588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53">
                <a:moveTo>
                  <a:pt x="0" y="0"/>
                </a:moveTo>
                <a:lnTo>
                  <a:pt x="21600" y="0"/>
                </a:lnTo>
                <a:lnTo>
                  <a:pt x="21600" y="23753"/>
                </a:lnTo>
                <a:lnTo>
                  <a:pt x="0" y="23753"/>
                </a:lnTo>
                <a:close/>
              </a:path>
              <a:path fill="lightenLess" w="21600" h="237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3">
                <a:moveTo>
                  <a:pt x="21600" y="0"/>
                </a:moveTo>
                <a:lnTo>
                  <a:pt x="21600" y="23753"/>
                </a:lnTo>
                <a:lnTo>
                  <a:pt x="20200" y="22353"/>
                </a:lnTo>
                <a:lnTo>
                  <a:pt x="20200" y="1400"/>
                </a:lnTo>
                <a:close/>
              </a:path>
              <a:path fill="darkenLess" w="21600" h="23753">
                <a:moveTo>
                  <a:pt x="21600" y="23753"/>
                </a:moveTo>
                <a:lnTo>
                  <a:pt x="0" y="23753"/>
                </a:lnTo>
                <a:lnTo>
                  <a:pt x="1400" y="22353"/>
                </a:lnTo>
                <a:lnTo>
                  <a:pt x="20200" y="22353"/>
                </a:lnTo>
                <a:close/>
              </a:path>
              <a:path fill="lighten" w="21600" h="23753">
                <a:moveTo>
                  <a:pt x="0" y="237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3"/>
                </a:lnTo>
                <a:close/>
              </a:path>
              <a:path fill="darken" w="21600" h="23753">
                <a:moveTo>
                  <a:pt x="10800" y="4914"/>
                </a:moveTo>
                <a:lnTo>
                  <a:pt x="13376" y="7525"/>
                </a:ln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lnTo>
                  <a:pt x="17763" y="11877"/>
                </a:lnTo>
                <a:lnTo>
                  <a:pt x="16109" y="11877"/>
                </a:lnTo>
                <a:lnTo>
                  <a:pt x="16109" y="19066"/>
                </a:lnTo>
                <a:lnTo>
                  <a:pt x="5491" y="19066"/>
                </a:lnTo>
                <a:lnTo>
                  <a:pt x="5491" y="11877"/>
                </a:lnTo>
                <a:lnTo>
                  <a:pt x="3837" y="11877"/>
                </a:lnTo>
                <a:close/>
              </a:path>
              <a:path fill="darkenLess" w="21600" h="23753">
                <a:moveTo>
                  <a:pt x="13376" y="7525"/>
                </a:moveTo>
                <a:lnTo>
                  <a:pt x="13376" y="5784"/>
                </a:lnTo>
                <a:lnTo>
                  <a:pt x="15152" y="5784"/>
                </a:lnTo>
                <a:lnTo>
                  <a:pt x="15152" y="9300"/>
                </a:lnTo>
                <a:close/>
              </a:path>
              <a:path fill="darkenLess" w="21600" h="23753">
                <a:moveTo>
                  <a:pt x="9877" y="15376"/>
                </a:moveTo>
                <a:lnTo>
                  <a:pt x="11723" y="15376"/>
                </a:lnTo>
                <a:lnTo>
                  <a:pt x="11723" y="19066"/>
                </a:lnTo>
                <a:lnTo>
                  <a:pt x="16109" y="19066"/>
                </a:lnTo>
                <a:lnTo>
                  <a:pt x="16109" y="11877"/>
                </a:lnTo>
                <a:lnTo>
                  <a:pt x="5491" y="11877"/>
                </a:lnTo>
                <a:lnTo>
                  <a:pt x="5491" y="19066"/>
                </a:lnTo>
                <a:lnTo>
                  <a:pt x="9877" y="19066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8.33333E-007 3.33333E-006 L 0.26597 -0.76551 E">
                                      <p:cBhvr>
                                        <p:cTn id="12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2 + 0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9"/>
          <p:cNvSpPr/>
          <p:nvPr/>
        </p:nvSpPr>
        <p:spPr>
          <a:xfrm>
            <a:off x="4790520" y="5500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0"/>
          <p:cNvSpPr/>
          <p:nvPr/>
        </p:nvSpPr>
        <p:spPr>
          <a:xfrm>
            <a:off x="1861560" y="5357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1"/>
          <p:cNvSpPr/>
          <p:nvPr/>
        </p:nvSpPr>
        <p:spPr>
          <a:xfrm>
            <a:off x="4740480" y="32148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2"/>
          <p:cNvSpPr/>
          <p:nvPr/>
        </p:nvSpPr>
        <p:spPr>
          <a:xfrm>
            <a:off x="3719160" y="41432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23"/>
          <p:cNvSpPr/>
          <p:nvPr/>
        </p:nvSpPr>
        <p:spPr>
          <a:xfrm>
            <a:off x="3330000" y="56037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домой 15">
            <a:hlinkClick r:id="rId8" action="ppaction://hlinksldjump"/>
          </p:cNvPr>
          <p:cNvSpPr/>
          <p:nvPr/>
        </p:nvSpPr>
        <p:spPr>
          <a:xfrm>
            <a:off x="742968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2.77778E-007 2.22222E-006 L 0.43108 -0.72454 E">
                                      <p:cBhvr>
                                        <p:cTn id="15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C:\Documents and Settings\Admin\Мои документы\Новая папка\ёлка.png"/>
          <p:cNvPicPr/>
          <p:nvPr/>
        </p:nvPicPr>
        <p:blipFill>
          <a:blip r:embed="rId1"/>
          <a:stretch/>
        </p:blipFill>
        <p:spPr>
          <a:xfrm>
            <a:off x="0" y="1571760"/>
            <a:ext cx="2352600" cy="3881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C:\Documents and Settings\Admin\Мои документы\НГ\elka.png"/>
          <p:cNvPicPr/>
          <p:nvPr/>
        </p:nvPicPr>
        <p:blipFill>
          <a:blip r:embed="rId2"/>
          <a:stretch/>
        </p:blipFill>
        <p:spPr>
          <a:xfrm>
            <a:off x="928800" y="2214720"/>
            <a:ext cx="2571480" cy="3714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42760" y="274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5323"/>
                </a:solidFill>
                <a:latin typeface="Calibri"/>
              </a:rPr>
              <a:t>2     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C:\Documents and Settings\Admin\Рабочий стол\картинки к презентациям\1211950292_a6.jpg"/>
          <p:cNvPicPr/>
          <p:nvPr/>
        </p:nvPicPr>
        <p:blipFill>
          <a:blip r:embed="rId3"/>
          <a:srcRect l="14000" t="6733" r="12503" b="9356"/>
          <a:stretch/>
        </p:blipFill>
        <p:spPr>
          <a:xfrm>
            <a:off x="5857920" y="4714920"/>
            <a:ext cx="1096920" cy="14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Documents and Settings\Admin\Рабочий стол\картинки к презентациям\картинки герои сказок\pzb9a19c5ec71a.jpg"/>
          <p:cNvPicPr/>
          <p:nvPr/>
        </p:nvPicPr>
        <p:blipFill>
          <a:blip r:embed="rId4"/>
          <a:stretch/>
        </p:blipFill>
        <p:spPr>
          <a:xfrm>
            <a:off x="6215040" y="2286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Documents and Settings\Admin\Рабочий стол\картинки к презентациям\delowap_ru-8xw4.gif"/>
          <p:cNvPicPr/>
          <p:nvPr/>
        </p:nvPicPr>
        <p:blipFill>
          <a:blip r:embed="rId5"/>
          <a:stretch/>
        </p:blipFill>
        <p:spPr>
          <a:xfrm>
            <a:off x="7753320" y="4500720"/>
            <a:ext cx="1390680" cy="139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C:\Documents and Settings\Admin\Мои документы\НГ\elka79.gif"/>
          <p:cNvPicPr/>
          <p:nvPr/>
        </p:nvPicPr>
        <p:blipFill>
          <a:blip r:embed="rId6"/>
          <a:stretch/>
        </p:blipFill>
        <p:spPr>
          <a:xfrm>
            <a:off x="0" y="40006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яблоня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500880" y="2428920"/>
            <a:ext cx="2414520" cy="31701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9"/>
          <p:cNvSpPr/>
          <p:nvPr/>
        </p:nvSpPr>
        <p:spPr>
          <a:xfrm>
            <a:off x="4779000" y="5500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1"/>
          <p:cNvSpPr/>
          <p:nvPr/>
        </p:nvSpPr>
        <p:spPr>
          <a:xfrm>
            <a:off x="4728960" y="32148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2"/>
          <p:cNvSpPr/>
          <p:nvPr/>
        </p:nvSpPr>
        <p:spPr>
          <a:xfrm>
            <a:off x="3707640" y="41432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правляющая кнопка: домой 15">
            <a:hlinkClick r:id="rId8" action="ppaction://hlinksldjump"/>
          </p:cNvPr>
          <p:cNvSpPr/>
          <p:nvPr/>
        </p:nvSpPr>
        <p:spPr>
          <a:xfrm>
            <a:off x="7286760" y="5857920"/>
            <a:ext cx="714240" cy="78588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85880"/>
              <a:gd name="textAreaBottom" fmla="*/ 739800 h 785880"/>
            </a:gdLst>
            <a:ahLst/>
            <a:rect l="textAreaLeft" t="textAreaTop" r="textAreaRight" b="textAreaBottom"/>
            <a:pathLst>
              <a:path w="21600" h="23765">
                <a:moveTo>
                  <a:pt x="0" y="0"/>
                </a:moveTo>
                <a:lnTo>
                  <a:pt x="21600" y="0"/>
                </a:lnTo>
                <a:lnTo>
                  <a:pt x="21600" y="23765"/>
                </a:lnTo>
                <a:lnTo>
                  <a:pt x="0" y="23765"/>
                </a:lnTo>
                <a:close/>
              </a:path>
              <a:path fill="lightenLess" w="21600" h="23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5">
                <a:moveTo>
                  <a:pt x="21600" y="0"/>
                </a:moveTo>
                <a:lnTo>
                  <a:pt x="21600" y="23765"/>
                </a:lnTo>
                <a:lnTo>
                  <a:pt x="20200" y="22365"/>
                </a:lnTo>
                <a:lnTo>
                  <a:pt x="20200" y="1400"/>
                </a:lnTo>
                <a:close/>
              </a:path>
              <a:path fill="darkenLess" w="21600" h="23765">
                <a:moveTo>
                  <a:pt x="21600" y="23765"/>
                </a:moveTo>
                <a:lnTo>
                  <a:pt x="0" y="23765"/>
                </a:lnTo>
                <a:lnTo>
                  <a:pt x="1400" y="22365"/>
                </a:lnTo>
                <a:lnTo>
                  <a:pt x="20200" y="22365"/>
                </a:lnTo>
                <a:close/>
              </a:path>
              <a:path fill="lighten" w="21600" h="23765">
                <a:moveTo>
                  <a:pt x="0" y="23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5"/>
                </a:lnTo>
                <a:close/>
              </a:path>
              <a:path fill="darken" w="21600" h="23765">
                <a:moveTo>
                  <a:pt x="10800" y="4920"/>
                </a:moveTo>
                <a:lnTo>
                  <a:pt x="13376" y="7531"/>
                </a:ln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lnTo>
                  <a:pt x="17763" y="11883"/>
                </a:lnTo>
                <a:lnTo>
                  <a:pt x="16109" y="11883"/>
                </a:lnTo>
                <a:lnTo>
                  <a:pt x="16109" y="19072"/>
                </a:lnTo>
                <a:lnTo>
                  <a:pt x="5491" y="19072"/>
                </a:lnTo>
                <a:lnTo>
                  <a:pt x="5491" y="11883"/>
                </a:lnTo>
                <a:lnTo>
                  <a:pt x="3837" y="11883"/>
                </a:lnTo>
                <a:close/>
              </a:path>
              <a:path fill="darkenLess" w="21600" h="23765">
                <a:moveTo>
                  <a:pt x="13376" y="7531"/>
                </a:moveTo>
                <a:lnTo>
                  <a:pt x="13376" y="5790"/>
                </a:lnTo>
                <a:lnTo>
                  <a:pt x="15152" y="5790"/>
                </a:lnTo>
                <a:lnTo>
                  <a:pt x="15152" y="9306"/>
                </a:lnTo>
                <a:close/>
              </a:path>
              <a:path fill="darkenLess" w="21600" h="23765">
                <a:moveTo>
                  <a:pt x="9877" y="15382"/>
                </a:moveTo>
                <a:lnTo>
                  <a:pt x="11723" y="15382"/>
                </a:lnTo>
                <a:lnTo>
                  <a:pt x="11723" y="19072"/>
                </a:lnTo>
                <a:lnTo>
                  <a:pt x="16109" y="19072"/>
                </a:lnTo>
                <a:lnTo>
                  <a:pt x="16109" y="11883"/>
                </a:lnTo>
                <a:lnTo>
                  <a:pt x="5491" y="11883"/>
                </a:lnTo>
                <a:lnTo>
                  <a:pt x="5491" y="19072"/>
                </a:lnTo>
                <a:lnTo>
                  <a:pt x="9877" y="19072"/>
                </a:lnTo>
                <a:close/>
              </a:path>
            </a:pathLst>
          </a:custGeom>
          <a:solidFill>
            <a:srgbClr val="84e56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с вырезом 18">
            <a:hlinkClick r:id="" action="ppaction://hlinkshowjump?jump=nextslide"/>
          </p:cNvPr>
          <p:cNvSpPr/>
          <p:nvPr/>
        </p:nvSpPr>
        <p:spPr>
          <a:xfrm>
            <a:off x="8286840" y="6143760"/>
            <a:ext cx="642960" cy="428400"/>
          </a:xfrm>
          <a:custGeom>
            <a:avLst/>
            <a:gdLst>
              <a:gd name="textAreaLeft" fmla="*/ 106920 w 642960"/>
              <a:gd name="textAreaRight" fmla="*/ 536040 w 64296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95323"/>
          </a:solidFill>
          <a:ln w="25560">
            <a:solidFill>
              <a:srgbClr val="19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0.00399 0.0162 L -0.0434 -0.76088 E">
                                      <p:cBhvr>
                                        <p:cTn id="18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0:52:01Z</dcterms:created>
  <dc:creator>home</dc:creator>
  <dc:description/>
  <dc:language>en-US</dc:language>
  <cp:lastModifiedBy>Admin</cp:lastModifiedBy>
  <dcterms:modified xsi:type="dcterms:W3CDTF">2013-10-20T09:31:15Z</dcterms:modified>
  <cp:revision>31</cp:revision>
  <dc:subject/>
  <dc:title>Слайд 1</dc:title>
</cp:coreProperties>
</file>