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30.wmf" ContentType="image/x-wmf"/>
  <Override PartName="/ppt/media/image57.wmf" ContentType="image/x-wmf"/>
  <Override PartName="/ppt/media/image14.jpeg" ContentType="image/jpeg"/>
  <Override PartName="/ppt/media/image56.jpeg" ContentType="image/jpeg"/>
  <Override PartName="/ppt/media/image54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64.gif" ContentType="image/gif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3.jpeg" ContentType="image/jpeg"/>
  <Override PartName="/ppt/media/image9.jpeg" ContentType="image/jpeg"/>
  <Override PartName="/ppt/media/image39.png" ContentType="image/png"/>
  <Override PartName="/ppt/media/image22.jpeg" ContentType="image/jpeg"/>
  <Override PartName="/ppt/media/image66.jpeg" ContentType="image/jpeg"/>
  <Override PartName="/ppt/media/image4.wmf" ContentType="image/x-wmf"/>
  <Override PartName="/ppt/media/image41.jpeg" ContentType="image/jpeg"/>
  <Override PartName="/ppt/media/image63.gif" ContentType="image/gif"/>
  <Override PartName="/ppt/media/image15.jpeg" ContentType="image/jpeg"/>
  <Override PartName="/ppt/media/image67.jpeg" ContentType="image/jpeg"/>
  <Override PartName="/ppt/media/image18.jpeg" ContentType="image/jpeg"/>
  <Override PartName="/ppt/media/image32.png" ContentType="image/png"/>
  <Override PartName="/ppt/media/image25.jpeg" ContentType="image/jpeg"/>
  <Override PartName="/ppt/media/image62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50.jpeg" ContentType="image/jpeg"/>
  <Override PartName="/ppt/media/image6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51.gif" ContentType="image/gif"/>
  <Override PartName="/ppt/media/image28.jpeg" ContentType="image/jpeg"/>
  <Override PartName="/ppt/media/image11.jpeg" ContentType="image/jpeg"/>
  <Override PartName="/ppt/media/image33.jpeg" ContentType="image/jpeg"/>
  <Override PartName="/ppt/media/image2.jpeg" ContentType="image/jpeg"/>
  <Override PartName="/ppt/media/image31.png" ContentType="image/pn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52.gif" ContentType="image/gif"/>
  <Override PartName="/ppt/media/image20.jpeg" ContentType="image/jpeg"/>
  <Override PartName="/ppt/media/image55.gif" ContentType="image/gif"/>
  <Override PartName="/ppt/media/image46.jpeg" ContentType="image/jpeg"/>
  <Override PartName="/ppt/media/image65.gif" ContentType="image/gif"/>
  <Override PartName="/ppt/media/image47.jpeg" ContentType="image/jpeg"/>
  <Override PartName="/ppt/media/image48.gif" ContentType="image/gif"/>
  <Override PartName="/ppt/media/image49.jpeg" ContentType="image/jpeg"/>
  <Override PartName="/ppt/media/image40.jpeg" ContentType="image/jpeg"/>
  <Override PartName="/ppt/media/image5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CDA-803A-4815-84CF-A4CCAEC3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DDC-BCE7-44DC-A145-57298193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CBF-A3E2-4753-A741-4402DC53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EF5-A100-4920-BC6A-DE349151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EE7-863F-478C-A189-D229C19F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883-9224-4D5A-AF54-307A8EC1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D37-8CE1-4A8F-A37D-3848C488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D5E-490D-42C4-BFB4-88974E3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3C1-8197-472F-A0B1-28EAA61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C38-0BDC-4911-A21E-7307011D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65E-D329-4569-8A1F-27874F4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568-E453-4917-9D37-CDDBE00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F768-FE40-4EFC-8134-028FBAD1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tjunkies.net/uploads/posts/2008-06/thumbs/1213086791_day-and-nigh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onlineexpert.ru/uploaded_files/shop_images/4190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vio.fio.ru/vio_34/cd_site/article_img/z13.jpg" TargetMode="External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image" Target="../media/image66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0360" y="4308480"/>
            <a:ext cx="3203640" cy="2549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559160" cy="2357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-1296360" y="2456640"/>
            <a:ext cx="511200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76360" y="0"/>
            <a:ext cx="7272360" cy="54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тешеств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нц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640" y="260280"/>
            <a:ext cx="76068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5080" y="11592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 картофелин сварились за 30 минут. Сколько минут варилась в кастрюле одна картофел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262240"/>
            <a:ext cx="505944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51640" y="2133720"/>
            <a:ext cx="309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6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10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933720"/>
            <a:ext cx="19432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1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260280"/>
            <a:ext cx="7603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333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1 из 3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97000"/>
            <a:ext cx="3624120" cy="5661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96000" y="35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224080"/>
            <a:ext cx="6372360" cy="426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24000" y="260280"/>
            <a:ext cx="904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89000"/>
            <a:ext cx="55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сына и два отца съели 3 яблока. Каждому досталось по целому яблоку. Как это могло сл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61545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дед, отец, вн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333360"/>
            <a:ext cx="9050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260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дят три белки на ветке, напротив каждой белки две белки. Сколько их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45360" y="2060640"/>
            <a:ext cx="27986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276720" y="2133720"/>
            <a:ext cx="3058920" cy="244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7280" y="608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 : 3 б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9640" y="260280"/>
            <a:ext cx="86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476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пальцев на двух руках? А на 10 ру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540320" cy="3405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5516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вет: На двух руках – 10 пальц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10 руках -  50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920" y="260280"/>
            <a:ext cx="833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5399280" cy="3511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66920" y="6021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: один самос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67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мосвал ехал в поселок. По дороге он встретил три легковые машины и грузовик. Сколько всего машин ехало в этот посе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333360"/>
            <a:ext cx="8334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2766960"/>
            <a:ext cx="4751280" cy="363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61545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-5508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ску длиной 4 м распилили на части по 1 м. Чтобы отпилить 1 м доски, нужно 5 минут. За сколько времени можно распилить всю дос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260280"/>
            <a:ext cx="9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2592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асса кирпича 1 кг и еще полкирпича. Сколько весит весь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Картинка 12 из 52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349360"/>
            <a:ext cx="5077080" cy="372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72360" y="602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260280"/>
            <a:ext cx="100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1080" y="403920"/>
            <a:ext cx="58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лег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кг ваты или 1 кг желез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130480" cy="36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24000" y="6165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640" y="40464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32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тух, стоя на одной ноге, весит 3 кг. Сколько весит петух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51640" y="522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264960"/>
            <a:ext cx="8964720" cy="618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189000"/>
            <a:ext cx="889308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е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люб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еще не знает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может полюбить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а игра посвящается...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260280"/>
            <a:ext cx="93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23400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в 12 ч ночи идет дождь, то можно ли через 48 часов ожидать солнц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2293920"/>
            <a:ext cx="5106960" cy="384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5300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нет, т.к. будет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3220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каком числе столько же цифр, сколько букв в его наз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4221000"/>
            <a:ext cx="63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100 – 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000 000 – милл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08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64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-720"/>
            <a:ext cx="5905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ая геометрическая фигура используется для наказания дет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30064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2046240" cy="381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133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идет не двигаясь с мест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5734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33336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Вычисл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82920" cy="4684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59280" y="1488960"/>
            <a:ext cx="338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го отец в подарок сыну сделал счетную ма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ожалению она- недостаточно точ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ы перед вами, быстро все исправьт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549360"/>
          <a:ext cx="8280000" cy="5832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 + 5 = 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 + 4 = 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 3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7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=29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=650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987640" y="692280"/>
            <a:ext cx="1368360" cy="1008000"/>
          </a:xfrm>
          <a:prstGeom prst="triangle">
            <a:avLst>
              <a:gd name="adj" fmla="val 50000"/>
            </a:avLst>
          </a:prstGeom>
          <a:solidFill>
            <a:srgbClr val="b234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08720" y="692280"/>
            <a:ext cx="1150920" cy="108108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39640" y="333360"/>
            <a:ext cx="80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россвор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3276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есть у слова, растения,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4869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3490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 + 35 =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160360" cy="2103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342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49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  О   Р   Е   Н  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205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, записанное с помощью бук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5013360"/>
            <a:ext cx="71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83520" y="2852640"/>
            <a:ext cx="492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59280" y="3284640"/>
            <a:ext cx="728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8920" y="2924280"/>
            <a:ext cx="8143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028000" y="544500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4869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  О   Р   М   У   Л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2920" y="169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румент для измерения дл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4724280"/>
          <a:ext cx="6096240" cy="7365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 flipV="1">
            <a:off x="468360" y="2781360"/>
            <a:ext cx="3816360" cy="100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3716280"/>
            <a:ext cx="3527640" cy="217440"/>
          </a:xfrm>
          <a:prstGeom prst="line">
            <a:avLst/>
          </a:prstGeom>
          <a:ln w="57240">
            <a:solidFill>
              <a:srgbClr val="952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372360" y="2421000"/>
            <a:ext cx="1512720" cy="720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7640" y="4797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     И     Н     Е     Й     К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7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333360"/>
            <a:ext cx="896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 повсюд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92896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14828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00760" y="4221000"/>
            <a:ext cx="3243240" cy="22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8800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628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ка, которая ум в порядок прив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4869000"/>
          <a:ext cx="6143400" cy="591840"/>
        </p:xfrm>
        <a:graphic>
          <a:graphicData uri="http://schemas.openxmlformats.org/drawingml/2006/table">
            <a:tbl>
              <a:tblPr/>
              <a:tblGrid>
                <a:gridCol w="614520"/>
                <a:gridCol w="614160"/>
                <a:gridCol w="614160"/>
                <a:gridCol w="614520"/>
                <a:gridCol w="614160"/>
                <a:gridCol w="614520"/>
                <a:gridCol w="614520"/>
                <a:gridCol w="614160"/>
                <a:gridCol w="614160"/>
                <a:gridCol w="6145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2521080" cy="226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76360" y="486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   А   Т   Е   М   А   Т   И   К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44520" y="3210840"/>
            <a:ext cx="6656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И 100 РИ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68360" y="260280"/>
            <a:ext cx="820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Историческ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06480" y="1628640"/>
            <a:ext cx="3287520" cy="4969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859280" y="1628640"/>
            <a:ext cx="3745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исе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4000" y="765000"/>
            <a:ext cx="93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03640" y="476280"/>
            <a:ext cx="1049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0000" y="692280"/>
            <a:ext cx="833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524720" y="549360"/>
            <a:ext cx="6890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1280" y="4076640"/>
            <a:ext cx="1150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050920" y="2492280"/>
            <a:ext cx="86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3640" y="5373720"/>
            <a:ext cx="9050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380360" y="2708280"/>
            <a:ext cx="104940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627280" y="5229360"/>
            <a:ext cx="11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04000" y="5157720"/>
            <a:ext cx="11206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1353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9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3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4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920" y="260280"/>
            <a:ext cx="288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ИС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08360" y="40464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ИХ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2205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ЫСЯЧА =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781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ЬМА = 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33577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ИОН = 1 000 000 0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93372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ОДР = 10 000 000 000 000 000 000 000 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5084640"/>
            <a:ext cx="42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Н = 10 с 48 ну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508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ОДА = 10 с 49 ну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972560" y="5445000"/>
            <a:ext cx="833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260280"/>
            <a:ext cx="201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ИС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59280" y="260280"/>
            <a:ext cx="56656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ВАН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25542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миллион = 1 0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920" y="350028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миллионов = 1 миллиард (билл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443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биллионов = 1 тр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5229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триллионов = 1 квадр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6021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квадриллионов = 1 квинт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755640" y="1197000"/>
            <a:ext cx="172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77080" y="3500280"/>
            <a:ext cx="2284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f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53880" y="260280"/>
            <a:ext cx="3132360" cy="6264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826920" y="1052640"/>
            <a:ext cx="201636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5329440" cy="3552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211640" y="3933720"/>
            <a:ext cx="1739880" cy="2664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6948360" y="4005360"/>
            <a:ext cx="1898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68360" y="1125360"/>
            <a:ext cx="194472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72360" y="142920"/>
            <a:ext cx="2435040" cy="270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796000" y="2997360"/>
            <a:ext cx="1871640" cy="1334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2471400" cy="3024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113600" y="4437000"/>
            <a:ext cx="1674720" cy="2116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2987640" y="3573360"/>
            <a:ext cx="27241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132000" y="765000"/>
            <a:ext cx="3760920" cy="5543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755640" y="1125360"/>
            <a:ext cx="1800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227640" y="285264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404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КОМАНДЫ: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700280"/>
            <a:ext cx="4464000" cy="3672000"/>
          </a:xfrm>
          <a:prstGeom prst="triangle">
            <a:avLst>
              <a:gd name="adj" fmla="val 50000"/>
            </a:avLst>
          </a:prstGeom>
          <a:solidFill>
            <a:srgbClr val="c63aab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1773360"/>
            <a:ext cx="3600360" cy="3600360"/>
          </a:xfrm>
          <a:prstGeom prst="rect">
            <a:avLst/>
          </a:prstGeom>
          <a:solidFill>
            <a:srgbClr val="e4715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71640" y="765000"/>
            <a:ext cx="7056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991040" cy="3318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2680" y="1773360"/>
            <a:ext cx="3740040" cy="3816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40360" y="3716280"/>
            <a:ext cx="50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фийский храм в Нов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57340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евска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964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Шагающ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5365800"/>
            <a:ext cx="1692360" cy="14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971640" y="148428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ни шаг 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 математическ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ин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c7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5280" y="26028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Художествен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322800" cy="332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423040" y="1844640"/>
            <a:ext cx="2733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4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11280" y="40464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апитанск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2160360" cy="1754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95280" y="5140440"/>
            <a:ext cx="1728720" cy="1425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916360" y="2035080"/>
            <a:ext cx="2808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30240"/>
            <a:ext cx="8964720" cy="682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68360" y="260280"/>
            <a:ext cx="8136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 ЗРИТЕЛЯ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728720" cy="1233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435640" y="3933720"/>
            <a:ext cx="35290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4360" y="189000"/>
            <a:ext cx="78483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Шуточ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616720" cy="4824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443640" y="5445000"/>
            <a:ext cx="244944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-хи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50920" y="5516640"/>
            <a:ext cx="23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-хи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9640" y="260280"/>
            <a:ext cx="81360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Сообраз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25720" cy="4321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5580000" y="1844640"/>
            <a:ext cx="2562120" cy="41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53440" y="1017360"/>
            <a:ext cx="750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автобусе ехали 25 человек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ерво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шли 7 человек, зашли 4 человек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ледующей о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шли 12 человек, зашли 5 челов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шли 8 человек, зашли 6 челов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шли 2 человека, зашли 16 челов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ледующей остановке вышли 5 челов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было останов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093080" y="260280"/>
            <a:ext cx="205092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45400" y="640080"/>
            <a:ext cx="789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авал Трофим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поры, ковры и крын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бли, ведра и руба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урцов соленых бан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астрюльки, и корзи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же детские машин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авал Трофим на рынк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прилавка все толпи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упали, не скупили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хвалили млад и с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рофима, и товар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: Сосчитайте, сколько в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х товаров продавал Трофим на тры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27640" y="404640"/>
            <a:ext cx="25624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d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33336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Разминоч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520720" cy="189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59280" y="1552680"/>
            <a:ext cx="5905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333360"/>
            <a:ext cx="792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Наро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5" name="" descr="Картинка 149 из 2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989000"/>
            <a:ext cx="6012000" cy="4508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2655720" cy="273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84360" y="4653000"/>
            <a:ext cx="237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979640" y="692280"/>
            <a:ext cx="17859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с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 rot="21033600">
            <a:off x="5439960" y="3083040"/>
            <a:ext cx="32878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а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8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0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2852640"/>
            <a:ext cx="87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Составить математические кроссвор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ридумать ребу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Найти интересные факты об истории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58280" y="4686480"/>
            <a:ext cx="1485720" cy="2171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732040" y="5013360"/>
            <a:ext cx="1839960" cy="1692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95280" y="189000"/>
            <a:ext cx="84247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Impact"/>
              </a:rPr>
              <a:t>Домаш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Impact"/>
              </a:rPr>
              <a:t>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105760" y="1844640"/>
            <a:ext cx="1038240" cy="1600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71640" y="249228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263700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627280" y="213372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 желанию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26920" y="1052640"/>
            <a:ext cx="77058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333360"/>
            <a:ext cx="86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9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ройка лошадей проскакала 90 км. Сколько километров проскакала каждая лош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72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62229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9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b5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333360"/>
            <a:ext cx="83196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476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му равно произведение всех циф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70828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0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9080" y="551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8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1280" y="333360"/>
            <a:ext cx="6890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5382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сключите лишне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5640" y="2205000"/>
            <a:ext cx="2303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19640" y="2205000"/>
            <a:ext cx="2665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4365720"/>
            <a:ext cx="3095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ж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76720" y="4365720"/>
            <a:ext cx="2808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516640"/>
            <a:ext cx="309564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9640" y="333360"/>
            <a:ext cx="760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40464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е число делится на все числа без оста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5805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759040" cy="3819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38:29Z</dcterms:created>
  <dc:creator>Зиновьевы</dc:creator>
  <dc:description/>
  <dc:language>en-US</dc:language>
  <cp:lastModifiedBy>Зиновьевы</cp:lastModifiedBy>
  <dcterms:modified xsi:type="dcterms:W3CDTF">2009-02-08T19:31:04Z</dcterms:modified>
  <cp:revision>63</cp:revision>
  <dc:subject/>
  <dc:title>Слайд 1</dc:title>
</cp:coreProperties>
</file>