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88F-7208-4336-A0E6-7ADDC623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19C-3522-4E21-8097-60CA519E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040-3119-476F-9DFB-FDF67779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731-530D-478E-B6D5-3D8F45D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583-F7CD-4929-8B85-BFC9F0F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4AA-1F33-44A0-852E-9E6080BC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6B2-3118-45CC-9873-909A278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518-5775-4623-97BF-82CEFB9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344-CD25-4CA3-876F-0A276C56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29A-857F-4999-AA1C-CB6F3BF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642-F709-48E5-9704-38B1211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222-4227-4AA9-A707-35F07BC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769F-D6EF-489D-82AA-6697AD171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7600" y="213840"/>
            <a:ext cx="242892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Муниципальное дошкольное образовательное  учреждение детский сад №1 «Родничок» п. Горный Краснопартизанского района Сарат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1714320"/>
            <a:ext cx="52862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Комплексное занят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«Мама, папа, я – дружная семья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Calibri"/>
              </a:rPr>
              <a:t>                                    </a:t>
            </a:r>
            <a:r>
              <a:rPr b="0" i="1" lang="ru-RU" sz="2200" spc="-1" strike="noStrike">
                <a:solidFill>
                  <a:srgbClr val="7030a0"/>
                </a:solidFill>
                <a:latin typeface="Calibri"/>
              </a:rPr>
              <a:t>Подготови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Calibri"/>
              </a:rPr>
              <a:t>                                     </a:t>
            </a:r>
            <a:r>
              <a:rPr b="0" i="1" lang="ru-RU" sz="2200" spc="-1" strike="noStrike">
                <a:solidFill>
                  <a:srgbClr val="7030a0"/>
                </a:solidFill>
                <a:latin typeface="Calibri"/>
              </a:rPr>
              <a:t>Рословцева Н.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2012  </a:t>
            </a:r>
            <a:r>
              <a:rPr b="0" lang="ru-RU" sz="1500" spc="-1" strike="noStrike">
                <a:solidFill>
                  <a:srgbClr val="ff0000"/>
                </a:solidFill>
                <a:latin typeface="Calibri"/>
              </a:rPr>
              <a:t> г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Положительных результатов можно добиться сооб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G:\фото\IMG_4235.jpg"/>
          <p:cNvPicPr/>
          <p:nvPr/>
        </p:nvPicPr>
        <p:blipFill>
          <a:blip r:embed="rId1"/>
          <a:stretch/>
        </p:blipFill>
        <p:spPr>
          <a:xfrm>
            <a:off x="1214280" y="1600200"/>
            <a:ext cx="66438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Главное делать все поэтап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G:\фото\IMG_4236.jpg"/>
          <p:cNvPicPr/>
          <p:nvPr/>
        </p:nvPicPr>
        <p:blipFill>
          <a:blip r:embed="rId1"/>
          <a:stretch/>
        </p:blipFill>
        <p:spPr>
          <a:xfrm>
            <a:off x="1071720" y="1600200"/>
            <a:ext cx="70005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:</a:t>
            </a:r>
            <a:br>
              <a:rPr sz="1100"/>
            </a:br>
            <a:r>
              <a:rPr b="0" lang="ru-RU" sz="1600" spc="-1" strike="noStrike">
                <a:solidFill>
                  <a:srgbClr val="7030a0"/>
                </a:solidFill>
                <a:latin typeface="Calibri"/>
              </a:rPr>
              <a:t>Задачи:</a:t>
            </a:r>
            <a:br>
              <a:rPr sz="1100"/>
            </a:b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70c0"/>
                </a:solidFill>
                <a:uFillTx/>
                <a:latin typeface="Calibri"/>
              </a:rPr>
              <a:t>Образовательная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Формировать знание детей о семье, как о людях, живущих вместе, о ее важности. Совершенствовать у детей коммуникативные  умения и навыки.</a:t>
            </a:r>
            <a:br>
              <a:rPr sz="1200"/>
            </a:br>
            <a:r>
              <a:rPr b="0" lang="ru-RU" sz="1200" spc="-1" strike="noStrike" u="sng">
                <a:solidFill>
                  <a:srgbClr val="0070c0"/>
                </a:solidFill>
                <a:uFillTx/>
                <a:latin typeface="Calibri"/>
              </a:rPr>
              <a:t>Развивающа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Развивать умение составлять связанный рассказ, участвовать в общей беседе и высказывать свое мнение.</a:t>
            </a:r>
            <a:br>
              <a:rPr sz="1200"/>
            </a:br>
            <a:r>
              <a:rPr b="0" lang="ru-RU" sz="1200" spc="-1" strike="noStrike" u="sng">
                <a:solidFill>
                  <a:srgbClr val="0070c0"/>
                </a:solidFill>
                <a:uFillTx/>
                <a:latin typeface="Calibri"/>
              </a:rPr>
              <a:t>Воспитательная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Воспитывать любовь и уважение ко всем членам семьи, подходить творчески ко всем видам деятельности</a:t>
            </a:r>
            <a:r>
              <a:rPr b="0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4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Администратор\Рабочий стол\Новая папка\IMG_591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18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Calibri"/>
              </a:rPr>
              <a:t>Родители и д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истратор\Рабочий стол\Новая папка\сканирование0089.jpg"/>
          <p:cNvPicPr/>
          <p:nvPr/>
        </p:nvPicPr>
        <p:blipFill>
          <a:blip r:embed="rId1"/>
          <a:stretch/>
        </p:blipFill>
        <p:spPr>
          <a:xfrm>
            <a:off x="2286000" y="1857240"/>
            <a:ext cx="4714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Администратор\Рабочий стол\Новая папка\сканирование0088.jpg"/>
          <p:cNvPicPr/>
          <p:nvPr/>
        </p:nvPicPr>
        <p:blipFill>
          <a:blip r:embed="rId1"/>
          <a:stretch/>
        </p:blipFill>
        <p:spPr>
          <a:xfrm>
            <a:off x="1571760" y="928800"/>
            <a:ext cx="4214520" cy="3900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C:\Documents and Settings\Администратор\Рабочий стол\Новая папка\сканирование0091.jpg"/>
          <p:cNvPicPr/>
          <p:nvPr/>
        </p:nvPicPr>
        <p:blipFill>
          <a:blip r:embed="rId2"/>
          <a:stretch/>
        </p:blipFill>
        <p:spPr>
          <a:xfrm>
            <a:off x="5857920" y="642960"/>
            <a:ext cx="271476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C:\Documents and Settings\Администратор\Рабочий стол\Новая папка\сканирование0092.jpg"/>
          <p:cNvPicPr/>
          <p:nvPr/>
        </p:nvPicPr>
        <p:blipFill>
          <a:blip r:embed="rId3"/>
          <a:stretch/>
        </p:blipFill>
        <p:spPr>
          <a:xfrm>
            <a:off x="3643200" y="3643200"/>
            <a:ext cx="2828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Совмест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G:\DCIM\100CANON\IMG_6495.JPG"/>
          <p:cNvPicPr/>
          <p:nvPr/>
        </p:nvPicPr>
        <p:blipFill>
          <a:blip r:embed="rId1"/>
          <a:stretch/>
        </p:blipFill>
        <p:spPr>
          <a:xfrm>
            <a:off x="1214280" y="1600200"/>
            <a:ext cx="671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G:\DCIM\100CANON\IMG_6520.JPG"/>
          <p:cNvPicPr/>
          <p:nvPr/>
        </p:nvPicPr>
        <p:blipFill>
          <a:blip r:embed="rId1"/>
          <a:stretch/>
        </p:blipFill>
        <p:spPr>
          <a:xfrm>
            <a:off x="1000080" y="928800"/>
            <a:ext cx="7000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G:\DCIM\100CANON\IMG_6523.JPG"/>
          <p:cNvPicPr/>
          <p:nvPr/>
        </p:nvPicPr>
        <p:blipFill>
          <a:blip r:embed="rId1"/>
          <a:stretch/>
        </p:blipFill>
        <p:spPr>
          <a:xfrm>
            <a:off x="1357200" y="107172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Используемая 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00080" y="1600200"/>
            <a:ext cx="7143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          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1.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Алешин Н.В. «Знакомство дошкольников с родным городом и страной» (патриотическое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воспита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УЦ Перспектива  Москва 201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.Ветохина А.Я., Дмитриенко З.С., Жигналь Е.Н. «Нравственно –  патриотическое воспитание детей дошкольного возрас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ООО Издательство, 2009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Кондрыкинской Л.А. «С чего начинается Роди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0" i="1" lang="ru-RU" sz="1600" spc="-1" strike="noStrike">
                <a:solidFill>
                  <a:srgbClr val="00b050"/>
                </a:solidFill>
                <a:latin typeface="Calibri"/>
              </a:rPr>
              <a:t>ТЦ Сфера, 2003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4.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Журнал «Ребенок в д/с № 4, 2011 г статья «Ребенок и компьюте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«Формы игры в образовательном процессе» № 4, 20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09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 г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5.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Журнал Обруч № 4, 2009 г «Откуда берутся маленькие ген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6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. 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А.Каченаускайте  «Подарок своими руками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7.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  Н.В.Дубровская    «Приглашение к творчест</a:t>
            </a: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Методическая литера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Рабочий стол\воспитатель год -2012г\DCIM\100CANON\IMG_6534.JPG"/>
          <p:cNvPicPr/>
          <p:nvPr/>
        </p:nvPicPr>
        <p:blipFill>
          <a:blip r:embed="rId1"/>
          <a:stretch/>
        </p:blipFill>
        <p:spPr>
          <a:xfrm>
            <a:off x="1071720" y="1600200"/>
            <a:ext cx="7072200" cy="4329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429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</a:rPr>
              <a:t>Детство замечательная пора непрестанных творческих попыток, которые непроизвольны и жизненно необходимы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Documents and Settings\Admin\Рабочий стол\IMG_4783.JPG"/>
          <p:cNvPicPr/>
          <p:nvPr/>
        </p:nvPicPr>
        <p:blipFill>
          <a:blip r:embed="rId1"/>
          <a:stretch/>
        </p:blipFill>
        <p:spPr>
          <a:xfrm>
            <a:off x="1214280" y="1600200"/>
            <a:ext cx="6786720" cy="44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«Мама, папа, я – дружная семья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Администратор\Рабочий стол\Новая папка\IMG_5915.JPG"/>
          <p:cNvPicPr/>
          <p:nvPr/>
        </p:nvPicPr>
        <p:blipFill>
          <a:blip r:embed="rId1"/>
          <a:stretch/>
        </p:blipFill>
        <p:spPr>
          <a:xfrm>
            <a:off x="1000080" y="1600200"/>
            <a:ext cx="7072200" cy="43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ети с большим удовольствием рассказывают о своей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G:\Новая папка\IMG_5914.JPG"/>
          <p:cNvPicPr/>
          <p:nvPr/>
        </p:nvPicPr>
        <p:blipFill>
          <a:blip r:embed="rId1"/>
          <a:stretch/>
        </p:blipFill>
        <p:spPr>
          <a:xfrm>
            <a:off x="928800" y="1500120"/>
            <a:ext cx="7286400" cy="4500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Перечисляют всех членов семьи по имени и отчест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G:\Новая папка\IMG_5917.JPG"/>
          <p:cNvPicPr/>
          <p:nvPr/>
        </p:nvPicPr>
        <p:blipFill>
          <a:blip r:embed="rId1"/>
          <a:stretch/>
        </p:blipFill>
        <p:spPr>
          <a:xfrm>
            <a:off x="100008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Calibri"/>
              </a:rPr>
              <a:t>Вместе доказывают, что их семья дружн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G:\Новая папка\IMG_5921.JPG"/>
          <p:cNvPicPr/>
          <p:nvPr/>
        </p:nvPicPr>
        <p:blipFill>
          <a:blip r:embed="rId1"/>
          <a:stretch/>
        </p:blipFill>
        <p:spPr>
          <a:xfrm>
            <a:off x="1143000" y="1357200"/>
            <a:ext cx="70009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28840" y="785880"/>
            <a:ext cx="24289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b0f0"/>
                </a:solidFill>
                <a:latin typeface="Calibri"/>
              </a:rPr>
              <a:t>Создавала определенные условия, где каждый ребенок мог показать себя не только в цвете изобразительного искусства, а показал себя как «Личность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G:\Новая папка\IMG_5922.JPG"/>
          <p:cNvPicPr/>
          <p:nvPr/>
        </p:nvPicPr>
        <p:blipFill>
          <a:blip r:embed="rId1"/>
          <a:stretch/>
        </p:blipFill>
        <p:spPr>
          <a:xfrm>
            <a:off x="563400" y="714240"/>
            <a:ext cx="508032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C:\Documents and Settings\Администратор\Рабочий стол\IMG_5926.JPG"/>
          <p:cNvPicPr/>
          <p:nvPr/>
        </p:nvPicPr>
        <p:blipFill>
          <a:blip r:embed="rId2"/>
          <a:stretch/>
        </p:blipFill>
        <p:spPr>
          <a:xfrm>
            <a:off x="3714840" y="2890800"/>
            <a:ext cx="4643280" cy="318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 flipV="1">
            <a:off x="928800" y="3890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143000" y="4214880"/>
            <a:ext cx="235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b0f0"/>
                </a:solidFill>
                <a:latin typeface="Arial"/>
              </a:rPr>
              <a:t>Всем дошколятам было интересно, они с охотой выполняли вс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00840" y="928800"/>
            <a:ext cx="2286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alibri"/>
              </a:rPr>
              <a:t>Дети играли, танцевали, читали стихи, исполняли пес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G:\Новая папка\IMG_5930.JPG"/>
          <p:cNvPicPr/>
          <p:nvPr/>
        </p:nvPicPr>
        <p:blipFill>
          <a:blip r:embed="rId1"/>
          <a:stretch/>
        </p:blipFill>
        <p:spPr>
          <a:xfrm>
            <a:off x="785880" y="928800"/>
            <a:ext cx="5000400" cy="3143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C:\Documents and Settings\Администратор\Рабочий стол\IMG_5936.JPG"/>
          <p:cNvPicPr/>
          <p:nvPr/>
        </p:nvPicPr>
        <p:blipFill>
          <a:blip r:embed="rId2"/>
          <a:stretch/>
        </p:blipFill>
        <p:spPr>
          <a:xfrm>
            <a:off x="3929040" y="3143160"/>
            <a:ext cx="45720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143000" y="450072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Это сближает родителей и детей, родителей и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Calibri"/>
              </a:rPr>
              <a:t>«Дети должны жить в мире красоты, игры, сказки, музыки, фантазии, творчес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:\Новая папка\IMG_5937.JPG"/>
          <p:cNvPicPr/>
          <p:nvPr/>
        </p:nvPicPr>
        <p:blipFill>
          <a:blip r:embed="rId1"/>
          <a:stretch/>
        </p:blipFill>
        <p:spPr>
          <a:xfrm>
            <a:off x="1143000" y="1928880"/>
            <a:ext cx="7072200" cy="419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alibri"/>
              </a:rPr>
              <a:t>Совместные мероприятия сближают родителей 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G:\Новая папка\сканирование0087.jpg"/>
          <p:cNvPicPr/>
          <p:nvPr/>
        </p:nvPicPr>
        <p:blipFill>
          <a:blip r:embed="rId1"/>
          <a:stretch/>
        </p:blipFill>
        <p:spPr>
          <a:xfrm>
            <a:off x="1928880" y="1500120"/>
            <a:ext cx="557208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Благодаря совместным выставкам  мне удалось привлечь родителей к сотрудничест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G:\DCIM\IMG_6481.JPG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4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Было принято решение активно участвовать в жизни детского сада, принимать участие в совместных мероприятиях, концертах, развлече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G:\DCIM\100CANON\IMG_6533.JPG"/>
          <p:cNvPicPr/>
          <p:nvPr/>
        </p:nvPicPr>
        <p:blipFill>
          <a:blip r:embed="rId1"/>
          <a:stretch/>
        </p:blipFill>
        <p:spPr>
          <a:xfrm>
            <a:off x="1143000" y="1571760"/>
            <a:ext cx="6858000" cy="4357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D:\фото\Конкурсы\Районный конкурс Веселые нотки 2011\IMG_5221.jpg"/>
          <p:cNvPicPr/>
          <p:nvPr/>
        </p:nvPicPr>
        <p:blipFill>
          <a:blip r:embed="rId1"/>
          <a:stretch/>
        </p:blipFill>
        <p:spPr>
          <a:xfrm>
            <a:off x="1000080" y="1071720"/>
            <a:ext cx="7143840" cy="48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«</a:t>
            </a:r>
            <a:r>
              <a:rPr b="0" i="1" lang="ru-RU" sz="2800" spc="-1" strike="noStrike">
                <a:solidFill>
                  <a:srgbClr val="00b050"/>
                </a:solidFill>
                <a:latin typeface="Calibri"/>
              </a:rPr>
              <a:t>Ребенок не сосуд, который надо заполнить, </a:t>
            </a:r>
            <a:br>
              <a:rPr sz="2800"/>
            </a:br>
            <a:r>
              <a:rPr b="0" i="1" lang="ru-RU" sz="2800" spc="-1" strike="noStrike">
                <a:solidFill>
                  <a:srgbClr val="00b050"/>
                </a:solidFill>
                <a:latin typeface="Calibri"/>
              </a:rPr>
              <a:t>а огонь, который надо зажеч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G:\Новая папка\IMG_5922.JPG"/>
          <p:cNvPicPr/>
          <p:nvPr/>
        </p:nvPicPr>
        <p:blipFill>
          <a:blip r:embed="rId1"/>
          <a:stretch/>
        </p:blipFill>
        <p:spPr>
          <a:xfrm>
            <a:off x="1500120" y="1857240"/>
            <a:ext cx="614376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фото\Кружковая работа в ДОУ\IMG_4237.jpg"/>
          <p:cNvPicPr/>
          <p:nvPr/>
        </p:nvPicPr>
        <p:blipFill>
          <a:blip r:embed="rId1"/>
          <a:stretch/>
        </p:blipFill>
        <p:spPr>
          <a:xfrm>
            <a:off x="1357200" y="1928880"/>
            <a:ext cx="6500880" cy="3929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Дети чувствуют себя на занятии раскованно и непринужд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G:\Новая папка\IMG_5913.JPG"/>
          <p:cNvPicPr/>
          <p:nvPr/>
        </p:nvPicPr>
        <p:blipFill>
          <a:blip r:embed="rId1"/>
          <a:stretch/>
        </p:blipFill>
        <p:spPr>
          <a:xfrm>
            <a:off x="1071720" y="1571760"/>
            <a:ext cx="7072200" cy="4429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642960"/>
            <a:ext cx="7286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Положительных результатов можно достичь сообща, главное делать все поэтапно, рассматривать и оценивать детские работы не ущемляя эмоционального восприятия у ребе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фото\Кружковая работа в ДОУ\IMG_4237.jpg"/>
          <p:cNvPicPr/>
          <p:nvPr/>
        </p:nvPicPr>
        <p:blipFill>
          <a:blip r:embed="rId1"/>
          <a:stretch/>
        </p:blipFill>
        <p:spPr>
          <a:xfrm>
            <a:off x="1071720" y="1357200"/>
            <a:ext cx="714348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Принимаю активное участие в семина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G:\фото\IMG_4231.jpg"/>
          <p:cNvPicPr/>
          <p:nvPr/>
        </p:nvPicPr>
        <p:blipFill>
          <a:blip r:embed="rId1"/>
          <a:stretch/>
        </p:blipFill>
        <p:spPr>
          <a:xfrm>
            <a:off x="1214280" y="1600200"/>
            <a:ext cx="67154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Провожу занятия с внесением художественного творчества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G:\фото\IMG_4232.jpg"/>
          <p:cNvPicPr/>
          <p:nvPr/>
        </p:nvPicPr>
        <p:blipFill>
          <a:blip r:embed="rId1"/>
          <a:stretch/>
        </p:blipFill>
        <p:spPr>
          <a:xfrm>
            <a:off x="1214280" y="1785960"/>
            <a:ext cx="6572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d050"/>
                </a:solidFill>
                <a:latin typeface="Calibri"/>
              </a:rPr>
              <a:t>Ручной тр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G:\фото\IMG_4233.jpg"/>
          <p:cNvPicPr/>
          <p:nvPr/>
        </p:nvPicPr>
        <p:blipFill>
          <a:blip r:embed="rId1"/>
          <a:stretch/>
        </p:blipFill>
        <p:spPr>
          <a:xfrm>
            <a:off x="1285920" y="1600200"/>
            <a:ext cx="66438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фото\IMG_4234.jpg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26:04Z</dcterms:created>
  <dc:creator>валя</dc:creator>
  <dc:description/>
  <dc:language>en-US</dc:language>
  <cp:lastModifiedBy>Светлана</cp:lastModifiedBy>
  <dcterms:modified xsi:type="dcterms:W3CDTF">2013-10-21T16:09:26Z</dcterms:modified>
  <cp:revision>46</cp:revision>
  <dc:subject/>
  <dc:title>Слайд 1</dc:title>
</cp:coreProperties>
</file>