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gif" ContentType="image/gif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FCB-9948-455C-B1E8-AC7EB46A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34E-5391-4B43-9786-2F5BA0F0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158-3955-4453-9C1A-0B3DC40E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426-6064-4440-B087-72F44A08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BE4-2EAD-4AB5-956B-9ACA0C77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17C-37DA-42B8-8070-4544ED9D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F69-B869-401F-973E-152EDCDC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F6D-CFDE-4CF4-BCE6-B728E1F1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70B-7C11-4813-9931-303B8A1D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6CA-D177-4506-85CB-12ED84B5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DDE-C37D-45AF-9E97-C34C63CE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ABA-D037-4483-9DCE-622D1771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0884-A2A4-43E5-8038-61BEF5E49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16000" y="61920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к биологии по ФГОС в 5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ему:« Отдел покрытосеменн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491280" y="292428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ькова Гали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биологии 1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ОУ СОШ № 5 г. Усть- Ка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ябин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404640"/>
            <a:ext cx="7653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Изучить п. 1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Выполнить на стр.66 задание одно из трёх   под &gt;&gt;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knigi7"/>
          <p:cNvPicPr/>
          <p:nvPr/>
        </p:nvPicPr>
        <p:blipFill>
          <a:blip r:embed="rId2"/>
          <a:stretch/>
        </p:blipFill>
        <p:spPr>
          <a:xfrm>
            <a:off x="2484360" y="2565360"/>
            <a:ext cx="4908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619280" y="18900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-336240" y="1125360"/>
            <a:ext cx="101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логия 5-6 классы: учебник под редакци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В. Пасечника, М.: Просвещение, 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 презентацииsky-and-flowers-backgrounds-for-powerpoint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рганы растения 0003-006-Stroenie-tsvetkovykh-rastenij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ртинка к 7 слайду- homework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ртинка к  10 слайду -knigi7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45880" y="1483200"/>
            <a:ext cx="862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азнообразен и прекрасен мир раст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хи, водоросли, папоротники, пла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семенные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сосны, туя, пихты, 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 властелины царства не они.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57160" y="500040"/>
          <a:ext cx="7358040" cy="5500800"/>
        </p:xfrm>
        <a:graphic>
          <a:graphicData uri="http://schemas.openxmlformats.org/drawingml/2006/table">
            <a:tbl>
              <a:tblPr/>
              <a:tblGrid>
                <a:gridCol w="2452680"/>
                <a:gridCol w="2452680"/>
                <a:gridCol w="2452680"/>
              </a:tblGrid>
              <a:tr h="1100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ысшие спо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лосем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Picture 12" descr=""/>
          <p:cNvPicPr/>
          <p:nvPr/>
        </p:nvPicPr>
        <p:blipFill>
          <a:blip r:embed="rId2"/>
          <a:stretch/>
        </p:blipFill>
        <p:spPr>
          <a:xfrm>
            <a:off x="6215040" y="1643040"/>
            <a:ext cx="1328760" cy="10717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46" name="Picture 13" descr=""/>
          <p:cNvPicPr/>
          <p:nvPr/>
        </p:nvPicPr>
        <p:blipFill>
          <a:blip r:embed="rId3"/>
          <a:stretch/>
        </p:blipFill>
        <p:spPr>
          <a:xfrm>
            <a:off x="6286680" y="2857680"/>
            <a:ext cx="1214280" cy="9111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215040" y="3857760"/>
            <a:ext cx="1362240" cy="10206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>
            <a:off x="6357960" y="5000760"/>
            <a:ext cx="1282680" cy="9619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49" name="Picture 2" descr="D:\биология\5кл\планы уроков\урок 27\кипарис\6352e720d939.jpg"/>
          <p:cNvPicPr/>
          <p:nvPr/>
        </p:nvPicPr>
        <p:blipFill>
          <a:blip r:embed="rId6"/>
          <a:stretch/>
        </p:blipFill>
        <p:spPr>
          <a:xfrm>
            <a:off x="3857760" y="1500120"/>
            <a:ext cx="911160" cy="121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D:\биология\5кл\планы уроков\урок 27\ель\1320768958_elka2.jpg"/>
          <p:cNvPicPr/>
          <p:nvPr/>
        </p:nvPicPr>
        <p:blipFill>
          <a:blip r:embed="rId7"/>
          <a:stretch/>
        </p:blipFill>
        <p:spPr>
          <a:xfrm>
            <a:off x="3714840" y="2857680"/>
            <a:ext cx="1181160" cy="87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D:\биология\5кл\планы уроков\урок 27\можжевельник\43667.jpg"/>
          <p:cNvPicPr/>
          <p:nvPr/>
        </p:nvPicPr>
        <p:blipFill>
          <a:blip r:embed="rId8"/>
          <a:stretch/>
        </p:blipFill>
        <p:spPr>
          <a:xfrm>
            <a:off x="3535200" y="3786120"/>
            <a:ext cx="1414800" cy="1000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:\биология\5кл\планы уроков\урок 27\сосна\sosna_obiknovennaya_1.gif"/>
          <p:cNvPicPr/>
          <p:nvPr/>
        </p:nvPicPr>
        <p:blipFill>
          <a:blip r:embed="rId9"/>
          <a:stretch/>
        </p:blipFill>
        <p:spPr>
          <a:xfrm>
            <a:off x="3786120" y="492912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10"/>
          <a:srcRect l="0" t="0" r="40558" b="0"/>
          <a:stretch/>
        </p:blipFill>
        <p:spPr>
          <a:xfrm>
            <a:off x="1428840" y="1643040"/>
            <a:ext cx="903240" cy="101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11"/>
          <a:srcRect l="0" t="0" r="2129" b="0"/>
          <a:stretch/>
        </p:blipFill>
        <p:spPr>
          <a:xfrm>
            <a:off x="1143000" y="2786040"/>
            <a:ext cx="1206360" cy="924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12"/>
          <a:srcRect l="0" t="6089" r="4064" b="0"/>
          <a:stretch/>
        </p:blipFill>
        <p:spPr>
          <a:xfrm>
            <a:off x="1285920" y="492912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13"/>
          <a:srcRect l="0" t="0" r="2501" b="0"/>
          <a:stretch/>
        </p:blipFill>
        <p:spPr>
          <a:xfrm>
            <a:off x="1500120" y="3857760"/>
            <a:ext cx="758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600720" cy="313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rcRect l="0" t="0" r="12047" b="0"/>
          <a:stretch/>
        </p:blipFill>
        <p:spPr>
          <a:xfrm>
            <a:off x="5219640" y="3500280"/>
            <a:ext cx="3743280" cy="319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3984840" cy="249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rcRect l="0" t="0" r="4667" b="0"/>
          <a:stretch/>
        </p:blipFill>
        <p:spPr>
          <a:xfrm>
            <a:off x="4859280" y="620640"/>
            <a:ext cx="33289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1336680" y="1008000"/>
            <a:ext cx="59230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крытосемен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Цветковы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476280"/>
            <a:ext cx="91440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знакомиться с общ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характеристик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тдела Покрытосеменны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2. Выяснить преимуществ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господства  покрытосеменных раст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189000"/>
            <a:ext cx="6842160" cy="496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Используя текст 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покрытос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растениях на стр. 62-63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сделайте кратк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характеристи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660033"/>
                </a:solidFill>
                <a:latin typeface="Arial"/>
              </a:rPr>
              <a:t>данного отдела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5272200" y="3357720"/>
            <a:ext cx="331308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22464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94400"/>
            <a:ext cx="9144000" cy="6492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я молодая и многочисленная 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около250 тыс. вид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рытосеменные распространены вез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всех континентах, во всех климатических зон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в самых разнообразных экологически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ют корень, стебель, лист, цвет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месте которого образуется п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ые жизненные формы: деревья, кустарники, тр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ая продолжительность  жизн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летние, двулетние, многолет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ые стеб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остоячие, вьющиеся, лазающие, ползу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ые листья и кор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2"/>
          <a:srcRect l="0" t="0" r="0" b="5113"/>
          <a:stretch/>
        </p:blipFill>
        <p:spPr>
          <a:xfrm>
            <a:off x="1258920" y="1268280"/>
            <a:ext cx="6773760" cy="5403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191240" y="404640"/>
            <a:ext cx="68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рганы цветкового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13:31:55Z</dcterms:created>
  <dc:creator>User</dc:creator>
  <dc:description/>
  <dc:language>en-US</dc:language>
  <cp:lastModifiedBy>User</cp:lastModifiedBy>
  <dcterms:modified xsi:type="dcterms:W3CDTF">2013-04-16T12:18:43Z</dcterms:modified>
  <cp:revision>8</cp:revision>
  <dc:subject/>
  <dc:title>Слайд 1</dc:title>
</cp:coreProperties>
</file>