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gif" ContentType="image/gif"/>
  <Override PartName="/ppt/media/image18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AAB4C-9C87-4255-9C7E-705FD6B25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702C7-4134-460A-B8C5-A115F97F29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D492-FC89-40C8-A580-D42BB95F0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AB5E-E681-440D-BCCC-006DED5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D8BC-040F-4A91-A83B-4A853EE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C2E0-B3B5-4905-BE2F-604B26C7A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9AC5-E1EF-4FED-807F-AA1AD9A7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6E22-81E0-4288-8C75-2C2EC02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D518-2DF1-46B5-8C6C-46531A38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A6F9-F106-4FAA-8A56-3BACA2D3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DAD6-2835-422A-ACCE-1A2ADE30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C3DD-AF4C-4E48-8FEB-AC181DA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11A8-6C72-4AB0-9E32-581A7954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AC7E-0451-409C-8459-AA41218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7C7A4-9587-4043-ADF2-F3B58D149B7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720" y="576360"/>
            <a:ext cx="8498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203640" cy="300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344808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240000" cy="225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11280" y="3716280"/>
            <a:ext cx="2376360" cy="269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1835280" y="2166840"/>
            <a:ext cx="511308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6040" y="420840"/>
            <a:ext cx="6272280" cy="779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765000"/>
            <a:ext cx="8136000" cy="525636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Уполномоченный при Президенте Российской Федерации по правам ребенка Павел Астахов предложил во всех школах России провест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1 (3) сентября 2013 года урок </a:t>
            </a:r>
            <a:r>
              <a:rPr b="1" lang="ru-RU" sz="2800" spc="-1" strike="noStrike">
                <a:solidFill>
                  <a:srgbClr val="17375e"/>
                </a:solidFill>
                <a:latin typeface="Constantia"/>
              </a:rPr>
              <a:t>«Здоровые дети - в здоровой семье», посвященный позитивному опыту здорового образа жизни, бережного отношения к семейным ценностям и тради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17760" y="85680"/>
            <a:ext cx="6510240" cy="987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052640"/>
            <a:ext cx="7632720" cy="54720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onstantia"/>
              </a:rPr>
              <a:t>Семья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 — это  очень важная социальная единица, которая находится под охраной закона. В Статье 38 Конституции РФ четко изложено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1. Материнство и детство, семья находя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2. Забота о детях, их воспитание — равное право и 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52520" y="85680"/>
            <a:ext cx="6688080" cy="987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1125360"/>
            <a:ext cx="6696000" cy="496764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8 июля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ень семь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любви и вер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впервые отмеч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2008 год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торый бы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явлен годом Семьи)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35640" y="424800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63720" y="85680"/>
            <a:ext cx="725328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1700280"/>
            <a:ext cx="7991280" cy="446544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3960720" cy="180036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мья – это кристалл общества (В.Гю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197000"/>
            <a:ext cx="4572000" cy="1944720"/>
          </a:xfrm>
          <a:prstGeom prst="rect">
            <a:avLst/>
          </a:prstGeom>
          <a:solidFill>
            <a:srgbClr val="23e93b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емья – один из шедевров природ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Джорж Сантая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789360"/>
            <a:ext cx="5111640" cy="1871640"/>
          </a:xfrm>
          <a:prstGeom prst="rect">
            <a:avLst/>
          </a:prstGeom>
          <a:solidFill>
            <a:srgbClr val="93e428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Любовь к родине начинается с семьи (Ф.Бэкон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2779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95320" y="-176040"/>
            <a:ext cx="7211880" cy="98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125360"/>
            <a:ext cx="8497800" cy="525636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постройка, то кака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цвет, то какой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музык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геометрическая фигур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название фильма, то како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емья – это настроение, то как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2240" y="-176040"/>
            <a:ext cx="7656480" cy="165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73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73264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Е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49228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переж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364500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мение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5013360"/>
            <a:ext cx="2808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4292640"/>
            <a:ext cx="45370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способля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3068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Юм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5013360"/>
            <a:ext cx="244944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5732640"/>
            <a:ext cx="244944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3068640"/>
            <a:ext cx="2664000" cy="576360"/>
          </a:xfrm>
          <a:prstGeom prst="roundRect">
            <a:avLst>
              <a:gd name="adj" fmla="val 50000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Жел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013360"/>
            <a:ext cx="2592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29264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64500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лер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0800000">
            <a:off x="1119240" y="3147840"/>
            <a:ext cx="230328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413000"/>
            <a:ext cx="8209080" cy="1079280"/>
          </a:xfrm>
          <a:prstGeom prst="triangle">
            <a:avLst>
              <a:gd name="adj" fmla="val 49741"/>
            </a:avLst>
          </a:prstGeom>
          <a:solidFill>
            <a:srgbClr val="ffc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0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0600" y="-176040"/>
            <a:ext cx="8508960" cy="165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341360"/>
            <a:ext cx="8569440" cy="403236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1) ценности супружества;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2) ценности, связанные с демократизацией отношений в семье;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3) ценности родительства, воспитания детей;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4) ценности родственных связей;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5) ценности, связанные с саморазвитием;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6) ценности внесемейных коммуника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7) ценности профессиональной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99280" y="4824360"/>
            <a:ext cx="2808360" cy="262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68360" y="5373720"/>
            <a:ext cx="440856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0"/>
            <a:ext cx="6697800" cy="6858000"/>
          </a:xfrm>
          <a:prstGeom prst="flowChartPunchedTape">
            <a:avLst/>
          </a:prstGeom>
          <a:solidFill>
            <a:srgbClr val="93cdd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Я желаю счастья вам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частья в этом мире больш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Как солнце по утра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усть оно заходит в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Я желаю счастья ва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 оно должно быть таким-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гда ты счастлив са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частьем поделись с друг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тас Намин, ВИА «Цвет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2228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30:26Z</dcterms:created>
  <dc:creator>Олег</dc:creator>
  <dc:description/>
  <dc:language>en-US</dc:language>
  <cp:lastModifiedBy>Strelkoinc</cp:lastModifiedBy>
  <dcterms:modified xsi:type="dcterms:W3CDTF">2013-08-13T11:26:10Z</dcterms:modified>
  <cp:revision>4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836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