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7C5-AD80-4C0B-B26C-781CABF0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A7B-0947-4350-8F76-BFD6185C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9D7-561A-458F-A04C-7642FC26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450-3D71-4356-A555-206A84D6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FE946-F288-4EBE-943C-5173AFBA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BB83-2031-42D8-9386-A7C7702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EE1CF-4DDA-4F60-BA10-D9555B4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6924-2CC8-4F5B-87CA-596FF4D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CBDDE-1D10-4B1F-9092-7923048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F4AA6-1EBC-4217-A60C-0D9C9B5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6F851-D2C9-4F0A-9B8E-A96B16F0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508-17ED-4C97-BC17-06E7260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1F976-23A0-4F8F-B549-D7957866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BDA4-0285-4C5E-8CE7-75AFCDA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B870F-C028-4CB1-BB0D-9BA12E53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6C0EC-0A4E-4DCD-8531-1625CA2B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9BA05-56D3-40F2-8A0B-D8CABCBE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992-6A31-4E5C-A3DB-09FD9390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670-ADB0-48A0-B05B-00ABE56A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92B-6B57-4EA8-84B9-23FC021F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DE6-0B31-4E94-AA21-16C839FF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C3D-AD93-486A-BF46-E3BD7BA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4DA-9A9B-43E9-B4B8-71D3708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308-B867-4C76-B88A-01D2EC8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A1FA-8DF1-4ECF-945A-10895D2C53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2817-76B8-4893-AF7F-E505F64F18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01668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 Black"/>
              </a:rPr>
              <a:t>Использование личностно-ориентированных здоровьесберегающих образовательных технологий на уроках географи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коммуника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557360"/>
          <a:ext cx="8686800" cy="4538520"/>
        </p:xfrm>
        <a:graphic>
          <a:graphicData uri="http://schemas.openxmlformats.org/drawingml/2006/table">
            <a:tbl>
              <a:tblPr/>
              <a:tblGrid>
                <a:gridCol w="3506760"/>
                <a:gridCol w="836640"/>
                <a:gridCol w="4343400"/>
              </a:tblGrid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ОЛЬ АВ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Я умею четко и понятно выразить свою мыс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2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ОЛЬ КРИ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Я могу дополнит или продолжить мысль автора при согласии. Я могу аргументированно отстоять свою точку зрения при несогласии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ОЛЬ ПОНИМАЮЩ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Я умею слышать, слушать говорящего, могу задать вопрос на понимание услышан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4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6360" y="-324000"/>
            <a:ext cx="9612000" cy="720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02136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Цель работы учител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•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вать индивидуальные познавательные способности каждого уче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•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ксимально выявить, инициировать, использовать индивидуальный опыт учащего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•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мочь ребёнку познать себя, самоопределиться и самореализо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02136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Принципы работы учите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•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Ученик не становится субъектом обучения, а им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•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Учение есть не прямая производная от обучения, а самостоятельный индивидуальный, личностно значимый источник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•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«Вектор развития» строится от ученика к определению индивидуальных педагогических воздействий, способствующих его развит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02136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Задач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•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тимулировать ученика к  образователь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Обеспечивать учащемуся возможность самообразования, саморазвития и само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редоставить ребёнку возмо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ыбора при выполнении зад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пособствовать повышению мотивации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оздать психологическую комфортность на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При этом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16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озици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Инициирование субъектного опыта 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Развитие индивидуальности каждого реб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Признание индивидуальности, самобытности, самоценности каждого уче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0" y="980640"/>
            <a:ext cx="431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Позиция уче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Black"/>
              </a:rPr>
              <a:t>Свободный выбор элементов учебно-воспитатель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Black"/>
              </a:rPr>
              <a:t>Самопознание, самоопределение и самореа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021360"/>
            <a:ext cx="9144000" cy="8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Здоровьесберегающие  технологии  применяемые  на  уроках  географии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Учитель  Чуракова  И. В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2997360"/>
            <a:ext cx="2374920" cy="172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иды технолог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используем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на уро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413000"/>
            <a:ext cx="1873080" cy="1584360"/>
          </a:xfrm>
          <a:custGeom>
            <a:avLst/>
            <a:gdLst>
              <a:gd name="textAreaLeft" fmla="*/ 411840 w 1873080"/>
              <a:gd name="textAreaRight" fmla="*/ 1461240 w 1873080"/>
              <a:gd name="textAreaTop" fmla="*/ 348480 h 1584360"/>
              <a:gd name="textAreaBottom" fmla="*/ 12358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Проект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3736800">
            <a:off x="5945760" y="1762920"/>
            <a:ext cx="1655640" cy="2305080"/>
          </a:xfrm>
          <a:custGeom>
            <a:avLst/>
            <a:gdLst>
              <a:gd name="textAreaLeft" fmla="*/ 363960 w 1655640"/>
              <a:gd name="textAreaRight" fmla="*/ 1291680 w 1655640"/>
              <a:gd name="textAreaTop" fmla="*/ 506880 h 2305080"/>
              <a:gd name="textAreaBottom" fmla="*/ 179820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8017200">
            <a:off x="5514120" y="4114080"/>
            <a:ext cx="1656000" cy="2016000"/>
          </a:xfrm>
          <a:custGeom>
            <a:avLst/>
            <a:gdLst>
              <a:gd name="textAreaLeft" fmla="*/ 363960 w 1656000"/>
              <a:gd name="textAreaRight" fmla="*/ 1292040 w 1656000"/>
              <a:gd name="textAreaTop" fmla="*/ 443160 h 2016000"/>
              <a:gd name="textAreaBottom" fmla="*/ 15728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1317800">
            <a:off x="3550680" y="4722120"/>
            <a:ext cx="1655640" cy="1942920"/>
          </a:xfrm>
          <a:custGeom>
            <a:avLst/>
            <a:gdLst>
              <a:gd name="textAreaLeft" fmla="*/ 363960 w 1655640"/>
              <a:gd name="textAreaRight" fmla="*/ 1291680 w 165564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654000">
            <a:off x="2086920" y="1603800"/>
            <a:ext cx="1655640" cy="2089080"/>
          </a:xfrm>
          <a:custGeom>
            <a:avLst/>
            <a:gdLst>
              <a:gd name="textAreaLeft" fmla="*/ 363960 w 1655640"/>
              <a:gd name="textAreaRight" fmla="*/ 1291680 w 1655640"/>
              <a:gd name="textAreaTop" fmla="*/ 459360 h 2089080"/>
              <a:gd name="textAreaBottom" fmla="*/ 1629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172600">
            <a:off x="5659560" y="2392200"/>
            <a:ext cx="27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деятельностного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624400">
            <a:off x="5314320" y="4702320"/>
            <a:ext cx="21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Коллективные способы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6549000">
            <a:off x="3141000" y="543348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зноуровнев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4469000">
            <a:off x="1750680" y="3651120"/>
            <a:ext cx="1656000" cy="2322360"/>
          </a:xfrm>
          <a:custGeom>
            <a:avLst/>
            <a:gdLst>
              <a:gd name="textAreaLeft" fmla="*/ 363960 w 1656000"/>
              <a:gd name="textAreaRight" fmla="*/ 1292040 w 1656000"/>
              <a:gd name="textAreaTop" fmla="*/ 510480 h 2322360"/>
              <a:gd name="textAreaBottom" fmla="*/ 1811880 h 23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071800">
            <a:off x="1355760" y="4674960"/>
            <a:ext cx="23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Информаци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23000">
            <a:off x="2121840" y="242028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Моду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2760" cy="69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87744" r="0" b="0"/>
          <a:stretch/>
        </p:blipFill>
        <p:spPr>
          <a:xfrm>
            <a:off x="0" y="602136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95280" y="1197000"/>
            <a:ext cx="3889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Радость творчества – прямой путь к здоров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Чтобы переваривать знания, надо поглощать 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 аппетит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А. Фран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2995200"/>
            <a:ext cx="369072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Расскажи – и я забуд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покажи – и я запомн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дай попробовать – и я пойму.       Японская послов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711680" y="1988640"/>
            <a:ext cx="3890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В любой деятельности велико значение положительного самоопределения тех, кто эту деятельность выполня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Когда мыслят все одинаково, значи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никто не мысл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Гег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348000" y="620640"/>
            <a:ext cx="3457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Мудрые мысли          </a:t>
            </a:r>
            <a:endParaRPr b="1" lang="en-US" sz="20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498680" cy="11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00720" y="4005360"/>
            <a:ext cx="446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Деятельность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– единствен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путь к знан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Б. Шо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221000"/>
            <a:ext cx="43923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Не ошибается лишь тот, кто ничего не              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дела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Не бойтесь ошибаться – бойтесь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повторять ошиб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еодор Рузвель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5013360"/>
            <a:ext cx="44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Где нет простора для проявл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пособностей, там нет и способно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Людвиг Фейерб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805360"/>
            <a:ext cx="424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Человек есть вселенная, и да здравствует он, носящий в себе весь ми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. Горьки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587772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34800">
              <a:buClr>
                <a:srgbClr val="99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затруднении содержи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озмож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А.Энштей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5:38:30Z</dcterms:created>
  <dc:creator>BakulinaS</dc:creator>
  <dc:description/>
  <dc:language>en-US</dc:language>
  <cp:lastModifiedBy>Paul</cp:lastModifiedBy>
  <dcterms:modified xsi:type="dcterms:W3CDTF">2010-01-31T13:23:39Z</dcterms:modified>
  <cp:revision>70</cp:revision>
  <dc:subject/>
  <dc:title>Использование личностно-ориентированных здоровьесберегающих образовательных технологий на уроках географии</dc:title>
</cp:coreProperties>
</file>