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7C2-DBF0-4B51-9F1C-20C57B1D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B6C-ED80-45E9-8C0B-2FC74D2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B85-B633-46B5-966B-F908D2A5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8CC-F6E1-4C18-A300-5D92FAF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5965-E95D-46E9-BC89-F3440464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13F83-948E-4A5C-BCE6-28C0815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7B7F-8BA8-4839-BB8F-C0DEFD7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396C-D5B5-45D2-9293-806B0F5B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0C29-1C74-4879-820E-5212AE93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F10B-F383-4BBB-AAD0-8070668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5607-CF8E-456D-85D2-9D176919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588-7B39-4F13-B7C1-233C5533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1CCB7-7CD3-4DF4-8EF7-030B22F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938D-4DDD-473C-B584-43B5DCE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DABD-26F1-448A-B421-93FA409F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A281B-C775-4A22-B851-A8B8A5CA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B11A9-9FD5-4337-91E6-8CAF94AA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696-118E-4F17-95B1-15D3F12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475-4898-4BB4-84EE-8037381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3E3-FF72-478E-9476-A4990B4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C57-6641-4056-B6F2-D94ED66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1E8-AF68-43AF-B424-1C843E6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83C-6207-4633-8FDF-8C8126B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75E-1DBC-45EF-B700-836A2E9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E61F-C4A0-4A71-88A0-43E1D469ED4F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D90-ABCD-4DFE-986F-9161AC5153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AF8D-0237-4EBE-82F0-9649BD9B36E0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6493-1E60-4CA2-9B68-09564DE4C6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50000">
              <a:srgbClr val="0000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4200" y="2143080"/>
            <a:ext cx="86630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33cc"/>
                </a:solidFill>
                <a:latin typeface="Arial"/>
              </a:rPr>
              <a:t>Знакомство с компьютером</a:t>
            </a:r>
            <a:br>
              <a:rPr sz="5400"/>
            </a:b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5EC-B712-414A-99EA-9ABAB95712A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7D5-D730-453A-A774-042D60C4E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Структурная схема компьютер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332000" y="981000"/>
            <a:ext cx="655308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96447" dir="280628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484360" y="907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3635280" y="1557360"/>
            <a:ext cx="2232000" cy="414360"/>
          </a:xfrm>
          <a:prstGeom prst="leftRightArrow">
            <a:avLst>
              <a:gd name="adj1" fmla="val 50000"/>
              <a:gd name="adj2" fmla="val 107234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692360" y="1484280"/>
            <a:ext cx="1942920" cy="4597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99cc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867280" y="1341360"/>
            <a:ext cx="1729080" cy="6426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99cc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Оперативная        пам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187280" y="2852640"/>
            <a:ext cx="6913800" cy="2890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гистр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6"/>
          <p:cNvSpPr/>
          <p:nvPr/>
        </p:nvSpPr>
        <p:spPr>
          <a:xfrm>
            <a:off x="2411280" y="1916280"/>
            <a:ext cx="216000" cy="904680"/>
          </a:xfrm>
          <a:prstGeom prst="downArrow">
            <a:avLst>
              <a:gd name="adj1" fmla="val 50000"/>
              <a:gd name="adj2" fmla="val 104708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6516720" y="1989000"/>
            <a:ext cx="216000" cy="831960"/>
          </a:xfrm>
          <a:prstGeom prst="downArrow">
            <a:avLst>
              <a:gd name="adj1" fmla="val 50000"/>
              <a:gd name="adj2" fmla="val 96292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8">
            <a:hlinkClick r:id="rId2" action="ppaction://hlinksldjump"/>
          </p:cNvPr>
          <p:cNvSpPr/>
          <p:nvPr/>
        </p:nvSpPr>
        <p:spPr>
          <a:xfrm>
            <a:off x="1187280" y="3933720"/>
            <a:ext cx="1944720" cy="100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33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9">
            <a:hlinkClick r:id="rId3" action="ppaction://hlinksldjump"/>
          </p:cNvPr>
          <p:cNvSpPr/>
          <p:nvPr/>
        </p:nvSpPr>
        <p:spPr>
          <a:xfrm>
            <a:off x="3348000" y="3933720"/>
            <a:ext cx="1440000" cy="100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33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0">
            <a:hlinkClick r:id="rId4" action="ppaction://hlinksldjump"/>
          </p:cNvPr>
          <p:cNvSpPr/>
          <p:nvPr/>
        </p:nvSpPr>
        <p:spPr>
          <a:xfrm>
            <a:off x="5076720" y="3933720"/>
            <a:ext cx="1440000" cy="100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33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1">
            <a:hlinkClick r:id="rId5" action="ppaction://hlinksldjump"/>
          </p:cNvPr>
          <p:cNvSpPr/>
          <p:nvPr/>
        </p:nvSpPr>
        <p:spPr>
          <a:xfrm>
            <a:off x="6732720" y="3933720"/>
            <a:ext cx="1439640" cy="100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33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е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2124000" y="3141720"/>
            <a:ext cx="216000" cy="647640"/>
          </a:xfrm>
          <a:prstGeom prst="upDownArrow">
            <a:avLst>
              <a:gd name="adj1" fmla="val 50000"/>
              <a:gd name="adj2" fmla="val 59689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7451640" y="3141720"/>
            <a:ext cx="216000" cy="647640"/>
          </a:xfrm>
          <a:prstGeom prst="upDownArrow">
            <a:avLst>
              <a:gd name="adj1" fmla="val 50000"/>
              <a:gd name="adj2" fmla="val 59689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3924360" y="314172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5"/>
          <p:cNvSpPr/>
          <p:nvPr/>
        </p:nvSpPr>
        <p:spPr>
          <a:xfrm>
            <a:off x="5867280" y="3141720"/>
            <a:ext cx="217440" cy="718920"/>
          </a:xfrm>
          <a:prstGeom prst="downArrow">
            <a:avLst>
              <a:gd name="adj1" fmla="val 50000"/>
              <a:gd name="adj2" fmla="val 8265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6"/>
          <p:cNvSpPr/>
          <p:nvPr/>
        </p:nvSpPr>
        <p:spPr>
          <a:xfrm>
            <a:off x="324000" y="98100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27">
            <a:hlinkClick r:id="" action="ppaction://hlinkshowjump?jump=endshow"/>
          </p:cNvPr>
          <p:cNvSpPr/>
          <p:nvPr/>
        </p:nvSpPr>
        <p:spPr>
          <a:xfrm>
            <a:off x="8028000" y="5661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25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5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25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25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75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25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75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5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75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25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75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5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75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25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5C2-5ABF-469B-8A05-6B696B3F3C7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D47-9586-42CB-AC31-98AB0ED68F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Долговременная памя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197000"/>
          <a:ext cx="5903640" cy="4656240"/>
        </p:xfrm>
        <a:graphic>
          <a:graphicData uri="http://schemas.openxmlformats.org/drawingml/2006/table">
            <a:tbl>
              <a:tblPr/>
              <a:tblGrid>
                <a:gridCol w="1896840"/>
                <a:gridCol w="1595520"/>
                <a:gridCol w="241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ость запис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кий дис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44 М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Кбайт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ий дис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40 Г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3 Мбайт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R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6 М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7,8 Мбайт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-R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7 Г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1 Мбайт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Object 41"/>
              <p:cNvSpPr txBox="1"/>
              <p:nvPr/>
            </p:nvSpPr>
            <p:spPr>
              <a:xfrm>
                <a:off x="3924360" y="21337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49" name="Picture 191" descr="cd-rom"/>
          <p:cNvPicPr/>
          <p:nvPr/>
        </p:nvPicPr>
        <p:blipFill>
          <a:blip r:embed="rId1"/>
          <a:stretch/>
        </p:blipFill>
        <p:spPr>
          <a:xfrm>
            <a:off x="6372360" y="1484280"/>
            <a:ext cx="2582640" cy="206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2" descr="dvd"/>
          <p:cNvPicPr/>
          <p:nvPr/>
        </p:nvPicPr>
        <p:blipFill>
          <a:blip r:embed="rId2"/>
          <a:stretch/>
        </p:blipFill>
        <p:spPr>
          <a:xfrm>
            <a:off x="6372360" y="4005360"/>
            <a:ext cx="2539800" cy="1295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96"/>
          <p:cNvSpPr/>
          <p:nvPr/>
        </p:nvSpPr>
        <p:spPr>
          <a:xfrm>
            <a:off x="395280" y="69228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97">
            <a:hlinkClick r:id="" action="ppaction://hlinkshowjump?jump=endshow"/>
          </p:cNvPr>
          <p:cNvSpPr/>
          <p:nvPr/>
        </p:nvSpPr>
        <p:spPr>
          <a:xfrm>
            <a:off x="8172360" y="580536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1446-50A2-470A-9BBF-7A6CE4D9A01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2F6-FD42-4F65-AD4E-C09B8A9B51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Устройства ввод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26020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ави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ыш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к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ачп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нма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867280" y="1125000"/>
            <a:ext cx="32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ан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нш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Цифро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м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-тюн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ish2"/>
          <p:cNvPicPr/>
          <p:nvPr/>
        </p:nvPicPr>
        <p:blipFill>
          <a:blip r:embed="rId1"/>
          <a:stretch/>
        </p:blipFill>
        <p:spPr>
          <a:xfrm>
            <a:off x="3492360" y="3068640"/>
            <a:ext cx="2016360" cy="1703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BTC5110"/>
          <p:cNvPicPr/>
          <p:nvPr/>
        </p:nvPicPr>
        <p:blipFill>
          <a:blip r:embed="rId2"/>
          <a:stretch/>
        </p:blipFill>
        <p:spPr>
          <a:xfrm>
            <a:off x="1332000" y="1125360"/>
            <a:ext cx="2663640" cy="13622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"/>
          <p:cNvSpPr/>
          <p:nvPr/>
        </p:nvSpPr>
        <p:spPr>
          <a:xfrm>
            <a:off x="395280" y="692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6">
            <a:hlinkClick r:id="" action="ppaction://hlinkshowjump?jump=endshow"/>
          </p:cNvPr>
          <p:cNvSpPr/>
          <p:nvPr/>
        </p:nvSpPr>
        <p:spPr>
          <a:xfrm>
            <a:off x="8101080" y="5734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A85-BAF4-49D2-81E7-400217B6B0F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C17E-4DD9-4BC9-9A35-4BA981EE50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Устройства вывод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6360" y="981000"/>
            <a:ext cx="2519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т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ш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FlexScan"/>
          <p:cNvPicPr/>
          <p:nvPr/>
        </p:nvPicPr>
        <p:blipFill>
          <a:blip r:embed="rId1"/>
          <a:stretch/>
        </p:blipFill>
        <p:spPr>
          <a:xfrm>
            <a:off x="684360" y="1773360"/>
            <a:ext cx="2016000" cy="134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omputer2"/>
          <p:cNvPicPr/>
          <p:nvPr/>
        </p:nvPicPr>
        <p:blipFill>
          <a:blip r:embed="rId2"/>
          <a:stretch/>
        </p:blipFill>
        <p:spPr>
          <a:xfrm>
            <a:off x="6156360" y="1844640"/>
            <a:ext cx="2469960" cy="19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Сканер7"/>
          <p:cNvPicPr/>
          <p:nvPr/>
        </p:nvPicPr>
        <p:blipFill>
          <a:blip r:embed="rId3"/>
          <a:stretch/>
        </p:blipFill>
        <p:spPr>
          <a:xfrm>
            <a:off x="1116000" y="3933720"/>
            <a:ext cx="3456000" cy="1970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0"/>
          <p:cNvSpPr/>
          <p:nvPr/>
        </p:nvSpPr>
        <p:spPr>
          <a:xfrm>
            <a:off x="468360" y="836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1">
            <a:hlinkClick r:id="" action="ppaction://hlinkshowjump?jump=endshow"/>
          </p:cNvPr>
          <p:cNvSpPr/>
          <p:nvPr/>
        </p:nvSpPr>
        <p:spPr>
          <a:xfrm>
            <a:off x="8028000" y="5734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C48-034F-4585-B374-90202F3C1AD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4A3-0062-4EE4-A085-86E90451E8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Сетевые устрой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8560" y="1052640"/>
            <a:ext cx="3384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т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евая пл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евой каб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block3"/>
          <p:cNvPicPr/>
          <p:nvPr/>
        </p:nvPicPr>
        <p:blipFill>
          <a:blip r:embed="rId1"/>
          <a:stretch/>
        </p:blipFill>
        <p:spPr>
          <a:xfrm>
            <a:off x="6300720" y="1052640"/>
            <a:ext cx="1809720" cy="2752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proc"/>
          <p:cNvPicPr/>
          <p:nvPr/>
        </p:nvPicPr>
        <p:blipFill>
          <a:blip r:embed="rId2"/>
          <a:stretch/>
        </p:blipFill>
        <p:spPr>
          <a:xfrm>
            <a:off x="3348000" y="4005360"/>
            <a:ext cx="1609920" cy="16761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"/>
          <p:cNvSpPr/>
          <p:nvPr/>
        </p:nvSpPr>
        <p:spPr>
          <a:xfrm>
            <a:off x="468360" y="112536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>
            <a:hlinkClick r:id="" action="ppaction://hlinkshowjump?jump=endshow"/>
          </p:cNvPr>
          <p:cNvSpPr/>
          <p:nvPr/>
        </p:nvSpPr>
        <p:spPr>
          <a:xfrm>
            <a:off x="8101080" y="580536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50000">
              <a:srgbClr val="0000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Ну вот и познакомились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" name="Picture 4" descr="j0195384"/>
          <p:cNvPicPr/>
          <p:nvPr/>
        </p:nvPicPr>
        <p:blipFill>
          <a:blip r:embed="rId1"/>
          <a:stretch/>
        </p:blipFill>
        <p:spPr>
          <a:xfrm>
            <a:off x="5292720" y="1484280"/>
            <a:ext cx="303048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8229600" y="5589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24000" y="76500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endshow"/>
          </p:cNvPr>
          <p:cNvSpPr/>
          <p:nvPr/>
        </p:nvSpPr>
        <p:spPr>
          <a:xfrm>
            <a:off x="7451640" y="6165720"/>
            <a:ext cx="649440" cy="35892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9066" h="21600">
                <a:moveTo>
                  <a:pt x="0" y="0"/>
                </a:moveTo>
                <a:lnTo>
                  <a:pt x="39066" y="0"/>
                </a:lnTo>
                <a:lnTo>
                  <a:pt x="39066" y="21600"/>
                </a:lnTo>
                <a:lnTo>
                  <a:pt x="0" y="21600"/>
                </a:lnTo>
                <a:close/>
              </a:path>
              <a:path fill="lightenLess" w="39066" h="21600">
                <a:moveTo>
                  <a:pt x="0" y="0"/>
                </a:moveTo>
                <a:lnTo>
                  <a:pt x="39066" y="0"/>
                </a:lnTo>
                <a:lnTo>
                  <a:pt x="37666" y="1400"/>
                </a:lnTo>
                <a:lnTo>
                  <a:pt x="1400" y="1400"/>
                </a:lnTo>
                <a:close/>
              </a:path>
              <a:path fill="darken" w="39066" h="21600">
                <a:moveTo>
                  <a:pt x="39066" y="0"/>
                </a:moveTo>
                <a:lnTo>
                  <a:pt x="39066" y="21600"/>
                </a:lnTo>
                <a:lnTo>
                  <a:pt x="37666" y="20200"/>
                </a:lnTo>
                <a:lnTo>
                  <a:pt x="37666" y="1400"/>
                </a:lnTo>
                <a:close/>
              </a:path>
              <a:path fill="darkenLess" w="39066" h="21600">
                <a:moveTo>
                  <a:pt x="39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66" y="20200"/>
                </a:lnTo>
                <a:close/>
              </a:path>
              <a:path fill="lighten" w="39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10394 C -0.04167 0.10301 -0.05 0.10232 -0.05816 0.10139 L -0.48594 0.07292 L -0.89583 -0.16898 L -0.43299 -0.09537 L -0.35365 -0.28611 L -0.48802 -0.55393 E">
                                      <p:cBhvr>
                                        <p:cTn id="27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1:43:02Z</dcterms:created>
  <dc:creator>user</dc:creator>
  <dc:description/>
  <dc:language>en-US</dc:language>
  <cp:lastModifiedBy>Admin</cp:lastModifiedBy>
  <dcterms:modified xsi:type="dcterms:W3CDTF">2013-10-21T11:16:35Z</dcterms:modified>
  <cp:revision>28</cp:revision>
  <dc:subject/>
  <dc:title>Знакомство с компьютером </dc:title>
</cp:coreProperties>
</file>