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DA9-9140-42E3-B5B8-1A3224AD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709-92AD-4EEB-981F-19FC747E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A9A-D78F-4C77-BC3D-A0005A48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954-8822-4B45-9096-7BE24507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308C-BAB2-41DC-9B51-F14F8B60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2567-6B74-4462-81AD-A09BE47C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019F-BB13-4524-A7BB-3B1F7B1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F4A-4DED-4C65-98F5-664047A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0B22-5B63-4FEA-89B2-D55D8B7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89F0-4D3D-4A7E-8C9B-C514987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CEF-4FD7-46AC-992B-896833C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D2F-A821-4D1F-8DDD-733AC8E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9357-CD22-4B05-9F22-F1B439C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74DF-32D3-4573-A776-04FDA04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AF9-FB24-44FD-B2DB-FF95C34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FB7-1793-4C8C-AF3D-7AC0031F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E1D-6D3F-4AE2-AA9A-1340F29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1F5-8C26-4676-802C-334618C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914-6401-45CA-BBA0-135CE51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EC0-11CA-4B07-924F-7377CCB8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973-8C38-4E7B-824C-DF3CFB4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41A-3D95-49F3-9E7A-BFB7C0F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FBA-40EA-41FE-9CD1-E4B0F25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EA9-5E6C-4804-836B-92B1AD6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9BF-458C-4C49-84EC-0D1033C4A7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ADF-F702-4866-82E4-3A9D02E28D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2920" y="981000"/>
            <a:ext cx="6985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leopatra"/>
              </a:rPr>
              <a:t>Ancient civilizatio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leopatra"/>
              <a:ea typeface="Cleopat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leopatra"/>
              </a:rPr>
              <a:t>Asteki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leopatra"/>
              <a:ea typeface="Cleopatr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468520" cy="2386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16480" y="6237360"/>
            <a:ext cx="16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By Gubanova Ma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21240" y="115920"/>
            <a:ext cx="53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Asteki-</a:t>
            </a:r>
            <a:r>
              <a:rPr b="0" lang="ru-RU" sz="18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Indians  a nationality(national charact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in the central Mex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Number from above 1,5 million per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3640" y="5229360"/>
            <a:ext cx="725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The civilization </a:t>
            </a:r>
            <a:r>
              <a:rPr b="0" lang="ru-RU" sz="1800" spc="-1" strike="noStrike">
                <a:solidFill>
                  <a:srgbClr val="000000"/>
                </a:solidFill>
                <a:latin typeface="Cleopatra"/>
              </a:rPr>
              <a:t>ацтеков</a:t>
            </a: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 (XIV-XVI centuries) had rich myth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and a cultural heri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Capital of empire </a:t>
            </a:r>
            <a:r>
              <a:rPr b="0" lang="ru-RU" sz="1800" spc="-1" strike="noStrike">
                <a:solidFill>
                  <a:srgbClr val="000000"/>
                </a:solidFill>
                <a:latin typeface="Cleopatra"/>
              </a:rPr>
              <a:t>ацтеков</a:t>
            </a: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 the city of Tenochtitlan located on l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Teskoko (</a:t>
            </a:r>
            <a:r>
              <a:rPr b="0" lang="ru-RU" sz="1800" spc="-1" strike="noStrike">
                <a:solidFill>
                  <a:srgbClr val="000000"/>
                </a:solidFill>
                <a:latin typeface="Cleopatra"/>
              </a:rPr>
              <a:t>исп</a:t>
            </a: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 was. Texcoc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leopatra"/>
              </a:rPr>
              <a:t>there, where the city of Mexico now settle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523872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680400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70360" y="2852640"/>
            <a:ext cx="25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Evolution of territorial 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Astek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8240" y="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leopatra"/>
              </a:rPr>
              <a:t>cannib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9400" y="404640"/>
            <a:ext cx="75722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Stage ritual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каннибализма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from code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Мальябекиано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, middle of XVI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Well-known, that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цтек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made human victims; however in a question about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каннибализме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and his(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degrees of the consent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not present.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Марвин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Харрис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, for example, declares, that mea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victims was a part of a diet of the maximum(supreme) classes as the award because a feed(me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цтеков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included few fibers. It agrees to it(him), captives were « walking meat ». On the other han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William Arens doubts of existence </a:t>
            </a:r>
            <a:r>
              <a:rPr b="0" lang="en-US" sz="1400" spc="-1" strike="noStrike">
                <a:solidFill>
                  <a:srgbClr val="000000"/>
                </a:solidFill>
                <a:latin typeface="Cleopatra"/>
              </a:rPr>
              <a:t>cannibalism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at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цтеков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i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88200" y="2060640"/>
            <a:ext cx="847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Despite of the consent of many historians in a question on existence ri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каннибализма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, connected with human sacrifi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he majority of scientists does not support thesis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Харриса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that human meat made a significant part of a diet aste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4876560" cy="351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8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leopatr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03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ill fourteen years training of children was in hands of their par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here was an oral legend (a set of wise manuals), named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уэуэтлатолл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huehuetlatol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(« proverbs of old men ») which transferred moral - ethical ideals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цтеков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here were retorts and sayings on each case; there were words for a greeting of birth of the child and a word of farewell at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he fathers reminded daughters to be very attractive, but to not use cosmetics, to not look, as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уиан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ahuia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Mothers advised the daughters to support the husband even if it(he) appears the modest peasant. Boys learned(taught) to be mode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obedient and hardwor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3280" y="2637000"/>
            <a:ext cx="540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Young men went in school since 15 years. There were two types of educational establishments. In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тепочкалл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tepochcal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rained a history, in religion, military ar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and also trade or craft (country or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мастеровому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). In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кальмекак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calmecac) where basically sons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пилл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w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were focused to training of leaders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тлактоков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), priests, scientists / teachers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tlatinimi) and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писцов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аст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. tlacuil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They were trained in rituals, the letter,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летосчислению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, poetry and, as well as in </a:t>
            </a:r>
            <a:r>
              <a:rPr b="0" lang="ru-RU" sz="1200" spc="-1" strike="noStrike">
                <a:solidFill>
                  <a:srgbClr val="000000"/>
                </a:solidFill>
                <a:latin typeface="Cleopatra"/>
              </a:rPr>
              <a:t>тепочкалли</a:t>
            </a:r>
            <a:r>
              <a:rPr b="0" lang="en-US" sz="1200" spc="-1" strike="noStrike">
                <a:solidFill>
                  <a:srgbClr val="000000"/>
                </a:solidFill>
                <a:latin typeface="Cleopatra"/>
              </a:rPr>
              <a:t>, to fighting 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2852640"/>
            <a:ext cx="311472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29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3770280"/>
            <a:ext cx="4211640" cy="3087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32360" y="1628640"/>
            <a:ext cx="273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20448000">
            <a:off x="2124000" y="2781360"/>
            <a:ext cx="439272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ff"/>
                    </a:gs>
                    <a:gs pos="100000">
                      <a:srgbClr val="cc0000"/>
                    </a:gs>
                  </a:gsLst>
                  <a:lin ang="65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leopatra"/>
              </a:rPr>
              <a:t>The end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ff"/>
                  </a:gs>
                  <a:gs pos="100000">
                    <a:srgbClr val="cc0000"/>
                  </a:gs>
                </a:gsLst>
                <a:lin ang="65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leopatra"/>
              <a:ea typeface="Cleopatr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03:20Z</dcterms:created>
  <dc:creator>HOME</dc:creator>
  <dc:description/>
  <dc:language>en-US</dc:language>
  <cp:lastModifiedBy>HOME</cp:lastModifiedBy>
  <dcterms:modified xsi:type="dcterms:W3CDTF">2010-02-26T11:57:23Z</dcterms:modified>
  <cp:revision>2</cp:revision>
  <dc:subject/>
  <dc:title>Слайд 1</dc:title>
</cp:coreProperties>
</file>